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81F4-8DC5-46B6-891A-D4DAF4EB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18B3-6EC7-45C2-B23E-C449DE3B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589-B554-4B44-9A0C-135E757D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57D3-36FF-42B6-A422-EF2C6B2B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77787-FB81-4C14-815D-384513162A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D2591-9E6B-4821-B3D2-3BB7AC3B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B4DE5-8C40-4F81-AB93-1D13E1D5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9AE3B-755F-4603-B32C-65895DE9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1357E-8F64-4869-BE27-8DE3ED26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0F5D0-C0A2-4EF1-A08D-152DC40B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64546-D281-47FD-96FF-69718A1B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C2D1-5121-4AFB-ACAD-FA9E069C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4A0AB-09AD-4E17-B0DB-961464C2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DA5F6-96DE-4CF8-88F6-0F7290A2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4C3F1-900A-4457-871D-4409A6BF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04402-5C01-4BFA-BA57-4147C860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F9437-3D91-430E-8004-1B46DE52E4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EC36-6262-4196-8548-F9AE82C2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8A5-1204-42C3-89E3-EB3B916B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FD60-EC21-40FD-995D-EBDBC276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35C6-3545-4ABB-BA2B-973A4FB9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B78B-1B13-4AC7-BA02-E2726725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CAAC-E260-4FA6-AC6D-C04C82BE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78BA-ED22-44FA-8A72-C65C4F54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766800"/>
          </a:xfrm>
          <a:prstGeom prst="rect">
            <a:avLst/>
          </a:prstGeom>
          <a:solidFill>
            <a:srgbClr val="328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solidFill>
            <a:srgbClr val="1b4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133200" y="6380280"/>
            <a:ext cx="304920" cy="334800"/>
          </a:xfrm>
          <a:prstGeom prst="diamond">
            <a:avLst/>
          </a:prstGeom>
          <a:solidFill>
            <a:srgbClr val="328c8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80880" y="6567120"/>
            <a:ext cx="243864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3657240" y="6551640"/>
            <a:ext cx="2133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FF2F-C52E-4884-9480-8BED5924EDD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9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c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7603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7772400" y="762120"/>
            <a:ext cx="1371600" cy="4800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28c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2114640" y="0"/>
          <a:ext cx="7029360" cy="32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14640" y="0"/>
                    <a:ext cx="70293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Rectangle 3"/>
          <p:cNvSpPr/>
          <p:nvPr/>
        </p:nvSpPr>
        <p:spPr>
          <a:xfrm>
            <a:off x="0" y="0"/>
            <a:ext cx="2133720" cy="3200400"/>
          </a:xfrm>
          <a:prstGeom prst="rect">
            <a:avLst/>
          </a:prstGeom>
          <a:solidFill>
            <a:srgbClr val="328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32004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3352680"/>
            <a:ext cx="2133720" cy="3505320"/>
          </a:xfrm>
          <a:prstGeom prst="rect">
            <a:avLst/>
          </a:prstGeom>
          <a:solidFill>
            <a:srgbClr val="1b4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457200" y="457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28c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80920" y="650844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5582-DAF5-4656-A51B-7786A34E9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560" y="4114440"/>
            <a:ext cx="7489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4e63"/>
                </a:solidFill>
                <a:latin typeface="Verdana"/>
              </a:rPr>
              <a:t>Окружающий мир 3 класс</a:t>
            </a:r>
            <a:br>
              <a:rPr sz="3200"/>
            </a:br>
            <a:r>
              <a:rPr b="1" lang="ru-RU" sz="3200" spc="-1" strike="noStrike">
                <a:solidFill>
                  <a:srgbClr val="1b4e63"/>
                </a:solidFill>
                <a:latin typeface="Verdana"/>
              </a:rPr>
              <a:t>   Тема: Кровь и        кровообращение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0"/>
            <a:ext cx="2124000" cy="321300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ровообращение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8c83"/>
                </a:solidFill>
                <a:latin typeface="Verdana"/>
              </a:rPr>
              <a:t>«Кровообращение»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 означает то же, что и </a:t>
            </a:r>
            <a:r>
              <a:rPr b="0" i="1" lang="ru-RU" sz="2800" spc="-1" strike="noStrike">
                <a:solidFill>
                  <a:srgbClr val="328c83"/>
                </a:solidFill>
                <a:latin typeface="Verdana"/>
              </a:rPr>
              <a:t>«круговорот крови».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Это движение крови по кровеносным сосудам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Учёные также называют </a:t>
            </a:r>
            <a:r>
              <a:rPr b="0" i="1" lang="ru-RU" sz="2800" spc="-1" strike="noStrike">
                <a:solidFill>
                  <a:srgbClr val="328c83"/>
                </a:solidFill>
                <a:latin typeface="Verdana"/>
              </a:rPr>
              <a:t>кровообращение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 циркуляцией крови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Кровь движется всегда только в одном направлении.</a:t>
            </a:r>
            <a:r>
              <a:rPr b="0" i="1" lang="ru-RU" sz="2800" spc="-1" strike="noStrike">
                <a:solidFill>
                  <a:srgbClr val="328c83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human-circualtory"/>
          <p:cNvPicPr/>
          <p:nvPr/>
        </p:nvPicPr>
        <p:blipFill>
          <a:blip r:embed="rId1"/>
          <a:stretch/>
        </p:blipFill>
        <p:spPr>
          <a:xfrm>
            <a:off x="1943280" y="1062000"/>
            <a:ext cx="5257800" cy="4734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Органы кровообращени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6360" y="1052640"/>
            <a:ext cx="403236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Сердце – это мышечный насос перекачивающий кровь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сисма органов кя69"/>
          <p:cNvPicPr/>
          <p:nvPr/>
        </p:nvPicPr>
        <p:blipFill>
          <a:blip r:embed="rId1"/>
          <a:stretch/>
        </p:blipFill>
        <p:spPr>
          <a:xfrm>
            <a:off x="1619280" y="1052640"/>
            <a:ext cx="2495520" cy="4762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1"/>
          <p:cNvPicPr/>
          <p:nvPr/>
        </p:nvPicPr>
        <p:blipFill>
          <a:blip r:embed="rId2"/>
          <a:stretch/>
        </p:blipFill>
        <p:spPr>
          <a:xfrm>
            <a:off x="5867280" y="2924280"/>
            <a:ext cx="2563920" cy="2376360"/>
          </a:xfrm>
          <a:prstGeom prst="rect">
            <a:avLst/>
          </a:prstGeom>
          <a:ln w="0">
            <a:noFill/>
          </a:ln>
        </p:spPr>
      </p:pic>
      <p:sp>
        <p:nvSpPr>
          <p:cNvPr id="163" name="Line 10"/>
          <p:cNvSpPr/>
          <p:nvPr/>
        </p:nvSpPr>
        <p:spPr>
          <a:xfrm flipH="1">
            <a:off x="3132000" y="1413000"/>
            <a:ext cx="194472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5148360" y="1557360"/>
            <a:ext cx="863640" cy="29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Дата 4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ижний колонтитул 5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ульс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309564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780000" y="1076400"/>
            <a:ext cx="49068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8c83"/>
                </a:solidFill>
                <a:latin typeface="Verdana"/>
              </a:rPr>
              <a:t>Для того, чтобы посчитать число сердечных сокращений у самого себя, надо найти пульс. Приложи пальцы одной руки к запястью другой и чуть прижми. Чувствуешь слабые удары? </a:t>
            </a:r>
            <a:r>
              <a:rPr b="0" i="1" lang="ru-RU" sz="2400" spc="-1" strike="noStrike">
                <a:solidFill>
                  <a:srgbClr val="328c83"/>
                </a:solidFill>
                <a:latin typeface="Verdana"/>
              </a:rPr>
              <a:t>Каждый удар пульса соответствует удару сердца. </a:t>
            </a:r>
            <a:r>
              <a:rPr b="1" i="1" lang="ru-RU" sz="2400" spc="-1" strike="noStrike">
                <a:solidFill>
                  <a:srgbClr val="328c83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0273623934"/>
          <p:cNvPicPr/>
          <p:nvPr/>
        </p:nvPicPr>
        <p:blipFill>
          <a:blip r:embed="rId1"/>
          <a:stretch/>
        </p:blipFill>
        <p:spPr>
          <a:xfrm>
            <a:off x="179280" y="1125360"/>
            <a:ext cx="3529080" cy="3421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3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Дата 4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ижний колонтитул 5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ровеносные сосуды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3848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8c83"/>
                </a:solidFill>
                <a:latin typeface="Verdana"/>
              </a:rPr>
              <a:t>Артерии – это сосуды, по которым богатая кислородом кровь течёт от сердца.</a:t>
            </a:r>
            <a:endParaRPr b="1" lang="en-US" sz="2400" spc="-1" strike="noStrike">
              <a:solidFill>
                <a:srgbClr val="328c83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8c83"/>
                </a:solidFill>
                <a:latin typeface="Verdana"/>
              </a:rPr>
              <a:t>Аорта – самая крупная артерия человека.</a:t>
            </a:r>
            <a:endParaRPr b="1" lang="en-US" sz="24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076400"/>
            <a:ext cx="403848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8c83"/>
                </a:solidFill>
                <a:latin typeface="Verdana"/>
              </a:rPr>
              <a:t>Вены несут бедную кислородом кровь от всех частей тела в сердце.</a:t>
            </a:r>
            <a:endParaRPr b="1" lang="en-US" sz="24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0" descr="aorta_scheme_1"/>
          <p:cNvPicPr/>
          <p:nvPr/>
        </p:nvPicPr>
        <p:blipFill>
          <a:blip r:embed="rId1"/>
          <a:stretch/>
        </p:blipFill>
        <p:spPr>
          <a:xfrm>
            <a:off x="3203640" y="4076640"/>
            <a:ext cx="1332000" cy="1609920"/>
          </a:xfrm>
          <a:prstGeom prst="rect">
            <a:avLst/>
          </a:prstGeom>
          <a:ln w="0">
            <a:noFill/>
          </a:ln>
        </p:spPr>
      </p:pic>
      <p:sp>
        <p:nvSpPr>
          <p:cNvPr id="180" name="Line 11"/>
          <p:cNvSpPr/>
          <p:nvPr/>
        </p:nvSpPr>
        <p:spPr>
          <a:xfrm>
            <a:off x="2340000" y="4149720"/>
            <a:ext cx="144000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2" descr="артерии783"/>
          <p:cNvPicPr/>
          <p:nvPr/>
        </p:nvPicPr>
        <p:blipFill>
          <a:blip r:embed="rId2"/>
          <a:stretch/>
        </p:blipFill>
        <p:spPr>
          <a:xfrm>
            <a:off x="4932360" y="2565360"/>
            <a:ext cx="1335240" cy="2519280"/>
          </a:xfrm>
          <a:prstGeom prst="rect">
            <a:avLst/>
          </a:prstGeom>
          <a:ln w="0">
            <a:noFill/>
          </a:ln>
        </p:spPr>
      </p:pic>
      <p:sp>
        <p:nvSpPr>
          <p:cNvPr id="182" name="Line 13"/>
          <p:cNvSpPr/>
          <p:nvPr/>
        </p:nvSpPr>
        <p:spPr>
          <a:xfrm>
            <a:off x="3851280" y="2276640"/>
            <a:ext cx="1152360" cy="93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4" descr="0011-011-Krovenosnye-sosudy"/>
          <p:cNvPicPr/>
          <p:nvPr/>
        </p:nvPicPr>
        <p:blipFill>
          <a:blip r:embed="rId3"/>
          <a:stretch/>
        </p:blipFill>
        <p:spPr>
          <a:xfrm>
            <a:off x="826920" y="620640"/>
            <a:ext cx="7632720" cy="5400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3"/>
          <p:cNvPicPr/>
          <p:nvPr/>
        </p:nvPicPr>
        <p:blipFill>
          <a:blip r:embed="rId4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Что делать при наружном кровотечении?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1.Рану закрыть стерильной салфеткой и наложить давящую повязку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2.Придать конечности возвышенное положение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3.При сильном кровотечении наложить жгут выше раны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33017"/>
          <p:cNvPicPr/>
          <p:nvPr/>
        </p:nvPicPr>
        <p:blipFill>
          <a:blip r:embed="rId1"/>
          <a:stretch/>
        </p:blipFill>
        <p:spPr>
          <a:xfrm>
            <a:off x="4427640" y="3429000"/>
            <a:ext cx="3725640" cy="2384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3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Это интересно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4560" y="1076400"/>
            <a:ext cx="900108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Есть выражение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«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человек голубой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крови». Что оно означает?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Выражение «голубая кровь» использовалось раньше для подчёркивания знатности происхождения, а к цвету крови никакого отношения не имело. 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3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Это интересно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843588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Есть ли животные, у которых кровь не красная?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У млекопитающих,              У насекомых,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птиц, рыб,                          осьминогов,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земноводных –                   раков, крабов,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bb1503"/>
                </a:solidFill>
                <a:latin typeface="Verdana"/>
              </a:rPr>
              <a:t>красная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                             улиток – 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bb1503"/>
                </a:solidFill>
                <a:latin typeface="Verdana"/>
              </a:rPr>
              <a:t>кровь.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                                 не красная 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                                          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кровь.                                           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3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Это интересно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Пульс у животного зависит от его размеров?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Чем крупнее животное, тем реже его пульс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539640" y="40766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лона пульс – 20 ударов в мину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276720" y="40766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зайца пульс – 200 ударов в мину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6227640" y="40766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ыши пульс – 500 ударов в мину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1256896275_radionetplus_ru_jivnoct23"/>
          <p:cNvPicPr/>
          <p:nvPr/>
        </p:nvPicPr>
        <p:blipFill>
          <a:blip r:embed="rId1"/>
          <a:stretch/>
        </p:blipFill>
        <p:spPr>
          <a:xfrm>
            <a:off x="755640" y="2924280"/>
            <a:ext cx="1512720" cy="1135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grizun"/>
          <p:cNvPicPr/>
          <p:nvPr/>
        </p:nvPicPr>
        <p:blipFill>
          <a:blip r:embed="rId2"/>
          <a:stretch/>
        </p:blipFill>
        <p:spPr>
          <a:xfrm>
            <a:off x="6443640" y="2637000"/>
            <a:ext cx="1620720" cy="1188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4c1b4049-8077-557e-b030-d5a02d89c438"/>
          <p:cNvPicPr/>
          <p:nvPr/>
        </p:nvPicPr>
        <p:blipFill>
          <a:blip r:embed="rId3"/>
          <a:stretch/>
        </p:blipFill>
        <p:spPr>
          <a:xfrm>
            <a:off x="3995640" y="2637000"/>
            <a:ext cx="927360" cy="1388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3"/>
          <p:cNvPicPr/>
          <p:nvPr/>
        </p:nvPicPr>
        <p:blipFill>
          <a:blip r:embed="rId4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8c83"/>
                </a:solidFill>
                <a:latin typeface="Verdana"/>
              </a:rPr>
              <a:t>Яшкова Инга Вячеславовна</a:t>
            </a:r>
            <a:br>
              <a:rPr sz="2000"/>
            </a:br>
            <a:r>
              <a:rPr b="1" lang="ru-RU" sz="2000" spc="-1" strike="noStrike">
                <a:solidFill>
                  <a:srgbClr val="328c83"/>
                </a:solidFill>
                <a:latin typeface="Verdana"/>
              </a:rPr>
              <a:t> ГБОУ СОШ № 687 г.Москва</a:t>
            </a:r>
            <a:endParaRPr b="1" lang="en-US" sz="20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3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Что такое кровь?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Кровь (её называют тканью) соединяет весь организм воедино, делая зависимой друг от друга работу всех органов человека. Её называют </a:t>
            </a:r>
            <a:r>
              <a:rPr b="0" i="1" lang="ru-RU" sz="2800" spc="-1" strike="noStrike">
                <a:solidFill>
                  <a:srgbClr val="328c83"/>
                </a:solidFill>
                <a:latin typeface="Verdana"/>
              </a:rPr>
              <a:t>«зеркалом организма»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3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4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ижний колонтитул 5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457848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8c83"/>
                </a:solidFill>
                <a:latin typeface="Verdana"/>
              </a:rPr>
              <a:t>Кровь составляет 7</a:t>
            </a:r>
            <a:r>
              <a:rPr b="0" lang="en-US" sz="3200" spc="-1" strike="noStrike">
                <a:solidFill>
                  <a:srgbClr val="328c83"/>
                </a:solidFill>
                <a:latin typeface="Verdana"/>
              </a:rPr>
              <a:t>%</a:t>
            </a:r>
            <a:r>
              <a:rPr b="0" lang="ru-RU" sz="3200" spc="-1" strike="noStrike">
                <a:solidFill>
                  <a:srgbClr val="328c83"/>
                </a:solidFill>
                <a:latin typeface="Verdana"/>
              </a:rPr>
              <a:t> от веса тела.</a:t>
            </a:r>
            <a:endParaRPr b="1" lang="en-US" sz="3200" spc="-1" strike="noStrike">
              <a:solidFill>
                <a:srgbClr val="328c83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8c83"/>
                </a:solidFill>
                <a:latin typeface="Verdana"/>
              </a:rPr>
              <a:t>При весе 40 кг крови в организме 3 литра.</a:t>
            </a:r>
            <a:endParaRPr b="1" lang="en-US" sz="32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716360" y="1197000"/>
          <a:ext cx="2819520" cy="1166760"/>
        </p:xfrm>
        <a:graphic>
          <a:graphicData uri="http://schemas.openxmlformats.org/drawingml/2006/table">
            <a:tbl>
              <a:tblPr/>
              <a:tblGrid>
                <a:gridCol w="282600"/>
                <a:gridCol w="281160"/>
                <a:gridCol w="282600"/>
                <a:gridCol w="280800"/>
                <a:gridCol w="282600"/>
                <a:gridCol w="282600"/>
                <a:gridCol w="281160"/>
                <a:gridCol w="282600"/>
                <a:gridCol w="280800"/>
                <a:gridCol w="282600"/>
              </a:tblGrid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35"/>
          <p:cNvSpPr/>
          <p:nvPr/>
        </p:nvSpPr>
        <p:spPr>
          <a:xfrm>
            <a:off x="4643280" y="1197000"/>
            <a:ext cx="289080" cy="1152360"/>
          </a:xfrm>
          <a:prstGeom prst="rect">
            <a:avLst/>
          </a:prstGeom>
          <a:solidFill>
            <a:srgbClr val="bb1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1"/>
          <p:cNvSpPr/>
          <p:nvPr/>
        </p:nvSpPr>
        <p:spPr>
          <a:xfrm flipH="1" rot="5400000">
            <a:off x="5868000" y="1195560"/>
            <a:ext cx="431640" cy="2881440"/>
          </a:xfrm>
          <a:custGeom>
            <a:avLst/>
            <a:gdLst>
              <a:gd name="textAreaLeft" fmla="*/ 126360 w 431640"/>
              <a:gd name="textAreaRight" fmla="*/ 431640 w 431640"/>
              <a:gd name="textAreaTop" fmla="*/ 707040 h 2881440"/>
              <a:gd name="textAreaBottom" fmla="*/ 217440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302"/>
                  <a:pt x="0" y="10604"/>
                </a:cubicBezTo>
                <a:lnTo>
                  <a:pt x="0" y="10996"/>
                </a:lnTo>
                <a:cubicBezTo>
                  <a:pt x="0" y="16298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2"/>
          <p:cNvSpPr/>
          <p:nvPr/>
        </p:nvSpPr>
        <p:spPr>
          <a:xfrm>
            <a:off x="5651640" y="2997360"/>
            <a:ext cx="129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3"/>
          <p:cNvSpPr/>
          <p:nvPr/>
        </p:nvSpPr>
        <p:spPr>
          <a:xfrm>
            <a:off x="4932360" y="1197000"/>
            <a:ext cx="2592360" cy="1152360"/>
          </a:xfrm>
          <a:prstGeom prst="rect">
            <a:avLst/>
          </a:prstGeom>
          <a:solidFill>
            <a:srgbClr val="dc8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4"/>
          <p:cNvSpPr/>
          <p:nvPr/>
        </p:nvSpPr>
        <p:spPr>
          <a:xfrm>
            <a:off x="5508720" y="3068640"/>
            <a:ext cx="345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ё – это вес те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красный – сколь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5" descr="3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1619280" y="1628640"/>
            <a:ext cx="518472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ункции кров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11280" y="436572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– это роль, которая выполняется в определённой сфере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3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Транспортная функци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076400"/>
            <a:ext cx="843588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b1503"/>
                </a:solidFill>
                <a:latin typeface="Verdana"/>
              </a:rPr>
              <a:t>Кровь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328c83"/>
                </a:solidFill>
                <a:latin typeface="Verdana"/>
              </a:rPr>
              <a:t>приносит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органам кислород, питательные вещества и </a:t>
            </a:r>
            <a:r>
              <a:rPr b="0" i="1" lang="ru-RU" sz="2800" spc="-1" strike="noStrike">
                <a:solidFill>
                  <a:srgbClr val="328c83"/>
                </a:solidFill>
                <a:latin typeface="Verdana"/>
              </a:rPr>
              <a:t>уносит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углекислый газ, продукты распада, обмена веществ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3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Защитная функци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Кровь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 уничтожает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микробы,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вырабатывает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иммунитет,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свёртывается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на воздухе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3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Терморегулирующая функци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Кровь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поддерживает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постоянную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температуру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тела при колебаниях температуры окружающей среды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3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Элементы крови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Эритроциты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(перенос кислорода и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вынос углекислого газа)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Лейкоциты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(защищают)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Тромбоциты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(обеспечивают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свёртываемость)</a:t>
            </a:r>
            <a:r>
              <a:rPr b="1" lang="ru-RU" sz="2800" spc="-1" strike="noStrike">
                <a:solidFill>
                  <a:srgbClr val="328c83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3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50752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Что влияет на состав крови человека?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9dc03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Состав воздуха, которым дышит человек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9dc03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Чистота воды, которую он пьёт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9dc03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Загрязнение почвы, на которой выращивают продукты питания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9dc03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8c83"/>
                </a:solidFill>
                <a:latin typeface="Verdana"/>
              </a:rPr>
              <a:t>Состав пищи.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24000" y="6570720"/>
            <a:ext cx="8604000" cy="287280"/>
          </a:xfrm>
          <a:prstGeom prst="rect">
            <a:avLst/>
          </a:prstGeom>
          <a:solidFill>
            <a:srgbClr val="328c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3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07:15:18Z</dcterms:created>
  <dc:creator>NickOn</dc:creator>
  <dc:description/>
  <dc:language>en-US</dc:language>
  <cp:lastModifiedBy>И В. Яшкова</cp:lastModifiedBy>
  <dcterms:modified xsi:type="dcterms:W3CDTF">2012-08-10T11:40:37Z</dcterms:modified>
  <cp:revision>4</cp:revision>
  <dc:subject/>
  <dc:title>Окружающий мир 3 класс    Тема: Кровь и        кровообращение</dc:title>
</cp:coreProperties>
</file>