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215-FA45-430A-BB82-2C25013C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B97-D48D-44F5-A5A5-521B996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5B1-F15D-4EE1-B6C7-00F4BB71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94E-14A2-4D38-9DA5-31B148E7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31B25-6200-4BF3-BBFB-8FA593BF0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152C-F585-478E-8877-1902EDF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F9CA7-ABF8-4CE2-BB5F-5D34238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DA9C6-84B3-4618-8F7E-40A3894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4C23-5A9E-461E-9969-6276C357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AFF0-2275-4AE3-B9AD-08B3CD40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1ADBB-A3FA-4AF2-9FE6-1E6056AF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37E-E12A-4721-AAFB-B990155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C2BC9-DC59-4072-84EB-BE99A392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93401-0BD3-4336-9D00-74C08261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E94A-3E20-4FA8-8CBC-C5294F0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24F10-DE8A-4466-A158-3A1E961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323A5-BAB5-4080-8D23-727F30574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5DA-B0D2-4D96-8E68-BFD9C221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45C-BFE7-494D-84BD-5CFD5C4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29C-1EBF-4B47-AC81-7427092E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BC6-06B9-4017-84C9-CF2FB8F9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5CE-0B8B-45BE-8C4B-3247B02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573-C1EE-4C31-B919-9DD3522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6E8-F465-4C2C-A3C9-DC50EE7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4FE-ECE2-4A05-AFD0-FA85890B54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C39-FFA0-4BAC-8FCC-72D01B8B7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4114440"/>
            <a:ext cx="7489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e63"/>
                </a:solidFill>
                <a:latin typeface="Verdana"/>
              </a:rPr>
              <a:t>Окружающий мир 3 класс</a:t>
            </a:r>
            <a:br>
              <a:rPr sz="3200"/>
            </a:br>
            <a:r>
              <a:rPr b="1" lang="ru-RU" sz="3200" spc="-1" strike="noStrike">
                <a:solidFill>
                  <a:srgbClr val="1b4e63"/>
                </a:solidFill>
                <a:latin typeface="Verdana"/>
              </a:rPr>
              <a:t>   Тема: Кровь и        кровообращение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2124000" cy="321300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ровообращени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Кровообращение»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означает то же, что и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круговорот крови».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Это движение крови по кровеносным сосудам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Учёные также называют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кровообращение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циркуляцией крови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 движется всегда только в одном направлении.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uman-circualtory"/>
          <p:cNvPicPr/>
          <p:nvPr/>
        </p:nvPicPr>
        <p:blipFill>
          <a:blip r:embed="rId1"/>
          <a:stretch/>
        </p:blipFill>
        <p:spPr>
          <a:xfrm>
            <a:off x="1943280" y="1062000"/>
            <a:ext cx="5257800" cy="473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рганы кровообращ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360" y="1052640"/>
            <a:ext cx="403236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ердце – это мышечный насос перекачивающий кровь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сисма органов кя69"/>
          <p:cNvPicPr/>
          <p:nvPr/>
        </p:nvPicPr>
        <p:blipFill>
          <a:blip r:embed="rId1"/>
          <a:stretch/>
        </p:blipFill>
        <p:spPr>
          <a:xfrm>
            <a:off x="1619280" y="1052640"/>
            <a:ext cx="2495520" cy="4762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"/>
          <p:cNvPicPr/>
          <p:nvPr/>
        </p:nvPicPr>
        <p:blipFill>
          <a:blip r:embed="rId2"/>
          <a:stretch/>
        </p:blipFill>
        <p:spPr>
          <a:xfrm>
            <a:off x="5867280" y="2924280"/>
            <a:ext cx="2563920" cy="2376360"/>
          </a:xfrm>
          <a:prstGeom prst="rect">
            <a:avLst/>
          </a:prstGeom>
          <a:ln w="0">
            <a:noFill/>
          </a:ln>
        </p:spPr>
      </p:pic>
      <p:sp>
        <p:nvSpPr>
          <p:cNvPr id="163" name="Line 10"/>
          <p:cNvSpPr/>
          <p:nvPr/>
        </p:nvSpPr>
        <p:spPr>
          <a:xfrm flipH="1">
            <a:off x="3132000" y="1413000"/>
            <a:ext cx="194472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148360" y="1557360"/>
            <a:ext cx="86364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ульс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0956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80000" y="1076400"/>
            <a:ext cx="490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Для того, чтобы посчитать число сердечных сокращений у самого себя, надо найти пульс. Приложи пальцы одной руки к запястью другой и чуть прижми. Чувствуешь слабые удары? </a:t>
            </a:r>
            <a:r>
              <a:rPr b="0" i="1" lang="ru-RU" sz="2400" spc="-1" strike="noStrike">
                <a:solidFill>
                  <a:srgbClr val="328c83"/>
                </a:solidFill>
                <a:latin typeface="Verdana"/>
              </a:rPr>
              <a:t>Каждый удар пульса соответствует удару сердца. </a:t>
            </a:r>
            <a:r>
              <a:rPr b="1" i="1" lang="ru-RU" sz="24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0273623934"/>
          <p:cNvPicPr/>
          <p:nvPr/>
        </p:nvPicPr>
        <p:blipFill>
          <a:blip r:embed="rId1"/>
          <a:stretch/>
        </p:blipFill>
        <p:spPr>
          <a:xfrm>
            <a:off x="179280" y="1125360"/>
            <a:ext cx="3529080" cy="34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ровеносные сосуд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3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Артерии – это сосуды, по которым богатая кислородом кровь течёт от сердца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Аорта – самая крупная артерия человека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076400"/>
            <a:ext cx="403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Вены несут бедную кислородом кровь от всех частей тела в сердце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aorta_scheme_1"/>
          <p:cNvPicPr/>
          <p:nvPr/>
        </p:nvPicPr>
        <p:blipFill>
          <a:blip r:embed="rId1"/>
          <a:stretch/>
        </p:blipFill>
        <p:spPr>
          <a:xfrm>
            <a:off x="3203640" y="4076640"/>
            <a:ext cx="1332000" cy="160992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2340000" y="4149720"/>
            <a:ext cx="1440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артерии783"/>
          <p:cNvPicPr/>
          <p:nvPr/>
        </p:nvPicPr>
        <p:blipFill>
          <a:blip r:embed="rId2"/>
          <a:stretch/>
        </p:blipFill>
        <p:spPr>
          <a:xfrm>
            <a:off x="4932360" y="2565360"/>
            <a:ext cx="1335240" cy="2519280"/>
          </a:xfrm>
          <a:prstGeom prst="rect">
            <a:avLst/>
          </a:prstGeom>
          <a:ln w="0">
            <a:noFill/>
          </a:ln>
        </p:spPr>
      </p:pic>
      <p:sp>
        <p:nvSpPr>
          <p:cNvPr id="182" name="Line 13"/>
          <p:cNvSpPr/>
          <p:nvPr/>
        </p:nvSpPr>
        <p:spPr>
          <a:xfrm>
            <a:off x="3851280" y="2276640"/>
            <a:ext cx="115236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0011-011-Krovenosnye-sosudy"/>
          <p:cNvPicPr/>
          <p:nvPr/>
        </p:nvPicPr>
        <p:blipFill>
          <a:blip r:embed="rId3"/>
          <a:stretch/>
        </p:blipFill>
        <p:spPr>
          <a:xfrm>
            <a:off x="826920" y="620640"/>
            <a:ext cx="7632720" cy="540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3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делать при наружном кровотечении?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1.Рану закрыть стерильной салфеткой и наложить давящую повязку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2.Придать конечности возвышенное положение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3.При сильном кровотечении наложить жгут выше раны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33017"/>
          <p:cNvPicPr/>
          <p:nvPr/>
        </p:nvPicPr>
        <p:blipFill>
          <a:blip r:embed="rId1"/>
          <a:stretch/>
        </p:blipFill>
        <p:spPr>
          <a:xfrm>
            <a:off x="4427640" y="3429000"/>
            <a:ext cx="3725640" cy="238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560" y="1076400"/>
            <a:ext cx="9001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Есть выражение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«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еловек голубой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и». Что оно означает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ражение «голубая кровь» использовалось раньше для подчёркивания знатности происхождения, а к цвету крови никакого отношения не имело.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Есть ли животные, у которых кровь не красная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У млекопитающих,              У насекомых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тиц, рыб,                          осьминогов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земноводных –                   раков, крабов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bb1503"/>
                </a:solidFill>
                <a:latin typeface="Verdana"/>
              </a:rPr>
              <a:t>красная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улиток –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bb1503"/>
                </a:solidFill>
                <a:latin typeface="Verdana"/>
              </a:rPr>
              <a:t>кровь.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    не красная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             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.                                          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ульс у животного зависит от его размеров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ем крупнее животное, тем реже его пульс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3964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лона пульс – 20 удар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27672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айца пульс – 200 удар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22764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ыши пульс – 500 ударов в мину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1256896275_radionetplus_ru_jivnoct23"/>
          <p:cNvPicPr/>
          <p:nvPr/>
        </p:nvPicPr>
        <p:blipFill>
          <a:blip r:embed="rId1"/>
          <a:stretch/>
        </p:blipFill>
        <p:spPr>
          <a:xfrm>
            <a:off x="755640" y="292428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grizun"/>
          <p:cNvPicPr/>
          <p:nvPr/>
        </p:nvPicPr>
        <p:blipFill>
          <a:blip r:embed="rId2"/>
          <a:stretch/>
        </p:blipFill>
        <p:spPr>
          <a:xfrm>
            <a:off x="6443640" y="2637000"/>
            <a:ext cx="1620720" cy="118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4c1b4049-8077-557e-b030-d5a02d89c438"/>
          <p:cNvPicPr/>
          <p:nvPr/>
        </p:nvPicPr>
        <p:blipFill>
          <a:blip r:embed="rId3"/>
          <a:stretch/>
        </p:blipFill>
        <p:spPr>
          <a:xfrm>
            <a:off x="3995640" y="2637000"/>
            <a:ext cx="927360" cy="138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3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Яшкова Инга Вячеславовна</a:t>
            </a:r>
            <a:br>
              <a:rPr sz="2000"/>
            </a:b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 ГБОУ СОШ № 687 г.Москва</a:t>
            </a:r>
            <a:endParaRPr b="1" lang="en-US" sz="20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такое кровь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 (её называют тканью) соединяет весь организм воедино, делая зависимой друг от друга работу всех органов человека. Её называют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зеркалом организма»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57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Кровь составляет 7</a:t>
            </a:r>
            <a:r>
              <a:rPr b="0" lang="en-US" sz="3200" spc="-1" strike="noStrike">
                <a:solidFill>
                  <a:srgbClr val="328c83"/>
                </a:solidFill>
                <a:latin typeface="Verdana"/>
              </a:rPr>
              <a:t>%</a:t>
            </a: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 от веса тела.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При весе 40 кг крови в организме 3 литра.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16360" y="1197000"/>
          <a:ext cx="2819520" cy="1166760"/>
        </p:xfrm>
        <a:graphic>
          <a:graphicData uri="http://schemas.openxmlformats.org/drawingml/2006/table">
            <a:tbl>
              <a:tblPr/>
              <a:tblGrid>
                <a:gridCol w="282600"/>
                <a:gridCol w="281160"/>
                <a:gridCol w="282600"/>
                <a:gridCol w="280800"/>
                <a:gridCol w="282600"/>
                <a:gridCol w="282600"/>
                <a:gridCol w="281160"/>
                <a:gridCol w="282600"/>
                <a:gridCol w="280800"/>
                <a:gridCol w="28260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35"/>
          <p:cNvSpPr/>
          <p:nvPr/>
        </p:nvSpPr>
        <p:spPr>
          <a:xfrm>
            <a:off x="4643280" y="1197000"/>
            <a:ext cx="289080" cy="1152360"/>
          </a:xfrm>
          <a:prstGeom prst="rect">
            <a:avLst/>
          </a:prstGeom>
          <a:solidFill>
            <a:srgbClr val="bb1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flipH="1" rot="5400000">
            <a:off x="5868000" y="1195560"/>
            <a:ext cx="431640" cy="2881440"/>
          </a:xfrm>
          <a:custGeom>
            <a:avLst/>
            <a:gdLst>
              <a:gd name="textAreaLeft" fmla="*/ 126360 w 431640"/>
              <a:gd name="textAreaRight" fmla="*/ 431640 w 431640"/>
              <a:gd name="textAreaTop" fmla="*/ 707040 h 2881440"/>
              <a:gd name="textAreaBottom" fmla="*/ 217440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302"/>
                  <a:pt x="0" y="10604"/>
                </a:cubicBezTo>
                <a:lnTo>
                  <a:pt x="0" y="10996"/>
                </a:lnTo>
                <a:cubicBezTo>
                  <a:pt x="0" y="1629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2"/>
          <p:cNvSpPr/>
          <p:nvPr/>
        </p:nvSpPr>
        <p:spPr>
          <a:xfrm>
            <a:off x="5651640" y="2997360"/>
            <a:ext cx="129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4932360" y="1197000"/>
            <a:ext cx="2592360" cy="1152360"/>
          </a:xfrm>
          <a:prstGeom prst="rect">
            <a:avLst/>
          </a:prstGeom>
          <a:solidFill>
            <a:srgbClr val="dc8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5508720" y="306864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– это вес т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расный –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619280" y="1628640"/>
            <a:ext cx="5184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нкции кров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1280" y="4365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– это роль, которая выполняется в определённой сфер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3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ранспортн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1503"/>
                </a:solidFill>
                <a:latin typeface="Verdana"/>
              </a:rPr>
              <a:t>Кровь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приноси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органам кислород, питательные вещества и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уноси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углекислый газ, продукты распада, обмена веществ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щитн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Кровь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уничтож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микробы,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рабатыв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иммунитет,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вёртывается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на воздухе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рморегулирующ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Кровь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оддержив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остоянную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температуру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тела при колебаниях температуры окружающей среды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лементы кров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Эритр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перенос кислорода и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нос углекислого газа)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Лейк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защищают)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Тромб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обеспечиваю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вёртываемость)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0752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влияет на состав крови человека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остав воздуха, которым дышит человек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истота воды, которую он пьёт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Загрязнение почвы, на которой выращивают продукты питания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остав пищи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7:15:18Z</dcterms:created>
  <dc:creator>NickOn</dc:creator>
  <dc:description/>
  <dc:language>en-US</dc:language>
  <cp:lastModifiedBy>И В. Яшкова</cp:lastModifiedBy>
  <dcterms:modified xsi:type="dcterms:W3CDTF">2012-08-10T11:40:37Z</dcterms:modified>
  <cp:revision>4</cp:revision>
  <dc:subject/>
  <dc:title>Окружающий мир 3 класс    Тема: Кровь и        кровообращение</dc:title>
</cp:coreProperties>
</file>