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36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23.png" ContentType="image/png"/>
  <Override PartName="/ppt/media/image13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B9B3-27D2-4F68-83FB-925E5504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1D0E-1432-4D5E-83F0-9A6A6D71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3AE69-098F-417F-AEC3-0981264F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3FFB0-5FFD-416B-A5B3-38EAE625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C83E0-282F-4CC5-8F4B-039C24E5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311AB-A210-41EC-96EB-D0F54542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22364-FC7A-4F7A-855A-D993531C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5EA91-08D0-41EF-A7AD-5341B97A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2DF65-5E75-482A-B28C-88CADEC8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1EF72-9EB8-4029-A203-95B601EB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6AE5F-1548-4A38-8783-BB4765C5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660E-C55F-4473-A323-AEC700DE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31FB-CD7A-40BD-B3E0-35B97B28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690C-429C-4648-99B4-D75C439F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2448-78D8-4B68-A726-A71C732A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1A89-CC57-487F-AD71-773F0C69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93E9-6210-49F1-862D-935D5BE4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2AFE-8B37-4762-9338-2FA0B103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78F2-6567-4E67-83D1-E9583076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8B2F-EB4A-4D0D-A980-6C090356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E4A0-E706-471C-876B-B79D78E6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1E90-5EF7-4870-9B81-2DE8CDCA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58DE-6EF2-4CA2-915D-3479BA62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6B73-245B-4322-90D7-DF02EEF1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802E-D472-4F46-9A47-8A2199D4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5A07-A7EF-4819-ACD1-F56DBAE17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783FB-36AB-4C23-B82C-0817C171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62CEC-A037-4D81-AC4E-1828AC0D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53C69-C009-4FC6-8621-2DDB42A9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F37A9-5D7A-41A6-9265-8D90AB50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9E846-9CE8-46B0-AB30-033C922B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E05D-ACB2-4C35-A393-2B3F2357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FB8B3-A5DC-4F44-A67C-C9167382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C8F31-8A54-4A99-91DB-EDB93875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2050B-BEC7-4AF8-A478-710C9722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E0889-726F-4178-BF82-1151E24C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BB608-CC3D-4375-A2A7-EBEF06DC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0820C-C240-4F1B-B105-673F2AE1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97D2B-38EE-4DD5-BD3D-BD22242F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1799D-B977-46FE-A325-3D2E6E20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26D59-7391-446A-A0AA-91F12E6B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E04DE-6A4B-4006-B102-D5ABF36B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0C1F-704F-4F50-9D19-48BCE465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A5C07-AED6-4A22-BF01-3F725A6C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3F64C-F039-484D-8507-15E2AFD0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79514-E8A2-4618-95FC-04F881BC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E11E5-8C60-4C5F-802A-525B4132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3C01A-2806-44EF-A2D8-AF18D616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7FE1F-8900-4873-B594-26458C88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A70E0-9AC7-4104-B2B4-1356046F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5ED12-C715-426F-8D48-EB973A67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D5DE7-572D-4235-8137-F2909C44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9CCC6-330D-43B4-B1B4-6D4C00BE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5AE3-EF86-45FD-9958-AF062DC2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9DCFF-D707-4B21-A8B0-246B83D9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70061-98ED-4B63-B16C-07435D69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ABB63-10CC-4309-9697-4273FC2F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348D4-008F-4220-9427-07EC5532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22020-90DD-4A34-80F0-1D86A6A7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DB3C3-3F23-44C3-AC53-4629F762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AE674-E8B9-465C-9F36-08BAE162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DE7B3-8E77-478D-96B8-74D7FF72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D6D3D-157F-49F2-9E1B-53967BB5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6E369-340A-4893-A44D-8DA0ED8D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36E7-8AAE-421C-A042-ABE83746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9124D-8EBD-4CF9-BCDF-89AD397F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B0D31-50DD-4B49-A9E9-A37ED5B8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C2E30-ECEE-4A92-824F-C45D95D5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21699-E06B-4889-849D-ADEA7D3C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745F3-8DEC-4473-986D-CBC172FC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DFE66-23AB-4BBA-A4F3-BF1786C6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2B2FA-3B7E-4C8D-A932-F6BC9A13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E9F8D-90C5-4F56-BC10-7D373FDE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97A6D-5828-4826-AAC0-9E1FDACC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030D7-75D2-41CF-8D73-BCBA1CAE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49B0-2CDA-4F55-B073-9AB52AC8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FDE3F-A78D-46A0-BF3E-BCD7EC93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73860-683E-407A-A6C0-787DF82C8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B77AA-B537-4CEF-B2F5-BB9090D8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57500-8BA5-4D4B-AB33-B9814884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30BAB-6526-4714-A56D-A4B0A639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84CD4-6DC5-414C-ADF0-B0D00C89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158FC-7824-43E3-9A90-8D9F7BCE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BA192-1BF2-4CCC-B2B0-6A947F4A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27446-E791-4EB0-9CE6-BBC8AF59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2B784-204D-4DB4-A1C1-8E961A0D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45CD-BADB-47DE-9D05-27C5CF03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B0D14-2DD0-463E-962F-A89102E1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90BF3-8F71-49C7-A8EB-82A1B59B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63D89-4B97-4B4C-9E94-7D38A93C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78F7D-7E49-4F84-B246-FE1C6B19E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73907-0A08-46A1-A068-BB44D722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D2C46-0295-4E0D-98C3-D56EDF0D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34422-C737-4FD0-B060-2BDC7A38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D6B54-7F55-47EC-9A4B-1FF00378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00254-F040-4102-9C35-18740446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7526C-53C9-4F3D-B3C3-E2A48D44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BF69-1745-4C7A-8B76-A67E980D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F3EA0-AC28-4572-8F48-036EEB02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1B3D5-D190-456C-B0F6-92F51353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A10A5-250F-45D5-9133-7E33931B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004B3-6CAB-4721-85F1-C6679AA5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623CC-900D-4F5A-BB09-0189A4DF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D30A7-BF39-4A12-A1B7-9E300F7A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FD120-057D-421F-8EA6-85B99492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4AD8A-4613-43EE-8839-5967E2AC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2B04B-1F17-436F-8936-762B1C7E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851D6-E55B-4FE1-BE47-F412D49B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C8DD-09CD-47CC-B591-089699ED161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B658-24F8-4189-90A5-4A3DD9A8E8F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6AA3-95A1-4BAD-A5B0-6220D484F62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FEB6-927A-43AB-86F2-176E75F0A0C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40A3-F563-444F-B457-21D9A98FD38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D1C6-A248-4199-8E33-829B09FFBB8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F977-7CDD-460D-B761-F6666D88CDE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E03B-1FAF-4AD2-98FD-9240023AAF5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3FBE-3FE8-408C-841E-46C93D3E454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-79200" y="-92160"/>
            <a:ext cx="9034200" cy="276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000240" y="2084400"/>
            <a:ext cx="8244000" cy="437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3329"/>
                </a:solidFill>
                <a:latin typeface="Franklin Gothic Book"/>
              </a:rPr>
              <a:t>Автор: </a:t>
            </a:r>
            <a:r>
              <a:rPr b="1" lang="ru-RU" sz="2800" spc="-1" strike="noStrike">
                <a:solidFill>
                  <a:srgbClr val="443329"/>
                </a:solidFill>
                <a:latin typeface="Franklin Gothic Book"/>
              </a:rPr>
              <a:t>Яшкова Инга Вячеславовна</a:t>
            </a:r>
            <a:br>
              <a:rPr sz="2800"/>
            </a:br>
            <a:r>
              <a:rPr b="1" lang="ru-RU" sz="2800" spc="-1" strike="noStrike">
                <a:solidFill>
                  <a:srgbClr val="443329"/>
                </a:solidFill>
                <a:latin typeface="Franklin Gothic Book"/>
              </a:rPr>
              <a:t> ГБОУ СОШ № 687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443329"/>
                </a:solidFill>
                <a:latin typeface="Franklin Gothic Book"/>
              </a:rPr>
              <a:t>г.Москв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Рисунок 3" descr="4721.jpg"/>
          <p:cNvPicPr/>
          <p:nvPr/>
        </p:nvPicPr>
        <p:blipFill>
          <a:blip r:embed="rId2"/>
          <a:stretch/>
        </p:blipFill>
        <p:spPr>
          <a:xfrm>
            <a:off x="219240" y="1816200"/>
            <a:ext cx="2550960" cy="3225600"/>
          </a:xfrm>
          <a:prstGeom prst="rect">
            <a:avLst/>
          </a:prstGeom>
          <a:ln w="0">
            <a:noFill/>
          </a:ln>
        </p:spPr>
      </p:pic>
      <p:sp>
        <p:nvSpPr>
          <p:cNvPr id="402" name="Скругленный прямоугольник 4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1133640" y="291960"/>
            <a:ext cx="7022880" cy="1712880"/>
          </a:xfrm>
          <a:prstGeom prst="rect">
            <a:avLst/>
          </a:prstGeom>
          <a:ln w="0">
            <a:noFill/>
          </a:ln>
        </p:spPr>
      </p:pic>
      <p:pic>
        <p:nvPicPr>
          <p:cNvPr id="424" name="Содержимое 4" descr="7400050_835655_21879350_6198596_5328935.jpg"/>
          <p:cNvPicPr/>
          <p:nvPr/>
        </p:nvPicPr>
        <p:blipFill>
          <a:blip r:embed="rId2"/>
          <a:stretch/>
        </p:blipFill>
        <p:spPr>
          <a:xfrm>
            <a:off x="357120" y="1571760"/>
            <a:ext cx="4038840" cy="50004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Чем зима отличается от других времён года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Что бывает  только зимой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акие осадки выпадают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зимой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298440" y="993600"/>
            <a:ext cx="8712360" cy="1352880"/>
          </a:xfrm>
          <a:prstGeom prst="rect">
            <a:avLst/>
          </a:prstGeom>
          <a:ln w="0">
            <a:noFill/>
          </a:ln>
        </p:spPr>
      </p:pic>
      <p:pic>
        <p:nvPicPr>
          <p:cNvPr id="427" name="Содержимое 4" descr="12179539_snow11.jpg"/>
          <p:cNvPicPr/>
          <p:nvPr/>
        </p:nvPicPr>
        <p:blipFill>
          <a:blip r:embed="rId2"/>
          <a:stretch/>
        </p:blipFill>
        <p:spPr>
          <a:xfrm>
            <a:off x="500040" y="1785960"/>
            <a:ext cx="4191120" cy="47862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Среди нашего двор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Снеговик стоял вчер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Мы его слепили сам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Был он с пышными усам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А сегодня за окном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отекли ручьи кругом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Ночью снеговик исчез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Может быть ушёл он в      лес?                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TextBox 5"/>
          <p:cNvSpPr/>
          <p:nvPr/>
        </p:nvSpPr>
        <p:spPr>
          <a:xfrm>
            <a:off x="1785960" y="142920"/>
            <a:ext cx="5786280" cy="916920"/>
          </a:xfrm>
          <a:prstGeom prst="rect">
            <a:avLst/>
          </a:prstGeom>
          <a:solidFill>
            <a:srgbClr val="ffff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Franklin Gothic Book"/>
              </a:rPr>
              <a:t>ЗИМНИЕ ИГ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Облако 4"/>
          <p:cNvSpPr/>
          <p:nvPr/>
        </p:nvSpPr>
        <p:spPr>
          <a:xfrm>
            <a:off x="500040" y="928800"/>
            <a:ext cx="8001000" cy="5429160"/>
          </a:xfrm>
          <a:prstGeom prst="pie">
            <a:avLst/>
          </a:prstGeom>
          <a:solidFill>
            <a:srgbClr val="bde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ru-RU" sz="9600" spc="-1" strike="noStrike">
                <a:solidFill>
                  <a:srgbClr val="7030a0"/>
                </a:solidFill>
                <a:latin typeface="Franklin Gothic Book"/>
              </a:rPr>
              <a:t>3 эта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Franklin Gothic Book"/>
              </a:rPr>
              <a:t>весн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Franklin Gothic Book"/>
              </a:rPr>
              <a:t>март - ма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2919240" y="219240"/>
            <a:ext cx="3524400" cy="17128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акое время год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следует за зимой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Я раскрываю почки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 зелёные листочк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Деревья одеваю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осевы поливаю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Движения полна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Зовут меня …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3" name="Содержимое 4" descr="IMG_05853.jpg"/>
          <p:cNvPicPr/>
          <p:nvPr/>
        </p:nvPicPr>
        <p:blipFill>
          <a:blip r:embed="rId2"/>
          <a:stretch/>
        </p:blipFill>
        <p:spPr>
          <a:xfrm>
            <a:off x="4071960" y="1428840"/>
            <a:ext cx="46432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1279440" y="92160"/>
            <a:ext cx="6737400" cy="1712880"/>
          </a:xfrm>
          <a:prstGeom prst="rect">
            <a:avLst/>
          </a:prstGeom>
          <a:ln w="0">
            <a:noFill/>
          </a:ln>
        </p:spPr>
      </p:pic>
      <p:pic>
        <p:nvPicPr>
          <p:cNvPr id="435" name="Содержимое 4" descr="19636042_1204725540_lazarenko_vt_vesna.jpg"/>
          <p:cNvPicPr/>
          <p:nvPr/>
        </p:nvPicPr>
        <p:blipFill>
          <a:blip r:embed="rId2"/>
          <a:stretch/>
        </p:blipFill>
        <p:spPr>
          <a:xfrm>
            <a:off x="357120" y="3000240"/>
            <a:ext cx="4500720" cy="3714840"/>
          </a:xfrm>
          <a:prstGeom prst="rect">
            <a:avLst/>
          </a:prstGeom>
          <a:ln w="0">
            <a:noFill/>
          </a:ln>
        </p:spPr>
      </p:pic>
      <p:pic>
        <p:nvPicPr>
          <p:cNvPr id="436" name="Содержимое 5" descr="38944009_02_vesna_2.jpg"/>
          <p:cNvPicPr/>
          <p:nvPr/>
        </p:nvPicPr>
        <p:blipFill>
          <a:blip r:embed="rId3"/>
          <a:stretch/>
        </p:blipFill>
        <p:spPr>
          <a:xfrm>
            <a:off x="4572000" y="1428840"/>
            <a:ext cx="4343400" cy="3143160"/>
          </a:xfrm>
          <a:prstGeom prst="rect">
            <a:avLst/>
          </a:prstGeom>
          <a:ln w="0">
            <a:noFill/>
          </a:ln>
        </p:spPr>
      </p:pic>
      <p:sp>
        <p:nvSpPr>
          <p:cNvPr id="437" name="TextBox 6"/>
          <p:cNvSpPr/>
          <p:nvPr/>
        </p:nvSpPr>
        <p:spPr>
          <a:xfrm>
            <a:off x="285840" y="1428840"/>
            <a:ext cx="4111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ие изменения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рироде происход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вес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7"/>
          <p:cNvSpPr/>
          <p:nvPr/>
        </p:nvSpPr>
        <p:spPr>
          <a:xfrm>
            <a:off x="5000760" y="4714920"/>
            <a:ext cx="4000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Тает снеж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Ожил луж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День приб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Когда это быв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Облако 1"/>
          <p:cNvSpPr/>
          <p:nvPr/>
        </p:nvSpPr>
        <p:spPr>
          <a:xfrm>
            <a:off x="571680" y="571680"/>
            <a:ext cx="8072280" cy="5857560"/>
          </a:xfrm>
          <a:prstGeom prst="pie">
            <a:avLst/>
          </a:prstGeom>
          <a:solidFill>
            <a:srgbClr val="bde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Franklin Gothic Book"/>
              </a:rPr>
              <a:t>4 этап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Franklin Gothic Book"/>
              </a:rPr>
              <a:t>лет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Franklin Gothic Book"/>
              </a:rPr>
              <a:t>июнь - авгус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1" descr=""/>
          <p:cNvPicPr/>
          <p:nvPr/>
        </p:nvPicPr>
        <p:blipFill>
          <a:blip r:embed="rId1"/>
          <a:stretch/>
        </p:blipFill>
        <p:spPr>
          <a:xfrm>
            <a:off x="2852640" y="249120"/>
            <a:ext cx="3944880" cy="1712880"/>
          </a:xfrm>
          <a:prstGeom prst="rect">
            <a:avLst/>
          </a:prstGeom>
          <a:ln w="0">
            <a:noFill/>
          </a:ln>
        </p:spPr>
      </p:pic>
      <p:pic>
        <p:nvPicPr>
          <p:cNvPr id="441" name="Содержимое 4" descr="594861903.jpg"/>
          <p:cNvPicPr/>
          <p:nvPr/>
        </p:nvPicPr>
        <p:blipFill>
          <a:blip r:embed="rId2"/>
          <a:stretch/>
        </p:blipFill>
        <p:spPr>
          <a:xfrm>
            <a:off x="357120" y="1571760"/>
            <a:ext cx="4191120" cy="47862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А какое  время года  наступает за весной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Я соткано из зноя 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есу тепло с собою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Я реку согреваю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упаться приглашаю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 любите за это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ы все меня, Я…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1706400" y="122400"/>
            <a:ext cx="5950080" cy="1712880"/>
          </a:xfrm>
          <a:prstGeom prst="rect">
            <a:avLst/>
          </a:prstGeom>
          <a:ln w="0">
            <a:noFill/>
          </a:ln>
        </p:spPr>
      </p:pic>
      <p:pic>
        <p:nvPicPr>
          <p:cNvPr id="444" name="Содержимое 9" descr="32369-src.jpg"/>
          <p:cNvPicPr/>
          <p:nvPr/>
        </p:nvPicPr>
        <p:blipFill>
          <a:blip r:embed="rId2"/>
          <a:stretch/>
        </p:blipFill>
        <p:spPr>
          <a:xfrm>
            <a:off x="4643280" y="1428840"/>
            <a:ext cx="4262760" cy="2857320"/>
          </a:xfrm>
          <a:prstGeom prst="rect">
            <a:avLst/>
          </a:prstGeom>
          <a:ln w="0">
            <a:noFill/>
          </a:ln>
        </p:spPr>
      </p:pic>
      <p:pic>
        <p:nvPicPr>
          <p:cNvPr id="445" name="Содержимое 8" descr="23.jpg"/>
          <p:cNvPicPr/>
          <p:nvPr/>
        </p:nvPicPr>
        <p:blipFill>
          <a:blip r:embed="rId3"/>
          <a:stretch/>
        </p:blipFill>
        <p:spPr>
          <a:xfrm>
            <a:off x="571680" y="3714840"/>
            <a:ext cx="4362120" cy="2896920"/>
          </a:xfrm>
          <a:prstGeom prst="rect">
            <a:avLst/>
          </a:prstGeom>
          <a:ln w="0">
            <a:noFill/>
          </a:ln>
        </p:spPr>
      </p:pic>
      <p:sp>
        <p:nvSpPr>
          <p:cNvPr id="446" name="TextBox 10"/>
          <p:cNvSpPr/>
          <p:nvPr/>
        </p:nvSpPr>
        <p:spPr>
          <a:xfrm>
            <a:off x="100800" y="1428840"/>
            <a:ext cx="5086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о лужай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Босик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олнышком согрет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За цветастым мотыль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рибежало ле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1"/>
          <p:cNvSpPr/>
          <p:nvPr/>
        </p:nvSpPr>
        <p:spPr>
          <a:xfrm>
            <a:off x="5306040" y="4357800"/>
            <a:ext cx="392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Искупалось в ре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олежало на пес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Загоре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ролете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И исчезло вдале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Заголовок 1" descr=""/>
          <p:cNvPicPr/>
          <p:nvPr/>
        </p:nvPicPr>
        <p:blipFill>
          <a:blip r:embed="rId1"/>
          <a:stretch/>
        </p:blipFill>
        <p:spPr>
          <a:xfrm>
            <a:off x="1994040" y="133200"/>
            <a:ext cx="5735520" cy="17748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64268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кие времен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ода вы знает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зовите их по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рядк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к вы узнали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ждое время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ода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0" name="Рисунок 5" descr="4Seasons-web.jpg"/>
          <p:cNvPicPr/>
          <p:nvPr/>
        </p:nvPicPr>
        <p:blipFill>
          <a:blip r:embed="rId2"/>
          <a:stretch/>
        </p:blipFill>
        <p:spPr>
          <a:xfrm>
            <a:off x="3714840" y="1785960"/>
            <a:ext cx="51433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1" descr=""/>
          <p:cNvPicPr/>
          <p:nvPr/>
        </p:nvPicPr>
        <p:blipFill>
          <a:blip r:embed="rId1"/>
          <a:stretch/>
        </p:blipFill>
        <p:spPr>
          <a:xfrm>
            <a:off x="36360" y="328680"/>
            <a:ext cx="9217080" cy="253692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304920" y="2356920"/>
            <a:ext cx="86868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TextBox 5"/>
          <p:cNvSpPr/>
          <p:nvPr/>
        </p:nvSpPr>
        <p:spPr>
          <a:xfrm>
            <a:off x="86040" y="2714760"/>
            <a:ext cx="4941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Как одевается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в разное время 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Можно ли по одеж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человека  узнать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Рисунок 6" descr="1241502364_0061_novyj-razmer.jpg"/>
          <p:cNvPicPr/>
          <p:nvPr/>
        </p:nvPicPr>
        <p:blipFill>
          <a:blip r:embed="rId2"/>
          <a:stretch/>
        </p:blipFill>
        <p:spPr>
          <a:xfrm>
            <a:off x="5357880" y="2428920"/>
            <a:ext cx="3332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353880" y="-176040"/>
            <a:ext cx="8643960" cy="25351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-70920" y="2000160"/>
            <a:ext cx="926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Franklin Gothic Book"/>
              </a:rPr>
              <a:t>Почему природа такая раз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Franklin Gothic Book"/>
              </a:rPr>
              <a:t>в каждом  времени год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622440" y="219240"/>
            <a:ext cx="7978680" cy="17128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Расскажите как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ремена года в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идит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ъясните почему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ы так думает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7" name="Рисунок 6" descr="1206263144_1.jpg"/>
          <p:cNvPicPr/>
          <p:nvPr/>
        </p:nvPicPr>
        <p:blipFill>
          <a:blip r:embed="rId2"/>
          <a:stretch/>
        </p:blipFill>
        <p:spPr>
          <a:xfrm>
            <a:off x="4000680" y="1857240"/>
            <a:ext cx="484020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298440" y="249120"/>
            <a:ext cx="8699400" cy="1712880"/>
          </a:xfrm>
          <a:prstGeom prst="rect">
            <a:avLst/>
          </a:prstGeom>
          <a:ln w="0">
            <a:noFill/>
          </a:ln>
        </p:spPr>
      </p:pic>
      <p:sp>
        <p:nvSpPr>
          <p:cNvPr id="406" name="TextBox 2"/>
          <p:cNvSpPr/>
          <p:nvPr/>
        </p:nvSpPr>
        <p:spPr>
          <a:xfrm>
            <a:off x="285840" y="2071800"/>
            <a:ext cx="8501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Franklin Gothic Book"/>
              </a:rPr>
              <a:t>Почему листья разноцветные только осень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Franklin Gothic Book"/>
              </a:rPr>
              <a:t>Может ли снег падать лет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Franklin Gothic Book"/>
              </a:rPr>
              <a:t>Определите почему тает снег и снегови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Franklin Gothic Book"/>
              </a:rPr>
              <a:t>В какое время года растут цветы и почему</a:t>
            </a:r>
            <a:r>
              <a:rPr b="0" i="1" lang="ru-RU" sz="3200" spc="-1" strike="noStrike">
                <a:solidFill>
                  <a:srgbClr val="00000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98440" y="244440"/>
            <a:ext cx="8699400" cy="17175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Какие времена года вы знает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Какое время года приходит за летом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Какое время года год начинает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Какие зимние забавы вы знает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Какая погода зимой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Какое время года следует за зимой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Какие признаки весны вы знаете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Чем отличается лето от других времён года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Облако 2"/>
          <p:cNvSpPr/>
          <p:nvPr/>
        </p:nvSpPr>
        <p:spPr>
          <a:xfrm>
            <a:off x="571680" y="571680"/>
            <a:ext cx="8001000" cy="5857560"/>
          </a:xfrm>
          <a:prstGeom prst="pie">
            <a:avLst/>
          </a:prstGeom>
          <a:solidFill>
            <a:srgbClr val="bde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Franklin Gothic Book"/>
              </a:rPr>
              <a:t>1 эта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Franklin Gothic Book"/>
              </a:rPr>
              <a:t>осен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Franklin Gothic Book"/>
              </a:rPr>
              <a:t>сентябрь - октябр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3645000" y="85680"/>
            <a:ext cx="2914560" cy="17128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285480" y="3071520"/>
            <a:ext cx="419076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Несу я урожай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оля вновь засеваю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тиц к югу отправляю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Деревья раздеваю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Но не касаюсь сосен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И ёлочек. Я…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Содержимое 4" descr="6920304605.jpg"/>
          <p:cNvPicPr/>
          <p:nvPr/>
        </p:nvPicPr>
        <p:blipFill>
          <a:blip r:embed="rId2"/>
          <a:stretch/>
        </p:blipFill>
        <p:spPr>
          <a:xfrm>
            <a:off x="4357800" y="1357200"/>
            <a:ext cx="4286160" cy="5214960"/>
          </a:xfrm>
          <a:prstGeom prst="rect">
            <a:avLst/>
          </a:prstGeom>
          <a:ln w="0">
            <a:noFill/>
          </a:ln>
        </p:spPr>
      </p:pic>
      <p:sp>
        <p:nvSpPr>
          <p:cNvPr id="413" name="TextBox 7"/>
          <p:cNvSpPr/>
          <p:nvPr/>
        </p:nvSpPr>
        <p:spPr>
          <a:xfrm>
            <a:off x="428760" y="1571760"/>
            <a:ext cx="3857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ое время г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риходит после л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1133640" y="249120"/>
            <a:ext cx="6883200" cy="1712880"/>
          </a:xfrm>
          <a:prstGeom prst="rect">
            <a:avLst/>
          </a:prstGeom>
          <a:ln w="0">
            <a:noFill/>
          </a:ln>
        </p:spPr>
      </p:pic>
      <p:pic>
        <p:nvPicPr>
          <p:cNvPr id="415" name="Содержимое 4" descr="619f17710d92f05511d7db953495fd72.jpg"/>
          <p:cNvPicPr/>
          <p:nvPr/>
        </p:nvPicPr>
        <p:blipFill>
          <a:blip r:embed="rId2"/>
          <a:stretch/>
        </p:blipFill>
        <p:spPr>
          <a:xfrm>
            <a:off x="4500720" y="3786120"/>
            <a:ext cx="4190760" cy="28130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1640" y="1599840"/>
            <a:ext cx="4429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Улетели птицы разные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Смолк их звонкий перепев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А рябина осень празднует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Бусы красные надев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Рисунок 5" descr="85287817.jpg"/>
          <p:cNvPicPr/>
          <p:nvPr/>
        </p:nvPicPr>
        <p:blipFill>
          <a:blip r:embed="rId3"/>
          <a:stretch/>
        </p:blipFill>
        <p:spPr>
          <a:xfrm>
            <a:off x="214200" y="1500120"/>
            <a:ext cx="4381560" cy="2857680"/>
          </a:xfrm>
          <a:prstGeom prst="rect">
            <a:avLst/>
          </a:prstGeom>
          <a:ln w="0">
            <a:noFill/>
          </a:ln>
        </p:spPr>
      </p:pic>
      <p:sp>
        <p:nvSpPr>
          <p:cNvPr id="418" name="TextBox 6"/>
          <p:cNvSpPr/>
          <p:nvPr/>
        </p:nvSpPr>
        <p:spPr>
          <a:xfrm>
            <a:off x="-110880" y="4714920"/>
            <a:ext cx="501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ие  особ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имеет это время 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Облако 3"/>
          <p:cNvSpPr/>
          <p:nvPr/>
        </p:nvSpPr>
        <p:spPr>
          <a:xfrm>
            <a:off x="357120" y="571680"/>
            <a:ext cx="8358120" cy="5929200"/>
          </a:xfrm>
          <a:prstGeom prst="pie">
            <a:avLst/>
          </a:prstGeom>
          <a:solidFill>
            <a:srgbClr val="bdee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Franklin Gothic Book"/>
              </a:rPr>
              <a:t>2 эта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Franklin Gothic Book"/>
              </a:rPr>
              <a:t>зим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Franklin Gothic Book"/>
              </a:rPr>
              <a:t>декабрь - февра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2706840" y="122400"/>
            <a:ext cx="3949560" cy="17128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82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4e3b30"/>
                </a:solidFill>
                <a:latin typeface="Franklin Gothic Book"/>
              </a:rPr>
              <a:t>Какое время года год начинает ?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ел у меня немало -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Я белым одеяло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сю землю укрываю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лёд реки убираю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елю поля, дома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овут меня …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Содержимое 4" descr="winter-gadget-0.jpg"/>
          <p:cNvPicPr/>
          <p:nvPr/>
        </p:nvPicPr>
        <p:blipFill>
          <a:blip r:embed="rId2"/>
          <a:stretch/>
        </p:blipFill>
        <p:spPr>
          <a:xfrm>
            <a:off x="4572000" y="1428840"/>
            <a:ext cx="43434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1:39:27Z</dcterms:created>
  <dc:creator>саша</dc:creator>
  <dc:description/>
  <dc:language>en-US</dc:language>
  <cp:lastModifiedBy>И В. Яшкова</cp:lastModifiedBy>
  <dcterms:modified xsi:type="dcterms:W3CDTF">2012-08-10T11:47:15Z</dcterms:modified>
  <cp:revision>79</cp:revision>
  <dc:subject/>
  <dc:title>Времена года</dc:title>
</cp:coreProperties>
</file>