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E43-3262-406D-8630-889A6FEE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0E1-C0A2-461A-8D0C-31EE5C9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E4722-780F-451E-A8BD-5D0AE8F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BD1A8-70E7-42DF-9A53-D6C33869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B5DD7-29C8-4617-9A5D-30F70ED0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FA6A9-8EF9-469E-BE21-F84AEDA1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4D717-A803-4935-8B66-3CB6CDB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BA1D-27FE-4DCD-9965-3ACBD8D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23578-C4E4-4CC1-985C-F4E01541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EDBA-F1BD-4C2C-8A03-2AA254A2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1D164-3DF9-4CEF-93CE-D270D56C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561-89D2-4FAA-9200-521CE518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D86-36F5-486E-BFDF-E05E318C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C83-B897-4281-BDBE-1D5AF583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EC53-0407-42BC-BE0B-4C9CBFC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7C1-7400-4FD8-9C00-C2AF6653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39F3-A83B-4268-A4A0-1023BA7E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31AF-0D4A-4928-8EFD-3F01EEDD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7753-9077-427F-BB3F-8FC242C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774A-567F-4BDC-BA07-6D8BAF4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C84-7153-4111-935A-4B35F6F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C80E-B06E-4E11-B69B-B366C9C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47A-61DB-43A6-9176-E21ED04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7CDA-0836-439E-AB48-52A1CA6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F3EB-5804-4C47-9D44-CE996670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0DC3-DE92-49E8-8B29-34BFB30F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7CE3-6B27-47A0-A2C6-927239DE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C95A2-E098-4427-9AA5-C3782D2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B317-0F45-4B3E-93D7-AFBBE9D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04FF-0341-4914-A941-C2D3FF48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8EC3-F9F5-48E3-B725-C0DE0D5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2D1-1310-4833-9EB1-D20F094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F005F-AFE7-4D30-B32D-BA7E7BF9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BC40-865D-4B9E-A62B-B2D4D39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156B-3E69-43D9-96CF-903FBF98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2D64-3F27-4900-8E84-DBD6F81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0D39-8959-4772-B485-5B2F555C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A764-1293-4A6B-88C2-B56C58EC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B2DD-CCE6-4288-9E18-65DF11FA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0C31D-9984-4495-8F82-99A20D85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84CD-723D-4077-B274-0D28305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BC4D-FCB8-4DA1-BD39-A5497289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3E5-A66C-49C1-95BC-5EBB041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FC24-1CDD-4A6A-88D7-281E8F0B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72C7-1BD8-4479-9CE5-2804B92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AF25-9A80-48AB-87D5-6FBEACF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3AFCF-C5C0-4F53-AA72-C090989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C2B2-6068-4C7A-A28B-08FB179D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4B91-DC25-4853-908A-7C8E345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2614-3B62-4A57-B857-BFFDE415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EE33-913E-408E-9F9A-D7A9F251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2A67-9C1E-4BDE-9B1F-A85B55AD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93B9-3E53-4ACC-954C-2F4A2E66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06C-0AC6-40E9-B596-3AC8636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2C46-346A-4B77-8B28-3774028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91FB2-2806-45D5-919D-F6DB08E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4366C-3036-4FA0-9614-77CA5C20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08DB9-4CD7-42EA-8517-D956C62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F0A15-E669-44DD-AE05-106F7D0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B2BE-69AD-4A25-B348-DBF7905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E8F1-409D-45C0-89DC-CAF7A9F2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7114-76E3-44F9-8AC1-00D085F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D7522-4478-456D-9B0A-23004B1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7CE8-8A11-43ED-B792-BD937BF9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6BD-9E49-4D8D-94B5-3A03B6C8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17C0-7594-4858-A664-5173B59D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C9D9-0F9D-4A04-AC8E-1A1B6296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14A8-B1A5-4A3A-BC4A-E6EEC5FC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23630-A6AD-4693-A86B-1B4DCE2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F573-4F5D-4F0A-B296-83B30205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A30CE-92C9-4312-B29F-C9DA641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3619-B36E-44F6-B5C9-475EF10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B82C-6017-4E8C-9B80-5F9DCDD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F8464-9B84-4822-AE39-96A3622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6CC5C-4667-40E4-A35C-CEDD8E27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7BC-969B-4172-B0F9-8C506B6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16A0-CE8A-4B69-8467-612075C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535B-C245-4D92-90A3-F446FBE7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B48DD-CE1F-4620-A581-00393141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CBE5-BB6F-413B-B4DF-93834ABE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CC13-A44F-4824-A8D0-C4C7B39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C0F0-8027-454F-9164-F014498D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1859-3FF0-46F9-887B-D25D36ED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B29FD-7ED8-4CF8-8209-E782851E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65311-B1EA-4724-85A7-77E86B6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53A9-B167-469D-BA22-17389E2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E60-03A0-4681-BE3D-2D0F39C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6C2C-8261-4EA7-B889-1C965B2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3D9A1-6DA4-4CF7-8062-D408F25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7BB79-9EA6-44BE-B8BD-06E3B4A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A41C-7AA5-48AD-A197-9A1F6A45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E6989-32E2-430E-B214-82FF03FC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7D818-63BF-4A4D-81C3-FB6F818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1FC2-4CE7-4A18-B5A0-222D2BC7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253AD-1127-4C16-A1D3-24AE8CD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39F6C-A644-4602-8683-A81625DB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FEB96-B64F-4CFE-A882-BFF37413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A40-15BC-4B60-9BFB-CAACE26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0320A-6583-4E64-9062-EFAB6A2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F15DE-474C-4155-A981-02041E3C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0868B-2304-4078-9783-9239BD9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52D3F-08D8-4E22-BBA1-06EEFAD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E426C-8BA1-4DB2-BBCD-DC4E6D1B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39A88-BBB0-42AE-848F-A5BB544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A8061-6AEB-46E9-A17D-6DA1B848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9458-988D-459A-B330-2665903E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3248E-EEEC-451A-BC97-27E8EAD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5DF50-27CB-41FB-BC62-0C2C2E0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86D-FB79-41AA-A83F-87073BA13D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CC66-8C16-4F3F-80C8-11654B5856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027A-23B0-46C7-AF1E-1247E8E48B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734-07BB-4299-BB64-03E77AFC81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C191-2CFB-481A-926E-358ED443CC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A56-3A88-4868-BC5F-B3A1272780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6C4E-93A7-474C-84CF-7E0AFD9F99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827-008A-4104-9954-B710E4AEB5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E86-87C5-4908-8A15-4F600A8820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79200" y="-92160"/>
            <a:ext cx="9034200" cy="276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000240" y="2084400"/>
            <a:ext cx="8244000" cy="437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Автор: </a:t>
            </a: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Яшкова Инга Вячеславовна</a:t>
            </a:r>
            <a:br>
              <a:rPr sz="2800"/>
            </a:b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 ГБОУ СОШ № 68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г.Моск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3" descr="4721.jpg"/>
          <p:cNvPicPr/>
          <p:nvPr/>
        </p:nvPicPr>
        <p:blipFill>
          <a:blip r:embed="rId2"/>
          <a:stretch/>
        </p:blipFill>
        <p:spPr>
          <a:xfrm>
            <a:off x="219240" y="1816200"/>
            <a:ext cx="2550960" cy="3225600"/>
          </a:xfrm>
          <a:prstGeom prst="rect">
            <a:avLst/>
          </a:prstGeom>
          <a:ln w="0">
            <a:noFill/>
          </a:ln>
        </p:spPr>
      </p:pic>
      <p:sp>
        <p:nvSpPr>
          <p:cNvPr id="402" name="Скругленный прямоугольник 4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133640" y="291960"/>
            <a:ext cx="7022880" cy="17128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4" descr="7400050_835655_21879350_6198596_5328935.jpg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50004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ем зима отличается от других времён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то бывает  только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 осадки выпадаю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993600"/>
            <a:ext cx="8712360" cy="135288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4" descr="12179539_snow11.jpg"/>
          <p:cNvPicPr/>
          <p:nvPr/>
        </p:nvPicPr>
        <p:blipFill>
          <a:blip r:embed="rId2"/>
          <a:stretch/>
        </p:blipFill>
        <p:spPr>
          <a:xfrm>
            <a:off x="500040" y="1785960"/>
            <a:ext cx="4191120" cy="4786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и нашего двор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неговик стоял вче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Мы его слепили са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 он с пышными уса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 сегодня за окн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текли ручьи круг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очью снеговик исчез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Может быть ушёл он в      лес?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1785960" y="142920"/>
            <a:ext cx="5786280" cy="9169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ЗИМНИЕ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Облако 4"/>
          <p:cNvSpPr/>
          <p:nvPr/>
        </p:nvSpPr>
        <p:spPr>
          <a:xfrm>
            <a:off x="500040" y="928800"/>
            <a:ext cx="8001000" cy="54291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3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март - м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19240" y="219240"/>
            <a:ext cx="3524400" cy="1712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ое время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едует з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Я раскрываю почк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зелёные листоч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ревья од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евы поли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вижения полна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овут меня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Содержимое 4" descr="IMG_05853.jpg"/>
          <p:cNvPicPr/>
          <p:nvPr/>
        </p:nvPicPr>
        <p:blipFill>
          <a:blip r:embed="rId2"/>
          <a:stretch/>
        </p:blipFill>
        <p:spPr>
          <a:xfrm>
            <a:off x="4071960" y="1428840"/>
            <a:ext cx="464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279440" y="92160"/>
            <a:ext cx="6737400" cy="171288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4" descr="19636042_1204725540_lazarenko_vt_vesna.jpg"/>
          <p:cNvPicPr/>
          <p:nvPr/>
        </p:nvPicPr>
        <p:blipFill>
          <a:blip r:embed="rId2"/>
          <a:stretch/>
        </p:blipFill>
        <p:spPr>
          <a:xfrm>
            <a:off x="357120" y="300024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5" descr="38944009_02_vesna_2.jpg"/>
          <p:cNvPicPr/>
          <p:nvPr/>
        </p:nvPicPr>
        <p:blipFill>
          <a:blip r:embed="rId3"/>
          <a:stretch/>
        </p:blipFill>
        <p:spPr>
          <a:xfrm>
            <a:off x="4572000" y="1428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285840" y="142884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изменен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роде проис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5000760" y="4714920"/>
            <a:ext cx="40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ет сне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жил л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нь при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Облако 1"/>
          <p:cNvSpPr/>
          <p:nvPr/>
        </p:nvSpPr>
        <p:spPr>
          <a:xfrm>
            <a:off x="571680" y="571680"/>
            <a:ext cx="8072280" cy="58575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4 этап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ле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июнь - 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852640" y="249120"/>
            <a:ext cx="3944880" cy="171288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4" descr="594861903.jpg"/>
          <p:cNvPicPr/>
          <p:nvPr/>
        </p:nvPicPr>
        <p:blipFill>
          <a:blip r:embed="rId2"/>
          <a:stretch/>
        </p:blipFill>
        <p:spPr>
          <a:xfrm>
            <a:off x="357120" y="1571760"/>
            <a:ext cx="4191120" cy="4786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 какое  время года  наступает за весной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соткано из зноя 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су тепло с собо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реку согрев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упаться приглаш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любите за эт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все меня, Я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706400" y="122400"/>
            <a:ext cx="5950080" cy="1712880"/>
          </a:xfrm>
          <a:prstGeom prst="rect">
            <a:avLst/>
          </a:prstGeom>
          <a:ln w="0">
            <a:noFill/>
          </a:ln>
        </p:spPr>
      </p:pic>
      <p:pic>
        <p:nvPicPr>
          <p:cNvPr id="444" name="Содержимое 9" descr="32369-src.jpg"/>
          <p:cNvPicPr/>
          <p:nvPr/>
        </p:nvPicPr>
        <p:blipFill>
          <a:blip r:embed="rId2"/>
          <a:stretch/>
        </p:blipFill>
        <p:spPr>
          <a:xfrm>
            <a:off x="4643280" y="1428840"/>
            <a:ext cx="4262760" cy="28573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8" descr="23.jpg"/>
          <p:cNvPicPr/>
          <p:nvPr/>
        </p:nvPicPr>
        <p:blipFill>
          <a:blip r:embed="rId3"/>
          <a:stretch/>
        </p:blipFill>
        <p:spPr>
          <a:xfrm>
            <a:off x="571680" y="3714840"/>
            <a:ext cx="4362120" cy="28969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0"/>
          <p:cNvSpPr/>
          <p:nvPr/>
        </p:nvSpPr>
        <p:spPr>
          <a:xfrm>
            <a:off x="100800" y="1428840"/>
            <a:ext cx="50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 лужай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ос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лнышком согре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цветастым мотыль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ибежало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5306040" y="4357800"/>
            <a:ext cx="392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купалось в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лежало на пе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гор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лет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 исчезло вдал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994040" y="133200"/>
            <a:ext cx="5735520" cy="1774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64268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врем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да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овите их п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ряд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 вы узнал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ждое врем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Рисунок 5" descr="4Seasons-web.jpg"/>
          <p:cNvPicPr/>
          <p:nvPr/>
        </p:nvPicPr>
        <p:blipFill>
          <a:blip r:embed="rId2"/>
          <a:stretch/>
        </p:blipFill>
        <p:spPr>
          <a:xfrm>
            <a:off x="3714840" y="1785960"/>
            <a:ext cx="5143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36360" y="328680"/>
            <a:ext cx="9217080" cy="2536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2356920"/>
            <a:ext cx="86868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86040" y="2714760"/>
            <a:ext cx="4941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одевается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разное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ожно ли по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человека  узнать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6" descr="1241502364_0061_novyj-razmer.jpg"/>
          <p:cNvPicPr/>
          <p:nvPr/>
        </p:nvPicPr>
        <p:blipFill>
          <a:blip r:embed="rId2"/>
          <a:stretch/>
        </p:blipFill>
        <p:spPr>
          <a:xfrm>
            <a:off x="5357880" y="2428920"/>
            <a:ext cx="333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53880" y="-176040"/>
            <a:ext cx="8643960" cy="2535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-70920" y="2000160"/>
            <a:ext cx="926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Почему природа такая раз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в каждом  времени г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622440" y="219240"/>
            <a:ext cx="7978680" cy="1712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сскажите как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ремена года 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иди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ясните почем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так дум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6" descr="1206263144_1.jpg"/>
          <p:cNvPicPr/>
          <p:nvPr/>
        </p:nvPicPr>
        <p:blipFill>
          <a:blip r:embed="rId2"/>
          <a:stretch/>
        </p:blipFill>
        <p:spPr>
          <a:xfrm>
            <a:off x="4000680" y="1857240"/>
            <a:ext cx="4840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7128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85840" y="207180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Почему листья разноцветные только осен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Может ли снег падать ле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Определите почему тает снег и снегов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В какое время года растут цветы и почему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времена года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приходит за лет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год начина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зимние забавы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ая погод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следует з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признаки весны вы знаете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Чем отличается лето от других времён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блако 2"/>
          <p:cNvSpPr/>
          <p:nvPr/>
        </p:nvSpPr>
        <p:spPr>
          <a:xfrm>
            <a:off x="571680" y="571680"/>
            <a:ext cx="8001000" cy="58575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1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Franklin Gothic Book"/>
              </a:rPr>
              <a:t>сентябрь - ок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3645000" y="85680"/>
            <a:ext cx="2914560" cy="1712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85480" y="3071520"/>
            <a:ext cx="419076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су я урожай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ля вновь зас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тиц к югу отправля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ревья разд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о не касаюсь сосе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ёлочек. Я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Содержимое 4" descr="6920304605.jpg"/>
          <p:cNvPicPr/>
          <p:nvPr/>
        </p:nvPicPr>
        <p:blipFill>
          <a:blip r:embed="rId2"/>
          <a:stretch/>
        </p:blipFill>
        <p:spPr>
          <a:xfrm>
            <a:off x="4357800" y="1357200"/>
            <a:ext cx="4286160" cy="52149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428760" y="1571760"/>
            <a:ext cx="38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ое время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ходит после 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133640" y="249120"/>
            <a:ext cx="6883200" cy="171288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619f17710d92f05511d7db953495fd72.jpg"/>
          <p:cNvPicPr/>
          <p:nvPr/>
        </p:nvPicPr>
        <p:blipFill>
          <a:blip r:embed="rId2"/>
          <a:stretch/>
        </p:blipFill>
        <p:spPr>
          <a:xfrm>
            <a:off x="4500720" y="3786120"/>
            <a:ext cx="4190760" cy="2813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1640" y="1599840"/>
            <a:ext cx="442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летели птицы разны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молк их звонкий перепев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 рябина осень празднует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усы красные наде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5" descr="85287817.jpg"/>
          <p:cNvPicPr/>
          <p:nvPr/>
        </p:nvPicPr>
        <p:blipFill>
          <a:blip r:embed="rId3"/>
          <a:stretch/>
        </p:blipFill>
        <p:spPr>
          <a:xfrm>
            <a:off x="214200" y="150012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-110880" y="4714920"/>
            <a:ext cx="50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меет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Облако 3"/>
          <p:cNvSpPr/>
          <p:nvPr/>
        </p:nvSpPr>
        <p:spPr>
          <a:xfrm>
            <a:off x="357120" y="571680"/>
            <a:ext cx="8358120" cy="592920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2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зи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декабрь - 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706840" y="122400"/>
            <a:ext cx="3949560" cy="1712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e3b30"/>
                </a:solidFill>
                <a:latin typeface="Franklin Gothic Book"/>
              </a:rPr>
              <a:t>Какое время года год начинает ?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л у меня немало -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белым одеяло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ю землю укрыв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лёд реки убир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елю поля, дом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овут меня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Содержимое 4" descr="winter-gadget-0.jpg"/>
          <p:cNvPicPr/>
          <p:nvPr/>
        </p:nvPicPr>
        <p:blipFill>
          <a:blip r:embed="rId2"/>
          <a:stretch/>
        </p:blipFill>
        <p:spPr>
          <a:xfrm>
            <a:off x="4572000" y="1428840"/>
            <a:ext cx="43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9:27Z</dcterms:created>
  <dc:creator>саша</dc:creator>
  <dc:description/>
  <dc:language>en-US</dc:language>
  <cp:lastModifiedBy>И В. Яшкова</cp:lastModifiedBy>
  <dcterms:modified xsi:type="dcterms:W3CDTF">2012-08-10T11:47:15Z</dcterms:modified>
  <cp:revision>79</cp:revision>
  <dc:subject/>
  <dc:title>Времена года</dc:title>
</cp:coreProperties>
</file>