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14C0-7256-4066-B4E7-5365D09F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3A5D-003F-4522-9D52-44A8DF40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328B-41D0-4E1D-AD43-479E12B8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0AE8-9BCF-4C0F-BD4B-19F56CC9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2248-3339-4A0C-A92E-69ABCA23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79F8-B700-44CF-B92F-2779518F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EFBF-3934-443B-9936-81AA9A88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91EB-40B7-4871-9900-80CA600E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1C87-40B6-498A-9FF6-11438563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040" y="590400"/>
            <a:ext cx="76201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6166-A773-4258-8CA8-EBEF56F1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E5FD-A379-4014-A6B6-99C64FA7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BA54-6FE6-45CD-A31F-E3DCAEEB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5624-F0BF-4EED-87EC-B425DF8C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DB70-C068-4A8D-847D-6B24B686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53B8-7427-4283-82B7-F56B87D7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32C7-F4F1-4FBF-A42E-7FEE1959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1AC6-7EC6-477C-99B0-E9CACF6E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120F-7392-405C-B558-3CA59307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541A-58FB-4053-9DB5-36AE8BAE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8565-E41D-4111-860B-443E9BC3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590400"/>
            <a:ext cx="76201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2B70-A8CD-4F41-A033-325CBC62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4A2A-1149-4459-B922-37BBC380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0FD8-2EBC-420D-859C-DDF34C5A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2B81-9A17-4F19-8FEB-E296C60D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561960"/>
            <a:ext cx="9144000" cy="646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 rot="5400000">
            <a:off x="151920" y="7617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"/>
          <p:cNvSpPr/>
          <p:nvPr/>
        </p:nvSpPr>
        <p:spPr>
          <a:xfrm rot="5400000">
            <a:off x="456840" y="7617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5"/>
          <p:cNvSpPr/>
          <p:nvPr/>
        </p:nvSpPr>
        <p:spPr>
          <a:xfrm rot="5400000">
            <a:off x="761400" y="7617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8be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19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6412-7AB7-4210-B964-C7D3673F4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" name="Object 11"/>
          <p:cNvGraphicFramePr/>
          <p:nvPr/>
        </p:nvGraphicFramePr>
        <p:xfrm>
          <a:off x="0" y="0"/>
          <a:ext cx="9144000" cy="56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0" y="0"/>
          <a:ext cx="9144000" cy="380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3"/>
          <p:cNvSpPr/>
          <p:nvPr/>
        </p:nvSpPr>
        <p:spPr>
          <a:xfrm>
            <a:off x="0" y="380988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 rot="5400000">
            <a:off x="228240" y="39081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 rot="5400000">
            <a:off x="532800" y="39081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 rot="5400000">
            <a:off x="837720" y="39081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0"/>
          <p:cNvGrpSpPr/>
          <p:nvPr/>
        </p:nvGrpSpPr>
        <p:grpSpPr>
          <a:xfrm>
            <a:off x="4114800" y="5691240"/>
            <a:ext cx="1079640" cy="635760"/>
            <a:chOff x="4114800" y="5691240"/>
            <a:chExt cx="1079640" cy="635760"/>
          </a:xfrm>
        </p:grpSpPr>
        <p:sp>
          <p:nvSpPr>
            <p:cNvPr id="54" name="Text Box 11"/>
            <p:cNvSpPr/>
            <p:nvPr/>
          </p:nvSpPr>
          <p:spPr>
            <a:xfrm>
              <a:off x="411480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12"/>
            <p:cNvSpPr/>
            <p:nvPr/>
          </p:nvSpPr>
          <p:spPr>
            <a:xfrm rot="5400000">
              <a:off x="450864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8be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19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E718-B7D9-458A-A529-7339D002F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2286000"/>
            <a:ext cx="8675640" cy="1241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ffffff"/>
                </a:solidFill>
                <a:latin typeface="Arial"/>
              </a:rPr>
              <a:t>Окружающий мир 3 класс</a:t>
            </a: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900000" y="5516640"/>
            <a:ext cx="8064720" cy="115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258920" y="57340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: Органы очистки 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телу холодно, кожа краснеет и покрывается бугорками (говорят, что она становится гусино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неет кожа от того, что к ней начинает интенсивно поступать по кровеносным сосудам согревающая её кр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0_21233_12ed0f52_XL"/>
          <p:cNvPicPr/>
          <p:nvPr/>
        </p:nvPicPr>
        <p:blipFill>
          <a:blip r:embed="rId1"/>
          <a:stretch/>
        </p:blipFill>
        <p:spPr>
          <a:xfrm>
            <a:off x="1042920" y="2852640"/>
            <a:ext cx="4248360" cy="3184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s5374835"/>
          <p:cNvPicPr/>
          <p:nvPr/>
        </p:nvPicPr>
        <p:blipFill>
          <a:blip r:embed="rId2"/>
          <a:stretch/>
        </p:blipFill>
        <p:spPr>
          <a:xfrm>
            <a:off x="5435640" y="2708280"/>
            <a:ext cx="248904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вод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Кожа выделяет теп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Кожа выделяет воду, ненужные вещества, минеральные соли, кожное са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Кожа поддерживает температуру тела почти неизмен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о интересно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на ли распространённая поговорка: «Толстокожий, как слон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слона кожа толстая, но точнее было бы говорить «Толстокожий, как бегемо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afrikanskiy_slon"/>
          <p:cNvPicPr/>
          <p:nvPr/>
        </p:nvPicPr>
        <p:blipFill>
          <a:blip r:embed="rId1"/>
          <a:stretch/>
        </p:blipFill>
        <p:spPr>
          <a:xfrm>
            <a:off x="2916360" y="3357720"/>
            <a:ext cx="3738600" cy="2803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0_34b15_f2932130_XL"/>
          <p:cNvPicPr/>
          <p:nvPr/>
        </p:nvPicPr>
        <p:blipFill>
          <a:blip r:embed="rId2"/>
          <a:stretch/>
        </p:blipFill>
        <p:spPr>
          <a:xfrm>
            <a:off x="2556000" y="3284640"/>
            <a:ext cx="417492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еты по уходу за коже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циональное использование свежего воздуха, воды , солн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али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424005"/>
          <p:cNvPicPr/>
          <p:nvPr/>
        </p:nvPicPr>
        <p:blipFill>
          <a:blip r:embed="rId1"/>
          <a:stretch/>
        </p:blipFill>
        <p:spPr>
          <a:xfrm>
            <a:off x="900000" y="1316160"/>
            <a:ext cx="7128000" cy="51130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бота выполнена учител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БОУ СОШ №687города Москв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шковой И.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ие вещества поступают в кровь из кишечника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тательные ве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дные вещества и микробы, которые находятся в пи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чень удаляет из крови часть ядовитых веществ и микро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55640" y="3716280"/>
            <a:ext cx="7848720" cy="6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00000" y="357336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изменяется состав крови, прошедшей после кишечника через печен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5,-112,-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5,-112,-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ы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ганы, которые очищают кров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 накапливающихся в ней ненужных организму веществ и избытка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чки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252720" y="1628640"/>
            <a:ext cx="4211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олюбие (колоссальный объём перерабатываемой ими за сутки кров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ость их работы для  всего организма (в случае отказа от работы, человек погибнет на вторые сут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300360" y="1828800"/>
            <a:ext cx="4038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вая п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ая п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че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чевой пузы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6156360" y="134136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95280" y="1341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15"/>
          <p:cNvPicPr/>
          <p:nvPr/>
        </p:nvPicPr>
        <p:blipFill>
          <a:blip r:embed="rId1"/>
          <a:stretch/>
        </p:blipFill>
        <p:spPr>
          <a:xfrm>
            <a:off x="3708360" y="1916280"/>
            <a:ext cx="287964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 помогать организму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Помочь очистке своей крови мы можем, регулярн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вобожд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 накопившейся моч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чевой пузыр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Регулярная помощь толстым кишка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божде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рганизма от накопившихся отходо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 переработки пи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о интересно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сутки кровь проходит через почки для очистки окол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50 раз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ез почки за сутки протекает примерн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00 литр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рови, а всего в организме 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тр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р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жа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жа тёпл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жа мяг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жа гладкая, но не скольз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жа эластич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2920" y="1828800"/>
            <a:ext cx="4038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рган осяз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важный защитный покров нашего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орган вы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гти и волосы – это тоже образования к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716360" y="12682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я кож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611280" y="134136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йства кож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оение кожи (слои кожи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1-15_002"/>
          <p:cNvPicPr/>
          <p:nvPr/>
        </p:nvPicPr>
        <p:blipFill>
          <a:blip r:embed="rId1"/>
          <a:stretch/>
        </p:blipFill>
        <p:spPr>
          <a:xfrm>
            <a:off x="2050920" y="1268280"/>
            <a:ext cx="4753080" cy="35658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2050920" y="1268280"/>
            <a:ext cx="475308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исунок кож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2952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лубления на коже – устьица пор, через которые выходит пот (поры сальных желе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 солёный, так как с потом из организма выделяется вода с растворёнными в ней минеральными со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fingerprint"/>
          <p:cNvPicPr/>
          <p:nvPr/>
        </p:nvPicPr>
        <p:blipFill>
          <a:blip r:embed="rId1"/>
          <a:stretch/>
        </p:blipFill>
        <p:spPr>
          <a:xfrm>
            <a:off x="1403280" y="1341360"/>
            <a:ext cx="194796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5,-112,-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5,-112,-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5:37:04Z</dcterms:created>
  <dc:creator>NickOn</dc:creator>
  <dc:description/>
  <dc:language>en-US</dc:language>
  <cp:lastModifiedBy>И В. Яшкова</cp:lastModifiedBy>
  <dcterms:modified xsi:type="dcterms:W3CDTF">2012-08-03T12:49:17Z</dcterms:modified>
  <cp:revision>5</cp:revision>
  <dc:subject/>
  <dc:title>Окружающий мир 3 класс</dc:title>
</cp:coreProperties>
</file>