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8DB-AFA6-4C89-9653-F6FFCDC1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FC9-BFD7-4C61-830D-9FD8F269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4BC1-B43B-4C58-AB24-BA619799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903-5AA4-45FA-B77B-93C09646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8830-CB62-4289-B62F-2C95808A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A3D2-5813-4299-8C29-5903F3CC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664A-7C11-42C1-90C0-74FB2D00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92A1-7D9D-4652-94BC-29B97EC3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ABCD-B976-4676-9198-08225DB7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590400"/>
            <a:ext cx="7620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0152-7282-46F0-985C-4D819AC8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1839-DB19-49AF-BD4A-A7498F1F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C52-9728-4E15-A591-7DA49573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0A86-CE12-4493-9681-04641EE6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00BB-88A2-4710-AE18-FB11ABF4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1538-ED62-48F7-BAA3-730A4253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4D01-C76D-4662-8C7E-F7BFF107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5686-95C5-4DEF-8108-7F4777C9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088-622A-4A86-A546-CA7DEC52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ECDA-A2DF-4EA6-92DF-6D75FC9A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B28-945C-4F5B-96E0-F2D075FF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590400"/>
            <a:ext cx="7620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523-021F-43A1-A324-39B14C29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508-775D-4000-8935-4FC936F3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182-630B-4271-9390-6DC636AA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7ED-270B-438F-96A0-E27B87D2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561960"/>
            <a:ext cx="9144000" cy="64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 rot="5400000">
            <a:off x="15192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 rot="5400000">
            <a:off x="45684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 rot="5400000">
            <a:off x="76140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D853-FD4E-4D19-8C55-E65738423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" name="Object 11"/>
          <p:cNvGraphicFramePr/>
          <p:nvPr/>
        </p:nvGraphicFramePr>
        <p:xfrm>
          <a:off x="0" y="0"/>
          <a:ext cx="914400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0"/>
          <a:ext cx="914400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"/>
          <p:cNvSpPr/>
          <p:nvPr/>
        </p:nvSpPr>
        <p:spPr>
          <a:xfrm>
            <a:off x="0" y="380988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 rot="5400000">
            <a:off x="22824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 rot="5400000">
            <a:off x="53280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 rot="5400000">
            <a:off x="83772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4114800" y="5691240"/>
            <a:ext cx="1079640" cy="635760"/>
            <a:chOff x="4114800" y="5691240"/>
            <a:chExt cx="1079640" cy="635760"/>
          </a:xfrm>
        </p:grpSpPr>
        <p:sp>
          <p:nvSpPr>
            <p:cNvPr id="54" name="Text Box 11"/>
            <p:cNvSpPr/>
            <p:nvPr/>
          </p:nvSpPr>
          <p:spPr>
            <a:xfrm>
              <a:off x="411480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2"/>
            <p:cNvSpPr/>
            <p:nvPr/>
          </p:nvSpPr>
          <p:spPr>
            <a:xfrm rot="5400000">
              <a:off x="450864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D827-F262-46AC-B51F-E11427072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286000"/>
            <a:ext cx="867564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ffff"/>
                </a:solidFill>
                <a:latin typeface="Arial"/>
              </a:rPr>
              <a:t>Окружающий мир 3 класс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900000" y="5516640"/>
            <a:ext cx="806472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258920" y="57340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: Органы очистки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телу холодно, кожа краснеет и покрывается бугорками (говорят, что она становится гусин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еет кожа от того, что к ней начинает интенсивно поступать по кровеносным сосудам согревающая её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_21233_12ed0f52_XL"/>
          <p:cNvPicPr/>
          <p:nvPr/>
        </p:nvPicPr>
        <p:blipFill>
          <a:blip r:embed="rId1"/>
          <a:stretch/>
        </p:blipFill>
        <p:spPr>
          <a:xfrm>
            <a:off x="1042920" y="2852640"/>
            <a:ext cx="4248360" cy="318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s5374835"/>
          <p:cNvPicPr/>
          <p:nvPr/>
        </p:nvPicPr>
        <p:blipFill>
          <a:blip r:embed="rId2"/>
          <a:stretch/>
        </p:blipFill>
        <p:spPr>
          <a:xfrm>
            <a:off x="5435640" y="2708280"/>
            <a:ext cx="24890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Кожа выделяет теп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Кожа выделяет воду, ненужные вещества, минеральные соли, кожное с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Кожа поддерживает температуру тела почти неизме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интересно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на ли распространённая поговорка: «Толстокожий, как слон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слона кожа толстая, но точнее было бы говорить «Толстокожий, как бегемо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afrikanskiy_slon"/>
          <p:cNvPicPr/>
          <p:nvPr/>
        </p:nvPicPr>
        <p:blipFill>
          <a:blip r:embed="rId1"/>
          <a:stretch/>
        </p:blipFill>
        <p:spPr>
          <a:xfrm>
            <a:off x="2916360" y="3357720"/>
            <a:ext cx="3738600" cy="2803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0_34b15_f2932130_XL"/>
          <p:cNvPicPr/>
          <p:nvPr/>
        </p:nvPicPr>
        <p:blipFill>
          <a:blip r:embed="rId2"/>
          <a:stretch/>
        </p:blipFill>
        <p:spPr>
          <a:xfrm>
            <a:off x="2556000" y="3284640"/>
            <a:ext cx="41749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ты по уходу за коже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циональное использование свежего воздуха, воды , сол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424005"/>
          <p:cNvPicPr/>
          <p:nvPr/>
        </p:nvPicPr>
        <p:blipFill>
          <a:blip r:embed="rId1"/>
          <a:stretch/>
        </p:blipFill>
        <p:spPr>
          <a:xfrm>
            <a:off x="900000" y="1316160"/>
            <a:ext cx="7128000" cy="5113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та выполнена учите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БОУ СОШ №687города Моск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шковой И.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ие вещества поступают в кровь из кишечника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тельны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дные вещества и микробы, которые находятся в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чень удаляет из крови часть ядовитых веществ и микр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55640" y="3716280"/>
            <a:ext cx="7848720" cy="6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00000" y="357336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изменяется состав крови, прошедшей после кишечника через пече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112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112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ы, которые очищают кров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 накапливающихся в ней ненужных организму веществ и избытка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ки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52720" y="1628640"/>
            <a:ext cx="4211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любие (колоссальный объём перерабатываемой ими за сутки кров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сть их работы для  всего организма (в случае отказа от работы, человек погибнет на вторые сут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300360" y="1828800"/>
            <a:ext cx="4038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ая 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ая 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че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чевой пузы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156360" y="134136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95280" y="1341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15"/>
          <p:cNvPicPr/>
          <p:nvPr/>
        </p:nvPicPr>
        <p:blipFill>
          <a:blip r:embed="rId1"/>
          <a:stretch/>
        </p:blipFill>
        <p:spPr>
          <a:xfrm>
            <a:off x="3708360" y="1916280"/>
            <a:ext cx="287964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 помогать организму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омочь очистке своей крови мы можем, регуляр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вобожд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накопившейся моч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чевой пузыр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Регулярная помощь толстым кишка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жде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рганизма от накопившихся отходо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переработки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интересн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утки кровь проходит через почки для очистки око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50 раз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почки за сутки протекает пример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0 литр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ови, а всего в организме 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р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жа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жа тёпл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жа мяг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жа гладкая, но не скольз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жа эластич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2920" y="1828800"/>
            <a:ext cx="4038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рган осяз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важный защитный покров наше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рган вы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гти и волосы – это тоже образования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716360" y="1268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я кож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11280" y="13413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йства кож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оение кожи (слои кожи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-15_002"/>
          <p:cNvPicPr/>
          <p:nvPr/>
        </p:nvPicPr>
        <p:blipFill>
          <a:blip r:embed="rId1"/>
          <a:stretch/>
        </p:blipFill>
        <p:spPr>
          <a:xfrm>
            <a:off x="2050920" y="1268280"/>
            <a:ext cx="4753080" cy="3565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2050920" y="1268280"/>
            <a:ext cx="47530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исунок кож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убления на коже – устьица пор, через которые выходит пот (поры сальных желе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 солёный, так как с потом из организма выделяется вода с растворёнными в ней минеральными с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ngerprint"/>
          <p:cNvPicPr/>
          <p:nvPr/>
        </p:nvPicPr>
        <p:blipFill>
          <a:blip r:embed="rId1"/>
          <a:stretch/>
        </p:blipFill>
        <p:spPr>
          <a:xfrm>
            <a:off x="1403280" y="1341360"/>
            <a:ext cx="194796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112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112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5:37:04Z</dcterms:created>
  <dc:creator>NickOn</dc:creator>
  <dc:description/>
  <dc:language>en-US</dc:language>
  <cp:lastModifiedBy>И В. Яшкова</cp:lastModifiedBy>
  <dcterms:modified xsi:type="dcterms:W3CDTF">2012-08-03T12:49:17Z</dcterms:modified>
  <cp:revision>5</cp:revision>
  <dc:subject/>
  <dc:title>Окружающий мир 3 класс</dc:title>
</cp:coreProperties>
</file>