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0807-99EE-4790-B4F3-0321A959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19F8-CFFD-4745-A72B-1DA4CC6E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7E41-377E-45E5-A835-3D51052B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A47E-8CA5-4EA3-94F8-B7B4865C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6573-13F0-4933-865A-4CA02762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B7F0-6B08-4AF6-8FEA-F540B592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C980-7B35-45C6-AFA4-C300CC3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256E-BB8E-47E2-8BAD-9CB1B5E5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DAB8-4346-49DF-9D24-73472E73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90B7-3F6A-4080-97B2-68514DA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DBC8-596A-4D03-8925-9DC1162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7238-68B4-493C-8325-6122EEE3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55560" y="360360"/>
            <a:ext cx="8497800" cy="719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33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9432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9714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19D2-1C52-496E-B099-9E2A222FC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719280"/>
            <a:ext cx="32868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28680" y="357120"/>
            <a:ext cx="328680" cy="36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57360" y="0"/>
            <a:ext cx="32832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57360" y="361800"/>
            <a:ext cx="328320" cy="36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328680" y="719280"/>
            <a:ext cx="328680" cy="36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5943240" y="68040"/>
            <a:ext cx="25909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143000" y="628560"/>
            <a:ext cx="8012160" cy="2571840"/>
            <a:chOff x="1143000" y="628560"/>
            <a:chExt cx="8012160" cy="2571840"/>
          </a:xfrm>
        </p:grpSpPr>
        <p:sp>
          <p:nvSpPr>
            <p:cNvPr id="48" name="Rectangle 3"/>
            <p:cNvSpPr/>
            <p:nvPr/>
          </p:nvSpPr>
          <p:spPr>
            <a:xfrm>
              <a:off x="1716120" y="628560"/>
              <a:ext cx="7439040" cy="253368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1143000" y="2286000"/>
              <a:ext cx="914400" cy="9144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"/>
          <p:cNvSpPr/>
          <p:nvPr/>
        </p:nvSpPr>
        <p:spPr>
          <a:xfrm>
            <a:off x="1130400" y="3141720"/>
            <a:ext cx="8013600" cy="574560"/>
          </a:xfrm>
          <a:prstGeom prst="rect">
            <a:avLst/>
          </a:prstGeom>
          <a:solidFill>
            <a:srgbClr val="000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73120" y="2521080"/>
            <a:ext cx="576360" cy="641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716120" y="628560"/>
            <a:ext cx="566640" cy="63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78080" y="0"/>
            <a:ext cx="585720" cy="63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81320" y="628560"/>
            <a:ext cx="585720" cy="63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141560" y="1262160"/>
            <a:ext cx="574560" cy="625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716120" y="1263600"/>
            <a:ext cx="566640" cy="622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73120" y="1886040"/>
            <a:ext cx="576360" cy="64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141560" y="1886040"/>
            <a:ext cx="576000" cy="64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2529000"/>
            <a:ext cx="574560" cy="63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4191120" y="5410080"/>
            <a:ext cx="1294920" cy="696600"/>
            <a:chOff x="4191120" y="5410080"/>
            <a:chExt cx="1294920" cy="696600"/>
          </a:xfrm>
        </p:grpSpPr>
        <p:sp>
          <p:nvSpPr>
            <p:cNvPr id="61" name="Text Box 18"/>
            <p:cNvSpPr/>
            <p:nvPr/>
          </p:nvSpPr>
          <p:spPr>
            <a:xfrm>
              <a:off x="4191120" y="558612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798"/>
                  </a:solidFill>
                  <a:latin typeface="Arial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9"/>
            <p:cNvSpPr/>
            <p:nvPr/>
          </p:nvSpPr>
          <p:spPr>
            <a:xfrm rot="5400000">
              <a:off x="4690080" y="5030280"/>
              <a:ext cx="272880" cy="103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33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35280" y="3933720"/>
            <a:ext cx="5267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ающий  мир з клас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Органы чувст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то такие дальтоники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альтоники видят красный и зелёный цвет как серый (нарушены цветовые ощущения)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2637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4500720" y="3500280"/>
            <a:ext cx="1008000" cy="792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5148360" y="3500280"/>
            <a:ext cx="100800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4067280" y="3141720"/>
            <a:ext cx="2305080" cy="136692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2009_03_12_50_957599090"/>
          <p:cNvPicPr/>
          <p:nvPr/>
        </p:nvPicPr>
        <p:blipFill>
          <a:blip r:embed="rId1"/>
          <a:stretch/>
        </p:blipFill>
        <p:spPr>
          <a:xfrm>
            <a:off x="5435640" y="1125360"/>
            <a:ext cx="194472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img_18457562_1945_0"/>
          <p:cNvPicPr/>
          <p:nvPr/>
        </p:nvPicPr>
        <p:blipFill>
          <a:blip r:embed="rId2"/>
          <a:stretch/>
        </p:blipFill>
        <p:spPr>
          <a:xfrm>
            <a:off x="3419640" y="1341360"/>
            <a:ext cx="1319040" cy="1976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celestron-astromaster-90-eq"/>
          <p:cNvPicPr/>
          <p:nvPr/>
        </p:nvPicPr>
        <p:blipFill>
          <a:blip r:embed="rId3"/>
          <a:stretch/>
        </p:blipFill>
        <p:spPr>
          <a:xfrm>
            <a:off x="611280" y="1125360"/>
            <a:ext cx="1727280" cy="2597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4516"/>
          <p:cNvPicPr/>
          <p:nvPr/>
        </p:nvPicPr>
        <p:blipFill>
          <a:blip r:embed="rId4"/>
          <a:stretch/>
        </p:blipFill>
        <p:spPr>
          <a:xfrm>
            <a:off x="4716360" y="3789360"/>
            <a:ext cx="1808280" cy="2409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приборы увеличивают возможность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за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35600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51280" y="285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411280" y="3860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25892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140360" y="5229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nikon-action-vii-7x50"/>
          <p:cNvPicPr/>
          <p:nvPr/>
        </p:nvPicPr>
        <p:blipFill>
          <a:blip r:embed="rId5"/>
          <a:stretch/>
        </p:blipFill>
        <p:spPr>
          <a:xfrm>
            <a:off x="1763640" y="4221000"/>
            <a:ext cx="165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gotovim_koju_k_zime_35611_1287010478"/>
          <p:cNvPicPr/>
          <p:nvPr/>
        </p:nvPicPr>
        <p:blipFill>
          <a:blip r:embed="rId1"/>
          <a:stretch/>
        </p:blipFill>
        <p:spPr>
          <a:xfrm>
            <a:off x="7164360" y="947880"/>
            <a:ext cx="1979640" cy="1511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ические правил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ть чистоту глаз (умывани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отреть телевизор непрерывно в течение не более 30 минут на расстоянии 2-4 метра от экра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ть на компьютере не более 20 мин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f_4bb0f84e65a20"/>
          <p:cNvPicPr/>
          <p:nvPr/>
        </p:nvPicPr>
        <p:blipFill>
          <a:blip r:embed="rId2"/>
          <a:stretch/>
        </p:blipFill>
        <p:spPr>
          <a:xfrm>
            <a:off x="5940360" y="4581360"/>
            <a:ext cx="2641680" cy="1757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24592b"/>
          <p:cNvPicPr/>
          <p:nvPr/>
        </p:nvPicPr>
        <p:blipFill>
          <a:blip r:embed="rId3"/>
          <a:stretch/>
        </p:blipFill>
        <p:spPr>
          <a:xfrm>
            <a:off x="7380360" y="2708280"/>
            <a:ext cx="15667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WordArt 8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>
            <a:off x="2700000" y="321300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"/>
          <p:cNvSpPr txBox="1"/>
          <p:nvPr/>
        </p:nvSpPr>
        <p:spPr>
          <a:xfrm>
            <a:off x="2050920" y="1773360"/>
            <a:ext cx="454212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хо - орган слуха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равновес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х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ru-RU" sz="3600" spc="-1" strike="noStrike">
                <a:solidFill>
                  <a:srgbClr val="000798"/>
                </a:solidFill>
                <a:latin typeface="Verdana"/>
              </a:rPr>
              <a:t>орган слух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 который даёт важную информацию о мире вокруг н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ru-RU" sz="3600" spc="-1" strike="noStrike">
                <a:solidFill>
                  <a:srgbClr val="000798"/>
                </a:solidFill>
                <a:latin typeface="Verdana"/>
              </a:rPr>
              <a:t>орган равновеси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 помогающий сохранить равновесие и устойчивость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oidos"/>
          <p:cNvPicPr/>
          <p:nvPr/>
        </p:nvPicPr>
        <p:blipFill>
          <a:blip r:embed="rId1"/>
          <a:stretch/>
        </p:blipFill>
        <p:spPr>
          <a:xfrm>
            <a:off x="7469280" y="2349360"/>
            <a:ext cx="1674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4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Дата 6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оение ух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228320"/>
            <a:ext cx="44956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ружное ухо (ушная раковина, слуховой проход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нее ухо (молоточек, стремечко, наковаленк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утреннее ух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yxo"/>
          <p:cNvPicPr/>
          <p:nvPr/>
        </p:nvPicPr>
        <p:blipFill>
          <a:blip r:embed="rId1"/>
          <a:stretch/>
        </p:blipFill>
        <p:spPr>
          <a:xfrm>
            <a:off x="0" y="1052640"/>
            <a:ext cx="453708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уки издают колеблющиеся тел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ёт колебания воздух, и без него  мы не смогли бы услышать друг друг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ебания воздуха передаются барабанной перепонке, а затем в среднее ух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берите правильные утвержде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ковыряй в уш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й громкую музы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льный холодный ветер не повредит твоим уш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ы почистить уши, в них надо поковырять острым предмет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допускай попадания воды в у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39640" y="126828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9640" y="184464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539640" y="242100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39640" y="328464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39640" y="4076640"/>
            <a:ext cx="36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0"/>
          <p:cNvSpPr/>
          <p:nvPr/>
        </p:nvSpPr>
        <p:spPr>
          <a:xfrm>
            <a:off x="539640" y="1341360"/>
            <a:ext cx="289080" cy="301680"/>
          </a:xfrm>
          <a:custGeom>
            <a:avLst/>
            <a:gdLst>
              <a:gd name="textAreaLeft" fmla="*/ 0 w 289080"/>
              <a:gd name="textAreaRight" fmla="*/ 289440 w 28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82" h="190">
                <a:moveTo>
                  <a:pt x="0" y="0"/>
                </a:moveTo>
                <a:cubicBezTo>
                  <a:pt x="30" y="87"/>
                  <a:pt x="61" y="174"/>
                  <a:pt x="91" y="182"/>
                </a:cubicBezTo>
                <a:cubicBezTo>
                  <a:pt x="121" y="190"/>
                  <a:pt x="167" y="76"/>
                  <a:pt x="182" y="46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1"/>
          <p:cNvSpPr/>
          <p:nvPr/>
        </p:nvSpPr>
        <p:spPr>
          <a:xfrm>
            <a:off x="539640" y="4221000"/>
            <a:ext cx="289080" cy="301680"/>
          </a:xfrm>
          <a:custGeom>
            <a:avLst/>
            <a:gdLst>
              <a:gd name="textAreaLeft" fmla="*/ 0 w 289080"/>
              <a:gd name="textAreaRight" fmla="*/ 289440 w 28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82" h="190">
                <a:moveTo>
                  <a:pt x="0" y="0"/>
                </a:moveTo>
                <a:cubicBezTo>
                  <a:pt x="30" y="87"/>
                  <a:pt x="61" y="174"/>
                  <a:pt x="91" y="182"/>
                </a:cubicBezTo>
                <a:cubicBezTo>
                  <a:pt x="121" y="190"/>
                  <a:pt x="167" y="76"/>
                  <a:pt x="182" y="46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8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 flipV="1">
            <a:off x="4500720" y="2133720"/>
            <a:ext cx="86328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 flipV="1">
            <a:off x="3348000" y="2133720"/>
            <a:ext cx="432000" cy="57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2268360" y="1700280"/>
            <a:ext cx="439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с -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 обоня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ижний колонтитул 4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Дата 6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с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2283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нятельные рецепторы располагаются в слизистой оболочке но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nose1"/>
          <p:cNvPicPr/>
          <p:nvPr/>
        </p:nvPicPr>
        <p:blipFill>
          <a:blip r:embed="rId1"/>
          <a:stretch/>
        </p:blipFill>
        <p:spPr>
          <a:xfrm>
            <a:off x="468360" y="1197000"/>
            <a:ext cx="3944880" cy="33782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0"/>
          <p:cNvSpPr/>
          <p:nvPr/>
        </p:nvSpPr>
        <p:spPr>
          <a:xfrm>
            <a:off x="4584600" y="1484280"/>
            <a:ext cx="45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 только </a:t>
            </a:r>
            <a:r>
              <a:rPr b="0" lang="ru-RU" sz="2400" spc="-1" strike="noStrike">
                <a:solidFill>
                  <a:srgbClr val="000798"/>
                </a:solidFill>
                <a:latin typeface="Arial"/>
              </a:rPr>
              <a:t>орган обоня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важный </a:t>
            </a:r>
            <a:r>
              <a:rPr b="0" lang="ru-RU" sz="2400" spc="-1" strike="noStrike">
                <a:solidFill>
                  <a:srgbClr val="000798"/>
                </a:solidFill>
                <a:latin typeface="Arial"/>
              </a:rPr>
              <a:t>орган дых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 острое обоняние у волков и соба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юх дятла позволяет ему отыскивать жуч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 рыб тоже хороший нюх. Они могут с его помощью найти дорогу в свой водоём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0011"/>
          <p:cNvPicPr/>
          <p:nvPr/>
        </p:nvPicPr>
        <p:blipFill>
          <a:blip r:embed="rId1"/>
          <a:stretch/>
        </p:blipFill>
        <p:spPr>
          <a:xfrm>
            <a:off x="0" y="400536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c15b3a667bcb"/>
          <p:cNvPicPr/>
          <p:nvPr/>
        </p:nvPicPr>
        <p:blipFill>
          <a:blip r:embed="rId2"/>
          <a:stretch/>
        </p:blipFill>
        <p:spPr>
          <a:xfrm>
            <a:off x="1908000" y="4005360"/>
            <a:ext cx="1285920" cy="1403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8673badd0ecf"/>
          <p:cNvPicPr/>
          <p:nvPr/>
        </p:nvPicPr>
        <p:blipFill>
          <a:blip r:embed="rId3"/>
          <a:stretch/>
        </p:blipFill>
        <p:spPr>
          <a:xfrm>
            <a:off x="3780000" y="3933720"/>
            <a:ext cx="1581120" cy="1976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0_10eff_80c610d2_XL"/>
          <p:cNvPicPr/>
          <p:nvPr/>
        </p:nvPicPr>
        <p:blipFill>
          <a:blip r:embed="rId4"/>
          <a:stretch/>
        </p:blipFill>
        <p:spPr>
          <a:xfrm>
            <a:off x="5651640" y="4005360"/>
            <a:ext cx="32972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ди с острым чувством обоняния ценятся у создателей духов, работающих с газами и летучими веществ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tumblr_kurlp1Q8Na1qzni6y"/>
          <p:cNvPicPr/>
          <p:nvPr/>
        </p:nvPicPr>
        <p:blipFill>
          <a:blip r:embed="rId1"/>
          <a:stretch/>
        </p:blipFill>
        <p:spPr>
          <a:xfrm>
            <a:off x="3564000" y="2637000"/>
            <a:ext cx="4524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WordArt 8"/>
          <p:cNvSpPr txBox="1"/>
          <p:nvPr/>
        </p:nvSpPr>
        <p:spPr>
          <a:xfrm>
            <a:off x="3419640" y="4221000"/>
            <a:ext cx="1109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643280" y="3213000"/>
            <a:ext cx="649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2340000" y="1628640"/>
            <a:ext cx="4643280" cy="23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жа -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 осяза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жа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жей ты чувствуешь предметы, которых касаешься. Кожа – орган осяз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жей человек ощущает боль, давление, холод и тепл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большей чувствительностью обладают кончики пальцев, середина ладони, средняя линия сп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1289581429_12314_46c97d9e2ce40"/>
          <p:cNvPicPr/>
          <p:nvPr/>
        </p:nvPicPr>
        <p:blipFill>
          <a:blip r:embed="rId1"/>
          <a:stretch/>
        </p:blipFill>
        <p:spPr>
          <a:xfrm>
            <a:off x="7236000" y="4437000"/>
            <a:ext cx="14810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79280" y="1228320"/>
            <a:ext cx="89647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язая предметы, мы можем определя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сс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о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о поверхности (гладкая или шершава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мы воспринимаем окружающий мир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979640" y="1341360"/>
            <a:ext cx="16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WordArt 6"/>
          <p:cNvSpPr txBox="1"/>
          <p:nvPr/>
        </p:nvSpPr>
        <p:spPr>
          <a:xfrm>
            <a:off x="1332000" y="278136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х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WordArt 7"/>
          <p:cNvSpPr txBox="1"/>
          <p:nvPr/>
        </p:nvSpPr>
        <p:spPr>
          <a:xfrm>
            <a:off x="5435640" y="141300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WordArt 8"/>
          <p:cNvSpPr txBox="1"/>
          <p:nvPr/>
        </p:nvSpPr>
        <p:spPr>
          <a:xfrm>
            <a:off x="3419640" y="4437000"/>
            <a:ext cx="122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WordArt 9"/>
          <p:cNvSpPr txBox="1"/>
          <p:nvPr/>
        </p:nvSpPr>
        <p:spPr>
          <a:xfrm>
            <a:off x="5364000" y="2924280"/>
            <a:ext cx="11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ж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AutoShape 10"/>
          <p:cNvSpPr/>
          <p:nvPr/>
        </p:nvSpPr>
        <p:spPr>
          <a:xfrm>
            <a:off x="3419640" y="2637000"/>
            <a:ext cx="1150920" cy="1152360"/>
          </a:xfrm>
          <a:prstGeom prst="sun">
            <a:avLst>
              <a:gd name="adj" fmla="val 25000"/>
            </a:avLst>
          </a:prstGeom>
          <a:solidFill>
            <a:srgbClr val="1b3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3995640" y="386064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WordArt 4"/>
          <p:cNvSpPr txBox="1"/>
          <p:nvPr/>
        </p:nvSpPr>
        <p:spPr>
          <a:xfrm>
            <a:off x="2411280" y="1413000"/>
            <a:ext cx="496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зык  - орган вкуса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осяза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6"/>
          <p:cNvSpPr txBox="1"/>
          <p:nvPr/>
        </p:nvSpPr>
        <p:spPr>
          <a:xfrm>
            <a:off x="1692360" y="1773360"/>
            <a:ext cx="6408720" cy="22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аза -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 зрения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0269352674"/>
          <p:cNvPicPr/>
          <p:nvPr/>
        </p:nvPicPr>
        <p:blipFill>
          <a:blip r:embed="rId1"/>
          <a:stretch/>
        </p:blipFill>
        <p:spPr>
          <a:xfrm>
            <a:off x="5808600" y="333360"/>
            <a:ext cx="3335400" cy="3505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228320"/>
            <a:ext cx="8435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мыш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орган, который  различает вкусовые качества пищи и другие качества пищи – холодная или горячая, твёрдая или мягкая, густая или жидкая. А эти свойства может определить и кожа. Значит язык – орган осяз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684360" y="3068640"/>
            <a:ext cx="6553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395280" y="3500280"/>
            <a:ext cx="511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щущение вкуса пищи сохраняется некоторое время – его хранит головной моз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выполнена учителе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БОУ СОШ №687города Москв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шковой И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2800018_large"/>
          <p:cNvPicPr/>
          <p:nvPr/>
        </p:nvPicPr>
        <p:blipFill>
          <a:blip r:embed="rId1"/>
          <a:stretch/>
        </p:blipFill>
        <p:spPr>
          <a:xfrm>
            <a:off x="0" y="0"/>
            <a:ext cx="6541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за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от орган чувств даёт нам наибольшую информацию об окружающем нас мир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yebyzacharka"/>
          <p:cNvPicPr/>
          <p:nvPr/>
        </p:nvPicPr>
        <p:blipFill>
          <a:blip r:embed="rId1"/>
          <a:stretch/>
        </p:blipFill>
        <p:spPr>
          <a:xfrm>
            <a:off x="2987640" y="3141720"/>
            <a:ext cx="3333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4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6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ение глаза челове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228320"/>
            <a:ext cx="4038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с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ов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дужная оболоч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рач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говиц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0" y="45086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глаз взрослого человека имеет массу около 7 грам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0015-042-Stroenie-glaza"/>
          <p:cNvPicPr/>
          <p:nvPr/>
        </p:nvPicPr>
        <p:blipFill>
          <a:blip r:embed="rId1"/>
          <a:stretch/>
        </p:blipFill>
        <p:spPr>
          <a:xfrm>
            <a:off x="0" y="1197000"/>
            <a:ext cx="4680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да ли глаз даёт верную информацию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5219640" y="1773360"/>
            <a:ext cx="865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6588000" y="1773360"/>
            <a:ext cx="865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020000" y="134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7020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45164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630072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565164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5651640" y="2491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21964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796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148360" y="357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круг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900000" y="234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971640" y="2924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826920" y="2781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V="1">
            <a:off x="826920" y="292392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2987640" y="292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 flipV="1">
            <a:off x="900000" y="2204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900000" y="2349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2843280" y="2133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2842920" y="2349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755640" y="3860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прямая длин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3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 flipV="1">
            <a:off x="2916360" y="2781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7" descr="illyuzii_opticheskie2"/>
          <p:cNvPicPr/>
          <p:nvPr/>
        </p:nvPicPr>
        <p:blipFill>
          <a:blip r:embed="rId1"/>
          <a:stretch/>
        </p:blipFill>
        <p:spPr>
          <a:xfrm>
            <a:off x="3059280" y="2205000"/>
            <a:ext cx="2609640" cy="2251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8"/>
          <p:cNvSpPr/>
          <p:nvPr/>
        </p:nvSpPr>
        <p:spPr>
          <a:xfrm>
            <a:off x="3419640" y="472428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уви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чего вокруг глаз ресниц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чего мы морга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9640" y="1844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ницы защищают глаза от попадания в них сор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57336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гаем, чтобы периодически смывать слезами роговицу, когда боимся попадания чего-либо в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чего закрываем веки, когда мы засыпа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ему мы плачем, когда режем лу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76200" y="2081160"/>
            <a:ext cx="736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00000" y="234936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ваются, чтобы отдохнули мышцы век, отдохнул моз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116000" y="378936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 лука является раздражителем глаз. Глаз пытается быстрее смыть со своей поверхности молекулы эт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2380988"/>
          <p:cNvPicPr/>
          <p:nvPr/>
        </p:nvPicPr>
        <p:blipFill>
          <a:blip r:embed="rId1"/>
          <a:stretch/>
        </p:blipFill>
        <p:spPr>
          <a:xfrm>
            <a:off x="6804000" y="4941720"/>
            <a:ext cx="216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ижний колонтитул 3"/>
          <p:cNvSpPr/>
          <p:nvPr/>
        </p:nvSpPr>
        <p:spPr>
          <a:xfrm>
            <a:off x="594360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ата 5"/>
          <p:cNvSpPr/>
          <p:nvPr/>
        </p:nvSpPr>
        <p:spPr>
          <a:xfrm>
            <a:off x="5943600" y="68400"/>
            <a:ext cx="25909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ёрзнут ли глаза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за не чувствуют холода – у них нет нервных окончаний, чувствительных к температу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372360" y="0"/>
            <a:ext cx="2771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020000" y="6524640"/>
            <a:ext cx="212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5:46:54Z</dcterms:created>
  <dc:creator>NickOn</dc:creator>
  <dc:description/>
  <dc:language>en-US</dc:language>
  <cp:lastModifiedBy>И В. Яшкова</cp:lastModifiedBy>
  <dcterms:modified xsi:type="dcterms:W3CDTF">2012-08-03T12:50:45Z</dcterms:modified>
  <cp:revision>7</cp:revision>
  <dc:subject/>
  <dc:title>Слайд 1</dc:title>
</cp:coreProperties>
</file>