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D3CF-D14E-4DA4-8E92-5C7850EA9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FAEE-30E8-4C82-B640-EE1BD498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73FA-ECBE-46CB-A76D-A32AD17D2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718F-C7AC-4E19-843A-A2937C47A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4896-7D06-43CB-B1A8-E18B05C8B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5E1F-1B67-4791-9ACC-E915787C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3674-0F34-413F-B5C9-94A141AB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D4F6-859E-4FBB-BC31-0BD9C1A1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7D60F-3989-4108-B842-8E8F697B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C9CF-10E3-4C3C-8A4E-49D4A390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7652-19CA-4245-8F5F-9AAF3722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8341-A085-41B5-838B-6A12ED31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DB5C-4790-48F2-9854-F394D6A9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EB12-B4F0-47A1-A85A-DCB65AE5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E3F7-5392-4AF7-B135-648B7821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AB20D-B735-4BFE-9C50-C6EBD6636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1626-19A4-4C1A-8C70-04012CED7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E328-BB24-4519-BB90-1606942B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94D2-6F23-4F76-A6EC-FEEF84BC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D449-A889-4D82-9AC7-3FD169BD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8882-6035-4FA8-B097-3AD4D85F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0284-2DCB-46DA-8CFC-FA8C5D97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384D-B04A-4260-93B4-93066038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321C-453D-413B-AADE-9D966B3C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FB63-8601-474E-BE3A-CD07123F056F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2971800"/>
            <a:ext cx="9144000" cy="9144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380880" y="3189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2895480"/>
            <a:ext cx="8229600" cy="9144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8095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28240" y="64767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D82C-BCE6-4783-BBF9-A25E89AFAE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Окружающий мир 3 класс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WordArt 4"/>
          <p:cNvSpPr txBox="1"/>
          <p:nvPr/>
        </p:nvSpPr>
        <p:spPr>
          <a:xfrm>
            <a:off x="1116000" y="4653000"/>
            <a:ext cx="4619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ма: Нервная систем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её роль в организм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0" y="0"/>
            <a:ext cx="1835280" cy="90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0" name="Picture 6" descr="0031-031-Nervnaja-sistema"/>
          <p:cNvPicPr/>
          <p:nvPr/>
        </p:nvPicPr>
        <p:blipFill>
          <a:blip r:embed="rId1"/>
          <a:stretch/>
        </p:blipFill>
        <p:spPr>
          <a:xfrm>
            <a:off x="395280" y="26028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Дата 4"/>
          <p:cNvSpPr/>
          <p:nvPr/>
        </p:nvSpPr>
        <p:spPr>
          <a:xfrm>
            <a:off x="6781680" y="270000"/>
            <a:ext cx="2133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Нижний колонтитул 5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«Левши» и «правши» среди животных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3848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337760"/>
            <a:ext cx="403848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Одна камбала может всю жизнь провести на левом боку, а другая – на правом.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57" name="Picture 6" descr="flounder-600"/>
          <p:cNvPicPr/>
          <p:nvPr/>
        </p:nvPicPr>
        <p:blipFill>
          <a:blip r:embed="rId1"/>
          <a:stretch/>
        </p:blipFill>
        <p:spPr>
          <a:xfrm>
            <a:off x="468360" y="1268280"/>
            <a:ext cx="4174920" cy="31593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7"/>
          <p:cNvSpPr/>
          <p:nvPr/>
        </p:nvSpPr>
        <p:spPr>
          <a:xfrm>
            <a:off x="7236000" y="630864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7236000" y="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Дата 4"/>
          <p:cNvSpPr/>
          <p:nvPr/>
        </p:nvSpPr>
        <p:spPr>
          <a:xfrm>
            <a:off x="6781680" y="270000"/>
            <a:ext cx="2133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Нижний колонтитул 5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Левши» и «правши» среди животных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3848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8320" y="1337760"/>
            <a:ext cx="403848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Одни улитки носят на себе раковины, закрученные в спираль по часовой стрелке, другие – против. 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65" name="Picture 7" descr="44740488_44739822_002gr7x1"/>
          <p:cNvPicPr/>
          <p:nvPr/>
        </p:nvPicPr>
        <p:blipFill>
          <a:blip r:embed="rId1"/>
          <a:stretch/>
        </p:blipFill>
        <p:spPr>
          <a:xfrm>
            <a:off x="900000" y="1268280"/>
            <a:ext cx="2622600" cy="396108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11"/>
          <p:cNvSpPr/>
          <p:nvPr/>
        </p:nvSpPr>
        <p:spPr>
          <a:xfrm>
            <a:off x="5867280" y="4508640"/>
            <a:ext cx="792360" cy="936360"/>
          </a:xfrm>
          <a:custGeom>
            <a:avLst/>
            <a:gdLst>
              <a:gd name="textAreaLeft" fmla="*/ 106200 w 792360"/>
              <a:gd name="textAreaRight" fmla="*/ 686160 w 792360"/>
              <a:gd name="textAreaTop" fmla="*/ 163800 h 936360"/>
              <a:gd name="textAreaBottom" fmla="*/ 67896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1f63ad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AutoShape 12"/>
          <p:cNvSpPr/>
          <p:nvPr/>
        </p:nvSpPr>
        <p:spPr>
          <a:xfrm>
            <a:off x="7380360" y="4581360"/>
            <a:ext cx="863640" cy="863640"/>
          </a:xfrm>
          <a:custGeom>
            <a:avLst/>
            <a:gdLst>
              <a:gd name="textAreaLeft" fmla="*/ 115560 w 863640"/>
              <a:gd name="textAreaRight" fmla="*/ 748080 w 863640"/>
              <a:gd name="textAreaTop" fmla="*/ 151200 h 863640"/>
              <a:gd name="textAreaBottom" fmla="*/ 6264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1f63ad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Line 13"/>
          <p:cNvSpPr/>
          <p:nvPr/>
        </p:nvSpPr>
        <p:spPr>
          <a:xfrm flipH="1">
            <a:off x="6516720" y="3645000"/>
            <a:ext cx="792000" cy="79200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Line 14"/>
          <p:cNvSpPr/>
          <p:nvPr/>
        </p:nvSpPr>
        <p:spPr>
          <a:xfrm>
            <a:off x="6659640" y="3141720"/>
            <a:ext cx="1008000" cy="136692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Rectangle 15"/>
          <p:cNvSpPr/>
          <p:nvPr/>
        </p:nvSpPr>
        <p:spPr>
          <a:xfrm>
            <a:off x="7236000" y="630864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Rectangle 16"/>
          <p:cNvSpPr/>
          <p:nvPr/>
        </p:nvSpPr>
        <p:spPr>
          <a:xfrm>
            <a:off x="7236000" y="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Дата 4"/>
          <p:cNvSpPr/>
          <p:nvPr/>
        </p:nvSpPr>
        <p:spPr>
          <a:xfrm>
            <a:off x="6781680" y="270000"/>
            <a:ext cx="2133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Нижний колонтитул 5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«Левши» и «правши» среди животных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3848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8320" y="1337760"/>
            <a:ext cx="403848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У дельфинов полушария работают поочерёдно.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77" name="Picture 8" descr="animals_075-320x480"/>
          <p:cNvPicPr/>
          <p:nvPr/>
        </p:nvPicPr>
        <p:blipFill>
          <a:blip r:embed="rId1"/>
          <a:stretch/>
        </p:blipFill>
        <p:spPr>
          <a:xfrm>
            <a:off x="684360" y="1341360"/>
            <a:ext cx="3047760" cy="45720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9"/>
          <p:cNvSpPr/>
          <p:nvPr/>
        </p:nvSpPr>
        <p:spPr>
          <a:xfrm>
            <a:off x="7236000" y="630864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7236000" y="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Дата 4"/>
          <p:cNvSpPr/>
          <p:nvPr/>
        </p:nvSpPr>
        <p:spPr>
          <a:xfrm>
            <a:off x="6781680" y="270000"/>
            <a:ext cx="2133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Нижний колонтитул 5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«Левши» и «правши» среди животных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3848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8320" y="1337760"/>
            <a:ext cx="403848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Клювы клестов из одного гнезда могут быть скрещены влево и вправо.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85" name="Picture 7" descr="cross_b"/>
          <p:cNvPicPr/>
          <p:nvPr/>
        </p:nvPicPr>
        <p:blipFill>
          <a:blip r:embed="rId1"/>
          <a:stretch/>
        </p:blipFill>
        <p:spPr>
          <a:xfrm>
            <a:off x="468360" y="1341360"/>
            <a:ext cx="3593880" cy="468792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8"/>
          <p:cNvSpPr/>
          <p:nvPr/>
        </p:nvSpPr>
        <p:spPr>
          <a:xfrm>
            <a:off x="7236000" y="630864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7236000" y="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Дата 4"/>
          <p:cNvSpPr/>
          <p:nvPr/>
        </p:nvSpPr>
        <p:spPr>
          <a:xfrm>
            <a:off x="6781680" y="270000"/>
            <a:ext cx="2133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Нижний колонтитул 5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Нейроны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3848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48320" y="1337760"/>
            <a:ext cx="403848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По длинным волокнам нейрона, передаются и принимаются электрические сигналы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93" name="Picture 6" descr="нейроныarge"/>
          <p:cNvPicPr/>
          <p:nvPr/>
        </p:nvPicPr>
        <p:blipFill>
          <a:blip r:embed="rId1"/>
          <a:stretch/>
        </p:blipFill>
        <p:spPr>
          <a:xfrm>
            <a:off x="324000" y="1268280"/>
            <a:ext cx="4225680" cy="278928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7"/>
          <p:cNvSpPr/>
          <p:nvPr/>
        </p:nvSpPr>
        <p:spPr>
          <a:xfrm>
            <a:off x="7236000" y="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7236000" y="630864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Дата 4"/>
          <p:cNvSpPr/>
          <p:nvPr/>
        </p:nvSpPr>
        <p:spPr>
          <a:xfrm>
            <a:off x="6781680" y="270000"/>
            <a:ext cx="2133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Нижний колонтитул 5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амять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3848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1337760"/>
            <a:ext cx="43164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Мозг умеет учиться.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Развитие способностей мозга – главнейшая задача вашей учёбы в школе.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Умение запоминать – одна из способностей нашего мозга.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01" name="Picture 5" descr="схема центровf2"/>
          <p:cNvPicPr/>
          <p:nvPr/>
        </p:nvPicPr>
        <p:blipFill>
          <a:blip r:embed="rId1"/>
          <a:stretch/>
        </p:blipFill>
        <p:spPr>
          <a:xfrm>
            <a:off x="0" y="1268280"/>
            <a:ext cx="4859280" cy="288936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9"/>
          <p:cNvSpPr/>
          <p:nvPr/>
        </p:nvSpPr>
        <p:spPr>
          <a:xfrm>
            <a:off x="1835280" y="2421000"/>
            <a:ext cx="433080" cy="18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Rectangle 10"/>
          <p:cNvSpPr/>
          <p:nvPr/>
        </p:nvSpPr>
        <p:spPr>
          <a:xfrm>
            <a:off x="2484360" y="1125360"/>
            <a:ext cx="208764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Rectangle 11"/>
          <p:cNvSpPr/>
          <p:nvPr/>
        </p:nvSpPr>
        <p:spPr>
          <a:xfrm>
            <a:off x="1763640" y="1197000"/>
            <a:ext cx="1440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Rectangle 12"/>
          <p:cNvSpPr/>
          <p:nvPr/>
        </p:nvSpPr>
        <p:spPr>
          <a:xfrm>
            <a:off x="7236000" y="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Rectangle 13"/>
          <p:cNvSpPr/>
          <p:nvPr/>
        </p:nvSpPr>
        <p:spPr>
          <a:xfrm>
            <a:off x="7236000" y="630864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Дата 3"/>
          <p:cNvSpPr/>
          <p:nvPr/>
        </p:nvSpPr>
        <p:spPr>
          <a:xfrm>
            <a:off x="6781680" y="270000"/>
            <a:ext cx="2133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Нижний колонтитул 4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Виды памяти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Зрительная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Слуховая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Вкусовая и обонятельная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Двигательная 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Осязательная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Эмоциональная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Смысловая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7236000" y="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7236000" y="630864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Дата 3"/>
          <p:cNvSpPr/>
          <p:nvPr/>
        </p:nvSpPr>
        <p:spPr>
          <a:xfrm>
            <a:off x="6781680" y="270000"/>
            <a:ext cx="2133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Нижний колонтитул 4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Разновидности памяти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337760"/>
            <a:ext cx="91440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Зрительная память (запомни и проверь) 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7" name="Litebulb"/>
          <p:cNvSpPr/>
          <p:nvPr/>
        </p:nvSpPr>
        <p:spPr>
          <a:xfrm>
            <a:off x="3276720" y="2060640"/>
            <a:ext cx="718920" cy="863640"/>
          </a:xfrm>
          <a:custGeom>
            <a:avLst/>
            <a:gdLst>
              <a:gd name="textAreaLeft" fmla="*/ 118080 w 718920"/>
              <a:gd name="textAreaRight" fmla="*/ 608400 w 718920"/>
              <a:gd name="textAreaTop" fmla="*/ 87480 h 863640"/>
              <a:gd name="textAreaBottom" fmla="*/ 371160 h 86364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Lock"/>
          <p:cNvSpPr/>
          <p:nvPr/>
        </p:nvSpPr>
        <p:spPr>
          <a:xfrm>
            <a:off x="4572000" y="2060640"/>
            <a:ext cx="647640" cy="647640"/>
          </a:xfrm>
          <a:custGeom>
            <a:avLst/>
            <a:gdLst>
              <a:gd name="textAreaLeft" fmla="*/ 22320 w 647640"/>
              <a:gd name="textAreaRight" fmla="*/ 633960 w 647640"/>
              <a:gd name="textAreaTop" fmla="*/ 297000 h 647640"/>
              <a:gd name="textAreaBottom" fmla="*/ 459720 h 647640"/>
            </a:gdLst>
            <a:ahLst/>
            <a:rect l="textAreaLeft" t="textAreaTop" r="textAreaRight" b="textAreaBottom"/>
            <a:pathLst>
              <a:path w="21600" h="21600">
                <a:moveTo>
                  <a:pt x="93" y="9606"/>
                </a:moveTo>
                <a:lnTo>
                  <a:pt x="2048" y="9606"/>
                </a:lnTo>
                <a:lnTo>
                  <a:pt x="2048" y="4713"/>
                </a:lnTo>
                <a:lnTo>
                  <a:pt x="2420" y="3818"/>
                </a:lnTo>
                <a:lnTo>
                  <a:pt x="2979" y="3028"/>
                </a:lnTo>
                <a:lnTo>
                  <a:pt x="3537" y="2446"/>
                </a:lnTo>
                <a:lnTo>
                  <a:pt x="3956" y="1998"/>
                </a:lnTo>
                <a:lnTo>
                  <a:pt x="4492" y="1581"/>
                </a:lnTo>
                <a:lnTo>
                  <a:pt x="5143" y="1238"/>
                </a:lnTo>
                <a:lnTo>
                  <a:pt x="5912" y="880"/>
                </a:lnTo>
                <a:lnTo>
                  <a:pt x="6587" y="641"/>
                </a:lnTo>
                <a:lnTo>
                  <a:pt x="7518" y="372"/>
                </a:lnTo>
                <a:lnTo>
                  <a:pt x="8425" y="208"/>
                </a:lnTo>
                <a:lnTo>
                  <a:pt x="9496" y="59"/>
                </a:lnTo>
                <a:lnTo>
                  <a:pt x="10637" y="14"/>
                </a:lnTo>
                <a:lnTo>
                  <a:pt x="11614" y="59"/>
                </a:lnTo>
                <a:lnTo>
                  <a:pt x="12382" y="119"/>
                </a:lnTo>
                <a:lnTo>
                  <a:pt x="13034" y="253"/>
                </a:lnTo>
                <a:lnTo>
                  <a:pt x="13779" y="417"/>
                </a:lnTo>
                <a:lnTo>
                  <a:pt x="14500" y="611"/>
                </a:lnTo>
                <a:lnTo>
                  <a:pt x="14733" y="686"/>
                </a:lnTo>
                <a:lnTo>
                  <a:pt x="14989" y="790"/>
                </a:lnTo>
                <a:lnTo>
                  <a:pt x="15175" y="865"/>
                </a:lnTo>
                <a:lnTo>
                  <a:pt x="15385" y="954"/>
                </a:lnTo>
                <a:lnTo>
                  <a:pt x="15431" y="969"/>
                </a:lnTo>
                <a:lnTo>
                  <a:pt x="15594" y="1059"/>
                </a:lnTo>
                <a:lnTo>
                  <a:pt x="15757" y="1148"/>
                </a:lnTo>
                <a:lnTo>
                  <a:pt x="15920" y="1267"/>
                </a:lnTo>
                <a:lnTo>
                  <a:pt x="16106" y="1372"/>
                </a:lnTo>
                <a:lnTo>
                  <a:pt x="16665" y="1730"/>
                </a:lnTo>
                <a:lnTo>
                  <a:pt x="17014" y="1998"/>
                </a:lnTo>
                <a:lnTo>
                  <a:pt x="17480" y="2356"/>
                </a:lnTo>
                <a:lnTo>
                  <a:pt x="17852" y="2804"/>
                </a:lnTo>
                <a:lnTo>
                  <a:pt x="18178" y="3192"/>
                </a:lnTo>
                <a:lnTo>
                  <a:pt x="18527" y="3639"/>
                </a:lnTo>
                <a:lnTo>
                  <a:pt x="18806" y="4132"/>
                </a:lnTo>
                <a:lnTo>
                  <a:pt x="19086" y="4713"/>
                </a:lnTo>
                <a:lnTo>
                  <a:pt x="19272" y="5191"/>
                </a:lnTo>
                <a:lnTo>
                  <a:pt x="19295" y="9606"/>
                </a:lnTo>
                <a:lnTo>
                  <a:pt x="21600" y="9606"/>
                </a:lnTo>
                <a:lnTo>
                  <a:pt x="21600" y="16289"/>
                </a:lnTo>
                <a:lnTo>
                  <a:pt x="21413" y="17184"/>
                </a:lnTo>
                <a:lnTo>
                  <a:pt x="21041" y="17900"/>
                </a:lnTo>
                <a:lnTo>
                  <a:pt x="20668" y="18377"/>
                </a:lnTo>
                <a:lnTo>
                  <a:pt x="20343" y="18855"/>
                </a:lnTo>
                <a:lnTo>
                  <a:pt x="19924" y="19332"/>
                </a:lnTo>
                <a:lnTo>
                  <a:pt x="19388" y="19809"/>
                </a:lnTo>
                <a:lnTo>
                  <a:pt x="18806" y="20242"/>
                </a:lnTo>
                <a:lnTo>
                  <a:pt x="18062" y="20585"/>
                </a:lnTo>
                <a:lnTo>
                  <a:pt x="17270" y="20883"/>
                </a:lnTo>
                <a:lnTo>
                  <a:pt x="16525" y="21182"/>
                </a:lnTo>
                <a:lnTo>
                  <a:pt x="15548" y="21420"/>
                </a:lnTo>
                <a:lnTo>
                  <a:pt x="14803" y="21540"/>
                </a:lnTo>
                <a:lnTo>
                  <a:pt x="13662" y="21674"/>
                </a:lnTo>
                <a:lnTo>
                  <a:pt x="8379" y="21659"/>
                </a:lnTo>
                <a:lnTo>
                  <a:pt x="7168" y="21540"/>
                </a:lnTo>
                <a:lnTo>
                  <a:pt x="6098" y="21331"/>
                </a:lnTo>
                <a:lnTo>
                  <a:pt x="5050" y="21092"/>
                </a:lnTo>
                <a:lnTo>
                  <a:pt x="4003" y="20764"/>
                </a:lnTo>
                <a:lnTo>
                  <a:pt x="3258" y="20391"/>
                </a:lnTo>
                <a:lnTo>
                  <a:pt x="2769" y="20123"/>
                </a:lnTo>
                <a:lnTo>
                  <a:pt x="2281" y="19720"/>
                </a:lnTo>
                <a:lnTo>
                  <a:pt x="1862" y="19407"/>
                </a:lnTo>
                <a:lnTo>
                  <a:pt x="1489" y="19079"/>
                </a:lnTo>
                <a:lnTo>
                  <a:pt x="1070" y="18676"/>
                </a:lnTo>
                <a:lnTo>
                  <a:pt x="744" y="18258"/>
                </a:lnTo>
                <a:lnTo>
                  <a:pt x="325" y="17661"/>
                </a:lnTo>
                <a:lnTo>
                  <a:pt x="162" y="17035"/>
                </a:lnTo>
                <a:lnTo>
                  <a:pt x="93" y="16468"/>
                </a:lnTo>
                <a:lnTo>
                  <a:pt x="93" y="9606"/>
                </a:lnTo>
                <a:close/>
                <a:moveTo>
                  <a:pt x="6098" y="9591"/>
                </a:moveTo>
                <a:lnTo>
                  <a:pt x="6098" y="5220"/>
                </a:lnTo>
                <a:lnTo>
                  <a:pt x="6191" y="4907"/>
                </a:lnTo>
                <a:lnTo>
                  <a:pt x="6307" y="4639"/>
                </a:lnTo>
                <a:lnTo>
                  <a:pt x="6517" y="4370"/>
                </a:lnTo>
                <a:lnTo>
                  <a:pt x="6680" y="4087"/>
                </a:lnTo>
                <a:lnTo>
                  <a:pt x="6889" y="3878"/>
                </a:lnTo>
                <a:lnTo>
                  <a:pt x="7308" y="3520"/>
                </a:lnTo>
                <a:lnTo>
                  <a:pt x="7843" y="3281"/>
                </a:lnTo>
                <a:lnTo>
                  <a:pt x="8402" y="3013"/>
                </a:lnTo>
                <a:lnTo>
                  <a:pt x="9031" y="2834"/>
                </a:lnTo>
                <a:lnTo>
                  <a:pt x="9659" y="2700"/>
                </a:lnTo>
                <a:lnTo>
                  <a:pt x="10497" y="2625"/>
                </a:lnTo>
                <a:lnTo>
                  <a:pt x="11125" y="2655"/>
                </a:lnTo>
                <a:lnTo>
                  <a:pt x="11987" y="2789"/>
                </a:lnTo>
                <a:lnTo>
                  <a:pt x="12522" y="2893"/>
                </a:lnTo>
                <a:lnTo>
                  <a:pt x="13011" y="3028"/>
                </a:lnTo>
                <a:lnTo>
                  <a:pt x="13290" y="3192"/>
                </a:lnTo>
                <a:lnTo>
                  <a:pt x="13709" y="3371"/>
                </a:lnTo>
                <a:lnTo>
                  <a:pt x="13872" y="3505"/>
                </a:lnTo>
                <a:lnTo>
                  <a:pt x="14058" y="3639"/>
                </a:lnTo>
                <a:lnTo>
                  <a:pt x="14291" y="3788"/>
                </a:lnTo>
                <a:lnTo>
                  <a:pt x="14431" y="3953"/>
                </a:lnTo>
                <a:lnTo>
                  <a:pt x="14617" y="4102"/>
                </a:lnTo>
                <a:lnTo>
                  <a:pt x="14826" y="4311"/>
                </a:lnTo>
                <a:lnTo>
                  <a:pt x="14919" y="4534"/>
                </a:lnTo>
                <a:lnTo>
                  <a:pt x="15036" y="4773"/>
                </a:lnTo>
                <a:lnTo>
                  <a:pt x="15175" y="5027"/>
                </a:lnTo>
                <a:lnTo>
                  <a:pt x="15245" y="5220"/>
                </a:lnTo>
                <a:lnTo>
                  <a:pt x="15245" y="9591"/>
                </a:lnTo>
                <a:lnTo>
                  <a:pt x="6098" y="9591"/>
                </a:lnTo>
                <a:close/>
              </a:path>
              <a:path w="21600" h="21600">
                <a:moveTo>
                  <a:pt x="93" y="9606"/>
                </a:moveTo>
                <a:lnTo>
                  <a:pt x="21600" y="9606"/>
                </a:lnTo>
                <a:close/>
              </a:path>
              <a:path w="21600" h="21600">
                <a:moveTo>
                  <a:pt x="11684" y="17109"/>
                </a:moveTo>
                <a:lnTo>
                  <a:pt x="12266" y="19317"/>
                </a:lnTo>
                <a:lnTo>
                  <a:pt x="9659" y="19317"/>
                </a:lnTo>
                <a:lnTo>
                  <a:pt x="10287" y="17124"/>
                </a:lnTo>
                <a:lnTo>
                  <a:pt x="10008" y="16975"/>
                </a:lnTo>
                <a:lnTo>
                  <a:pt x="9799" y="16722"/>
                </a:lnTo>
                <a:lnTo>
                  <a:pt x="9752" y="16408"/>
                </a:lnTo>
                <a:lnTo>
                  <a:pt x="9822" y="16170"/>
                </a:lnTo>
                <a:lnTo>
                  <a:pt x="10008" y="16006"/>
                </a:lnTo>
                <a:lnTo>
                  <a:pt x="10148" y="15871"/>
                </a:lnTo>
                <a:lnTo>
                  <a:pt x="10381" y="15782"/>
                </a:lnTo>
                <a:lnTo>
                  <a:pt x="10660" y="15692"/>
                </a:lnTo>
                <a:lnTo>
                  <a:pt x="11009" y="15677"/>
                </a:lnTo>
                <a:lnTo>
                  <a:pt x="11288" y="15722"/>
                </a:lnTo>
                <a:lnTo>
                  <a:pt x="11614" y="15782"/>
                </a:lnTo>
                <a:lnTo>
                  <a:pt x="11893" y="15946"/>
                </a:lnTo>
                <a:lnTo>
                  <a:pt x="12033" y="16080"/>
                </a:lnTo>
                <a:lnTo>
                  <a:pt x="12173" y="16229"/>
                </a:lnTo>
                <a:lnTo>
                  <a:pt x="12196" y="16408"/>
                </a:lnTo>
                <a:lnTo>
                  <a:pt x="12103" y="16722"/>
                </a:lnTo>
                <a:lnTo>
                  <a:pt x="11987" y="16856"/>
                </a:lnTo>
                <a:lnTo>
                  <a:pt x="11847" y="16975"/>
                </a:lnTo>
                <a:lnTo>
                  <a:pt x="11684" y="17109"/>
                </a:lnTo>
              </a:path>
            </a:pathLst>
          </a:cu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laptop"/>
          <p:cNvSpPr/>
          <p:nvPr/>
        </p:nvSpPr>
        <p:spPr>
          <a:xfrm>
            <a:off x="5651640" y="2060640"/>
            <a:ext cx="1439640" cy="720720"/>
          </a:xfrm>
          <a:custGeom>
            <a:avLst/>
            <a:gdLst>
              <a:gd name="textAreaLeft" fmla="*/ 296280 w 1439640"/>
              <a:gd name="textAreaRight" fmla="*/ 1153800 w 1439640"/>
              <a:gd name="textAreaTop" fmla="*/ 61920 h 720720"/>
              <a:gd name="textAreaBottom" fmla="*/ 411120 h 720720"/>
            </a:gdLst>
            <a:ahLst/>
            <a:rect l="textAreaLeft" t="textAreaTop" r="textAreaRight" b="textAreaBottom"/>
            <a:pathLst>
              <a:path w="21600" h="21600">
                <a:moveTo>
                  <a:pt x="3362" y="0"/>
                </a:moveTo>
                <a:lnTo>
                  <a:pt x="18327" y="0"/>
                </a:lnTo>
                <a:lnTo>
                  <a:pt x="18327" y="14347"/>
                </a:lnTo>
                <a:lnTo>
                  <a:pt x="3362" y="14347"/>
                </a:lnTo>
                <a:lnTo>
                  <a:pt x="3362" y="0"/>
                </a:lnTo>
                <a:close/>
              </a:path>
              <a:path w="21600" h="21600">
                <a:moveTo>
                  <a:pt x="3340" y="15068"/>
                </a:moveTo>
                <a:lnTo>
                  <a:pt x="0" y="19877"/>
                </a:lnTo>
                <a:lnTo>
                  <a:pt x="21600" y="19877"/>
                </a:lnTo>
                <a:lnTo>
                  <a:pt x="18327" y="15068"/>
                </a:lnTo>
                <a:lnTo>
                  <a:pt x="3340" y="15068"/>
                </a:lnTo>
                <a:close/>
              </a:path>
              <a:path w="21600" h="21600">
                <a:moveTo>
                  <a:pt x="0" y="19877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9877"/>
                </a:lnTo>
                <a:lnTo>
                  <a:pt x="0" y="19877"/>
                </a:lnTo>
                <a:close/>
              </a:path>
              <a:path w="21600" h="21600">
                <a:moveTo>
                  <a:pt x="4186" y="1523"/>
                </a:moveTo>
                <a:lnTo>
                  <a:pt x="17547" y="1523"/>
                </a:lnTo>
                <a:lnTo>
                  <a:pt x="17547" y="12744"/>
                </a:lnTo>
                <a:lnTo>
                  <a:pt x="4186" y="12744"/>
                </a:lnTo>
                <a:lnTo>
                  <a:pt x="4186" y="1523"/>
                </a:lnTo>
                <a:close/>
              </a:path>
              <a:path w="21600" h="21600">
                <a:moveTo>
                  <a:pt x="3318" y="15549"/>
                </a:moveTo>
                <a:lnTo>
                  <a:pt x="2917" y="16110"/>
                </a:lnTo>
                <a:lnTo>
                  <a:pt x="18727" y="16110"/>
                </a:lnTo>
                <a:lnTo>
                  <a:pt x="18327" y="15549"/>
                </a:lnTo>
                <a:lnTo>
                  <a:pt x="3318" y="15549"/>
                </a:lnTo>
                <a:close/>
              </a:path>
              <a:path w="21600" h="21600">
                <a:moveTo>
                  <a:pt x="6213" y="18314"/>
                </a:moveTo>
                <a:lnTo>
                  <a:pt x="5946" y="18875"/>
                </a:lnTo>
                <a:lnTo>
                  <a:pt x="15766" y="18875"/>
                </a:lnTo>
                <a:lnTo>
                  <a:pt x="15499" y="18314"/>
                </a:lnTo>
                <a:lnTo>
                  <a:pt x="6213" y="18314"/>
                </a:lnTo>
                <a:close/>
              </a:path>
              <a:path w="21600" h="21600">
                <a:moveTo>
                  <a:pt x="2828" y="16471"/>
                </a:moveTo>
                <a:lnTo>
                  <a:pt x="2405" y="17072"/>
                </a:lnTo>
                <a:lnTo>
                  <a:pt x="19284" y="17072"/>
                </a:lnTo>
                <a:lnTo>
                  <a:pt x="18839" y="16471"/>
                </a:lnTo>
                <a:lnTo>
                  <a:pt x="2828" y="16471"/>
                </a:lnTo>
                <a:close/>
              </a:path>
              <a:path w="21600" h="21600">
                <a:moveTo>
                  <a:pt x="2316" y="17352"/>
                </a:moveTo>
                <a:lnTo>
                  <a:pt x="1871" y="17953"/>
                </a:lnTo>
                <a:lnTo>
                  <a:pt x="19863" y="17953"/>
                </a:lnTo>
                <a:lnTo>
                  <a:pt x="19395" y="17352"/>
                </a:lnTo>
                <a:lnTo>
                  <a:pt x="2316" y="17352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Tree"/>
          <p:cNvSpPr/>
          <p:nvPr/>
        </p:nvSpPr>
        <p:spPr>
          <a:xfrm>
            <a:off x="3708360" y="3284640"/>
            <a:ext cx="647640" cy="1081080"/>
          </a:xfrm>
          <a:custGeom>
            <a:avLst/>
            <a:gdLst>
              <a:gd name="textAreaLeft" fmla="*/ 22680 w 647640"/>
              <a:gd name="textAreaRight" fmla="*/ 631800 w 647640"/>
              <a:gd name="textAreaTop" fmla="*/ 1123920 h 1081080"/>
              <a:gd name="textAreaBottom" fmla="*/ 14158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tower"/>
          <p:cNvSpPr/>
          <p:nvPr/>
        </p:nvSpPr>
        <p:spPr>
          <a:xfrm>
            <a:off x="4716360" y="3141720"/>
            <a:ext cx="647640" cy="1655640"/>
          </a:xfrm>
          <a:custGeom>
            <a:avLst/>
            <a:gdLst>
              <a:gd name="textAreaLeft" fmla="*/ 13680 w 647640"/>
              <a:gd name="textAreaRight" fmla="*/ 644400 w 647640"/>
              <a:gd name="textAreaTop" fmla="*/ 1728000 h 1655640"/>
              <a:gd name="textAreaBottom" fmla="*/ 20700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2184"/>
                </a:moveTo>
                <a:lnTo>
                  <a:pt x="6664" y="0"/>
                </a:lnTo>
                <a:lnTo>
                  <a:pt x="10800" y="0"/>
                </a:lnTo>
                <a:lnTo>
                  <a:pt x="21600" y="0"/>
                </a:lnTo>
                <a:lnTo>
                  <a:pt x="21600" y="11649"/>
                </a:lnTo>
                <a:lnTo>
                  <a:pt x="21600" y="19416"/>
                </a:lnTo>
                <a:lnTo>
                  <a:pt x="15166" y="21600"/>
                </a:lnTo>
                <a:lnTo>
                  <a:pt x="10570" y="21600"/>
                </a:lnTo>
                <a:lnTo>
                  <a:pt x="0" y="21600"/>
                </a:lnTo>
                <a:lnTo>
                  <a:pt x="0" y="11528"/>
                </a:lnTo>
                <a:lnTo>
                  <a:pt x="0" y="2184"/>
                </a:lnTo>
                <a:close/>
              </a:path>
              <a:path w="21600" h="21600">
                <a:moveTo>
                  <a:pt x="0" y="2184"/>
                </a:moveTo>
                <a:lnTo>
                  <a:pt x="0" y="2184"/>
                </a:lnTo>
                <a:lnTo>
                  <a:pt x="14706" y="2184"/>
                </a:lnTo>
                <a:lnTo>
                  <a:pt x="21600" y="0"/>
                </a:lnTo>
                <a:moveTo>
                  <a:pt x="0" y="2184"/>
                </a:moveTo>
                <a:lnTo>
                  <a:pt x="14706" y="2184"/>
                </a:lnTo>
                <a:lnTo>
                  <a:pt x="14706" y="5339"/>
                </a:lnTo>
                <a:lnTo>
                  <a:pt x="14706" y="17474"/>
                </a:lnTo>
                <a:lnTo>
                  <a:pt x="14706" y="21600"/>
                </a:lnTo>
                <a:moveTo>
                  <a:pt x="1149" y="3034"/>
                </a:moveTo>
                <a:lnTo>
                  <a:pt x="13328" y="3034"/>
                </a:lnTo>
                <a:lnTo>
                  <a:pt x="13328" y="3519"/>
                </a:lnTo>
                <a:lnTo>
                  <a:pt x="1149" y="3519"/>
                </a:lnTo>
                <a:lnTo>
                  <a:pt x="1149" y="3034"/>
                </a:lnTo>
                <a:moveTo>
                  <a:pt x="1149" y="4490"/>
                </a:moveTo>
                <a:lnTo>
                  <a:pt x="13328" y="4490"/>
                </a:lnTo>
                <a:lnTo>
                  <a:pt x="13328" y="4854"/>
                </a:lnTo>
                <a:lnTo>
                  <a:pt x="1149" y="4854"/>
                </a:lnTo>
                <a:lnTo>
                  <a:pt x="1149" y="4490"/>
                </a:lnTo>
                <a:moveTo>
                  <a:pt x="1149" y="5946"/>
                </a:moveTo>
                <a:lnTo>
                  <a:pt x="13328" y="5946"/>
                </a:lnTo>
                <a:lnTo>
                  <a:pt x="13328" y="6310"/>
                </a:lnTo>
                <a:lnTo>
                  <a:pt x="1149" y="6310"/>
                </a:lnTo>
                <a:lnTo>
                  <a:pt x="1149" y="5946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hoto"/>
          <p:cNvSpPr/>
          <p:nvPr/>
        </p:nvSpPr>
        <p:spPr>
          <a:xfrm>
            <a:off x="5724360" y="3357720"/>
            <a:ext cx="1368720" cy="863280"/>
          </a:xfrm>
          <a:custGeom>
            <a:avLst/>
            <a:gdLst>
              <a:gd name="textAreaLeft" fmla="*/ 47880 w 1368720"/>
              <a:gd name="textAreaRight" fmla="*/ 1335240 w 1368720"/>
              <a:gd name="textAreaTop" fmla="*/ 897480 h 863280"/>
              <a:gd name="textAreaBottom" fmla="*/ 1210680 h 86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3085"/>
                </a:lnTo>
                <a:lnTo>
                  <a:pt x="1542" y="3085"/>
                </a:lnTo>
                <a:lnTo>
                  <a:pt x="1542" y="1028"/>
                </a:lnTo>
                <a:lnTo>
                  <a:pt x="3857" y="1028"/>
                </a:lnTo>
                <a:lnTo>
                  <a:pt x="3857" y="3085"/>
                </a:lnTo>
                <a:lnTo>
                  <a:pt x="5400" y="3085"/>
                </a:lnTo>
                <a:lnTo>
                  <a:pt x="6942" y="0"/>
                </a:lnTo>
                <a:lnTo>
                  <a:pt x="14657" y="0"/>
                </a:lnTo>
                <a:lnTo>
                  <a:pt x="16200" y="3085"/>
                </a:lnTo>
                <a:lnTo>
                  <a:pt x="21600" y="3085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0" y="3085"/>
                </a:moveTo>
                <a:lnTo>
                  <a:pt x="21600" y="3085"/>
                </a:lnTo>
                <a:lnTo>
                  <a:pt x="21600" y="21600"/>
                </a:lnTo>
                <a:lnTo>
                  <a:pt x="0" y="21600"/>
                </a:lnTo>
                <a:lnTo>
                  <a:pt x="0" y="3085"/>
                </a:lnTo>
                <a:close/>
              </a:path>
              <a:path w="21600" h="21600">
                <a:moveTo>
                  <a:pt x="10800" y="4800"/>
                </a:moveTo>
                <a:lnTo>
                  <a:pt x="11925" y="4971"/>
                </a:lnTo>
                <a:lnTo>
                  <a:pt x="13017" y="5442"/>
                </a:lnTo>
                <a:lnTo>
                  <a:pt x="14046" y="6128"/>
                </a:lnTo>
                <a:lnTo>
                  <a:pt x="14914" y="7071"/>
                </a:lnTo>
                <a:lnTo>
                  <a:pt x="15621" y="8271"/>
                </a:lnTo>
                <a:lnTo>
                  <a:pt x="16167" y="9514"/>
                </a:lnTo>
                <a:lnTo>
                  <a:pt x="16425" y="11014"/>
                </a:lnTo>
                <a:lnTo>
                  <a:pt x="16585" y="12471"/>
                </a:lnTo>
                <a:lnTo>
                  <a:pt x="16489" y="14014"/>
                </a:lnTo>
                <a:lnTo>
                  <a:pt x="16135" y="15471"/>
                </a:lnTo>
                <a:lnTo>
                  <a:pt x="15621" y="16800"/>
                </a:lnTo>
                <a:lnTo>
                  <a:pt x="14914" y="18000"/>
                </a:lnTo>
                <a:lnTo>
                  <a:pt x="14046" y="18942"/>
                </a:lnTo>
                <a:lnTo>
                  <a:pt x="13050" y="19671"/>
                </a:lnTo>
                <a:lnTo>
                  <a:pt x="11925" y="20057"/>
                </a:lnTo>
                <a:lnTo>
                  <a:pt x="10832" y="20185"/>
                </a:lnTo>
                <a:lnTo>
                  <a:pt x="9675" y="20142"/>
                </a:lnTo>
                <a:lnTo>
                  <a:pt x="8582" y="19628"/>
                </a:lnTo>
                <a:lnTo>
                  <a:pt x="7553" y="18942"/>
                </a:lnTo>
                <a:lnTo>
                  <a:pt x="6717" y="17957"/>
                </a:lnTo>
                <a:lnTo>
                  <a:pt x="5946" y="16842"/>
                </a:lnTo>
                <a:lnTo>
                  <a:pt x="5464" y="15514"/>
                </a:lnTo>
                <a:lnTo>
                  <a:pt x="5078" y="14014"/>
                </a:lnTo>
                <a:lnTo>
                  <a:pt x="5014" y="12514"/>
                </a:lnTo>
                <a:lnTo>
                  <a:pt x="5110" y="11014"/>
                </a:lnTo>
                <a:lnTo>
                  <a:pt x="5528" y="9557"/>
                </a:lnTo>
                <a:lnTo>
                  <a:pt x="6010" y="8228"/>
                </a:lnTo>
                <a:lnTo>
                  <a:pt x="6750" y="7114"/>
                </a:lnTo>
                <a:lnTo>
                  <a:pt x="7650" y="6085"/>
                </a:lnTo>
                <a:lnTo>
                  <a:pt x="8614" y="5400"/>
                </a:lnTo>
                <a:lnTo>
                  <a:pt x="9707" y="4971"/>
                </a:lnTo>
                <a:lnTo>
                  <a:pt x="10800" y="4800"/>
                </a:lnTo>
                <a:close/>
              </a:path>
              <a:path w="21600" h="21600">
                <a:moveTo>
                  <a:pt x="8003" y="8057"/>
                </a:moveTo>
                <a:lnTo>
                  <a:pt x="8807" y="7371"/>
                </a:lnTo>
                <a:lnTo>
                  <a:pt x="9546" y="6985"/>
                </a:lnTo>
                <a:lnTo>
                  <a:pt x="10446" y="6771"/>
                </a:lnTo>
                <a:lnTo>
                  <a:pt x="11217" y="6771"/>
                </a:lnTo>
                <a:lnTo>
                  <a:pt x="12053" y="7028"/>
                </a:lnTo>
                <a:lnTo>
                  <a:pt x="12889" y="7457"/>
                </a:lnTo>
                <a:lnTo>
                  <a:pt x="13628" y="8100"/>
                </a:lnTo>
                <a:lnTo>
                  <a:pt x="14175" y="8871"/>
                </a:lnTo>
                <a:lnTo>
                  <a:pt x="14625" y="9814"/>
                </a:lnTo>
                <a:lnTo>
                  <a:pt x="14978" y="10885"/>
                </a:lnTo>
                <a:lnTo>
                  <a:pt x="15171" y="12042"/>
                </a:lnTo>
                <a:lnTo>
                  <a:pt x="15107" y="13114"/>
                </a:lnTo>
                <a:lnTo>
                  <a:pt x="15042" y="14228"/>
                </a:lnTo>
                <a:lnTo>
                  <a:pt x="14689" y="15257"/>
                </a:lnTo>
                <a:lnTo>
                  <a:pt x="14207" y="16285"/>
                </a:lnTo>
                <a:lnTo>
                  <a:pt x="13596" y="17057"/>
                </a:lnTo>
                <a:lnTo>
                  <a:pt x="12889" y="17657"/>
                </a:lnTo>
                <a:lnTo>
                  <a:pt x="12053" y="18085"/>
                </a:lnTo>
                <a:lnTo>
                  <a:pt x="11185" y="18257"/>
                </a:lnTo>
                <a:lnTo>
                  <a:pt x="10414" y="18214"/>
                </a:lnTo>
                <a:lnTo>
                  <a:pt x="9546" y="18042"/>
                </a:lnTo>
                <a:lnTo>
                  <a:pt x="8742" y="17614"/>
                </a:lnTo>
                <a:lnTo>
                  <a:pt x="8003" y="17014"/>
                </a:lnTo>
                <a:lnTo>
                  <a:pt x="7457" y="16242"/>
                </a:lnTo>
                <a:lnTo>
                  <a:pt x="6975" y="15257"/>
                </a:lnTo>
                <a:lnTo>
                  <a:pt x="6653" y="14142"/>
                </a:lnTo>
                <a:lnTo>
                  <a:pt x="6492" y="13114"/>
                </a:lnTo>
                <a:lnTo>
                  <a:pt x="6525" y="11914"/>
                </a:lnTo>
                <a:lnTo>
                  <a:pt x="6621" y="10842"/>
                </a:lnTo>
                <a:lnTo>
                  <a:pt x="6942" y="9771"/>
                </a:lnTo>
                <a:lnTo>
                  <a:pt x="7457" y="8785"/>
                </a:lnTo>
                <a:lnTo>
                  <a:pt x="8003" y="8057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monitor"/>
          <p:cNvSpPr/>
          <p:nvPr/>
        </p:nvSpPr>
        <p:spPr>
          <a:xfrm>
            <a:off x="1835280" y="2133720"/>
            <a:ext cx="1008000" cy="1152360"/>
          </a:xfrm>
          <a:custGeom>
            <a:avLst/>
            <a:gdLst>
              <a:gd name="textAreaLeft" fmla="*/ 56160 w 1008000"/>
              <a:gd name="textAreaRight" fmla="*/ 966600 w 1008000"/>
              <a:gd name="textAreaTop" fmla="*/ 1203120 h 1152360"/>
              <a:gd name="textAreaBottom" fmla="*/ 1514520 h 1152360"/>
            </a:gdLst>
            <a:ahLst/>
            <a:rect l="textAreaLeft" t="textAreaTop" r="textAreaRight" b="textAreaBottom"/>
            <a:pathLst>
              <a:path w="21600" h="21600">
                <a:moveTo>
                  <a:pt x="6837" y="21600"/>
                </a:moveTo>
                <a:lnTo>
                  <a:pt x="3108" y="19849"/>
                </a:lnTo>
                <a:lnTo>
                  <a:pt x="3108" y="17659"/>
                </a:lnTo>
                <a:lnTo>
                  <a:pt x="0" y="15178"/>
                </a:lnTo>
                <a:lnTo>
                  <a:pt x="0" y="10508"/>
                </a:lnTo>
                <a:lnTo>
                  <a:pt x="0" y="3941"/>
                </a:lnTo>
                <a:lnTo>
                  <a:pt x="8081" y="1168"/>
                </a:lnTo>
                <a:lnTo>
                  <a:pt x="10722" y="1605"/>
                </a:lnTo>
                <a:lnTo>
                  <a:pt x="12587" y="1751"/>
                </a:lnTo>
                <a:lnTo>
                  <a:pt x="17871" y="0"/>
                </a:lnTo>
                <a:lnTo>
                  <a:pt x="21600" y="1751"/>
                </a:lnTo>
                <a:lnTo>
                  <a:pt x="21600" y="10508"/>
                </a:lnTo>
                <a:lnTo>
                  <a:pt x="21600" y="16346"/>
                </a:lnTo>
                <a:lnTo>
                  <a:pt x="10722" y="20286"/>
                </a:lnTo>
                <a:lnTo>
                  <a:pt x="6837" y="21600"/>
                </a:lnTo>
                <a:close/>
              </a:path>
              <a:path w="21600" h="21600">
                <a:moveTo>
                  <a:pt x="3108" y="5254"/>
                </a:moveTo>
                <a:lnTo>
                  <a:pt x="2642" y="4962"/>
                </a:lnTo>
                <a:lnTo>
                  <a:pt x="777" y="4232"/>
                </a:lnTo>
                <a:lnTo>
                  <a:pt x="155" y="3941"/>
                </a:lnTo>
                <a:moveTo>
                  <a:pt x="6837" y="7005"/>
                </a:moveTo>
                <a:lnTo>
                  <a:pt x="6216" y="6714"/>
                </a:lnTo>
                <a:lnTo>
                  <a:pt x="3885" y="5546"/>
                </a:lnTo>
                <a:lnTo>
                  <a:pt x="3108" y="5254"/>
                </a:lnTo>
                <a:moveTo>
                  <a:pt x="19735" y="14595"/>
                </a:moveTo>
                <a:lnTo>
                  <a:pt x="19735" y="4816"/>
                </a:lnTo>
                <a:lnTo>
                  <a:pt x="9790" y="8319"/>
                </a:lnTo>
                <a:lnTo>
                  <a:pt x="9790" y="18243"/>
                </a:lnTo>
                <a:lnTo>
                  <a:pt x="19735" y="14595"/>
                </a:lnTo>
                <a:moveTo>
                  <a:pt x="3108" y="17659"/>
                </a:moveTo>
                <a:lnTo>
                  <a:pt x="3108" y="5254"/>
                </a:lnTo>
                <a:lnTo>
                  <a:pt x="12742" y="1751"/>
                </a:lnTo>
                <a:moveTo>
                  <a:pt x="21600" y="1751"/>
                </a:moveTo>
                <a:lnTo>
                  <a:pt x="6837" y="7005"/>
                </a:lnTo>
                <a:lnTo>
                  <a:pt x="6837" y="2160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Letter"/>
          <p:cNvSpPr/>
          <p:nvPr/>
        </p:nvSpPr>
        <p:spPr>
          <a:xfrm>
            <a:off x="1692360" y="3716280"/>
            <a:ext cx="1657440" cy="792360"/>
          </a:xfrm>
          <a:custGeom>
            <a:avLst/>
            <a:gdLst>
              <a:gd name="textAreaLeft" fmla="*/ 406800 w 1657440"/>
              <a:gd name="textAreaRight" fmla="*/ 1343160 w 1657440"/>
              <a:gd name="textAreaTop" fmla="*/ 338040 h 792360"/>
              <a:gd name="textAreaBottom" fmla="*/ 674280 h 792360"/>
            </a:gdLst>
            <a:ahLst/>
            <a:rect l="textAreaLeft" t="textAreaTop" r="textAreaRight" b="textAreaBottom"/>
            <a:pathLst>
              <a:path w="21600" h="21600">
                <a:moveTo>
                  <a:pt x="14" y="0"/>
                </a:moveTo>
                <a:lnTo>
                  <a:pt x="21600" y="0"/>
                </a:lnTo>
                <a:lnTo>
                  <a:pt x="21600" y="21628"/>
                </a:lnTo>
                <a:lnTo>
                  <a:pt x="14" y="21628"/>
                </a:lnTo>
                <a:lnTo>
                  <a:pt x="14" y="0"/>
                </a:lnTo>
                <a:close/>
              </a:path>
              <a:path w="21600" h="21600">
                <a:moveTo>
                  <a:pt x="18476" y="2035"/>
                </a:moveTo>
                <a:lnTo>
                  <a:pt x="20539" y="2035"/>
                </a:lnTo>
                <a:lnTo>
                  <a:pt x="20539" y="6559"/>
                </a:lnTo>
                <a:lnTo>
                  <a:pt x="18476" y="6559"/>
                </a:lnTo>
                <a:lnTo>
                  <a:pt x="18476" y="2035"/>
                </a:lnTo>
                <a:close/>
              </a:path>
              <a:path w="21600" h="21600">
                <a:moveTo>
                  <a:pt x="884" y="2092"/>
                </a:moveTo>
                <a:lnTo>
                  <a:pt x="7425" y="2092"/>
                </a:lnTo>
                <a:lnTo>
                  <a:pt x="7425" y="2770"/>
                </a:lnTo>
                <a:lnTo>
                  <a:pt x="884" y="2770"/>
                </a:lnTo>
                <a:lnTo>
                  <a:pt x="884" y="2092"/>
                </a:lnTo>
                <a:close/>
              </a:path>
              <a:path w="21600" h="21600">
                <a:moveTo>
                  <a:pt x="884" y="3109"/>
                </a:moveTo>
                <a:lnTo>
                  <a:pt x="7425" y="3109"/>
                </a:lnTo>
                <a:lnTo>
                  <a:pt x="7425" y="3788"/>
                </a:lnTo>
                <a:lnTo>
                  <a:pt x="884" y="3788"/>
                </a:lnTo>
                <a:lnTo>
                  <a:pt x="884" y="3109"/>
                </a:lnTo>
                <a:close/>
              </a:path>
              <a:path w="21600" h="21600">
                <a:moveTo>
                  <a:pt x="884" y="4127"/>
                </a:moveTo>
                <a:lnTo>
                  <a:pt x="7425" y="4127"/>
                </a:lnTo>
                <a:lnTo>
                  <a:pt x="7425" y="4806"/>
                </a:lnTo>
                <a:lnTo>
                  <a:pt x="884" y="4806"/>
                </a:lnTo>
                <a:lnTo>
                  <a:pt x="884" y="4127"/>
                </a:lnTo>
                <a:close/>
              </a:path>
              <a:path w="21600" h="21600">
                <a:moveTo>
                  <a:pt x="5127" y="5145"/>
                </a:moveTo>
                <a:lnTo>
                  <a:pt x="7425" y="5145"/>
                </a:lnTo>
                <a:lnTo>
                  <a:pt x="7425" y="5824"/>
                </a:lnTo>
                <a:lnTo>
                  <a:pt x="5127" y="5824"/>
                </a:lnTo>
                <a:lnTo>
                  <a:pt x="5127" y="514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Rectangle 14"/>
          <p:cNvSpPr/>
          <p:nvPr/>
        </p:nvSpPr>
        <p:spPr>
          <a:xfrm>
            <a:off x="1547640" y="1844640"/>
            <a:ext cx="6120000" cy="3456000"/>
          </a:xfrm>
          <a:prstGeom prst="rect">
            <a:avLst/>
          </a:prstGeom>
          <a:solidFill>
            <a:srgbClr val="33333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Rectangle 15"/>
          <p:cNvSpPr/>
          <p:nvPr/>
        </p:nvSpPr>
        <p:spPr>
          <a:xfrm>
            <a:off x="7236000" y="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Rectangle 16"/>
          <p:cNvSpPr/>
          <p:nvPr/>
        </p:nvSpPr>
        <p:spPr>
          <a:xfrm>
            <a:off x="7236000" y="630864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Дата 3"/>
          <p:cNvSpPr/>
          <p:nvPr/>
        </p:nvSpPr>
        <p:spPr>
          <a:xfrm>
            <a:off x="6781680" y="270000"/>
            <a:ext cx="2133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Нижний колонтитул 4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Разновидность памяти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Слуховая память – помогает запоминать природные звуки, звуки музыкальных инструментов, речь и интонации.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7236000" y="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7236000" y="630864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Дата 3"/>
          <p:cNvSpPr/>
          <p:nvPr/>
        </p:nvSpPr>
        <p:spPr>
          <a:xfrm>
            <a:off x="6781680" y="270000"/>
            <a:ext cx="2133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Нижний колонтитул 4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WordArt 4"/>
          <p:cNvSpPr txBox="1"/>
          <p:nvPr/>
        </p:nvSpPr>
        <p:spPr>
          <a:xfrm>
            <a:off x="2050920" y="1989000"/>
            <a:ext cx="5110200" cy="213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Это интересно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7236000" y="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7236000" y="630864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Дата 3"/>
          <p:cNvSpPr/>
          <p:nvPr/>
        </p:nvSpPr>
        <p:spPr>
          <a:xfrm>
            <a:off x="6781680" y="270000"/>
            <a:ext cx="2133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Нижний колонтитул 4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" name="WordArt 12"/>
          <p:cNvSpPr txBox="1"/>
          <p:nvPr/>
        </p:nvSpPr>
        <p:spPr>
          <a:xfrm>
            <a:off x="971640" y="2289240"/>
            <a:ext cx="70563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рвная система -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вление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гласованной работо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сех орган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7236000" y="630864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7236000" y="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Дата 4"/>
          <p:cNvSpPr/>
          <p:nvPr/>
        </p:nvSpPr>
        <p:spPr>
          <a:xfrm>
            <a:off x="6781680" y="270000"/>
            <a:ext cx="2133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Нижний колонтитул 5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меры феноменальной памяти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3848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8320" y="1337760"/>
            <a:ext cx="403848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Персидский царь Кир знал по имени всех солдат своей армии.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7236000" y="630864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5" name="Picture 7" descr="ЦАР КИР"/>
          <p:cNvPicPr/>
          <p:nvPr/>
        </p:nvPicPr>
        <p:blipFill>
          <a:blip r:embed="rId1"/>
          <a:stretch/>
        </p:blipFill>
        <p:spPr>
          <a:xfrm>
            <a:off x="539640" y="1341360"/>
            <a:ext cx="2928960" cy="439272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8"/>
          <p:cNvSpPr/>
          <p:nvPr/>
        </p:nvSpPr>
        <p:spPr>
          <a:xfrm>
            <a:off x="7236000" y="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Дата 4"/>
          <p:cNvSpPr/>
          <p:nvPr/>
        </p:nvSpPr>
        <p:spPr>
          <a:xfrm>
            <a:off x="6781680" y="270000"/>
            <a:ext cx="2133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Нижний колонтитул 5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меры феноменальной памяти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3848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Французский государственный деятель Гамбетта мог пересказать наизусть все произведения Виктора Гюго слово в слово, даже в обратном порядке.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48320" y="1337760"/>
            <a:ext cx="403848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7236000" y="630864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3" name="Picture 7" descr="гамбетта1"/>
          <p:cNvPicPr/>
          <p:nvPr/>
        </p:nvPicPr>
        <p:blipFill>
          <a:blip r:embed="rId1"/>
          <a:stretch/>
        </p:blipFill>
        <p:spPr>
          <a:xfrm>
            <a:off x="4716360" y="1268280"/>
            <a:ext cx="4427640" cy="522936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8"/>
          <p:cNvSpPr/>
          <p:nvPr/>
        </p:nvSpPr>
        <p:spPr>
          <a:xfrm>
            <a:off x="7236000" y="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8675640" y="1268280"/>
            <a:ext cx="468360" cy="532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Дата 3"/>
          <p:cNvSpPr/>
          <p:nvPr/>
        </p:nvSpPr>
        <p:spPr>
          <a:xfrm>
            <a:off x="6781680" y="270000"/>
            <a:ext cx="2133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Нижний колонтитул 4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Как беречь нервную систему?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22960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1.Необходим отдых и продолжительный сон.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60" name="Picture 4" descr="img_9145282_361_17"/>
          <p:cNvPicPr/>
          <p:nvPr/>
        </p:nvPicPr>
        <p:blipFill>
          <a:blip r:embed="rId1"/>
          <a:stretch/>
        </p:blipFill>
        <p:spPr>
          <a:xfrm>
            <a:off x="5327640" y="1197000"/>
            <a:ext cx="3816360" cy="286236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6"/>
          <p:cNvSpPr/>
          <p:nvPr/>
        </p:nvSpPr>
        <p:spPr>
          <a:xfrm>
            <a:off x="179280" y="3141720"/>
            <a:ext cx="511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Человек за всю жизнь спит в общей сложности не менее 20-25 лет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7236000" y="630864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7236000" y="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,-125,-46)"/>
                                          </p:val>
                                        </p:tav>
                                        <p:tav tm="50000">
                                          <p:val>
                                            <p:strVal val="rgb(81,-96,6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,-125,-46)"/>
                                          </p:val>
                                        </p:tav>
                                        <p:tav tm="50000">
                                          <p:val>
                                            <p:strVal val="rgb(81,-96,6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Дата 3"/>
          <p:cNvSpPr/>
          <p:nvPr/>
        </p:nvSpPr>
        <p:spPr>
          <a:xfrm>
            <a:off x="6781680" y="270000"/>
            <a:ext cx="2133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Нижний колонтитул 4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2.Вредно отравление никотином.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68" name="Picture 4" descr="1286824870_1286799568_4"/>
          <p:cNvPicPr/>
          <p:nvPr/>
        </p:nvPicPr>
        <p:blipFill>
          <a:blip r:embed="rId1"/>
          <a:stretch/>
        </p:blipFill>
        <p:spPr>
          <a:xfrm>
            <a:off x="2340000" y="1916280"/>
            <a:ext cx="4081320" cy="408132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5"/>
          <p:cNvSpPr/>
          <p:nvPr/>
        </p:nvSpPr>
        <p:spPr>
          <a:xfrm>
            <a:off x="7236000" y="630864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7236000" y="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Дата 3"/>
          <p:cNvSpPr/>
          <p:nvPr/>
        </p:nvSpPr>
        <p:spPr>
          <a:xfrm>
            <a:off x="6781680" y="270000"/>
            <a:ext cx="2133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Нижний колонтитул 4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3.Оберегать головной мозг и позвоночник от травм.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7236000" y="630864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7236000" y="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Дата 4"/>
          <p:cNvSpPr/>
          <p:nvPr/>
        </p:nvSpPr>
        <p:spPr>
          <a:xfrm>
            <a:off x="6781680" y="270000"/>
            <a:ext cx="2133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Нижний колонтитул 5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Это интересно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3848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Без чего не может долго обходиться человек?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48320" y="1337760"/>
            <a:ext cx="403848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1.Без воздуха – 2-3 минуты.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2.Без сна – 2-3 дня.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3.Без воды жажда наступает на 3-5 день.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4.Без пищи – 3-6 недель.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7236000" y="630864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Rectangle 9"/>
          <p:cNvSpPr/>
          <p:nvPr/>
        </p:nvSpPr>
        <p:spPr>
          <a:xfrm>
            <a:off x="7236000" y="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Дата 3"/>
          <p:cNvSpPr/>
          <p:nvPr/>
        </p:nvSpPr>
        <p:spPr>
          <a:xfrm>
            <a:off x="6781680" y="270000"/>
            <a:ext cx="2133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Нижний колонтитул 4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Работа выполнена учителем 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ГБОУ СОШ №687города Москвы 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Яшковой И.В.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88" name="Picture 4" descr="f_5069709"/>
          <p:cNvPicPr/>
          <p:nvPr/>
        </p:nvPicPr>
        <p:blipFill>
          <a:blip r:embed="rId1"/>
          <a:stretch/>
        </p:blipFill>
        <p:spPr>
          <a:xfrm>
            <a:off x="7524720" y="5424480"/>
            <a:ext cx="1619280" cy="143352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5"/>
          <p:cNvSpPr/>
          <p:nvPr/>
        </p:nvSpPr>
        <p:spPr>
          <a:xfrm>
            <a:off x="7236000" y="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Дата 3"/>
          <p:cNvSpPr/>
          <p:nvPr/>
        </p:nvSpPr>
        <p:spPr>
          <a:xfrm>
            <a:off x="6781680" y="270000"/>
            <a:ext cx="2133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Нижний колонтитул 4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Что связано с нервной системой?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Сознание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Поведение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Мышление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Память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Речь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7236000" y="630864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7236000" y="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Дата 3"/>
          <p:cNvSpPr/>
          <p:nvPr/>
        </p:nvSpPr>
        <p:spPr>
          <a:xfrm>
            <a:off x="6781680" y="270000"/>
            <a:ext cx="2133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Нижний колонтитул 4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08" name="Picture 4" descr="3"/>
          <p:cNvPicPr/>
          <p:nvPr/>
        </p:nvPicPr>
        <p:blipFill>
          <a:blip r:embed="rId1"/>
          <a:stretch/>
        </p:blipFill>
        <p:spPr>
          <a:xfrm>
            <a:off x="1258920" y="189000"/>
            <a:ext cx="6350040" cy="57052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5"/>
          <p:cNvSpPr/>
          <p:nvPr/>
        </p:nvSpPr>
        <p:spPr>
          <a:xfrm>
            <a:off x="3419640" y="2276640"/>
            <a:ext cx="3889080" cy="3313080"/>
          </a:xfrm>
          <a:prstGeom prst="rect">
            <a:avLst/>
          </a:prstGeom>
          <a:solidFill>
            <a:srgbClr val="1f63ad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708360" y="2637000"/>
            <a:ext cx="338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ервные окончания пронизывают весь организм, как и кровеносные сосуд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236000" y="630864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7236000" y="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Дата 3"/>
          <p:cNvSpPr/>
          <p:nvPr/>
        </p:nvSpPr>
        <p:spPr>
          <a:xfrm>
            <a:off x="6781680" y="270000"/>
            <a:ext cx="2133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Нижний колонтитул 4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Новые понятия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Нервные волокна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Головной мозг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Спинной мозг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Нервная система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Нервы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7236000" y="630864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7236000" y="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Дата 3"/>
          <p:cNvSpPr/>
          <p:nvPr/>
        </p:nvSpPr>
        <p:spPr>
          <a:xfrm>
            <a:off x="6781680" y="270000"/>
            <a:ext cx="2133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Нижний колонтитул 4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Спинной мозг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23" name="Picture 4" descr="спинной мозг"/>
          <p:cNvPicPr/>
          <p:nvPr/>
        </p:nvPicPr>
        <p:blipFill>
          <a:blip r:embed="rId1"/>
          <a:stretch/>
        </p:blipFill>
        <p:spPr>
          <a:xfrm>
            <a:off x="4979880" y="1125360"/>
            <a:ext cx="3436920" cy="5154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mozg-spinnoy"/>
          <p:cNvPicPr/>
          <p:nvPr/>
        </p:nvPicPr>
        <p:blipFill>
          <a:blip r:embed="rId2"/>
          <a:stretch/>
        </p:blipFill>
        <p:spPr>
          <a:xfrm>
            <a:off x="324000" y="1293840"/>
            <a:ext cx="4248000" cy="3402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7236000" y="630864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7236000" y="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Дата 4"/>
          <p:cNvSpPr/>
          <p:nvPr/>
        </p:nvSpPr>
        <p:spPr>
          <a:xfrm>
            <a:off x="6781680" y="270000"/>
            <a:ext cx="2133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Нижний колонтитул 5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Головной мозг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3848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8320" y="1337760"/>
            <a:ext cx="403848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Осознаёт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Узнаёт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Запоминает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Вспоминает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Мыслит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Управляет мышцами рук и языка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32" name="Picture 8" descr="1243435172_mozg2_1267600323"/>
          <p:cNvPicPr/>
          <p:nvPr/>
        </p:nvPicPr>
        <p:blipFill>
          <a:blip r:embed="rId1"/>
          <a:stretch/>
        </p:blipFill>
        <p:spPr>
          <a:xfrm>
            <a:off x="250920" y="1341360"/>
            <a:ext cx="4211640" cy="29764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9"/>
          <p:cNvSpPr/>
          <p:nvPr/>
        </p:nvSpPr>
        <p:spPr>
          <a:xfrm>
            <a:off x="7236000" y="630864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7236000" y="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Дата 3"/>
          <p:cNvSpPr/>
          <p:nvPr/>
        </p:nvSpPr>
        <p:spPr>
          <a:xfrm>
            <a:off x="6781680" y="270000"/>
            <a:ext cx="2133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Нижний колонтитул 4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39" name="Picture 4" descr="50403-1501040image0large"/>
          <p:cNvPicPr/>
          <p:nvPr/>
        </p:nvPicPr>
        <p:blipFill>
          <a:blip r:embed="rId1"/>
          <a:stretch/>
        </p:blipFill>
        <p:spPr>
          <a:xfrm>
            <a:off x="1979640" y="0"/>
            <a:ext cx="5543640" cy="51228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8"/>
          <p:cNvSpPr/>
          <p:nvPr/>
        </p:nvSpPr>
        <p:spPr>
          <a:xfrm>
            <a:off x="7236000" y="630864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7236000" y="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Дата 4"/>
          <p:cNvSpPr/>
          <p:nvPr/>
        </p:nvSpPr>
        <p:spPr>
          <a:xfrm>
            <a:off x="6781680" y="270000"/>
            <a:ext cx="21337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Нижний колонтитул 5"/>
          <p:cNvSpPr/>
          <p:nvPr/>
        </p:nvSpPr>
        <p:spPr>
          <a:xfrm>
            <a:off x="5791320" y="653112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олушария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317808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Левое полушарие отвечает за словесно-логическую 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память 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084360" y="1337760"/>
            <a:ext cx="352764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Правое полушарие отвечает за зрительную и музыкальную память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47" name="Picture 9" descr="25"/>
          <p:cNvPicPr/>
          <p:nvPr/>
        </p:nvPicPr>
        <p:blipFill>
          <a:blip r:embed="rId1"/>
          <a:stretch/>
        </p:blipFill>
        <p:spPr>
          <a:xfrm>
            <a:off x="2627280" y="1268280"/>
            <a:ext cx="3373560" cy="3845160"/>
          </a:xfrm>
          <a:prstGeom prst="rect">
            <a:avLst/>
          </a:prstGeom>
          <a:ln w="0">
            <a:noFill/>
          </a:ln>
        </p:spPr>
      </p:pic>
      <p:sp>
        <p:nvSpPr>
          <p:cNvPr id="148" name="Line 10"/>
          <p:cNvSpPr/>
          <p:nvPr/>
        </p:nvSpPr>
        <p:spPr>
          <a:xfrm>
            <a:off x="2627280" y="1773360"/>
            <a:ext cx="1297080" cy="86364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Line 11"/>
          <p:cNvSpPr/>
          <p:nvPr/>
        </p:nvSpPr>
        <p:spPr>
          <a:xfrm flipH="1">
            <a:off x="5148360" y="2060640"/>
            <a:ext cx="1295280" cy="64764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7236000" y="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7236000" y="6308640"/>
            <a:ext cx="19080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09:38:10Z</dcterms:created>
  <dc:creator>NickOn</dc:creator>
  <dc:description/>
  <dc:language>en-US</dc:language>
  <cp:lastModifiedBy>И В. Яшкова</cp:lastModifiedBy>
  <dcterms:modified xsi:type="dcterms:W3CDTF">2012-08-03T12:51:42Z</dcterms:modified>
  <cp:revision>5</cp:revision>
  <dc:subject/>
  <dc:title>Окружающий мир 3 класс</dc:title>
</cp:coreProperties>
</file>