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76C5-8460-428D-8051-22055BFF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1D15-6DA8-45F5-95E1-91201D9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FDDA-DE42-4181-BFF7-4CCD84B5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8C0B-3B21-4BD9-ABED-FE833A35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AD53-3CEA-4683-8E4C-280DB67E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6E05-0717-4815-A42E-4E1D1D93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0E65-E5E0-4D6E-8BA8-5655F242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63D-6793-4FAE-9904-1E88B84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2A27-AB97-4BB4-A7D5-65160BE8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44B-7A44-42EB-96DA-4F12A43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DCFA-0F8A-43D1-9419-EF87A80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0C46-83E8-4AA3-B0A3-CD7AB599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6D2F-D122-4815-9B6F-9580EB0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52E9-996E-4B04-9B52-05E108D8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FC44-D60B-450E-87ED-F9E9C411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E2DC-034D-4168-9ADA-D4289503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0319-A88C-4834-9772-178E0B98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B0B0-811E-4F08-A7D8-46600364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E7CA-4C9A-4F91-8905-AF140B67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86A7-7673-4B93-A438-3EE2845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80BB-0D22-45F3-9939-0A966F14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34A8-A4D4-47A0-90A5-2FAFB3A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AE0F-4072-454B-952D-20BC826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FD01-3A3E-4D3B-AE30-E3D6D7E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C4A-1DAE-4E1A-A028-8C77150BB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B789-AFB6-4047-B95A-15144CF7E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кружающий мир 3 класс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618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: Весна – утро года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79280" y="189000"/>
            <a:ext cx="1368360" cy="136836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979640" y="1125360"/>
            <a:ext cx="597708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"дотерпи до весны"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2124000" y="2637000"/>
            <a:ext cx="5543640" cy="100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февраля по 20 марта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2195640" y="4076640"/>
            <a:ext cx="547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 е р е л о м   зимы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9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ставьте ключевое слов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32360" y="1916280"/>
          <a:ext cx="4027320" cy="68580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3280"/>
                <a:gridCol w="504720"/>
                <a:gridCol w="503280"/>
                <a:gridCol w="503280"/>
                <a:gridCol w="503280"/>
                <a:gridCol w="50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н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г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в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и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8"/>
          <p:cNvSpPr/>
          <p:nvPr/>
        </p:nvSpPr>
        <p:spPr>
          <a:xfrm>
            <a:off x="324000" y="162864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755640" y="1557360"/>
            <a:ext cx="410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Человек непростой: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оявляется зимой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А весною исчезает,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отому что быстро тае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6" name="WordArt 32"/>
          <p:cNvSpPr txBox="1"/>
          <p:nvPr/>
        </p:nvSpPr>
        <p:spPr>
          <a:xfrm>
            <a:off x="6156360" y="328464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33" descr="9bcd3488f4e7"/>
          <p:cNvPicPr/>
          <p:nvPr/>
        </p:nvPicPr>
        <p:blipFill>
          <a:blip r:embed="rId1"/>
          <a:stretch/>
        </p:blipFill>
        <p:spPr>
          <a:xfrm>
            <a:off x="611280" y="1052640"/>
            <a:ext cx="41450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867280" y="1484280"/>
          <a:ext cx="2890800" cy="685800"/>
        </p:xfrm>
        <a:graphic>
          <a:graphicData uri="http://schemas.openxmlformats.org/drawingml/2006/table">
            <a:tbl>
              <a:tblPr/>
              <a:tblGrid>
                <a:gridCol w="577800"/>
                <a:gridCol w="578160"/>
                <a:gridCol w="579240"/>
                <a:gridCol w="577800"/>
                <a:gridCol w="577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р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ч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й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22"/>
          <p:cNvSpPr/>
          <p:nvPr/>
        </p:nvSpPr>
        <p:spPr>
          <a:xfrm>
            <a:off x="900000" y="1557360"/>
            <a:ext cx="46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е соловей, а голосис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Весной особенно речис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3" name="WordArt 23"/>
          <p:cNvSpPr txBox="1"/>
          <p:nvPr/>
        </p:nvSpPr>
        <p:spPr>
          <a:xfrm>
            <a:off x="6732720" y="3141720"/>
            <a:ext cx="7999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26" descr="2569"/>
          <p:cNvPicPr/>
          <p:nvPr/>
        </p:nvPicPr>
        <p:blipFill>
          <a:blip r:embed="rId1"/>
          <a:stretch/>
        </p:blipFill>
        <p:spPr>
          <a:xfrm>
            <a:off x="755640" y="1197000"/>
            <a:ext cx="46022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6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59280" y="1341360"/>
          <a:ext cx="4114800" cy="6858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л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28"/>
          <p:cNvSpPr/>
          <p:nvPr/>
        </p:nvSpPr>
        <p:spPr>
          <a:xfrm>
            <a:off x="395280" y="1557360"/>
            <a:ext cx="464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Растёт она вниз головою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е летом растёт, а зимою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о солнце её припечёт –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Заплачет она и умрё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0" name="WordArt 29"/>
          <p:cNvSpPr txBox="1"/>
          <p:nvPr/>
        </p:nvSpPr>
        <p:spPr>
          <a:xfrm>
            <a:off x="5867280" y="3068640"/>
            <a:ext cx="131940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30" descr="icicle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Дата 2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796000" y="1268280"/>
          <a:ext cx="2521080" cy="648000"/>
        </p:xfrm>
        <a:graphic>
          <a:graphicData uri="http://schemas.openxmlformats.org/drawingml/2006/table">
            <a:tbl>
              <a:tblPr/>
              <a:tblGrid>
                <a:gridCol w="630360"/>
                <a:gridCol w="630000"/>
                <a:gridCol w="630360"/>
                <a:gridCol w="6303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н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г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20"/>
          <p:cNvSpPr/>
          <p:nvPr/>
        </p:nvSpPr>
        <p:spPr>
          <a:xfrm>
            <a:off x="539640" y="1557360"/>
            <a:ext cx="482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лыла лебедь сытая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Вниз кидала-сыпала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а поля-озёрушки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Белый пух да пёрышки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6012000" y="2781360"/>
            <a:ext cx="8874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22" descr="12884095_Snegopad"/>
          <p:cNvPicPr/>
          <p:nvPr/>
        </p:nvPicPr>
        <p:blipFill>
          <a:blip r:embed="rId1"/>
          <a:stretch/>
        </p:blipFill>
        <p:spPr>
          <a:xfrm>
            <a:off x="324000" y="1052640"/>
            <a:ext cx="47527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084720" y="1557360"/>
          <a:ext cx="2459160" cy="61272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614520"/>
                <a:gridCol w="61416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в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д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WordArt 20"/>
          <p:cNvSpPr txBox="1"/>
          <p:nvPr/>
        </p:nvSpPr>
        <p:spPr>
          <a:xfrm>
            <a:off x="6084720" y="3213000"/>
            <a:ext cx="863640" cy="14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468360" y="2133720"/>
            <a:ext cx="518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Живою может быть и мёртвой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И жидкою и твёрдой…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95" name="Picture 24" descr="081114-water-vlg-1p"/>
          <p:cNvPicPr/>
          <p:nvPr/>
        </p:nvPicPr>
        <p:blipFill>
          <a:blip r:embed="rId1"/>
          <a:stretch/>
        </p:blipFill>
        <p:spPr>
          <a:xfrm>
            <a:off x="468360" y="1052640"/>
            <a:ext cx="50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7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162864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Была белая да седая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ришла зелёная молодая?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5292720" y="1197000"/>
            <a:ext cx="360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Picture 7" descr="ранняя веснааK"/>
          <p:cNvPicPr/>
          <p:nvPr/>
        </p:nvPicPr>
        <p:blipFill>
          <a:blip r:embed="rId1"/>
          <a:stretch/>
        </p:blipFill>
        <p:spPr>
          <a:xfrm>
            <a:off x="0" y="1052640"/>
            <a:ext cx="52196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чало весны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 календарю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 Солнцу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4643280" y="1413000"/>
            <a:ext cx="0" cy="4968720"/>
          </a:xfrm>
          <a:prstGeom prst="line">
            <a:avLst/>
          </a:prstGeom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1476360" y="270828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а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6012000" y="2708280"/>
            <a:ext cx="1800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 ма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9" descr="sun"/>
          <p:cNvPicPr/>
          <p:nvPr/>
        </p:nvPicPr>
        <p:blipFill>
          <a:blip r:embed="rId1"/>
          <a:stretch/>
        </p:blipFill>
        <p:spPr>
          <a:xfrm>
            <a:off x="5651640" y="3645000"/>
            <a:ext cx="1944720" cy="140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normal_mart"/>
          <p:cNvPicPr/>
          <p:nvPr/>
        </p:nvPicPr>
        <p:blipFill>
          <a:blip r:embed="rId2"/>
          <a:stretch/>
        </p:blipFill>
        <p:spPr>
          <a:xfrm>
            <a:off x="1835280" y="3716280"/>
            <a:ext cx="11491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называют 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весной света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оттого, что в марте много солнечных дней и солнце сверкает особенно ярко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332000" y="141300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8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Природа встречает весну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1.Первыми проталинами и ручьями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2.Набуханием почек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3.Прилётом птиц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3924360" y="1844640"/>
            <a:ext cx="718920" cy="72072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3924360" y="2637000"/>
            <a:ext cx="792000" cy="36036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3924360" y="2708280"/>
            <a:ext cx="647640" cy="57636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25" name="Picture 12" descr="2627637"/>
          <p:cNvPicPr/>
          <p:nvPr/>
        </p:nvPicPr>
        <p:blipFill>
          <a:blip r:embed="rId1"/>
          <a:stretch/>
        </p:blipFill>
        <p:spPr>
          <a:xfrm>
            <a:off x="6948360" y="3500280"/>
            <a:ext cx="1800360" cy="1735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s_123"/>
          <p:cNvPicPr/>
          <p:nvPr/>
        </p:nvPicPr>
        <p:blipFill>
          <a:blip r:embed="rId2"/>
          <a:stretch/>
        </p:blipFill>
        <p:spPr>
          <a:xfrm>
            <a:off x="250920" y="3573360"/>
            <a:ext cx="2124000" cy="156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2569"/>
          <p:cNvPicPr/>
          <p:nvPr/>
        </p:nvPicPr>
        <p:blipFill>
          <a:blip r:embed="rId3"/>
          <a:stretch/>
        </p:blipFill>
        <p:spPr>
          <a:xfrm>
            <a:off x="3276720" y="3500280"/>
            <a:ext cx="22320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тгадайте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Река подо льдом,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Всё бело кругом,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Метелица вьётся…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Как время зовётся?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5292720" y="2133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, феврал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6" descr="1259700067_0001"/>
          <p:cNvPicPr/>
          <p:nvPr/>
        </p:nvPicPr>
        <p:blipFill>
          <a:blip r:embed="rId1"/>
          <a:stretch/>
        </p:blipFill>
        <p:spPr>
          <a:xfrm>
            <a:off x="5219640" y="2852640"/>
            <a:ext cx="3649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9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есну называют утром года потому, что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Весна является переходным временем от зимы </a:t>
            </a:r>
            <a:r>
              <a:rPr b="0" i="1" lang="ru-RU" sz="2400" spc="-1" strike="noStrike">
                <a:solidFill>
                  <a:srgbClr val="006600"/>
                </a:solidFill>
                <a:latin typeface="Verdana"/>
              </a:rPr>
              <a:t>(ночь года)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 к лету </a:t>
            </a:r>
            <a:r>
              <a:rPr b="0" i="1" lang="ru-RU" sz="2400" spc="-1" strike="noStrike">
                <a:solidFill>
                  <a:srgbClr val="006600"/>
                </a:solidFill>
                <a:latin typeface="Verdana"/>
              </a:rPr>
              <a:t>(день года)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Весной пробуждаются от зимнего сна растения и животные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5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вые пернатые вестники весн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ворец 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Грач</a:t>
            </a:r>
            <a:r>
              <a:rPr b="1" lang="ru-RU" sz="3200" spc="-1" strike="noStrike">
                <a:solidFill>
                  <a:srgbClr val="5bcd81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40" name="Picture 7" descr="493px-Common_starling_in_london"/>
          <p:cNvPicPr/>
          <p:nvPr/>
        </p:nvPicPr>
        <p:blipFill>
          <a:blip r:embed="rId1"/>
          <a:stretch/>
        </p:blipFill>
        <p:spPr>
          <a:xfrm>
            <a:off x="324000" y="2060640"/>
            <a:ext cx="3082680" cy="3751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orvo"/>
          <p:cNvPicPr/>
          <p:nvPr/>
        </p:nvPicPr>
        <p:blipFill>
          <a:blip r:embed="rId2"/>
          <a:stretch/>
        </p:blipFill>
        <p:spPr>
          <a:xfrm>
            <a:off x="4140360" y="2060640"/>
            <a:ext cx="4746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3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44" name="Picture 7" descr="0_1cb0c_747d638b_XL"/>
          <p:cNvPicPr/>
          <p:nvPr/>
        </p:nvPicPr>
        <p:blipFill>
          <a:blip r:embed="rId1"/>
          <a:stretch/>
        </p:blipFill>
        <p:spPr>
          <a:xfrm>
            <a:off x="539640" y="1055520"/>
            <a:ext cx="8064720" cy="5802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родные примет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17 марта – Герасим Грачевник грачей пригнал. Грачи летят сразу на гнездо – дружная весна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22 марта – 40 птиц прилетает. Сейчас 22марта отмечают как День птиц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Увидел чёрные пятна на пригорках и солнечных пригревах – жди весенних гостей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0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нь пти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53" name="Picture 5" descr="picture_prilet"/>
          <p:cNvPicPr/>
          <p:nvPr/>
        </p:nvPicPr>
        <p:blipFill>
          <a:blip r:embed="rId1"/>
          <a:stretch/>
        </p:blipFill>
        <p:spPr>
          <a:xfrm>
            <a:off x="971640" y="1268280"/>
            <a:ext cx="7315200" cy="522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14573931_b50_7181"/>
          <p:cNvPicPr/>
          <p:nvPr/>
        </p:nvPicPr>
        <p:blipFill>
          <a:blip r:embed="rId2"/>
          <a:stretch/>
        </p:blipFill>
        <p:spPr>
          <a:xfrm>
            <a:off x="7174080" y="0"/>
            <a:ext cx="19699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6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Работа выполнена учителем ГБОУ СОШ №687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города Москвы 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Яшковой И.В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59" name="Picture 6" descr="4aff6c822bb06e56ba875003e25822e3_full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0_2aba7_3dc12bb6_XL"/>
          <p:cNvPicPr/>
          <p:nvPr/>
        </p:nvPicPr>
        <p:blipFill>
          <a:blip r:embed="rId2"/>
          <a:stretch/>
        </p:blipFill>
        <p:spPr>
          <a:xfrm>
            <a:off x="0" y="0"/>
            <a:ext cx="1908000" cy="1432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66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62" name="Picture 10" descr="i-121850"/>
          <p:cNvPicPr/>
          <p:nvPr/>
        </p:nvPicPr>
        <p:blipFill>
          <a:blip r:embed="rId3"/>
          <a:stretch/>
        </p:blipFill>
        <p:spPr>
          <a:xfrm>
            <a:off x="0" y="5702400"/>
            <a:ext cx="1722600" cy="1155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0_da96_4079501d_XL"/>
          <p:cNvPicPr/>
          <p:nvPr/>
        </p:nvPicPr>
        <p:blipFill>
          <a:blip r:embed="rId4"/>
          <a:stretch/>
        </p:blipFill>
        <p:spPr>
          <a:xfrm>
            <a:off x="7524720" y="5508720"/>
            <a:ext cx="1619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имние явления в неживой природ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Февраль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1) Вьюги, метел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2) Морозы, оттепел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3) Наст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4) Солнце выше поднимается над землё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5) Первые кучевые облак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6) Ледяные сосульк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2" name="Picture 5" descr="кучевые"/>
          <p:cNvPicPr/>
          <p:nvPr/>
        </p:nvPicPr>
        <p:blipFill>
          <a:blip r:embed="rId1"/>
          <a:stretch/>
        </p:blipFill>
        <p:spPr>
          <a:xfrm>
            <a:off x="6175440" y="1052640"/>
            <a:ext cx="296856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словные знак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Капель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Метель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Снегопад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Вьюга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Гололёд</a:t>
            </a: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971640" y="191628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71640" y="472428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219640" y="335772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48360" y="198900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971640" y="32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4" name="Picture 12" descr="384595"/>
          <p:cNvPicPr/>
          <p:nvPr/>
        </p:nvPicPr>
        <p:blipFill>
          <a:blip r:embed="rId1"/>
          <a:stretch/>
        </p:blipFill>
        <p:spPr>
          <a:xfrm>
            <a:off x="2627280" y="134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2884095_Snegopad"/>
          <p:cNvPicPr/>
          <p:nvPr/>
        </p:nvPicPr>
        <p:blipFill>
          <a:blip r:embed="rId2"/>
          <a:stretch/>
        </p:blipFill>
        <p:spPr>
          <a:xfrm>
            <a:off x="2627280" y="4221000"/>
            <a:ext cx="1984320" cy="13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пыщ-пыщь фхххх уууууу"/>
          <p:cNvPicPr/>
          <p:nvPr/>
        </p:nvPicPr>
        <p:blipFill>
          <a:blip r:embed="rId3"/>
          <a:stretch/>
        </p:blipFill>
        <p:spPr>
          <a:xfrm>
            <a:off x="2771640" y="2781360"/>
            <a:ext cx="1633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9" name="Picture 8" descr="0_2370b_847d1068_XL"/>
          <p:cNvPicPr/>
          <p:nvPr/>
        </p:nvPicPr>
        <p:blipFill>
          <a:blip r:embed="rId1"/>
          <a:stretch/>
        </p:blipFill>
        <p:spPr>
          <a:xfrm>
            <a:off x="611280" y="993600"/>
            <a:ext cx="8172360" cy="5864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                  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Цвет снегового покрова свидетельствует об экологической обстановке в окружающей местности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4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чистый белый сл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нега говорит  о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чистоте воздуха в т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тороне, откуда дул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ветер в день снегопад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7" name="Arc 5"/>
          <p:cNvSpPr/>
          <p:nvPr/>
        </p:nvSpPr>
        <p:spPr>
          <a:xfrm flipH="1">
            <a:off x="610560" y="1989000"/>
            <a:ext cx="2089080" cy="1871640"/>
          </a:xfrm>
          <a:custGeom>
            <a:avLst/>
            <a:gdLst>
              <a:gd name="textAreaLeft" fmla="*/ -360 w 2089080"/>
              <a:gd name="textAreaRight" fmla="*/ 2089080 w 208908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611280" y="3860640"/>
            <a:ext cx="208908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700360" y="1989000"/>
            <a:ext cx="0" cy="18716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2268360" y="1700280"/>
            <a:ext cx="1440000" cy="576360"/>
          </a:xfrm>
          <a:prstGeom prst="line">
            <a:avLst/>
          </a:prstGeom>
          <a:ln w="38160">
            <a:solidFill>
              <a:srgbClr val="2b16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2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ерый цвет слоя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нега, сигнализирует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о загрязнении воздух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дымом и пылью,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если слой с ледян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корочкой – </a:t>
            </a:r>
            <a:r>
              <a:rPr b="0" i="1" lang="ru-RU" sz="2800" spc="-1" strike="noStrike">
                <a:solidFill>
                  <a:srgbClr val="2b166e"/>
                </a:solidFill>
                <a:latin typeface="Verdana"/>
              </a:rPr>
              <a:t>оттепель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5" name="Arc 5"/>
          <p:cNvSpPr/>
          <p:nvPr/>
        </p:nvSpPr>
        <p:spPr>
          <a:xfrm flipH="1">
            <a:off x="754920" y="1700280"/>
            <a:ext cx="2303640" cy="2016000"/>
          </a:xfrm>
          <a:custGeom>
            <a:avLst/>
            <a:gdLst>
              <a:gd name="textAreaLeft" fmla="*/ -360 w 2303640"/>
              <a:gd name="textAreaRight" fmla="*/ 2303640 w 23036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684360" y="3716280"/>
            <a:ext cx="2447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059280" y="1700280"/>
            <a:ext cx="0" cy="201600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8" name="Arc 11"/>
          <p:cNvSpPr/>
          <p:nvPr/>
        </p:nvSpPr>
        <p:spPr>
          <a:xfrm flipH="1">
            <a:off x="538920" y="1341360"/>
            <a:ext cx="2519640" cy="2303640"/>
          </a:xfrm>
          <a:custGeom>
            <a:avLst/>
            <a:gdLst>
              <a:gd name="textAreaLeft" fmla="*/ -360 w 2519640"/>
              <a:gd name="textAreaRight" fmla="*/ 2519640 w 25196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1834920" y="1557360"/>
            <a:ext cx="2376360" cy="142920"/>
          </a:xfrm>
          <a:prstGeom prst="line">
            <a:avLst/>
          </a:prstGeom>
          <a:ln w="38160">
            <a:solidFill>
              <a:srgbClr val="2b16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1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1619280" y="263700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декабря по 20 января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1258920" y="1413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белых троп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2124000" y="3933720"/>
            <a:ext cx="4896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 е р в о з и м ь е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19280" y="1557360"/>
            <a:ext cx="64087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лютого голода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692360" y="2637000"/>
            <a:ext cx="5624280" cy="79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января по 20 февраля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2195640" y="414972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о р е н н а я  зима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9:34Z</dcterms:created>
  <dc:creator>NickOn</dc:creator>
  <dc:description/>
  <dc:language>en-US</dc:language>
  <cp:lastModifiedBy>И В. Яшкова</cp:lastModifiedBy>
  <dcterms:modified xsi:type="dcterms:W3CDTF">2012-08-03T12:55:06Z</dcterms:modified>
  <cp:revision>5</cp:revision>
  <dc:subject/>
  <dc:title>Окружающий мир 3 класс</dc:title>
</cp:coreProperties>
</file>