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F89-B2FB-40A1-B793-FBBCF941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043-DDE4-4614-8EC9-39DC04DB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D08-5776-46A3-8390-749F0174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E52-DCFA-4D94-96F1-57033D18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974-613A-47B2-A973-23F81EA9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8EF-C3B0-437B-BEE2-5C3FF889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E54-BD7B-4FD8-A748-3E7C2F52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6FD-A853-44EF-97E4-AD9887A7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111-7DA9-4FE9-8B7F-FDB623ED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AAF-27BC-4DBF-9F26-E2DCAED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3BF-EA0F-4FED-95BF-FCA25BEA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710-2DC8-4ACE-9457-708894C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5CE4-559E-4F42-A909-7C46B172F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evelinalina/view/60182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шкова Инга Вячеславов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БОУ СОШ № 687 г.Моск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900000" y="1844640"/>
            <a:ext cx="741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Bookman Old Style"/>
              </a:rPr>
              <a:t>Размножени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Bookman Old Style"/>
              </a:rPr>
              <a:t>и  развити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Bookman Old Style"/>
              </a:rPr>
              <a:t>животны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6"/>
          <p:cNvSpPr/>
          <p:nvPr/>
        </p:nvSpPr>
        <p:spPr>
          <a:xfrm rot="4092000">
            <a:off x="4608000" y="2168640"/>
            <a:ext cx="2087640" cy="144360"/>
          </a:xfrm>
          <a:custGeom>
            <a:avLst/>
            <a:gdLst>
              <a:gd name="textAreaLeft" fmla="*/ 261000 w 2087640"/>
              <a:gd name="textAreaRight" fmla="*/ 1827000 w 2087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c2d00"/>
                </a:solidFill>
                <a:latin typeface="Arial"/>
              </a:rPr>
              <a:t>Особенности  разви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788000" y="4653000"/>
            <a:ext cx="3400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лекопитающи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6156360" y="3357720"/>
            <a:ext cx="961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5076720" y="2060640"/>
            <a:ext cx="374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смыкающих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476360" y="3284640"/>
            <a:ext cx="838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ы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187280" y="4653000"/>
            <a:ext cx="2838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мновод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755640" y="2133720"/>
            <a:ext cx="22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еком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AutoShape 11"/>
          <p:cNvSpPr/>
          <p:nvPr/>
        </p:nvSpPr>
        <p:spPr>
          <a:xfrm rot="7612800">
            <a:off x="1799640" y="2384280"/>
            <a:ext cx="3097440" cy="144360"/>
          </a:xfrm>
          <a:custGeom>
            <a:avLst/>
            <a:gdLst>
              <a:gd name="textAreaLeft" fmla="*/ 387000 w 3097440"/>
              <a:gd name="textAreaRight" fmla="*/ 2710440 w 30974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 rot="8382600">
            <a:off x="2553480" y="1584000"/>
            <a:ext cx="1357560" cy="122040"/>
          </a:xfrm>
          <a:custGeom>
            <a:avLst/>
            <a:gdLst>
              <a:gd name="textAreaLeft" fmla="*/ 169560 w 1357560"/>
              <a:gd name="textAreaRight" fmla="*/ 1188000 w 1357560"/>
              <a:gd name="textAreaTop" fmla="*/ 30240 h 122040"/>
              <a:gd name="textAreaBottom" fmla="*/ 91440 h 122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 rot="6909000">
            <a:off x="2131920" y="2835000"/>
            <a:ext cx="3624120" cy="185760"/>
          </a:xfrm>
          <a:custGeom>
            <a:avLst/>
            <a:gdLst>
              <a:gd name="textAreaLeft" fmla="*/ 452880 w 3624120"/>
              <a:gd name="textAreaRight" fmla="*/ 3171240 w 3624120"/>
              <a:gd name="textAreaTop" fmla="*/ 46440 h 185760"/>
              <a:gd name="textAreaBottom" fmla="*/ 1393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 rot="2384400">
            <a:off x="5508360" y="1484280"/>
            <a:ext cx="1191960" cy="144360"/>
          </a:xfrm>
          <a:custGeom>
            <a:avLst/>
            <a:gdLst>
              <a:gd name="textAreaLeft" fmla="*/ 148680 w 1191960"/>
              <a:gd name="textAreaRight" fmla="*/ 1043280 w 11919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 rot="5253000">
            <a:off x="3344760" y="2846880"/>
            <a:ext cx="3311640" cy="150840"/>
          </a:xfrm>
          <a:custGeom>
            <a:avLst/>
            <a:gdLst>
              <a:gd name="textAreaLeft" fmla="*/ 414000 w 3311640"/>
              <a:gd name="textAreaRight" fmla="*/ 2898000 w 3311640"/>
              <a:gd name="textAreaTop" fmla="*/ 37800 h 150840"/>
              <a:gd name="textAreaBottom" fmla="*/ 1134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0_ea21_114ec7b9_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1413000"/>
            <a:ext cx="2190600" cy="258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4"/>
          <a:stretch/>
        </p:blipFill>
        <p:spPr>
          <a:xfrm>
            <a:off x="539640" y="1341360"/>
            <a:ext cx="2197080" cy="204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5"/>
          <a:stretch/>
        </p:blipFill>
        <p:spPr>
          <a:xfrm>
            <a:off x="971640" y="4076640"/>
            <a:ext cx="309708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6"/>
          <a:stretch/>
        </p:blipFill>
        <p:spPr>
          <a:xfrm>
            <a:off x="6227640" y="4076640"/>
            <a:ext cx="2697120" cy="2394000"/>
          </a:xfrm>
          <a:prstGeom prst="rect">
            <a:avLst/>
          </a:prstGeom>
          <a:ln w="0">
            <a:noFill/>
          </a:ln>
        </p:spPr>
      </p:pic>
      <p:sp>
        <p:nvSpPr>
          <p:cNvPr id="62" name="Line 15"/>
          <p:cNvSpPr/>
          <p:nvPr/>
        </p:nvSpPr>
        <p:spPr>
          <a:xfrm>
            <a:off x="1476360" y="3429000"/>
            <a:ext cx="43164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2916360" y="2781000"/>
            <a:ext cx="115092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6443640" y="2637000"/>
            <a:ext cx="107964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ры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ладка Pterophyllum scalare. Икринки очень восприимчивы к грибку, поэтому их нужно содержать в строго гигиенических условиях (фото г-жи Рихтер)"/>
          <p:cNvPicPr/>
          <p:nvPr/>
        </p:nvPicPr>
        <p:blipFill>
          <a:blip r:embed="rId1"/>
          <a:stretch/>
        </p:blipFill>
        <p:spPr>
          <a:xfrm>
            <a:off x="250920" y="1557360"/>
            <a:ext cx="2881080" cy="200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Мальки форели"/>
          <p:cNvPicPr/>
          <p:nvPr/>
        </p:nvPicPr>
        <p:blipFill>
          <a:blip r:embed="rId2"/>
          <a:stretch/>
        </p:blipFill>
        <p:spPr>
          <a:xfrm>
            <a:off x="2843280" y="3860640"/>
            <a:ext cx="2952720" cy="196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image"/>
          <p:cNvPicPr/>
          <p:nvPr/>
        </p:nvPicPr>
        <p:blipFill>
          <a:blip r:embed="rId3"/>
          <a:stretch/>
        </p:blipFill>
        <p:spPr>
          <a:xfrm>
            <a:off x="5724360" y="1557360"/>
            <a:ext cx="2675160" cy="2006640"/>
          </a:xfrm>
          <a:prstGeom prst="rect">
            <a:avLst/>
          </a:prstGeom>
          <a:ln w="0">
            <a:noFill/>
          </a:ln>
        </p:spPr>
      </p:pic>
      <p:sp>
        <p:nvSpPr>
          <p:cNvPr id="70" name="Line 10"/>
          <p:cNvSpPr/>
          <p:nvPr/>
        </p:nvSpPr>
        <p:spPr>
          <a:xfrm flipV="1">
            <a:off x="5867280" y="3644640"/>
            <a:ext cx="115092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1692360" y="3645000"/>
            <a:ext cx="10792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земно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10 из 66"/>
          <p:cNvPicPr/>
          <p:nvPr/>
        </p:nvPicPr>
        <p:blipFill>
          <a:blip r:embed="rId2"/>
          <a:stretch/>
        </p:blipFill>
        <p:spPr>
          <a:xfrm>
            <a:off x="395280" y="1341360"/>
            <a:ext cx="2514600" cy="2400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Головастик зелёной жабы"/>
          <p:cNvPicPr/>
          <p:nvPr/>
        </p:nvPicPr>
        <p:blipFill>
          <a:blip r:embed="rId3"/>
          <a:stretch/>
        </p:blipFill>
        <p:spPr>
          <a:xfrm>
            <a:off x="3059280" y="2852640"/>
            <a:ext cx="3168360" cy="2113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006"/>
          <p:cNvPicPr/>
          <p:nvPr/>
        </p:nvPicPr>
        <p:blipFill>
          <a:blip r:embed="rId4"/>
          <a:stretch/>
        </p:blipFill>
        <p:spPr>
          <a:xfrm>
            <a:off x="6372360" y="4446720"/>
            <a:ext cx="2592360" cy="223992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>
            <a:off x="5219640" y="5084640"/>
            <a:ext cx="107964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3059280" y="1700280"/>
            <a:ext cx="10792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215955447_yatsa"/>
          <p:cNvPicPr/>
          <p:nvPr/>
        </p:nvPicPr>
        <p:blipFill>
          <a:blip r:embed="rId2"/>
          <a:stretch/>
        </p:blipFill>
        <p:spPr>
          <a:xfrm>
            <a:off x="179280" y="450864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_44054117_crocs_ap203bod"/>
          <p:cNvPicPr/>
          <p:nvPr/>
        </p:nvPicPr>
        <p:blipFill>
          <a:blip r:embed="rId3"/>
          <a:stretch/>
        </p:blipFill>
        <p:spPr>
          <a:xfrm>
            <a:off x="1403280" y="206064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артинка 35 из 1647"/>
          <p:cNvPicPr/>
          <p:nvPr/>
        </p:nvPicPr>
        <p:blipFill>
          <a:blip r:embed="rId4"/>
          <a:stretch/>
        </p:blipFill>
        <p:spPr>
          <a:xfrm>
            <a:off x="4788000" y="1484280"/>
            <a:ext cx="4105080" cy="2641680"/>
          </a:xfrm>
          <a:prstGeom prst="rect">
            <a:avLst/>
          </a:prstGeom>
          <a:ln w="0">
            <a:noFill/>
          </a:ln>
        </p:spPr>
      </p:pic>
      <p:sp>
        <p:nvSpPr>
          <p:cNvPr id="84" name="Line 10"/>
          <p:cNvSpPr/>
          <p:nvPr/>
        </p:nvSpPr>
        <p:spPr>
          <a:xfrm flipV="1">
            <a:off x="3635280" y="1557000"/>
            <a:ext cx="10796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V="1">
            <a:off x="468360" y="3068640"/>
            <a:ext cx="86364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Картинка 4 из 427"/>
          <p:cNvPicPr/>
          <p:nvPr/>
        </p:nvPicPr>
        <p:blipFill>
          <a:blip r:embed="rId2"/>
          <a:stretch/>
        </p:blipFill>
        <p:spPr>
          <a:xfrm>
            <a:off x="395280" y="4292640"/>
            <a:ext cx="3492360" cy="2378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Птенцы чаек покидают гнездо почти сразу после вылупления... (фото К. Михайлова)"/>
          <p:cNvPicPr/>
          <p:nvPr/>
        </p:nvPicPr>
        <p:blipFill>
          <a:blip r:embed="rId3"/>
          <a:stretch/>
        </p:blipFill>
        <p:spPr>
          <a:xfrm>
            <a:off x="2771640" y="1484280"/>
            <a:ext cx="333396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Картинка 42 из 2092"/>
          <p:cNvPicPr/>
          <p:nvPr/>
        </p:nvPicPr>
        <p:blipFill>
          <a:blip r:embed="rId4"/>
          <a:stretch/>
        </p:blipFill>
        <p:spPr>
          <a:xfrm>
            <a:off x="5508720" y="4076640"/>
            <a:ext cx="3457440" cy="2595600"/>
          </a:xfrm>
          <a:prstGeom prst="rect">
            <a:avLst/>
          </a:prstGeom>
          <a:ln w="0">
            <a:noFill/>
          </a:ln>
        </p:spPr>
      </p:pic>
      <p:sp>
        <p:nvSpPr>
          <p:cNvPr id="91" name="Line 12"/>
          <p:cNvSpPr/>
          <p:nvPr/>
        </p:nvSpPr>
        <p:spPr>
          <a:xfrm>
            <a:off x="6227640" y="2852640"/>
            <a:ext cx="107964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476360" y="2997000"/>
            <a:ext cx="122400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млекопитающ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26854415"/>
          <p:cNvPicPr/>
          <p:nvPr/>
        </p:nvPicPr>
        <p:blipFill>
          <a:blip r:embed="rId1"/>
          <a:stretch/>
        </p:blipFill>
        <p:spPr>
          <a:xfrm>
            <a:off x="468360" y="1484280"/>
            <a:ext cx="3408480" cy="2271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d-beloboch"/>
          <p:cNvPicPr/>
          <p:nvPr/>
        </p:nvPicPr>
        <p:blipFill>
          <a:blip r:embed="rId2"/>
          <a:stretch/>
        </p:blipFill>
        <p:spPr>
          <a:xfrm>
            <a:off x="3203640" y="3933720"/>
            <a:ext cx="5562360" cy="2543400"/>
          </a:xfrm>
          <a:prstGeom prst="rect">
            <a:avLst/>
          </a:prstGeom>
          <a:ln w="0">
            <a:noFill/>
          </a:ln>
        </p:spPr>
      </p:pic>
      <p:sp>
        <p:nvSpPr>
          <p:cNvPr id="96" name="Line 12"/>
          <p:cNvSpPr/>
          <p:nvPr/>
        </p:nvSpPr>
        <p:spPr>
          <a:xfrm>
            <a:off x="3995640" y="2708280"/>
            <a:ext cx="107964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611280" y="2421000"/>
            <a:ext cx="784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егите   животных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4:14:42Z</dcterms:created>
  <dc:creator>Наталья</dc:creator>
  <dc:description/>
  <dc:language>en-US</dc:language>
  <cp:lastModifiedBy>И В. Яшкова</cp:lastModifiedBy>
  <dcterms:modified xsi:type="dcterms:W3CDTF">2012-08-10T11:39:18Z</dcterms:modified>
  <cp:revision>4</cp:revision>
  <dc:subject/>
  <dc:title>Слайд 1</dc:title>
</cp:coreProperties>
</file>