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E39-DA17-4446-837F-27CB9C82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17B-EC5F-40CD-B087-6ED6878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CE5-09B9-4824-9BAD-790F8643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12E-B499-4D05-85BD-817823FF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4D6-19AE-4CDA-9398-7E6D433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228-7E43-4C65-AB89-CADC6725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EEF-3E66-45B1-BBF0-315E5B9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1D0-21F9-4E98-9816-4DD24EE2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F97-9AB7-423B-9441-EBD2BE3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2B6-6C3F-4A85-A087-9E6E5347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272-E75D-493A-8067-DB4DF0B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25E-8840-4B80-8964-74C9A9A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6C14-E602-41B8-AF62-7140A946D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evelinalina/view/60182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шкова Инга Вячеславов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БОУ СОШ № 687 г.Моск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900000" y="1844640"/>
            <a:ext cx="7417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Размноже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и  развит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животны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6"/>
          <p:cNvSpPr/>
          <p:nvPr/>
        </p:nvSpPr>
        <p:spPr>
          <a:xfrm rot="4092000">
            <a:off x="4608000" y="2168640"/>
            <a:ext cx="2087640" cy="144360"/>
          </a:xfrm>
          <a:custGeom>
            <a:avLst/>
            <a:gdLst>
              <a:gd name="textAreaLeft" fmla="*/ 261000 w 2087640"/>
              <a:gd name="textAreaRight" fmla="*/ 1827000 w 2087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c2d00"/>
                </a:solidFill>
                <a:latin typeface="Arial"/>
              </a:rPr>
              <a:t>Особенности  разви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788000" y="4653000"/>
            <a:ext cx="34002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лекопитающи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6156360" y="3357720"/>
            <a:ext cx="961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5076720" y="2060640"/>
            <a:ext cx="374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смыкающих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476360" y="3284640"/>
            <a:ext cx="838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ы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187280" y="4653000"/>
            <a:ext cx="2838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емновод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0"/>
          <p:cNvSpPr txBox="1"/>
          <p:nvPr/>
        </p:nvSpPr>
        <p:spPr>
          <a:xfrm>
            <a:off x="755640" y="2133720"/>
            <a:ext cx="2295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еком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1"/>
          <p:cNvSpPr/>
          <p:nvPr/>
        </p:nvSpPr>
        <p:spPr>
          <a:xfrm rot="7612800">
            <a:off x="1799640" y="2384280"/>
            <a:ext cx="3097440" cy="144360"/>
          </a:xfrm>
          <a:custGeom>
            <a:avLst/>
            <a:gdLst>
              <a:gd name="textAreaLeft" fmla="*/ 387000 w 3097440"/>
              <a:gd name="textAreaRight" fmla="*/ 2710440 w 30974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8382600">
            <a:off x="2553480" y="1584000"/>
            <a:ext cx="1357560" cy="122040"/>
          </a:xfrm>
          <a:custGeom>
            <a:avLst/>
            <a:gdLst>
              <a:gd name="textAreaLeft" fmla="*/ 169560 w 1357560"/>
              <a:gd name="textAreaRight" fmla="*/ 1188000 w 1357560"/>
              <a:gd name="textAreaTop" fmla="*/ 30240 h 122040"/>
              <a:gd name="textAreaBottom" fmla="*/ 91440 h 122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 rot="6909000">
            <a:off x="2131920" y="2835000"/>
            <a:ext cx="3624120" cy="185760"/>
          </a:xfrm>
          <a:custGeom>
            <a:avLst/>
            <a:gdLst>
              <a:gd name="textAreaLeft" fmla="*/ 452880 w 3624120"/>
              <a:gd name="textAreaRight" fmla="*/ 3171240 w 3624120"/>
              <a:gd name="textAreaTop" fmla="*/ 46440 h 185760"/>
              <a:gd name="textAreaBottom" fmla="*/ 1393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 rot="2384400">
            <a:off x="5508360" y="1484280"/>
            <a:ext cx="1191960" cy="144360"/>
          </a:xfrm>
          <a:custGeom>
            <a:avLst/>
            <a:gdLst>
              <a:gd name="textAreaLeft" fmla="*/ 148680 w 1191960"/>
              <a:gd name="textAreaRight" fmla="*/ 1043280 w 11919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5253000">
            <a:off x="3344760" y="2846880"/>
            <a:ext cx="3311640" cy="150840"/>
          </a:xfrm>
          <a:custGeom>
            <a:avLst/>
            <a:gdLst>
              <a:gd name="textAreaLeft" fmla="*/ 414000 w 3311640"/>
              <a:gd name="textAreaRight" fmla="*/ 2898000 w 3311640"/>
              <a:gd name="textAreaTop" fmla="*/ 37800 h 150840"/>
              <a:gd name="textAreaBottom" fmla="*/ 1134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насеком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0_ea21_114ec7b9_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1413000"/>
            <a:ext cx="2190600" cy="258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539640" y="1341360"/>
            <a:ext cx="219708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5"/>
          <a:stretch/>
        </p:blipFill>
        <p:spPr>
          <a:xfrm>
            <a:off x="971640" y="4076640"/>
            <a:ext cx="309708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6"/>
          <a:stretch/>
        </p:blipFill>
        <p:spPr>
          <a:xfrm>
            <a:off x="6227640" y="4076640"/>
            <a:ext cx="2697120" cy="2394000"/>
          </a:xfrm>
          <a:prstGeom prst="rect">
            <a:avLst/>
          </a:prstGeom>
          <a:ln w="0">
            <a:noFill/>
          </a:ln>
        </p:spPr>
      </p:pic>
      <p:sp>
        <p:nvSpPr>
          <p:cNvPr id="62" name="Line 15"/>
          <p:cNvSpPr/>
          <p:nvPr/>
        </p:nvSpPr>
        <p:spPr>
          <a:xfrm>
            <a:off x="1476360" y="3429000"/>
            <a:ext cx="4316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2916360" y="2781000"/>
            <a:ext cx="11509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6443640" y="2637000"/>
            <a:ext cx="107964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ладка Pterophyllum scalare. Икринки очень восприимчивы к грибку, поэтому их нужно содержать в строго гигиенических условиях (фото г-жи Рихтер)"/>
          <p:cNvPicPr/>
          <p:nvPr/>
        </p:nvPicPr>
        <p:blipFill>
          <a:blip r:embed="rId1"/>
          <a:stretch/>
        </p:blipFill>
        <p:spPr>
          <a:xfrm>
            <a:off x="250920" y="1557360"/>
            <a:ext cx="2881080" cy="20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Мальки форели"/>
          <p:cNvPicPr/>
          <p:nvPr/>
        </p:nvPicPr>
        <p:blipFill>
          <a:blip r:embed="rId2"/>
          <a:stretch/>
        </p:blipFill>
        <p:spPr>
          <a:xfrm>
            <a:off x="2843280" y="3860640"/>
            <a:ext cx="2952720" cy="196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image"/>
          <p:cNvPicPr/>
          <p:nvPr/>
        </p:nvPicPr>
        <p:blipFill>
          <a:blip r:embed="rId3"/>
          <a:stretch/>
        </p:blipFill>
        <p:spPr>
          <a:xfrm>
            <a:off x="5724360" y="1557360"/>
            <a:ext cx="2675160" cy="2006640"/>
          </a:xfrm>
          <a:prstGeom prst="rect">
            <a:avLst/>
          </a:prstGeom>
          <a:ln w="0">
            <a:noFill/>
          </a:ln>
        </p:spPr>
      </p:pic>
      <p:sp>
        <p:nvSpPr>
          <p:cNvPr id="70" name="Line 10"/>
          <p:cNvSpPr/>
          <p:nvPr/>
        </p:nvSpPr>
        <p:spPr>
          <a:xfrm flipV="1">
            <a:off x="5867280" y="3644640"/>
            <a:ext cx="115092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1692360" y="3645000"/>
            <a:ext cx="10792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Картинка 10 из 66"/>
          <p:cNvPicPr/>
          <p:nvPr/>
        </p:nvPicPr>
        <p:blipFill>
          <a:blip r:embed="rId2"/>
          <a:stretch/>
        </p:blipFill>
        <p:spPr>
          <a:xfrm>
            <a:off x="395280" y="1341360"/>
            <a:ext cx="2514600" cy="2400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Головастик зелёной жабы"/>
          <p:cNvPicPr/>
          <p:nvPr/>
        </p:nvPicPr>
        <p:blipFill>
          <a:blip r:embed="rId3"/>
          <a:stretch/>
        </p:blipFill>
        <p:spPr>
          <a:xfrm>
            <a:off x="3059280" y="2852640"/>
            <a:ext cx="3168360" cy="211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006"/>
          <p:cNvPicPr/>
          <p:nvPr/>
        </p:nvPicPr>
        <p:blipFill>
          <a:blip r:embed="rId4"/>
          <a:stretch/>
        </p:blipFill>
        <p:spPr>
          <a:xfrm>
            <a:off x="6372360" y="4446720"/>
            <a:ext cx="2592360" cy="223992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>
            <a:off x="5219640" y="5084640"/>
            <a:ext cx="10796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3059280" y="1700280"/>
            <a:ext cx="10792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1215955447_yatsa"/>
          <p:cNvPicPr/>
          <p:nvPr/>
        </p:nvPicPr>
        <p:blipFill>
          <a:blip r:embed="rId2"/>
          <a:stretch/>
        </p:blipFill>
        <p:spPr>
          <a:xfrm>
            <a:off x="179280" y="4508640"/>
            <a:ext cx="238140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_44054117_crocs_ap203bod"/>
          <p:cNvPicPr/>
          <p:nvPr/>
        </p:nvPicPr>
        <p:blipFill>
          <a:blip r:embed="rId3"/>
          <a:stretch/>
        </p:blipFill>
        <p:spPr>
          <a:xfrm>
            <a:off x="1403280" y="206064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артинка 35 из 1647"/>
          <p:cNvPicPr/>
          <p:nvPr/>
        </p:nvPicPr>
        <p:blipFill>
          <a:blip r:embed="rId4"/>
          <a:stretch/>
        </p:blipFill>
        <p:spPr>
          <a:xfrm>
            <a:off x="4788000" y="1484280"/>
            <a:ext cx="4105080" cy="2641680"/>
          </a:xfrm>
          <a:prstGeom prst="rect">
            <a:avLst/>
          </a:prstGeom>
          <a:ln w="0">
            <a:noFill/>
          </a:ln>
        </p:spPr>
      </p:pic>
      <p:sp>
        <p:nvSpPr>
          <p:cNvPr id="84" name="Line 10"/>
          <p:cNvSpPr/>
          <p:nvPr/>
        </p:nvSpPr>
        <p:spPr>
          <a:xfrm flipV="1">
            <a:off x="3635280" y="1557000"/>
            <a:ext cx="1079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V="1">
            <a:off x="468360" y="3068640"/>
            <a:ext cx="86364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Картинка 4 из 427"/>
          <p:cNvPicPr/>
          <p:nvPr/>
        </p:nvPicPr>
        <p:blipFill>
          <a:blip r:embed="rId2"/>
          <a:stretch/>
        </p:blipFill>
        <p:spPr>
          <a:xfrm>
            <a:off x="395280" y="4292640"/>
            <a:ext cx="3492360" cy="2378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Птенцы чаек покидают гнездо почти сразу после вылупления... (фото К. Михайлова)"/>
          <p:cNvPicPr/>
          <p:nvPr/>
        </p:nvPicPr>
        <p:blipFill>
          <a:blip r:embed="rId3"/>
          <a:stretch/>
        </p:blipFill>
        <p:spPr>
          <a:xfrm>
            <a:off x="2771640" y="1484280"/>
            <a:ext cx="333396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Картинка 42 из 2092"/>
          <p:cNvPicPr/>
          <p:nvPr/>
        </p:nvPicPr>
        <p:blipFill>
          <a:blip r:embed="rId4"/>
          <a:stretch/>
        </p:blipFill>
        <p:spPr>
          <a:xfrm>
            <a:off x="5508720" y="4076640"/>
            <a:ext cx="3457440" cy="2595600"/>
          </a:xfrm>
          <a:prstGeom prst="rect">
            <a:avLst/>
          </a:prstGeom>
          <a:ln w="0">
            <a:noFill/>
          </a:ln>
        </p:spPr>
      </p:pic>
      <p:sp>
        <p:nvSpPr>
          <p:cNvPr id="91" name="Line 12"/>
          <p:cNvSpPr/>
          <p:nvPr/>
        </p:nvSpPr>
        <p:spPr>
          <a:xfrm>
            <a:off x="6227640" y="2852640"/>
            <a:ext cx="107964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476360" y="2997000"/>
            <a:ext cx="122400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итие  млекопитающ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26854415"/>
          <p:cNvPicPr/>
          <p:nvPr/>
        </p:nvPicPr>
        <p:blipFill>
          <a:blip r:embed="rId1"/>
          <a:stretch/>
        </p:blipFill>
        <p:spPr>
          <a:xfrm>
            <a:off x="468360" y="1484280"/>
            <a:ext cx="3408480" cy="22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-beloboch"/>
          <p:cNvPicPr/>
          <p:nvPr/>
        </p:nvPicPr>
        <p:blipFill>
          <a:blip r:embed="rId2"/>
          <a:stretch/>
        </p:blipFill>
        <p:spPr>
          <a:xfrm>
            <a:off x="3203640" y="3933720"/>
            <a:ext cx="5562360" cy="2543400"/>
          </a:xfrm>
          <a:prstGeom prst="rect">
            <a:avLst/>
          </a:prstGeom>
          <a:ln w="0">
            <a:noFill/>
          </a:ln>
        </p:spPr>
      </p:pic>
      <p:sp>
        <p:nvSpPr>
          <p:cNvPr id="96" name="Line 12"/>
          <p:cNvSpPr/>
          <p:nvPr/>
        </p:nvSpPr>
        <p:spPr>
          <a:xfrm>
            <a:off x="3995640" y="2708280"/>
            <a:ext cx="107964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611280" y="242100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  животных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14:42Z</dcterms:created>
  <dc:creator>Наталья</dc:creator>
  <dc:description/>
  <dc:language>en-US</dc:language>
  <cp:lastModifiedBy>И В. Яшкова</cp:lastModifiedBy>
  <dcterms:modified xsi:type="dcterms:W3CDTF">2012-08-10T11:39:18Z</dcterms:modified>
  <cp:revision>4</cp:revision>
  <dc:subject/>
  <dc:title>Слайд 1</dc:title>
</cp:coreProperties>
</file>