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9C2-3DE6-4A43-9DF7-8C0A7E74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994-8F0B-460A-B4E1-94F2CADB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907-05E0-411D-B167-15E787DF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E53-91E9-43C1-825A-69A62A66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485D-E5A6-4477-A5FD-B8F0CDFE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94F5-2F42-4047-8848-F41B13CD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B468-D452-4312-8AE0-C2BF98CF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231D-5AF2-451F-8639-366669EC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3FF9-C18B-4F99-B332-C18192E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DD9B-7868-4B59-A4D2-C78C78CE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4F19-9F3F-4C62-8648-E0A79250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6A6-F8A5-46A6-8E4B-3B4DC945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DEBA-B0F1-4CFE-A57A-066C0C87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084F-38E0-44B8-AFCA-2A73CF71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3FD7-F252-4FB1-A969-7303F5C7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F693-6550-43F5-86ED-B3BC2227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09DD-AE65-4741-860A-96790F27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815-9FFE-4298-8485-42C8356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C00-6E37-4607-B4F7-E16676C0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9A8-2649-4FDC-95F0-A2B0EF2A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983-EE3B-4E25-9D00-E67E78B7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6B1-F378-4F37-B7FF-8089D530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3DB-BC05-4EBF-BE20-CC6D812A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E7B-6C6D-4FCE-B039-CEF67783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7150-62C4-4A6D-B83B-E98FF64D68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744C-7DC1-4460-8744-371B8F9680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азвитие рыб и земноводных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4" descr="38"/>
          <p:cNvPicPr/>
          <p:nvPr/>
        </p:nvPicPr>
        <p:blipFill>
          <a:blip r:embed="rId1"/>
          <a:stretch/>
        </p:blipFill>
        <p:spPr>
          <a:xfrm>
            <a:off x="1763640" y="3645000"/>
            <a:ext cx="4824360" cy="3213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6"/>
          <p:cNvSpPr/>
          <p:nvPr/>
        </p:nvSpPr>
        <p:spPr>
          <a:xfrm>
            <a:off x="250920" y="33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езентация выполнена учителе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БОУ СОШ № 6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Яшковой И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 развитии рыб и земноводных прочитай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 70 – 7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4" descr="f64"/>
          <p:cNvPicPr/>
          <p:nvPr/>
        </p:nvPicPr>
        <p:blipFill>
          <a:blip r:embed="rId1"/>
          <a:stretch/>
        </p:blipFill>
        <p:spPr>
          <a:xfrm>
            <a:off x="684360" y="2565360"/>
            <a:ext cx="3095640" cy="2879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Frog_15"/>
          <p:cNvPicPr/>
          <p:nvPr/>
        </p:nvPicPr>
        <p:blipFill>
          <a:blip r:embed="rId2"/>
          <a:stretch/>
        </p:blipFill>
        <p:spPr>
          <a:xfrm>
            <a:off x="4859280" y="2924280"/>
            <a:ext cx="316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о строение тела рыб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покрыта их кож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приспособления есть у них для плав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они дыша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и стадии развития ры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ра- личинка- малёк- ры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и стадии развития лягуш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ра- личинка- головастик- лягуш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сходны и чем различаются стадии развития рыбы и лягуш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малёк отличается от головасти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ли икринки станут рыбами или лягушка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е оплодотворение у рыб и лягушек?(внешнее, внутренне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метаморфоз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ляна видеоклипо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5" descr="wfall00002"/>
          <p:cNvPicPr/>
          <p:nvPr/>
        </p:nvPicPr>
        <p:blipFill>
          <a:blip r:embed="rId1"/>
          <a:stretch/>
        </p:blipFill>
        <p:spPr>
          <a:xfrm>
            <a:off x="1835280" y="2314440"/>
            <a:ext cx="56894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кно в природу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ты февраль, ни злись, а весной пах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а весну пугает, да всё равно т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4" descr="237"/>
          <p:cNvPicPr/>
          <p:nvPr/>
        </p:nvPicPr>
        <p:blipFill>
          <a:blip r:embed="rId1"/>
          <a:stretch/>
        </p:blipFill>
        <p:spPr>
          <a:xfrm>
            <a:off x="2268360" y="4076640"/>
            <a:ext cx="4104000" cy="278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гноз погод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4" descr="l2"/>
          <p:cNvPicPr/>
          <p:nvPr/>
        </p:nvPicPr>
        <p:blipFill>
          <a:blip r:embed="rId1"/>
          <a:stretch/>
        </p:blipFill>
        <p:spPr>
          <a:xfrm>
            <a:off x="2124000" y="2276640"/>
            <a:ext cx="4176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споминал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ясни слова: живородящ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аморфоз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лодотво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группы животных тебе извест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они различают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животные вскармливают детёнышей молок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у них оплодотворение? (внутреннее, внешне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 развиваются млекопитающи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Bears_19"/>
          <p:cNvPicPr/>
          <p:nvPr/>
        </p:nvPicPr>
        <p:blipFill>
          <a:blip r:embed="rId1"/>
          <a:stretch/>
        </p:blipFill>
        <p:spPr>
          <a:xfrm>
            <a:off x="2556000" y="2409840"/>
            <a:ext cx="3384360" cy="3540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сскажи, как ухаживают за своими детёнышами домашние животны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4" descr="COW9"/>
          <p:cNvPicPr/>
          <p:nvPr/>
        </p:nvPicPr>
        <p:blipFill>
          <a:blip r:embed="rId1"/>
          <a:stretch/>
        </p:blipFill>
        <p:spPr>
          <a:xfrm>
            <a:off x="2050920" y="2708280"/>
            <a:ext cx="3745080" cy="302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ем замечательно куриное яйцо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жи, как оно превращается в куриц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4" descr="яйцо"/>
          <p:cNvPicPr/>
          <p:nvPr/>
        </p:nvPicPr>
        <p:blipFill>
          <a:blip r:embed="rId1"/>
          <a:stretch/>
        </p:blipFill>
        <p:spPr>
          <a:xfrm>
            <a:off x="1258920" y="2997360"/>
            <a:ext cx="5184720" cy="335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оплодотворение у птиц? (внешнее, внутренне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аходится в желтке яйц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ет бело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чего в скорлупе яйца имеются по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1:05:08Z</dcterms:created>
  <dc:creator>Сережа</dc:creator>
  <dc:description/>
  <dc:language>en-US</dc:language>
  <cp:lastModifiedBy>И В. Яшкова</cp:lastModifiedBy>
  <dcterms:modified xsi:type="dcterms:W3CDTF">2012-08-23T07:41:39Z</dcterms:modified>
  <cp:revision>4</cp:revision>
  <dc:subject/>
  <dc:title>Развитие рыб и земноводных.</dc:title>
</cp:coreProperties>
</file>