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6.png" ContentType="image/png"/>
  <Override PartName="/ppt/media/image3.gif" ContentType="image/gif"/>
  <Override PartName="/ppt/media/image4.gif" ContentType="image/gif"/>
  <Override PartName="/ppt/media/image5.gif" ContentType="image/gif"/>
  <Override PartName="/ppt/media/image7.gif" ContentType="image/gif"/>
  <Override PartName="/ppt/media/image8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60C37-5213-48D9-A872-19E55D146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B3966-002C-4EA6-A785-D2DCC62D5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DA93C-8CB9-4271-8BC3-61CA9D84A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DA2AD-9D62-412D-8544-A11DE0E0B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0A932-7478-4C1E-B3DF-A174BC831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06669-880C-4FCB-A4C1-D3181797A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2F17E-61AC-4BBA-A60E-95A570AE7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A1B92-CDFE-4763-B84B-F88E0AD93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C7E57-BA27-4B21-910B-4D8BA870A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8B0FE-AF1B-4172-9141-23757C5DA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6074F-7490-4481-AEB6-72D1FAB54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BE0C2-04DC-44C6-81BD-D1F56876D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53A44-AF72-4319-AFA6-06B1B0B7A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62759-EAC4-4C67-9B3F-49288D85A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CB7AA-E0D0-4832-B623-75B346A40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2CCD4-761E-41CC-BDC6-E08678954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A3E54-E6DE-4531-869C-49DBF5520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C30BD-482A-4A05-A6F2-419578A63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1E74A-AC70-46D5-9D24-CA433AC77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E684E-4BAB-443A-A719-B9F76096F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A175D-112A-4022-BA2F-0F335631F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154B0-1345-4039-A0A3-D80C47972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1882E-ECD0-4345-8434-4AF2442ED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4A8D1-9A05-4C66-805A-E88757DDC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>
                  <a:gd name="textAreaLeft" fmla="*/ 0 w 4469040"/>
                  <a:gd name="textAreaRight" fmla="*/ 4469400 w 4469040"/>
                  <a:gd name="textAreaTop" fmla="*/ 0 h 3349800"/>
                  <a:gd name="textAreaBottom" fmla="*/ 3350160 h 3349800"/>
                </a:gdLst>
                <a:ahLst/>
                <a:rect l="textAreaLeft" t="textAreaTop" r="textAreaRight" b="textAreaBottom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>
                  <a:gd name="textAreaLeft" fmla="*/ 0 w 6296040"/>
                  <a:gd name="textAreaRight" fmla="*/ 6296400 w 6296040"/>
                  <a:gd name="textAreaTop" fmla="*/ 0 h 3756240"/>
                  <a:gd name="textAreaBottom" fmla="*/ 3756600 h 3756240"/>
                </a:gdLst>
                <a:ahLst/>
                <a:rect l="textAreaLeft" t="textAreaTop" r="textAreaRight" b="textAreaBottom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>
                  <a:gd name="textAreaLeft" fmla="*/ 0 w 9099720"/>
                  <a:gd name="textAreaRight" fmla="*/ 9099720 w 9099720"/>
                  <a:gd name="textAreaTop" fmla="*/ 0 h 4932360"/>
                  <a:gd name="textAreaBottom" fmla="*/ 4932720 h 4932360"/>
                </a:gdLst>
                <a:ahLst/>
                <a:rect l="textAreaLeft" t="textAreaTop" r="textAreaRight" b="textAreaBottom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>
                  <a:gd name="textAreaLeft" fmla="*/ 0 w 8750520"/>
                  <a:gd name="textAreaRight" fmla="*/ 8750880 w 8750520"/>
                  <a:gd name="textAreaTop" fmla="*/ 0 h 4381560"/>
                  <a:gd name="textAreaBottom" fmla="*/ 4381920 h 4381560"/>
                </a:gdLst>
                <a:ahLst/>
                <a:rect l="textAreaLeft" t="textAreaTop" r="textAreaRight" b="textAreaBottom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>
                  <a:gd name="textAreaLeft" fmla="*/ 0 w 1254240"/>
                  <a:gd name="textAreaRight" fmla="*/ 1254600 w 1254240"/>
                  <a:gd name="textAreaTop" fmla="*/ 0 h 1887480"/>
                  <a:gd name="textAreaBottom" fmla="*/ 1887840 h 1887480"/>
                </a:gdLst>
                <a:ahLst/>
                <a:rect l="textAreaLeft" t="textAreaTop" r="textAreaRight" b="textAreaBottom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>
                  <a:gd name="textAreaLeft" fmla="*/ 0 w 919440"/>
                  <a:gd name="textAreaRight" fmla="*/ 919800 w 919440"/>
                  <a:gd name="textAreaTop" fmla="*/ 0 h 1773360"/>
                  <a:gd name="textAreaBottom" fmla="*/ 1773720 h 1773360"/>
                </a:gdLst>
                <a:ahLst/>
                <a:rect l="textAreaLeft" t="textAreaTop" r="textAreaRight" b="textAreaBottom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>
                  <a:gd name="textAreaLeft" fmla="*/ 0 w 3922920"/>
                  <a:gd name="textAreaRight" fmla="*/ 3923280 w 3922920"/>
                  <a:gd name="textAreaTop" fmla="*/ 0 h 3803400"/>
                  <a:gd name="textAreaBottom" fmla="*/ 3803760 h 3803400"/>
                </a:gdLst>
                <a:ahLst/>
                <a:rect l="textAreaLeft" t="textAreaTop" r="textAreaRight" b="textAreaBottom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>
                  <a:gd name="textAreaLeft" fmla="*/ 0 w 2221200"/>
                  <a:gd name="textAreaRight" fmla="*/ 2221560 w 2221200"/>
                  <a:gd name="textAreaTop" fmla="*/ 0 h 2141640"/>
                  <a:gd name="textAreaBottom" fmla="*/ 2142000 h 2141640"/>
                </a:gdLst>
                <a:ahLst/>
                <a:rect l="textAreaLeft" t="textAreaTop" r="textAreaRight" b="textAreaBottom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>
                  <a:gd name="textAreaLeft" fmla="*/ 0 w 1993680"/>
                  <a:gd name="textAreaRight" fmla="*/ 1994040 w 1993680"/>
                  <a:gd name="textAreaTop" fmla="*/ 0 h 1285920"/>
                  <a:gd name="textAreaBottom" fmla="*/ 1286280 h 1285920"/>
                </a:gdLst>
                <a:ahLst/>
                <a:rect l="textAreaLeft" t="textAreaTop" r="textAreaRight" b="textAreaBottom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>
                  <a:gd name="textAreaLeft" fmla="*/ 0 w 4521240"/>
                  <a:gd name="textAreaRight" fmla="*/ 4521600 w 4521240"/>
                  <a:gd name="textAreaTop" fmla="*/ 0 h 1251000"/>
                  <a:gd name="textAreaBottom" fmla="*/ 1251000 h 1251000"/>
                </a:gdLst>
                <a:ahLst/>
                <a:rect l="textAreaLeft" t="textAreaTop" r="textAreaRight" b="textAreaBottom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>
                  <a:gd name="textAreaLeft" fmla="*/ 0 w 506520"/>
                  <a:gd name="textAreaRight" fmla="*/ 506880 w 506520"/>
                  <a:gd name="textAreaTop" fmla="*/ 0 h 1355760"/>
                  <a:gd name="textAreaBottom" fmla="*/ 1356120 h 1355760"/>
                </a:gdLst>
                <a:ahLst/>
                <a:rect l="textAreaLeft" t="textAreaTop" r="textAreaRight" b="textAreaBottom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>
                  <a:gd name="textAreaLeft" fmla="*/ 0 w 1025280"/>
                  <a:gd name="textAreaRight" fmla="*/ 1025640 w 1025280"/>
                  <a:gd name="textAreaTop" fmla="*/ 0 h 622440"/>
                  <a:gd name="textAreaBottom" fmla="*/ 622800 h 622440"/>
                </a:gdLst>
                <a:ahLst/>
                <a:rect l="textAreaLeft" t="textAreaTop" r="textAreaRight" b="textAreaBottom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>
                  <a:gd name="textAreaLeft" fmla="*/ 0 w 4343400"/>
                  <a:gd name="textAreaRight" fmla="*/ 4343760 w 4343400"/>
                  <a:gd name="textAreaTop" fmla="*/ 0 h 3048120"/>
                  <a:gd name="textAreaBottom" fmla="*/ 3048480 h 3048120"/>
                </a:gdLst>
                <a:ahLst/>
                <a:rect l="textAreaLeft" t="textAreaTop" r="textAreaRight" b="textAreaBottom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2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4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8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9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0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1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2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3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4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5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6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9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>
                  <a:gd name="textAreaLeft" fmla="*/ 0 w 285840"/>
                  <a:gd name="textAreaRight" fmla="*/ 286200 w 285840"/>
                  <a:gd name="textAreaTop" fmla="*/ 0 h 239760"/>
                  <a:gd name="textAreaBottom" fmla="*/ 240120 h 239760"/>
                </a:gdLst>
                <a:ahLst/>
                <a:rect l="textAreaLeft" t="textAreaTop" r="textAreaRight" b="textAreaBottom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0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1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2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3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4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5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6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7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8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9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0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1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2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3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4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5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6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7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1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3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4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5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6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7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8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9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0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1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2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3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4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5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6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7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8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9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0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1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2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3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4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5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6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7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8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9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0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1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2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3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4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5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6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>
                  <a:gd name="textAreaLeft" fmla="*/ 0 w 324000"/>
                  <a:gd name="textAreaRight" fmla="*/ 324360 w 324000"/>
                  <a:gd name="textAreaTop" fmla="*/ 0 h 190440"/>
                  <a:gd name="textAreaBottom" fmla="*/ 190800 h 190440"/>
                </a:gdLst>
                <a:ahLst/>
                <a:rect l="textAreaLeft" t="textAreaTop" r="textAreaRight" b="textAreaBottom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7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8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>
                  <a:gd name="textAreaLeft" fmla="*/ 0 w 160200"/>
                  <a:gd name="textAreaRight" fmla="*/ 160560 w 16020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9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0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1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33200"/>
                  <a:gd name="textAreaBottom" fmla="*/ 133560 h 133200"/>
                </a:gdLst>
                <a:ahLst/>
                <a:rect l="textAreaLeft" t="textAreaTop" r="textAreaRight" b="textAreaBottom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2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3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76320"/>
                  <a:gd name="textAreaBottom" fmla="*/ 76680 h 76320"/>
                </a:gdLst>
                <a:ahLst/>
                <a:rect l="textAreaLeft" t="textAreaTop" r="textAreaRight" b="textAreaBottom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4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>
                  <a:gd name="textAreaLeft" fmla="*/ 0 w 57240"/>
                  <a:gd name="textAreaRight" fmla="*/ 57600 w 5724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5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6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7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>
                  <a:gd name="textAreaLeft" fmla="*/ 0 w 228600"/>
                  <a:gd name="textAreaRight" fmla="*/ 228960 w 228600"/>
                  <a:gd name="textAreaTop" fmla="*/ 0 h 244440"/>
                  <a:gd name="textAreaBottom" fmla="*/ 244800 h 244440"/>
                </a:gdLst>
                <a:ahLst/>
                <a:rect l="textAreaLeft" t="textAreaTop" r="textAreaRight" b="textAreaBottom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8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109440"/>
                  <a:gd name="textAreaBottom" fmla="*/ 109800 h 109440"/>
                </a:gdLst>
                <a:ahLst/>
                <a:rect l="textAreaLeft" t="textAreaTop" r="textAreaRight" b="textAreaBottom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9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>
                  <a:gd name="textAreaLeft" fmla="*/ 0 w 552600"/>
                  <a:gd name="textAreaRight" fmla="*/ 552960 w 552600"/>
                  <a:gd name="textAreaTop" fmla="*/ 0 h 2019240"/>
                  <a:gd name="textAreaBottom" fmla="*/ 2019240 h 2019240"/>
                </a:gdLst>
                <a:ahLst/>
                <a:rect l="textAreaLeft" t="textAreaTop" r="textAreaRight" b="textAreaBottom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0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20489-37E7-45FE-926A-C27D23159F1B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>
                  <a:gd name="textAreaLeft" fmla="*/ 0 w 4469040"/>
                  <a:gd name="textAreaRight" fmla="*/ 4469400 w 4469040"/>
                  <a:gd name="textAreaTop" fmla="*/ 0 h 3349800"/>
                  <a:gd name="textAreaBottom" fmla="*/ 3350160 h 3349800"/>
                </a:gdLst>
                <a:ahLst/>
                <a:rect l="textAreaLeft" t="textAreaTop" r="textAreaRight" b="textAreaBottom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5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>
                  <a:gd name="textAreaLeft" fmla="*/ 0 w 6296040"/>
                  <a:gd name="textAreaRight" fmla="*/ 6296400 w 6296040"/>
                  <a:gd name="textAreaTop" fmla="*/ 0 h 3756240"/>
                  <a:gd name="textAreaBottom" fmla="*/ 3756600 h 3756240"/>
                </a:gdLst>
                <a:ahLst/>
                <a:rect l="textAreaLeft" t="textAreaTop" r="textAreaRight" b="textAreaBottom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6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>
                  <a:gd name="textAreaLeft" fmla="*/ 0 w 9099720"/>
                  <a:gd name="textAreaRight" fmla="*/ 9099720 w 9099720"/>
                  <a:gd name="textAreaTop" fmla="*/ 0 h 4932360"/>
                  <a:gd name="textAreaBottom" fmla="*/ 4932720 h 4932360"/>
                </a:gdLst>
                <a:ahLst/>
                <a:rect l="textAreaLeft" t="textAreaTop" r="textAreaRight" b="textAreaBottom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7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>
                  <a:gd name="textAreaLeft" fmla="*/ 0 w 8750520"/>
                  <a:gd name="textAreaRight" fmla="*/ 8750880 w 8750520"/>
                  <a:gd name="textAreaTop" fmla="*/ 0 h 4381560"/>
                  <a:gd name="textAreaBottom" fmla="*/ 4381920 h 4381560"/>
                </a:gdLst>
                <a:ahLst/>
                <a:rect l="textAreaLeft" t="textAreaTop" r="textAreaRight" b="textAreaBottom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8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>
                  <a:gd name="textAreaLeft" fmla="*/ 0 w 1254240"/>
                  <a:gd name="textAreaRight" fmla="*/ 1254600 w 1254240"/>
                  <a:gd name="textAreaTop" fmla="*/ 0 h 1887480"/>
                  <a:gd name="textAreaBottom" fmla="*/ 1887840 h 1887480"/>
                </a:gdLst>
                <a:ahLst/>
                <a:rect l="textAreaLeft" t="textAreaTop" r="textAreaRight" b="textAreaBottom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9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>
                  <a:gd name="textAreaLeft" fmla="*/ 0 w 919440"/>
                  <a:gd name="textAreaRight" fmla="*/ 919800 w 919440"/>
                  <a:gd name="textAreaTop" fmla="*/ 0 h 1773360"/>
                  <a:gd name="textAreaBottom" fmla="*/ 1773720 h 1773360"/>
                </a:gdLst>
                <a:ahLst/>
                <a:rect l="textAreaLeft" t="textAreaTop" r="textAreaRight" b="textAreaBottom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0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>
                  <a:gd name="textAreaLeft" fmla="*/ 0 w 3922920"/>
                  <a:gd name="textAreaRight" fmla="*/ 3923280 w 3922920"/>
                  <a:gd name="textAreaTop" fmla="*/ 0 h 3803400"/>
                  <a:gd name="textAreaBottom" fmla="*/ 3803760 h 3803400"/>
                </a:gdLst>
                <a:ahLst/>
                <a:rect l="textAreaLeft" t="textAreaTop" r="textAreaRight" b="textAreaBottom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1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>
                  <a:gd name="textAreaLeft" fmla="*/ 0 w 2221200"/>
                  <a:gd name="textAreaRight" fmla="*/ 2221560 w 2221200"/>
                  <a:gd name="textAreaTop" fmla="*/ 0 h 2141640"/>
                  <a:gd name="textAreaBottom" fmla="*/ 2142000 h 2141640"/>
                </a:gdLst>
                <a:ahLst/>
                <a:rect l="textAreaLeft" t="textAreaTop" r="textAreaRight" b="textAreaBottom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2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>
                  <a:gd name="textAreaLeft" fmla="*/ 0 w 1993680"/>
                  <a:gd name="textAreaRight" fmla="*/ 1994040 w 1993680"/>
                  <a:gd name="textAreaTop" fmla="*/ 0 h 1285920"/>
                  <a:gd name="textAreaBottom" fmla="*/ 1286280 h 1285920"/>
                </a:gdLst>
                <a:ahLst/>
                <a:rect l="textAreaLeft" t="textAreaTop" r="textAreaRight" b="textAreaBottom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3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>
                  <a:gd name="textAreaLeft" fmla="*/ 0 w 4521240"/>
                  <a:gd name="textAreaRight" fmla="*/ 4521600 w 4521240"/>
                  <a:gd name="textAreaTop" fmla="*/ 0 h 1251000"/>
                  <a:gd name="textAreaBottom" fmla="*/ 1251000 h 1251000"/>
                </a:gdLst>
                <a:ahLst/>
                <a:rect l="textAreaLeft" t="textAreaTop" r="textAreaRight" b="textAreaBottom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4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>
                  <a:gd name="textAreaLeft" fmla="*/ 0 w 506520"/>
                  <a:gd name="textAreaRight" fmla="*/ 506880 w 506520"/>
                  <a:gd name="textAreaTop" fmla="*/ 0 h 1355760"/>
                  <a:gd name="textAreaBottom" fmla="*/ 1356120 h 1355760"/>
                </a:gdLst>
                <a:ahLst/>
                <a:rect l="textAreaLeft" t="textAreaTop" r="textAreaRight" b="textAreaBottom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5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>
                  <a:gd name="textAreaLeft" fmla="*/ 0 w 1025280"/>
                  <a:gd name="textAreaRight" fmla="*/ 1025640 w 1025280"/>
                  <a:gd name="textAreaTop" fmla="*/ 0 h 622440"/>
                  <a:gd name="textAreaBottom" fmla="*/ 622800 h 622440"/>
                </a:gdLst>
                <a:ahLst/>
                <a:rect l="textAreaLeft" t="textAreaTop" r="textAreaRight" b="textAreaBottom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6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>
                  <a:gd name="textAreaLeft" fmla="*/ 0 w 4343400"/>
                  <a:gd name="textAreaRight" fmla="*/ 4343760 w 4343400"/>
                  <a:gd name="textAreaTop" fmla="*/ 0 h 3048120"/>
                  <a:gd name="textAreaBottom" fmla="*/ 3048480 h 3048120"/>
                </a:gdLst>
                <a:ahLst/>
                <a:rect l="textAreaLeft" t="textAreaTop" r="textAreaRight" b="textAreaBottom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207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9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0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1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2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3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4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5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6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7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8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9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0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1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2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3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4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5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6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7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8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9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0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1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2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3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4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5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6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7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8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9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0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1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2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3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4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5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6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7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8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9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0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1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2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3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4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5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6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7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8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9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0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1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2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3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4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5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6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7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8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9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0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1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>
                  <a:gd name="textAreaLeft" fmla="*/ 0 w 285840"/>
                  <a:gd name="textAreaRight" fmla="*/ 286200 w 285840"/>
                  <a:gd name="textAreaTop" fmla="*/ 0 h 239760"/>
                  <a:gd name="textAreaBottom" fmla="*/ 240120 h 239760"/>
                </a:gdLst>
                <a:ahLst/>
                <a:rect l="textAreaLeft" t="textAreaTop" r="textAreaRight" b="textAreaBottom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2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3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4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5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6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7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8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9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0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1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2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3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4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5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6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7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8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9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0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1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2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3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4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5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6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7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8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9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0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1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2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3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4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5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6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7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8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9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0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1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2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3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4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5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6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7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8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9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0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1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2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3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4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5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6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7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8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>
                  <a:gd name="textAreaLeft" fmla="*/ 0 w 324000"/>
                  <a:gd name="textAreaRight" fmla="*/ 324360 w 324000"/>
                  <a:gd name="textAreaTop" fmla="*/ 0 h 190440"/>
                  <a:gd name="textAreaBottom" fmla="*/ 190800 h 190440"/>
                </a:gdLst>
                <a:ahLst/>
                <a:rect l="textAreaLeft" t="textAreaTop" r="textAreaRight" b="textAreaBottom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9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0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>
                  <a:gd name="textAreaLeft" fmla="*/ 0 w 160200"/>
                  <a:gd name="textAreaRight" fmla="*/ 160560 w 16020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1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2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3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33200"/>
                  <a:gd name="textAreaBottom" fmla="*/ 133560 h 133200"/>
                </a:gdLst>
                <a:ahLst/>
                <a:rect l="textAreaLeft" t="textAreaTop" r="textAreaRight" b="textAreaBottom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4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5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76320"/>
                  <a:gd name="textAreaBottom" fmla="*/ 76680 h 76320"/>
                </a:gdLst>
                <a:ahLst/>
                <a:rect l="textAreaLeft" t="textAreaTop" r="textAreaRight" b="textAreaBottom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6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>
                  <a:gd name="textAreaLeft" fmla="*/ 0 w 57240"/>
                  <a:gd name="textAreaRight" fmla="*/ 57600 w 5724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7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8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9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>
                  <a:gd name="textAreaLeft" fmla="*/ 0 w 228600"/>
                  <a:gd name="textAreaRight" fmla="*/ 228960 w 228600"/>
                  <a:gd name="textAreaTop" fmla="*/ 0 h 244440"/>
                  <a:gd name="textAreaBottom" fmla="*/ 244800 h 244440"/>
                </a:gdLst>
                <a:ahLst/>
                <a:rect l="textAreaLeft" t="textAreaTop" r="textAreaRight" b="textAreaBottom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0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109440"/>
                  <a:gd name="textAreaBottom" fmla="*/ 109800 h 109440"/>
                </a:gdLst>
                <a:ahLst/>
                <a:rect l="textAreaLeft" t="textAreaTop" r="textAreaRight" b="textAreaBottom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1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>
                  <a:gd name="textAreaLeft" fmla="*/ 0 w 552600"/>
                  <a:gd name="textAreaRight" fmla="*/ 552960 w 552600"/>
                  <a:gd name="textAreaTop" fmla="*/ 0 h 2019240"/>
                  <a:gd name="textAreaBottom" fmla="*/ 2019240 h 2019240"/>
                </a:gdLst>
                <a:ahLst/>
                <a:rect l="textAreaLeft" t="textAreaTop" r="textAreaRight" b="textAreaBottom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2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A230B-84AD-4B3B-B439-7520EDBE2487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cc"/>
                </a:solidFill>
                <a:latin typeface="Tahoma"/>
              </a:rPr>
              <a:t>Развитие рыб и земноводных.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86" name="Picture 4" descr="38"/>
          <p:cNvPicPr/>
          <p:nvPr/>
        </p:nvPicPr>
        <p:blipFill>
          <a:blip r:embed="rId1"/>
          <a:stretch/>
        </p:blipFill>
        <p:spPr>
          <a:xfrm>
            <a:off x="1763640" y="3645000"/>
            <a:ext cx="4824360" cy="3213000"/>
          </a:xfrm>
          <a:prstGeom prst="rect">
            <a:avLst/>
          </a:prstGeom>
          <a:ln w="0">
            <a:noFill/>
          </a:ln>
        </p:spPr>
      </p:pic>
      <p:sp>
        <p:nvSpPr>
          <p:cNvPr id="387" name="Прямоугольник 6"/>
          <p:cNvSpPr/>
          <p:nvPr/>
        </p:nvSpPr>
        <p:spPr>
          <a:xfrm>
            <a:off x="250920" y="333360"/>
            <a:ext cx="8642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Презентация выполнена учителем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ГБОУ СОШ № 687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Яшковой И.В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plit dir="in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О развитии рыб и земноводных прочитайте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. 70 – 72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11" name="Picture 4" descr="f64"/>
          <p:cNvPicPr/>
          <p:nvPr/>
        </p:nvPicPr>
        <p:blipFill>
          <a:blip r:embed="rId1"/>
          <a:stretch/>
        </p:blipFill>
        <p:spPr>
          <a:xfrm>
            <a:off x="684360" y="2565360"/>
            <a:ext cx="3095640" cy="287964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5" descr="Frog_15"/>
          <p:cNvPicPr/>
          <p:nvPr/>
        </p:nvPicPr>
        <p:blipFill>
          <a:blip r:embed="rId2"/>
          <a:stretch/>
        </p:blipFill>
        <p:spPr>
          <a:xfrm>
            <a:off x="4859280" y="2924280"/>
            <a:ext cx="316872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аково строение тела рыб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Чем покрыта их кожа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акие приспособления есть у них для плавания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Чем они дышат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4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4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4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4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4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4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осстанови стадии развития рыб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кра- личинка- малёк- рыб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осстанови стадии развития лягушк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кра- личинка- головастик- лягушк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4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4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4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4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4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4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4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4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4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Чем сходны и чем различаются стадии развития рыбы и лягушки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Чем малёк отличается от головастика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се ли икринки станут рыбами или лягушками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акое оплодотворение у рыб и лягушек?(внешнее, внутреннее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Что такое метаморфоз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4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4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4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4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4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4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4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4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4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4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4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4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Поляна видеоклипов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21" name="Picture 5" descr="wfall00002"/>
          <p:cNvPicPr/>
          <p:nvPr/>
        </p:nvPicPr>
        <p:blipFill>
          <a:blip r:embed="rId1"/>
          <a:stretch/>
        </p:blipFill>
        <p:spPr>
          <a:xfrm>
            <a:off x="1835280" y="2314440"/>
            <a:ext cx="5689440" cy="334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0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Окно в природу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ак ты февраль, ни злись, а весной пахнет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Зима весну пугает, да всё равно тает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90" name="Picture 4" descr="237"/>
          <p:cNvPicPr/>
          <p:nvPr/>
        </p:nvPicPr>
        <p:blipFill>
          <a:blip r:embed="rId1"/>
          <a:stretch/>
        </p:blipFill>
        <p:spPr>
          <a:xfrm>
            <a:off x="2268360" y="4076640"/>
            <a:ext cx="4104000" cy="27813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898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898" fill="hold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898" fill="hold"/>
                                        <p:tgtEl>
                                          <p:spTgt spid="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Прогноз погоды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93" name="Picture 4" descr="l2"/>
          <p:cNvPicPr/>
          <p:nvPr/>
        </p:nvPicPr>
        <p:blipFill>
          <a:blip r:embed="rId1"/>
          <a:stretch/>
        </p:blipFill>
        <p:spPr>
          <a:xfrm>
            <a:off x="2124000" y="2276640"/>
            <a:ext cx="417672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Вспоминалки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бъясни слова: живородящие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етаморфоз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плодотворени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акие группы животных тебе известны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Чем они различаются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акие животные вскармливают детёнышей молоком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акое у них оплодотворение? (внутреннее, внешнее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Как развиваются млекопитающие?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0" name="Picture 4" descr="Bears_19"/>
          <p:cNvPicPr/>
          <p:nvPr/>
        </p:nvPicPr>
        <p:blipFill>
          <a:blip r:embed="rId1"/>
          <a:stretch/>
        </p:blipFill>
        <p:spPr>
          <a:xfrm>
            <a:off x="2556000" y="2409840"/>
            <a:ext cx="3384360" cy="35402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Расскажи, как ухаживают за своими детёнышами домашние животные?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3" name="Picture 4" descr="COW9"/>
          <p:cNvPicPr/>
          <p:nvPr/>
        </p:nvPicPr>
        <p:blipFill>
          <a:blip r:embed="rId1"/>
          <a:stretch/>
        </p:blipFill>
        <p:spPr>
          <a:xfrm>
            <a:off x="2050920" y="2708280"/>
            <a:ext cx="3745080" cy="30258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Чем замечательно куриное яйцо?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асскажи, как оно превращается в курицу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6" name="Picture 4" descr="яйцо"/>
          <p:cNvPicPr/>
          <p:nvPr/>
        </p:nvPicPr>
        <p:blipFill>
          <a:blip r:embed="rId1"/>
          <a:stretch/>
        </p:blipFill>
        <p:spPr>
          <a:xfrm>
            <a:off x="1258920" y="2997360"/>
            <a:ext cx="5184720" cy="33559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акое оплодотворение у птиц? (внешнее, внутреннее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Что находится в желтке яйца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акую роль играет белок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ля чего в скорлупе яйца имеются поры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4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4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4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6T11:05:08Z</dcterms:created>
  <dc:creator>Сережа</dc:creator>
  <dc:description/>
  <dc:language>en-US</dc:language>
  <cp:lastModifiedBy>И В. Яшкова</cp:lastModifiedBy>
  <dcterms:modified xsi:type="dcterms:W3CDTF">2012-08-23T07:41:39Z</dcterms:modified>
  <cp:revision>4</cp:revision>
  <dc:subject/>
  <dc:title>Развитие рыб и земноводных.</dc:title>
</cp:coreProperties>
</file>