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78A-8D12-430E-B9B9-C04665F7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FF1-F603-4816-95D7-50E2A916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43F-1169-4F5B-A5FB-A1ED995A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AF3-192F-48DE-AFA2-B195D709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8392-5980-421C-9F64-994F8BB1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377F-8352-4193-AA24-43219E4C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ECE6-9938-4EEF-8225-73241045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B6FF-F559-43C1-B9DF-2EC47EC5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0F78-1003-4C05-85BE-41C0AC4F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4F98-0682-45E8-BF61-3BC5486E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3D18-A5BE-4E73-9B4A-DEBC6EBD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8A40-09EE-4FE9-8125-7B3FDC2E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F35E-4C34-4D47-988E-9393E62B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018D-F580-46CD-B963-B552488F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E9B0-907D-4A62-BC20-A9773750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F933-44DC-4FCC-A03B-8F2EFC21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C8D7-F8E1-4055-A713-5DB00F49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121-6ABE-4367-A47D-FBDBFCE4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09AE-0A84-4C33-AA76-5FE22B86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FEC-2D25-4214-88E1-3CC839F7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31F6-646F-4DA2-8DE8-B934084A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B30-20F4-49B0-B7A0-F54BC5B9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96D8-976C-447C-99AA-9D182B96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CF0F-BEE7-4D37-A8DA-026A0707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B8D1-041B-4F6D-A585-9F181E82B3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F126-AD7E-48FC-9FF8-D510CA7F175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WordArt 4"/>
          <p:cNvSpPr txBox="1"/>
          <p:nvPr/>
        </p:nvSpPr>
        <p:spPr>
          <a:xfrm>
            <a:off x="1116000" y="549360"/>
            <a:ext cx="704844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ружающий мир 3 класс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:Природные явления и погод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к учебнику О.Т.Поглазовой)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знаки ветр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ен шоро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евья качают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является рябь на воде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му и почему надо знать силу ветра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рлу важны направление и сила ветра для того, чтобы парить в высоте, высматривая добыч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дузе важно знать, в какую сторону ветер гонит волны, чтобы не быть выброшенной на бере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запуске космических кораблей, при работе монтажников-высотников, при тушении пожаров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ебо может быть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сным       пасмурным      с переменн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ачность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Oval 4"/>
          <p:cNvSpPr/>
          <p:nvPr/>
        </p:nvSpPr>
        <p:spPr>
          <a:xfrm>
            <a:off x="826920" y="2205000"/>
            <a:ext cx="79236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3492360" y="2276640"/>
            <a:ext cx="792360" cy="79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Oval 7"/>
          <p:cNvSpPr/>
          <p:nvPr/>
        </p:nvSpPr>
        <p:spPr>
          <a:xfrm>
            <a:off x="6659640" y="2997360"/>
            <a:ext cx="792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Line 8"/>
          <p:cNvSpPr/>
          <p:nvPr/>
        </p:nvSpPr>
        <p:spPr>
          <a:xfrm>
            <a:off x="7020000" y="299736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Line 9"/>
          <p:cNvSpPr/>
          <p:nvPr/>
        </p:nvSpPr>
        <p:spPr>
          <a:xfrm>
            <a:off x="7093080" y="2997360"/>
            <a:ext cx="0" cy="718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Line 10"/>
          <p:cNvSpPr/>
          <p:nvPr/>
        </p:nvSpPr>
        <p:spPr>
          <a:xfrm>
            <a:off x="7093080" y="2997360"/>
            <a:ext cx="0" cy="718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7020000" y="299736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8" name="Picture 14" descr="Атарол"/>
          <p:cNvPicPr/>
          <p:nvPr/>
        </p:nvPicPr>
        <p:blipFill>
          <a:blip r:embed="rId1"/>
          <a:stretch/>
        </p:blipFill>
        <p:spPr>
          <a:xfrm>
            <a:off x="5435640" y="2637000"/>
            <a:ext cx="3308400" cy="2479680"/>
          </a:xfrm>
          <a:prstGeom prst="rect">
            <a:avLst/>
          </a:prstGeom>
          <a:ln w="0">
            <a:noFill/>
          </a:ln>
        </p:spPr>
      </p:pic>
      <p:sp>
        <p:nvSpPr>
          <p:cNvPr id="369" name="AutoShape 15"/>
          <p:cNvSpPr/>
          <p:nvPr/>
        </p:nvSpPr>
        <p:spPr>
          <a:xfrm rot="16200000">
            <a:off x="3976560" y="997920"/>
            <a:ext cx="1297080" cy="6732720"/>
          </a:xfrm>
          <a:custGeom>
            <a:avLst/>
            <a:gdLst>
              <a:gd name="textAreaLeft" fmla="*/ 828720 w 1297080"/>
              <a:gd name="textAreaRight" fmla="*/ 1297440 w 1297080"/>
              <a:gd name="textAreaTop" fmla="*/ 175320 h 6732720"/>
              <a:gd name="textAreaBottom" fmla="*/ 6557400 h 673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2556000" y="508464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овные зна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лака</a:t>
            </a: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2" name="Picture 5" descr="oblaka"/>
          <p:cNvPicPr/>
          <p:nvPr/>
        </p:nvPicPr>
        <p:blipFill>
          <a:blip r:embed="rId1"/>
          <a:stretch/>
        </p:blipFill>
        <p:spPr>
          <a:xfrm>
            <a:off x="1974960" y="0"/>
            <a:ext cx="519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гноз погоды по облакам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еристые обла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ысоко в небе говорят о том, что приближается дождь с ветр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5" name="Picture 6" descr="перистые облака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ень высокие тёмные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кучевые обла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могут принести гроз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5" descr="кучевые облака3"/>
          <p:cNvPicPr/>
          <p:nvPr/>
        </p:nvPicPr>
        <p:blipFill>
          <a:blip r:embed="rId1"/>
          <a:stretch/>
        </p:blipFill>
        <p:spPr>
          <a:xfrm>
            <a:off x="755640" y="1486080"/>
            <a:ext cx="79502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ёгкие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ушистые  белые обла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летом предвещают хорошую погод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есть ещё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лоистые обла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9" name="Picture 6" descr="слоистые облака1"/>
          <p:cNvPicPr/>
          <p:nvPr/>
        </p:nvPicPr>
        <p:blipFill>
          <a:blip r:embed="rId1"/>
          <a:stretch/>
        </p:blipFill>
        <p:spPr>
          <a:xfrm>
            <a:off x="1619280" y="220500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а выполнена учителем ГБОУ СОШ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№ 687города Москвы Яшковой И.В.</a:t>
            </a:r>
            <a:endParaRPr b="0" lang="en-US" sz="2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светит?                  И дождю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– счастье,                   И снегопаду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настье –                     Речке, лесу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же счастье,                     Полю, сад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у что                         И высоким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– счастье                     Синим-синим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ваться                        Бесконечны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ам:                            Небеса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О. Дри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Picture 5" descr="159481"/>
          <p:cNvPicPr/>
          <p:nvPr/>
        </p:nvPicPr>
        <p:blipFill>
          <a:blip r:embed="rId1"/>
          <a:stretch/>
        </p:blipFill>
        <p:spPr>
          <a:xfrm>
            <a:off x="3708360" y="14436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0935448fb299ef23255554afdc03063a"/>
          <p:cNvPicPr/>
          <p:nvPr/>
        </p:nvPicPr>
        <p:blipFill>
          <a:blip r:embed="rId2"/>
          <a:stretch/>
        </p:blipFill>
        <p:spPr>
          <a:xfrm>
            <a:off x="3492360" y="2276640"/>
            <a:ext cx="2374920" cy="15858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перистые облака2"/>
          <p:cNvPicPr/>
          <p:nvPr/>
        </p:nvPicPr>
        <p:blipFill>
          <a:blip r:embed="rId3"/>
          <a:stretch/>
        </p:blipFill>
        <p:spPr>
          <a:xfrm>
            <a:off x="3635280" y="4005360"/>
            <a:ext cx="22370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ечн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рен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ждлив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жн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WordArt 4"/>
          <p:cNvSpPr txBox="1"/>
          <p:nvPr/>
        </p:nvSpPr>
        <p:spPr>
          <a:xfrm>
            <a:off x="2484360" y="260280"/>
            <a:ext cx="4329360" cy="19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год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7" name="Line 6"/>
          <p:cNvSpPr/>
          <p:nvPr/>
        </p:nvSpPr>
        <p:spPr>
          <a:xfrm flipH="1">
            <a:off x="2050560" y="1989000"/>
            <a:ext cx="36036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4140360" y="2133720"/>
            <a:ext cx="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5435640" y="1989000"/>
            <a:ext cx="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6372360" y="2133720"/>
            <a:ext cx="1152360" cy="1726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году определяют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WordArt 4"/>
          <p:cNvSpPr txBox="1"/>
          <p:nvPr/>
        </p:nvSpPr>
        <p:spPr>
          <a:xfrm>
            <a:off x="1332000" y="189000"/>
            <a:ext cx="619272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це даёт Земле тепл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4" name="Picture 5" descr="sunflare_2"/>
          <p:cNvPicPr/>
          <p:nvPr/>
        </p:nvPicPr>
        <p:blipFill>
          <a:blip r:embed="rId3"/>
          <a:stretch/>
        </p:blipFill>
        <p:spPr>
          <a:xfrm>
            <a:off x="1547640" y="2276640"/>
            <a:ext cx="56167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4"/>
          <p:cNvSpPr txBox="1"/>
          <p:nvPr/>
        </p:nvSpPr>
        <p:spPr>
          <a:xfrm>
            <a:off x="611280" y="333360"/>
            <a:ext cx="802944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 движения воздуха происходит ветер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4"/>
          <p:cNvSpPr txBox="1"/>
          <p:nvPr/>
        </p:nvSpPr>
        <p:spPr>
          <a:xfrm>
            <a:off x="2124000" y="260280"/>
            <a:ext cx="5105520" cy="24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 воды получается снег,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ждь, облака и туч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7" name="Picture 5" descr="09341c76297a2714620618a20b53be49"/>
          <p:cNvPicPr/>
          <p:nvPr/>
        </p:nvPicPr>
        <p:blipFill>
          <a:blip r:embed="rId5"/>
          <a:stretch/>
        </p:blipFill>
        <p:spPr>
          <a:xfrm>
            <a:off x="3492360" y="2924280"/>
            <a:ext cx="24940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адки</a:t>
            </a: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Picture 6" descr="49015_2"/>
          <p:cNvPicPr/>
          <p:nvPr/>
        </p:nvPicPr>
        <p:blipFill>
          <a:blip r:embed="rId1"/>
          <a:stretch/>
        </p:blipFill>
        <p:spPr>
          <a:xfrm>
            <a:off x="0" y="1341360"/>
            <a:ext cx="4535640" cy="2951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b5a5fe0aa28b255b97f103855eb7316f_medium"/>
          <p:cNvPicPr/>
          <p:nvPr/>
        </p:nvPicPr>
        <p:blipFill>
          <a:blip r:embed="rId2"/>
          <a:stretch/>
        </p:blipFill>
        <p:spPr>
          <a:xfrm>
            <a:off x="4932360" y="1341360"/>
            <a:ext cx="4211640" cy="29512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grad_436456"/>
          <p:cNvPicPr/>
          <p:nvPr/>
        </p:nvPicPr>
        <p:blipFill>
          <a:blip r:embed="rId3"/>
          <a:stretch/>
        </p:blipFill>
        <p:spPr>
          <a:xfrm>
            <a:off x="3203640" y="3429000"/>
            <a:ext cx="2643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тит без крыльев и поёт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хожих задира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прохода не даёт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он подгоня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6:17:32Z</dcterms:created>
  <dc:creator>Вова</dc:creator>
  <dc:description/>
  <dc:language>en-US</dc:language>
  <cp:lastModifiedBy>И В. Яшкова</cp:lastModifiedBy>
  <dcterms:modified xsi:type="dcterms:W3CDTF">2012-08-03T12:31:55Z</dcterms:modified>
  <cp:revision>3</cp:revision>
  <dc:subject/>
  <dc:title>Слайд 1</dc:title>
</cp:coreProperties>
</file>