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471-32C5-4CA1-AC86-EAF1308E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C90-4203-43D4-A35E-EDA92265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486-E83F-4AC5-B45D-B590EBF6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154-381A-4830-806D-DE229D9C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6B17-10F0-4B51-B331-42B35F61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95CB-ED35-4B8D-8E8F-6C8B4AE2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B8E7-148B-4876-B649-0F696683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A483-F5E2-4427-B22E-B4C585E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A23-1A76-46F9-A6C4-888EFD94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005C-E1FF-4868-928F-EA04BDDE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EA2D-E0D5-4FC4-8D44-01336F3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69B-C1F3-4E9C-A7C2-2B932B30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791-E0EE-4EC6-B121-5227C32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C59-7AA2-4951-90B6-80B82A8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8CA9-2F25-4834-BDC1-BDF2A804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EAA0-400C-440A-89D5-4A24D689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0251-D955-4E17-ACE0-2FFD6822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0BF-3C38-4D92-A6FC-3810E198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35E-53A0-47BB-B238-E04EA30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706-10F6-43CA-B287-DE91B57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AD6-79BF-4E29-B36A-DF456F7C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775-913B-4B4E-B5E8-CD41E3B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1C1-E026-450D-A344-3885326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0C7-45BF-4725-A2DD-1A7D6B9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B062-0DBA-4A76-AAEE-3082A14F94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29D-ACF3-4CBF-AD54-2B751E922B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1116000" y="549360"/>
            <a:ext cx="7048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Природные явления и погод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)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знаки вет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ен шоро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качаю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является рябь на воде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му и почему надо знать силу ветра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лу важны направление и сила ветра для того, чтобы парить в высоте, высматривая добыч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узе важно знать, в какую сторону ветер гонит волны, чтобы не быть выброшенной на бере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апуске космических кораблей, при работе монтажников-высотников, при тушении пожаров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бо может быть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ым       пасмурным      с перемен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ч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826920" y="2205000"/>
            <a:ext cx="792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492360" y="2276640"/>
            <a:ext cx="792360" cy="79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6659640" y="2997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Line 8"/>
          <p:cNvSpPr/>
          <p:nvPr/>
        </p:nvSpPr>
        <p:spPr>
          <a:xfrm>
            <a:off x="7020000" y="2997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7093080" y="2997360"/>
            <a:ext cx="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Line 10"/>
          <p:cNvSpPr/>
          <p:nvPr/>
        </p:nvSpPr>
        <p:spPr>
          <a:xfrm>
            <a:off x="7093080" y="2997360"/>
            <a:ext cx="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7020000" y="299736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14" descr="Атарол"/>
          <p:cNvPicPr/>
          <p:nvPr/>
        </p:nvPicPr>
        <p:blipFill>
          <a:blip r:embed="rId1"/>
          <a:stretch/>
        </p:blipFill>
        <p:spPr>
          <a:xfrm>
            <a:off x="5435640" y="2637000"/>
            <a:ext cx="3308400" cy="247968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5"/>
          <p:cNvSpPr/>
          <p:nvPr/>
        </p:nvSpPr>
        <p:spPr>
          <a:xfrm rot="16200000">
            <a:off x="3976560" y="997920"/>
            <a:ext cx="1297080" cy="6732720"/>
          </a:xfrm>
          <a:custGeom>
            <a:avLst/>
            <a:gdLst>
              <a:gd name="textAreaLeft" fmla="*/ 828720 w 1297080"/>
              <a:gd name="textAreaRight" fmla="*/ 1297440 w 1297080"/>
              <a:gd name="textAreaTop" fmla="*/ 175320 h 6732720"/>
              <a:gd name="textAreaBottom" fmla="*/ 6557400 h 673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2556000" y="5084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овные зна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лака</a:t>
            </a: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2" name="Picture 5" descr="oblaka"/>
          <p:cNvPicPr/>
          <p:nvPr/>
        </p:nvPicPr>
        <p:blipFill>
          <a:blip r:embed="rId1"/>
          <a:stretch/>
        </p:blipFill>
        <p:spPr>
          <a:xfrm>
            <a:off x="1974960" y="0"/>
            <a:ext cx="519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ноз погоды по облакам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ерист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соко в небе говорят о том, что приближается дождь с вет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Picture 6" descr="перистые облака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высокие тёмные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кучев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гут принести гроз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5" descr="кучевые облака3"/>
          <p:cNvPicPr/>
          <p:nvPr/>
        </p:nvPicPr>
        <p:blipFill>
          <a:blip r:embed="rId1"/>
          <a:stretch/>
        </p:blipFill>
        <p:spPr>
          <a:xfrm>
            <a:off x="755640" y="1486080"/>
            <a:ext cx="79502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ёгкие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ушистые  бел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летом предвещают хорошую пог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есть ещё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лоистые обла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9" name="Picture 6" descr="слоистые облака1"/>
          <p:cNvPicPr/>
          <p:nvPr/>
        </p:nvPicPr>
        <p:blipFill>
          <a:blip r:embed="rId1"/>
          <a:stretch/>
        </p:blipFill>
        <p:spPr>
          <a:xfrm>
            <a:off x="1619280" y="220500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выполнена учителем ГБОУ СОШ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№ 687города Москвы Яшковой И.В.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ветит?                  И дождю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– счастье,                   И снегопаду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настье –                     Речке, лесу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же счастье,                     Полю, са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                        И высоки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– счастье                     Синим-сини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ваться                        Бесконеч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ам:                            Небеса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О. Дри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5" descr="159481"/>
          <p:cNvPicPr/>
          <p:nvPr/>
        </p:nvPicPr>
        <p:blipFill>
          <a:blip r:embed="rId1"/>
          <a:stretch/>
        </p:blipFill>
        <p:spPr>
          <a:xfrm>
            <a:off x="3708360" y="14436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0935448fb299ef23255554afdc03063a"/>
          <p:cNvPicPr/>
          <p:nvPr/>
        </p:nvPicPr>
        <p:blipFill>
          <a:blip r:embed="rId2"/>
          <a:stretch/>
        </p:blipFill>
        <p:spPr>
          <a:xfrm>
            <a:off x="3492360" y="2276640"/>
            <a:ext cx="2374920" cy="1585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перистые облака2"/>
          <p:cNvPicPr/>
          <p:nvPr/>
        </p:nvPicPr>
        <p:blipFill>
          <a:blip r:embed="rId3"/>
          <a:stretch/>
        </p:blipFill>
        <p:spPr>
          <a:xfrm>
            <a:off x="3635280" y="4005360"/>
            <a:ext cx="2237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еч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ре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лив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ж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WordArt 4"/>
          <p:cNvSpPr txBox="1"/>
          <p:nvPr/>
        </p:nvSpPr>
        <p:spPr>
          <a:xfrm>
            <a:off x="2484360" y="260280"/>
            <a:ext cx="432936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го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7" name="Line 6"/>
          <p:cNvSpPr/>
          <p:nvPr/>
        </p:nvSpPr>
        <p:spPr>
          <a:xfrm flipH="1">
            <a:off x="2050560" y="1989000"/>
            <a:ext cx="36036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4140360" y="2133720"/>
            <a:ext cx="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5435640" y="198900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6372360" y="2133720"/>
            <a:ext cx="1152360" cy="1726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году определяю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4"/>
          <p:cNvSpPr txBox="1"/>
          <p:nvPr/>
        </p:nvSpPr>
        <p:spPr>
          <a:xfrm>
            <a:off x="1332000" y="189000"/>
            <a:ext cx="61927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 даёт Земле тепл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4" name="Picture 5" descr="sunflare_2"/>
          <p:cNvPicPr/>
          <p:nvPr/>
        </p:nvPicPr>
        <p:blipFill>
          <a:blip r:embed="rId3"/>
          <a:stretch/>
        </p:blipFill>
        <p:spPr>
          <a:xfrm>
            <a:off x="1547640" y="2276640"/>
            <a:ext cx="5616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4"/>
          <p:cNvSpPr txBox="1"/>
          <p:nvPr/>
        </p:nvSpPr>
        <p:spPr>
          <a:xfrm>
            <a:off x="611280" y="333360"/>
            <a:ext cx="802944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движения воздуха происходит вете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2124000" y="260280"/>
            <a:ext cx="51055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воды получается снег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ждь, облака и туч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Picture 5" descr="09341c76297a2714620618a20b53be49"/>
          <p:cNvPicPr/>
          <p:nvPr/>
        </p:nvPicPr>
        <p:blipFill>
          <a:blip r:embed="rId5"/>
          <a:stretch/>
        </p:blipFill>
        <p:spPr>
          <a:xfrm>
            <a:off x="3492360" y="2924280"/>
            <a:ext cx="2494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адки</a:t>
            </a: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6" descr="49015_2"/>
          <p:cNvPicPr/>
          <p:nvPr/>
        </p:nvPicPr>
        <p:blipFill>
          <a:blip r:embed="rId1"/>
          <a:stretch/>
        </p:blipFill>
        <p:spPr>
          <a:xfrm>
            <a:off x="0" y="1341360"/>
            <a:ext cx="4535640" cy="2951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b5a5fe0aa28b255b97f103855eb7316f_medium"/>
          <p:cNvPicPr/>
          <p:nvPr/>
        </p:nvPicPr>
        <p:blipFill>
          <a:blip r:embed="rId2"/>
          <a:stretch/>
        </p:blipFill>
        <p:spPr>
          <a:xfrm>
            <a:off x="4932360" y="1341360"/>
            <a:ext cx="4211640" cy="2951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grad_436456"/>
          <p:cNvPicPr/>
          <p:nvPr/>
        </p:nvPicPr>
        <p:blipFill>
          <a:blip r:embed="rId3"/>
          <a:stretch/>
        </p:blipFill>
        <p:spPr>
          <a:xfrm>
            <a:off x="3203640" y="3429000"/>
            <a:ext cx="2643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гадайте загадку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ит без крыльев и поёт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жих задир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прохода не даёт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он подгоня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17:32Z</dcterms:created>
  <dc:creator>Вова</dc:creator>
  <dc:description/>
  <dc:language>en-US</dc:language>
  <cp:lastModifiedBy>И В. Яшкова</cp:lastModifiedBy>
  <dcterms:modified xsi:type="dcterms:W3CDTF">2012-08-03T12:31:55Z</dcterms:modified>
  <cp:revision>3</cp:revision>
  <dc:subject/>
  <dc:title>Слайд 1</dc:title>
</cp:coreProperties>
</file>