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37D-A6F1-41BE-B745-689DCAF2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403-31D2-4BCD-8B25-AB299D1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1C1-221F-4997-867C-7936F74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339-6B1A-4012-B3B9-4A89DFE0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A275-8B59-411C-BD3B-976E3E3A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1FD0-52FC-4139-8CDC-6501CFD6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496A-5BCE-415C-99D7-1A49FA7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2CF3-A049-4DFB-904E-82C6D946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C105-9B2F-482A-A9B4-E9A9B08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A3D6-735B-4773-B11A-F4A359A5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5EB-C021-4D9F-A039-2378ACC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BC9-80CB-4F4A-AB6B-A0E5109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7A0-5BC6-4073-BD87-348F83F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9BC4-F826-46EB-A2AB-EBE3FFA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B9EA-E090-4F8D-BFC2-273EE869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3142-7E6A-4FE3-B038-B40E3E92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EDB2-E6AE-4A59-AF92-2895A8DA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DA4-1D15-4DB0-8FCD-EC9D9A00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5B1-76B6-4C57-9134-A38E5E81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9C0-0AFE-4E58-963C-3BEE7D1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6F5-FE48-4F2A-AEBE-05BF82B6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356-37FA-4C55-82AF-1220F8BF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3C1-50D9-46F8-AAB8-7983366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94A-9FCC-4EB2-8877-45DC664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077-1F9F-464C-8B60-45AB3790CE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A00-BDAA-4726-B847-8BA104BAF1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4"/>
          <p:cNvSpPr txBox="1"/>
          <p:nvPr/>
        </p:nvSpPr>
        <p:spPr>
          <a:xfrm>
            <a:off x="684360" y="1268280"/>
            <a:ext cx="74102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Прямоугольник 4"/>
          <p:cNvSpPr/>
          <p:nvPr/>
        </p:nvSpPr>
        <p:spPr>
          <a:xfrm>
            <a:off x="395280" y="1844640"/>
            <a:ext cx="84978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Необычные природны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явления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ентация выполнена учителе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БОУ СОШ № 68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шковой И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иклоны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0" name="Picture 4" descr="циклон512872_779day02"/>
          <p:cNvPicPr/>
          <p:nvPr/>
        </p:nvPicPr>
        <p:blipFill>
          <a:blip r:embed="rId1"/>
          <a:stretch/>
        </p:blipFill>
        <p:spPr>
          <a:xfrm>
            <a:off x="1042920" y="1268280"/>
            <a:ext cx="68914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На минуту в землю вро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Разноцветный чудо-мост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Чудо-мастер смастери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Мост высокий без перил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РАДУГ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возникает радуга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дождя, когда Солнце светит сквозь малюсенькие капельки воды в воздухе, мы видим радугу. Солнечный свет делится на 7 цвет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ToC2XUrtA6ci0ys3deZRS9EM_500"/>
          <p:cNvPicPr/>
          <p:nvPr/>
        </p:nvPicPr>
        <p:blipFill>
          <a:blip r:embed="rId1"/>
          <a:stretch/>
        </p:blipFill>
        <p:spPr>
          <a:xfrm>
            <a:off x="395280" y="12600"/>
            <a:ext cx="842472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ты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ерняя радуга к хорошей погоде, а утренняя- к дождлив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уге больше красного цвета- к ветр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 возникает град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инки формируются постепенно, путём смерзания маленьких капелек воды, которые встречаются в облак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тяжелеют и падают на земл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4" descr="grad_436456"/>
          <p:cNvPicPr/>
          <p:nvPr/>
        </p:nvPicPr>
        <p:blipFill>
          <a:blip r:embed="rId1"/>
          <a:stretch/>
        </p:blipFill>
        <p:spPr>
          <a:xfrm>
            <a:off x="826920" y="1239840"/>
            <a:ext cx="74901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Книги рекордов Гиннеса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крупная градина (1 кг) выпала в Бангладеш в 1986 г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им может быть ветер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лабый ветер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скорость от 3 до 5 метров в секун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редн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от 5 до10 метров в секун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ль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скорость более 15 метров в секунд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евер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тер может принести похолода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Южны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потеп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падн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Восточн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– засуху или ураг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правление вет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6877080" y="2708280"/>
            <a:ext cx="1440000" cy="1152360"/>
          </a:xfrm>
          <a:custGeom>
            <a:avLst/>
            <a:gdLst>
              <a:gd name="textAreaLeft" fmla="*/ 144000 w 1440000"/>
              <a:gd name="textAreaRight" fmla="*/ 1296000 w 1440000"/>
              <a:gd name="textAreaTop" fmla="*/ 460800 h 1152360"/>
              <a:gd name="textAreaBottom" fmla="*/ 691560 h 115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745164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22764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745164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8532720" y="3068640"/>
            <a:ext cx="2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4"/>
          <p:cNvSpPr txBox="1"/>
          <p:nvPr/>
        </p:nvSpPr>
        <p:spPr>
          <a:xfrm>
            <a:off x="2048040" y="1197000"/>
            <a:ext cx="5047920" cy="27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обычные природ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вл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ри и гроз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или шторм – это когда дует очень сильный ветер. В это время обычно идёт проливной дождь или густой снег, иногда бывает и молния с гром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рч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ртящаяся воронка из воздуха. Она втягивает в себя всё, что попадается на её пу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Picture 4" descr="смепч"/>
          <p:cNvPicPr/>
          <p:nvPr/>
        </p:nvPicPr>
        <p:blipFill>
          <a:blip r:embed="rId1"/>
          <a:stretch/>
        </p:blipFill>
        <p:spPr>
          <a:xfrm>
            <a:off x="324000" y="1268280"/>
            <a:ext cx="8243640" cy="5589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смерчцууц"/>
          <p:cNvPicPr/>
          <p:nvPr/>
        </p:nvPicPr>
        <p:blipFill>
          <a:blip r:embed="rId2"/>
          <a:stretch/>
        </p:blipFill>
        <p:spPr>
          <a:xfrm>
            <a:off x="324000" y="1079640"/>
            <a:ext cx="835164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лния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громная искра электрического разряда в небе. Гром – это звук разря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Picture 4" descr="Morozyako_molniya1"/>
          <p:cNvPicPr/>
          <p:nvPr/>
        </p:nvPicPr>
        <p:blipFill>
          <a:blip r:embed="rId1"/>
          <a:stretch/>
        </p:blipFill>
        <p:spPr>
          <a:xfrm>
            <a:off x="611280" y="1197000"/>
            <a:ext cx="7993080" cy="5467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1251840604_01_09_2009_0844088001251831823_tony-yang"/>
          <p:cNvPicPr/>
          <p:nvPr/>
        </p:nvPicPr>
        <p:blipFill>
          <a:blip r:embed="rId2"/>
          <a:stretch/>
        </p:blipFill>
        <p:spPr>
          <a:xfrm>
            <a:off x="539640" y="1285920"/>
            <a:ext cx="8388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бы защитить свои дома от молний, люди придумали специальные устройства -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олниеотводы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4" name="Picture 4" descr="молниеотводL"/>
          <p:cNvPicPr/>
          <p:nvPr/>
        </p:nvPicPr>
        <p:blipFill>
          <a:blip r:embed="rId1"/>
          <a:stretch/>
        </p:blipFill>
        <p:spPr>
          <a:xfrm>
            <a:off x="2195640" y="0"/>
            <a:ext cx="465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раган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очень сильная буря с ливнем. Ураган может разрушить целый город или уничтожить ле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Picture 4" descr="ураган07"/>
          <p:cNvPicPr/>
          <p:nvPr/>
        </p:nvPicPr>
        <p:blipFill>
          <a:blip r:embed="rId1"/>
          <a:stretch/>
        </p:blipFill>
        <p:spPr>
          <a:xfrm>
            <a:off x="468360" y="1197000"/>
            <a:ext cx="8254800" cy="5499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ураган061"/>
          <p:cNvPicPr/>
          <p:nvPr/>
        </p:nvPicPr>
        <p:blipFill>
          <a:blip r:embed="rId2"/>
          <a:stretch/>
        </p:blipFill>
        <p:spPr>
          <a:xfrm>
            <a:off x="0" y="1197000"/>
            <a:ext cx="86914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6:48Z</dcterms:created>
  <dc:creator>Вова</dc:creator>
  <dc:description/>
  <dc:language>en-US</dc:language>
  <cp:lastModifiedBy>USER</cp:lastModifiedBy>
  <dcterms:modified xsi:type="dcterms:W3CDTF">2012-08-04T18:35:22Z</dcterms:modified>
  <cp:revision>4</cp:revision>
  <dc:subject/>
  <dc:title>Слайд 1</dc:title>
</cp:coreProperties>
</file>