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791-6A22-43C3-A4AB-A2A53DBD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C00-9A41-42CF-8216-216E2B41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4E7-E5A8-40F6-976E-1AF2D422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052-A51B-4DF6-995D-B200A36E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935D-8D4C-4BEF-AFA5-CE345212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40EC-1479-49BB-908B-7036BC27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C3A7-2056-471D-9A8C-0F3A640D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0F25-76BC-4A02-B3B4-6133FA1B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D477-5DBB-48D1-8008-50651646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E1C8-7580-4892-9293-EDDDC1A3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8F1D-F083-4384-8542-644226A9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8BB-D6BE-44BF-9CB1-3FB23EFF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282A-7EDE-42FA-9CAB-C238CC86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9F40-EF35-41F4-92ED-20F1290F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BBC4-22D3-4206-8548-D55567E7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EF3D-89F8-4892-B5EC-3004C04B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8458-FBBB-4EE5-86D6-972ECC1F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BC6-994B-4598-A5F5-9E7EE3A8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833-E19F-4F9B-B733-AB9C4867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7BB-32F0-414B-B4B9-1F60076E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136-763F-4929-ADDF-59623FE5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9D0-2D5B-45E6-913A-63D5B49A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042-D93C-4970-B3B0-2CE9582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E0B-993A-45A1-BD83-19AE6843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3B28-C17A-44A3-8880-1BD3F3EB1C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FEE0-1C40-4A14-8738-FC45FB61EE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4"/>
          <p:cNvSpPr txBox="1"/>
          <p:nvPr/>
        </p:nvSpPr>
        <p:spPr>
          <a:xfrm>
            <a:off x="684360" y="1268280"/>
            <a:ext cx="74102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Прямоугольник 4"/>
          <p:cNvSpPr/>
          <p:nvPr/>
        </p:nvSpPr>
        <p:spPr>
          <a:xfrm>
            <a:off x="395280" y="1844640"/>
            <a:ext cx="84978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Необычные природны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явления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ентация выполнена учителе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БОУ СОШ № 68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шковой И.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иклоны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0" name="Picture 4" descr="циклон512872_779day02"/>
          <p:cNvPicPr/>
          <p:nvPr/>
        </p:nvPicPr>
        <p:blipFill>
          <a:blip r:embed="rId1"/>
          <a:stretch/>
        </p:blipFill>
        <p:spPr>
          <a:xfrm>
            <a:off x="1042920" y="1268280"/>
            <a:ext cx="689148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На минуту в землю вро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Разноцветный чудо-мост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удо-мастер смастери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Мост высокий без перил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РАДУГ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 возникает радуга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дождя, когда Солнце светит сквозь малюсенькие капельки воды в воздухе, мы видим радугу. Солнечный свет делится на 7 цвет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ToC2XUrtA6ci0ys3deZRS9EM_500"/>
          <p:cNvPicPr/>
          <p:nvPr/>
        </p:nvPicPr>
        <p:blipFill>
          <a:blip r:embed="rId1"/>
          <a:stretch/>
        </p:blipFill>
        <p:spPr>
          <a:xfrm>
            <a:off x="395280" y="12600"/>
            <a:ext cx="842472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ты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ерняя радуга к хорошей погоде, а утренняя- к дождлив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уге больше красного цвета- к ветр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 возникает град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адинки формируются постепенно, путём смерзания маленьких капелек воды, которые встречаются в облак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тяжелеют и падают на земл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4" descr="grad_436456"/>
          <p:cNvPicPr/>
          <p:nvPr/>
        </p:nvPicPr>
        <p:blipFill>
          <a:blip r:embed="rId1"/>
          <a:stretch/>
        </p:blipFill>
        <p:spPr>
          <a:xfrm>
            <a:off x="826920" y="1239840"/>
            <a:ext cx="74901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з Книги рекордов Гиннеса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крупная градина (1 кг) выпала в Бангладеш в 1986 го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им может быть ветер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лабый ветер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скорость от 3 до 5 метров в секунд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редни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от 5 до10 метров в секунд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скорость более 15 метров в секунд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евер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етер может принести похолода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Юж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потеп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падный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– осад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осточный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– засуху или ураг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правление ветр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6877080" y="2708280"/>
            <a:ext cx="1440000" cy="1152360"/>
          </a:xfrm>
          <a:custGeom>
            <a:avLst/>
            <a:gdLst>
              <a:gd name="textAreaLeft" fmla="*/ 144000 w 1440000"/>
              <a:gd name="textAreaRight" fmla="*/ 1296000 w 1440000"/>
              <a:gd name="textAreaTop" fmla="*/ 460800 h 1152360"/>
              <a:gd name="textAreaBottom" fmla="*/ 691560 h 1152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451640" y="20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622764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7451640" y="39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8532720" y="3068640"/>
            <a:ext cx="2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4"/>
          <p:cNvSpPr txBox="1"/>
          <p:nvPr/>
        </p:nvSpPr>
        <p:spPr>
          <a:xfrm>
            <a:off x="2048040" y="1197000"/>
            <a:ext cx="5047920" cy="27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обычные природны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вл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ри и грозы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или шторм – это когда дует очень сильный ветер. В это время обычно идёт проливной дождь или густой снег, иногда бывает и молния с гром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ерч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вертящаяся воронка из воздуха. Она втягивает в себя всё, что попадается на её пу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4" descr="смепч"/>
          <p:cNvPicPr/>
          <p:nvPr/>
        </p:nvPicPr>
        <p:blipFill>
          <a:blip r:embed="rId1"/>
          <a:stretch/>
        </p:blipFill>
        <p:spPr>
          <a:xfrm>
            <a:off x="324000" y="1268280"/>
            <a:ext cx="8243640" cy="5589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смерчцууц"/>
          <p:cNvPicPr/>
          <p:nvPr/>
        </p:nvPicPr>
        <p:blipFill>
          <a:blip r:embed="rId2"/>
          <a:stretch/>
        </p:blipFill>
        <p:spPr>
          <a:xfrm>
            <a:off x="324000" y="1079640"/>
            <a:ext cx="83516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лния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огромная искра электрического разряда в небе. Гром – это звук разря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4" descr="Morozyako_molniya1"/>
          <p:cNvPicPr/>
          <p:nvPr/>
        </p:nvPicPr>
        <p:blipFill>
          <a:blip r:embed="rId1"/>
          <a:stretch/>
        </p:blipFill>
        <p:spPr>
          <a:xfrm>
            <a:off x="611280" y="1197000"/>
            <a:ext cx="7993080" cy="54673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1251840604_01_09_2009_0844088001251831823_tony-yang"/>
          <p:cNvPicPr/>
          <p:nvPr/>
        </p:nvPicPr>
        <p:blipFill>
          <a:blip r:embed="rId2"/>
          <a:stretch/>
        </p:blipFill>
        <p:spPr>
          <a:xfrm>
            <a:off x="539640" y="1285920"/>
            <a:ext cx="83883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бы защитить свои дома от молний, люди придумали специальные устройства -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олниеотводы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4" descr="молниеотводL"/>
          <p:cNvPicPr/>
          <p:nvPr/>
        </p:nvPicPr>
        <p:blipFill>
          <a:blip r:embed="rId1"/>
          <a:stretch/>
        </p:blipFill>
        <p:spPr>
          <a:xfrm>
            <a:off x="2195640" y="0"/>
            <a:ext cx="465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раган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очень сильная буря с ливнем. Ураган может разрушить целый город или уничтожить ле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Picture 4" descr="ураган07"/>
          <p:cNvPicPr/>
          <p:nvPr/>
        </p:nvPicPr>
        <p:blipFill>
          <a:blip r:embed="rId1"/>
          <a:stretch/>
        </p:blipFill>
        <p:spPr>
          <a:xfrm>
            <a:off x="468360" y="1197000"/>
            <a:ext cx="8254800" cy="5499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ураган061"/>
          <p:cNvPicPr/>
          <p:nvPr/>
        </p:nvPicPr>
        <p:blipFill>
          <a:blip r:embed="rId2"/>
          <a:stretch/>
        </p:blipFill>
        <p:spPr>
          <a:xfrm>
            <a:off x="0" y="1197000"/>
            <a:ext cx="86914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46:48Z</dcterms:created>
  <dc:creator>Вова</dc:creator>
  <dc:description/>
  <dc:language>en-US</dc:language>
  <cp:lastModifiedBy>USER</cp:lastModifiedBy>
  <dcterms:modified xsi:type="dcterms:W3CDTF">2012-08-04T18:35:22Z</dcterms:modified>
  <cp:revision>4</cp:revision>
  <dc:subject/>
  <dc:title>Слайд 1</dc:title>
</cp:coreProperties>
</file>