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9.jpeg" ContentType="image/jpeg"/>
  <Override PartName="/ppt/media/image7.png" ContentType="image/pn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D8E9E-0D0E-4B7C-AE73-89503202B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0FB7E-4027-4E72-BE70-ABAA91BB7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B1C5A-69C6-427B-99FE-9DED6646D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43891-EC43-42CC-A7FE-42358FC4A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954DF-AD8C-4FF4-8D10-792915F92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CA8C1-D9B5-40E3-AB40-40F0D5949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A839A-201C-464D-B6B1-CBD765C99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E8284-38F9-412A-8C16-56A223940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091BB-AEFB-4052-AF50-29F7AC6A4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86C14-0F42-4117-B668-36A5DE1D4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C6399-7C08-4276-8591-2025B1477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389BD-127F-43CF-8963-3B180BDDA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F824B-C12B-4646-938F-EA1CF4C6CC31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900000" y="1413000"/>
            <a:ext cx="7775640" cy="23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кружающий мир 3 класс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Тема:"Прогноз погоды"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Барометр</a:t>
            </a: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" name="Picture 4" descr="барометр0"/>
          <p:cNvPicPr/>
          <p:nvPr/>
        </p:nvPicPr>
        <p:blipFill>
          <a:blip r:embed="rId1"/>
          <a:stretch/>
        </p:blipFill>
        <p:spPr>
          <a:xfrm>
            <a:off x="2050920" y="1341360"/>
            <a:ext cx="4457880" cy="527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94920" y="1484280"/>
            <a:ext cx="851076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00"/>
                </a:solidFill>
                <a:latin typeface="Arial"/>
              </a:rPr>
              <a:t>Для предсказаний изменений погоды люди наблюдали растения и животных</a:t>
            </a:r>
            <a:endParaRPr b="0" lang="en-US" sz="48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250920" y="188640"/>
            <a:ext cx="854064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тарайся наблюда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азличные приметы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астух и земледе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младенческие леты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зглянув на небеса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 западную тень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меют уж предреч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 ветр, и ясный день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 майские дожди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ладых полей отраду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 мразов ранних лад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пасный виноград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                                                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А.С.Пушки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WordArt 4"/>
          <p:cNvSpPr txBox="1"/>
          <p:nvPr/>
        </p:nvSpPr>
        <p:spPr>
          <a:xfrm>
            <a:off x="1619280" y="1484280"/>
            <a:ext cx="6408720" cy="2206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"Живые барометры"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Притихает</a:t>
            </a: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перед дождём</a:t>
            </a: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лес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" name="Picture 4" descr="осень16c8585b89ce125cd5c0d70"/>
          <p:cNvPicPr/>
          <p:nvPr/>
        </p:nvPicPr>
        <p:blipFill>
          <a:blip r:embed="rId1"/>
          <a:stretch/>
        </p:blipFill>
        <p:spPr>
          <a:xfrm>
            <a:off x="1908000" y="1844640"/>
            <a:ext cx="5239080" cy="40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Если кошка ищет место потеплее и сворачивается - можно ожидать</a:t>
            </a: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похолодание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69" name="Picture 4" descr="0_8671_ea6b9d74_XL"/>
          <p:cNvPicPr/>
          <p:nvPr/>
        </p:nvPicPr>
        <p:blipFill>
          <a:blip r:embed="rId1"/>
          <a:stretch/>
        </p:blipFill>
        <p:spPr>
          <a:xfrm>
            <a:off x="1692360" y="1989000"/>
            <a:ext cx="5465520" cy="40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Раки </a:t>
            </a: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перед дождём</a:t>
            </a: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 выползают на берег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71" name="Picture 4" descr="Rak1"/>
          <p:cNvPicPr/>
          <p:nvPr/>
        </p:nvPicPr>
        <p:blipFill>
          <a:blip r:embed="rId1"/>
          <a:stretch/>
        </p:blipFill>
        <p:spPr>
          <a:xfrm>
            <a:off x="1763640" y="1989000"/>
            <a:ext cx="5681880" cy="42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4000" y="83664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Пчёлы перестают летать за нектаром, бабочки крапивницы</a:t>
            </a:r>
            <a:br>
              <a:rPr sz="4000"/>
            </a:b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не порхают над цветами – </a:t>
            </a: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быть</a:t>
            </a: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4000"/>
            </a:b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дождю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73" name="Picture 4" descr="1252397986_018a"/>
          <p:cNvPicPr/>
          <p:nvPr/>
        </p:nvPicPr>
        <p:blipFill>
          <a:blip r:embed="rId1"/>
          <a:stretch/>
        </p:blipFill>
        <p:spPr>
          <a:xfrm>
            <a:off x="4572000" y="3284640"/>
            <a:ext cx="4572000" cy="31687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5" descr="post-39638-1201378576"/>
          <p:cNvPicPr/>
          <p:nvPr/>
        </p:nvPicPr>
        <p:blipFill>
          <a:blip r:embed="rId2"/>
          <a:stretch/>
        </p:blipFill>
        <p:spPr>
          <a:xfrm>
            <a:off x="0" y="3284640"/>
            <a:ext cx="4284720" cy="32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Пауки плетут новые сети – </a:t>
            </a: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к хорошей погоде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76" name="Picture 4" descr="spider_vdg"/>
          <p:cNvPicPr/>
          <p:nvPr/>
        </p:nvPicPr>
        <p:blipFill>
          <a:blip r:embed="rId1"/>
          <a:stretch/>
        </p:blipFill>
        <p:spPr>
          <a:xfrm>
            <a:off x="1979640" y="1916280"/>
            <a:ext cx="5473800" cy="40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Многие растения складывают лепестки цветов</a:t>
            </a: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перед дождём.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78" name="Picture 4" descr="1"/>
          <p:cNvPicPr/>
          <p:nvPr/>
        </p:nvPicPr>
        <p:blipFill>
          <a:blip r:embed="rId1"/>
          <a:stretch/>
        </p:blipFill>
        <p:spPr>
          <a:xfrm>
            <a:off x="1547640" y="2349360"/>
            <a:ext cx="5524560" cy="387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301680" y="1196640"/>
            <a:ext cx="8540640" cy="49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В древности очень ценились люди,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способные предсказывать предстоящие изменения погоды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Пузыри на лужах во время дождя</a:t>
            </a: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 – </a:t>
            </a: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дождь долгий</a:t>
            </a: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1" name="Picture 4" descr="x_99a718d7"/>
          <p:cNvPicPr/>
          <p:nvPr/>
        </p:nvPicPr>
        <p:blipFill>
          <a:blip r:embed="rId1"/>
          <a:stretch/>
        </p:blipFill>
        <p:spPr>
          <a:xfrm>
            <a:off x="1332000" y="1628640"/>
            <a:ext cx="570528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50920" y="404280"/>
            <a:ext cx="8510400" cy="132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Работа выполнена учителем ГБОУ СОШ 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№ 687города Москвы Яшковой И.В.</a:t>
            </a:r>
            <a:endParaRPr b="0" lang="en-US" sz="32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Возможность предсказания </a:t>
            </a:r>
            <a:br>
              <a:rPr sz="3600"/>
            </a:b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изменений погоды по результатам</a:t>
            </a:r>
            <a:br>
              <a:rPr sz="3600"/>
            </a:b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наблюдений за</a:t>
            </a: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остоянием неб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правлением и силой ветр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садкам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лажностью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емпературо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авлением воздух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WordArt 4"/>
          <p:cNvSpPr txBox="1"/>
          <p:nvPr/>
        </p:nvSpPr>
        <p:spPr>
          <a:xfrm>
            <a:off x="755640" y="1125360"/>
            <a:ext cx="6945480" cy="2565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Метеорологические приборы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Флюгер</a:t>
            </a: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47" name="Picture 4" descr="fluger007"/>
          <p:cNvPicPr/>
          <p:nvPr/>
        </p:nvPicPr>
        <p:blipFill>
          <a:blip r:embed="rId1"/>
          <a:stretch/>
        </p:blipFill>
        <p:spPr>
          <a:xfrm>
            <a:off x="324000" y="1484280"/>
            <a:ext cx="3260520" cy="47242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" descr="флюгер0"/>
          <p:cNvPicPr/>
          <p:nvPr/>
        </p:nvPicPr>
        <p:blipFill>
          <a:blip r:embed="rId2"/>
          <a:stretch/>
        </p:blipFill>
        <p:spPr>
          <a:xfrm>
            <a:off x="4859280" y="1268280"/>
            <a:ext cx="3906720" cy="520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Термометр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50" name="Picture 4" descr="термометр для воздухаm1-isp-14"/>
          <p:cNvPicPr/>
          <p:nvPr/>
        </p:nvPicPr>
        <p:blipFill>
          <a:blip r:embed="rId1"/>
          <a:stretch/>
        </p:blipFill>
        <p:spPr>
          <a:xfrm>
            <a:off x="2771640" y="1341360"/>
            <a:ext cx="350676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Ветромер</a:t>
            </a: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52" name="Picture 4" descr="ветрометр19"/>
          <p:cNvPicPr/>
          <p:nvPr/>
        </p:nvPicPr>
        <p:blipFill>
          <a:blip r:embed="rId1"/>
          <a:stretch/>
        </p:blipFill>
        <p:spPr>
          <a:xfrm>
            <a:off x="900000" y="1773360"/>
            <a:ext cx="3333960" cy="41241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ветрометрometr"/>
          <p:cNvPicPr/>
          <p:nvPr/>
        </p:nvPicPr>
        <p:blipFill>
          <a:blip r:embed="rId2"/>
          <a:stretch/>
        </p:blipFill>
        <p:spPr>
          <a:xfrm>
            <a:off x="5076720" y="1557360"/>
            <a:ext cx="2933640" cy="51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Влагомер</a:t>
            </a: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55" name="Picture 4" descr="влагометрavd_6100"/>
          <p:cNvPicPr/>
          <p:nvPr/>
        </p:nvPicPr>
        <p:blipFill>
          <a:blip r:embed="rId1"/>
          <a:stretch/>
        </p:blipFill>
        <p:spPr>
          <a:xfrm>
            <a:off x="1835280" y="1557360"/>
            <a:ext cx="60958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Осадкомер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57" name="Picture 4" descr="осадкомерr"/>
          <p:cNvPicPr/>
          <p:nvPr/>
        </p:nvPicPr>
        <p:blipFill>
          <a:blip r:embed="rId1"/>
          <a:stretch/>
        </p:blipFill>
        <p:spPr>
          <a:xfrm>
            <a:off x="250920" y="1197000"/>
            <a:ext cx="3774960" cy="56610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5" descr="осадкомерmer O-1"/>
          <p:cNvPicPr/>
          <p:nvPr/>
        </p:nvPicPr>
        <p:blipFill>
          <a:blip r:embed="rId2"/>
          <a:stretch/>
        </p:blipFill>
        <p:spPr>
          <a:xfrm>
            <a:off x="4500720" y="1413000"/>
            <a:ext cx="4448160" cy="39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6T16:12:44Z</dcterms:created>
  <dc:creator>Вова</dc:creator>
  <dc:description/>
  <dc:language>en-US</dc:language>
  <cp:lastModifiedBy>И В. Яшкова</cp:lastModifiedBy>
  <dcterms:modified xsi:type="dcterms:W3CDTF">2012-08-03T12:28:30Z</dcterms:modified>
  <cp:revision>4</cp:revision>
  <dc:subject/>
  <dc:title>Слайд 1</dc:title>
</cp:coreProperties>
</file>