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F31F-061D-43DD-A961-E118C399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5071-6494-4377-B2A7-B2E3F8ED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C87-4C76-4912-97B0-57946275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257-85F3-4F84-9F51-593B9DC4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B09F-D3F1-451D-8524-B9B93CA7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ACBB-EB41-411F-A788-E0B9124F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FA4-6BC4-433D-8E5F-27FD24C8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0AA-8BA6-4FB3-A832-035C8B77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6A1-E73E-4906-BC13-885A6D85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6E2-25EF-45E0-B8A0-05938B49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C3D0-B032-42AB-A777-D118E476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89BA-D5CE-415F-A581-B244386F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4129-AB80-43DE-9575-0E8105DDB7C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ОУ СОШ № 8 г.Сергиева Посада Сахарова Людмила Евген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FD4A-C3B3-41C5-9236-305545F096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2 из 136000"/>
          <p:cNvPicPr/>
          <p:nvPr/>
        </p:nvPicPr>
        <p:blipFill>
          <a:blip r:embed="rId1"/>
          <a:srcRect l="3767" t="3585" r="865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Прогноз погод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ижний колонтитул 5"/>
          <p:cNvSpPr/>
          <p:nvPr/>
        </p:nvSpPr>
        <p:spPr>
          <a:xfrm>
            <a:off x="1979640" y="3860640"/>
            <a:ext cx="583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ГБОУ СОШ № 687 г.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Яшков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Сообщение о погоде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сегодняшнего д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Группа 4"/>
          <p:cNvGrpSpPr/>
          <p:nvPr/>
        </p:nvGrpSpPr>
        <p:grpSpPr>
          <a:xfrm>
            <a:off x="684360" y="1916280"/>
            <a:ext cx="7488000" cy="4752720"/>
            <a:chOff x="684360" y="1916280"/>
            <a:chExt cx="7488000" cy="4752720"/>
          </a:xfrm>
        </p:grpSpPr>
        <p:sp>
          <p:nvSpPr>
            <p:cNvPr id="92" name="Прямоугольник 2"/>
            <p:cNvSpPr/>
            <p:nvPr/>
          </p:nvSpPr>
          <p:spPr>
            <a:xfrm>
              <a:off x="684360" y="1916280"/>
              <a:ext cx="7488000" cy="4752720"/>
            </a:xfrm>
            <a:prstGeom prst="rect">
              <a:avLst/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Calibri"/>
                </a:rPr>
                <a:t>Тема урока: </a:t>
              </a:r>
              <a:r>
                <a:rPr b="1" lang="ru-RU" sz="4400" spc="-1" strike="noStrike">
                  <a:solidFill>
                    <a:srgbClr val="7030a0"/>
                  </a:solidFill>
                  <a:latin typeface="Calibri"/>
                </a:rPr>
                <a:t>«Прогноз погоды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7030a0"/>
                  </a:solidFill>
                  <a:latin typeface="Calibri"/>
                </a:rPr>
                <a:t>Предсказывание погоды в древности»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Картинка 10 из 123537"/>
            <p:cNvPicPr/>
            <p:nvPr/>
          </p:nvPicPr>
          <p:blipFill>
            <a:blip r:embed="rId1"/>
            <a:stretch/>
          </p:blipFill>
          <p:spPr>
            <a:xfrm>
              <a:off x="2340360" y="4076640"/>
              <a:ext cx="3672000" cy="244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Картинка 40 из 85714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гноз пог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Группа 11"/>
          <p:cNvGrpSpPr/>
          <p:nvPr/>
        </p:nvGrpSpPr>
        <p:grpSpPr>
          <a:xfrm>
            <a:off x="250920" y="1125360"/>
            <a:ext cx="8642160" cy="3834000"/>
            <a:chOff x="250920" y="1125360"/>
            <a:chExt cx="8642160" cy="3834000"/>
          </a:xfrm>
        </p:grpSpPr>
        <p:sp>
          <p:nvSpPr>
            <p:cNvPr id="98" name="Полилиния 10"/>
            <p:cNvSpPr/>
            <p:nvPr/>
          </p:nvSpPr>
          <p:spPr>
            <a:xfrm>
              <a:off x="2066760" y="1125360"/>
              <a:ext cx="5332320" cy="3488040"/>
            </a:xfrm>
            <a:custGeom>
              <a:avLst/>
              <a:gdLst/>
              <a:ahLst/>
              <a:rect l="l" t="t" r="r" b="b"/>
              <a:pathLst>
                <a:path w="5331655" h="3488788">
                  <a:moveTo>
                    <a:pt x="562707" y="42203"/>
                  </a:moveTo>
                  <a:cubicBezTo>
                    <a:pt x="558018" y="65649"/>
                    <a:pt x="558059" y="90564"/>
                    <a:pt x="548640" y="112541"/>
                  </a:cubicBezTo>
                  <a:cubicBezTo>
                    <a:pt x="543415" y="124732"/>
                    <a:pt x="528790" y="130320"/>
                    <a:pt x="520504" y="140677"/>
                  </a:cubicBezTo>
                  <a:cubicBezTo>
                    <a:pt x="474227" y="198524"/>
                    <a:pt x="517106" y="174634"/>
                    <a:pt x="450166" y="196948"/>
                  </a:cubicBezTo>
                  <a:cubicBezTo>
                    <a:pt x="440788" y="211016"/>
                    <a:pt x="429592" y="224029"/>
                    <a:pt x="422031" y="239151"/>
                  </a:cubicBezTo>
                  <a:cubicBezTo>
                    <a:pt x="415399" y="252414"/>
                    <a:pt x="418449" y="270869"/>
                    <a:pt x="407963" y="281354"/>
                  </a:cubicBezTo>
                  <a:cubicBezTo>
                    <a:pt x="397478" y="291839"/>
                    <a:pt x="379828" y="290732"/>
                    <a:pt x="365760" y="295421"/>
                  </a:cubicBezTo>
                  <a:cubicBezTo>
                    <a:pt x="332431" y="328750"/>
                    <a:pt x="297262" y="360240"/>
                    <a:pt x="281354" y="407963"/>
                  </a:cubicBezTo>
                  <a:cubicBezTo>
                    <a:pt x="276665" y="422031"/>
                    <a:pt x="273918" y="436903"/>
                    <a:pt x="267286" y="450166"/>
                  </a:cubicBezTo>
                  <a:cubicBezTo>
                    <a:pt x="249539" y="485661"/>
                    <a:pt x="237186" y="494334"/>
                    <a:pt x="211015" y="520504"/>
                  </a:cubicBezTo>
                  <a:cubicBezTo>
                    <a:pt x="201637" y="558018"/>
                    <a:pt x="195108" y="596362"/>
                    <a:pt x="182880" y="633046"/>
                  </a:cubicBezTo>
                  <a:cubicBezTo>
                    <a:pt x="178191" y="647114"/>
                    <a:pt x="175444" y="661986"/>
                    <a:pt x="168812" y="675249"/>
                  </a:cubicBezTo>
                  <a:cubicBezTo>
                    <a:pt x="151065" y="710742"/>
                    <a:pt x="138711" y="719418"/>
                    <a:pt x="112541" y="745588"/>
                  </a:cubicBezTo>
                  <a:cubicBezTo>
                    <a:pt x="103163" y="773723"/>
                    <a:pt x="100857" y="805318"/>
                    <a:pt x="84406" y="829994"/>
                  </a:cubicBezTo>
                  <a:cubicBezTo>
                    <a:pt x="75028" y="844062"/>
                    <a:pt x="63832" y="857075"/>
                    <a:pt x="56271" y="872197"/>
                  </a:cubicBezTo>
                  <a:cubicBezTo>
                    <a:pt x="45027" y="894685"/>
                    <a:pt x="34145" y="949635"/>
                    <a:pt x="28135" y="970671"/>
                  </a:cubicBezTo>
                  <a:cubicBezTo>
                    <a:pt x="24061" y="984929"/>
                    <a:pt x="18756" y="998806"/>
                    <a:pt x="14067" y="1012874"/>
                  </a:cubicBezTo>
                  <a:cubicBezTo>
                    <a:pt x="23446" y="1022252"/>
                    <a:pt x="41835" y="1027751"/>
                    <a:pt x="42203" y="1041009"/>
                  </a:cubicBezTo>
                  <a:cubicBezTo>
                    <a:pt x="46632" y="1200450"/>
                    <a:pt x="36744" y="1360041"/>
                    <a:pt x="28135" y="1519311"/>
                  </a:cubicBezTo>
                  <a:cubicBezTo>
                    <a:pt x="27335" y="1534118"/>
                    <a:pt x="18141" y="1547256"/>
                    <a:pt x="14067" y="1561514"/>
                  </a:cubicBezTo>
                  <a:cubicBezTo>
                    <a:pt x="8756" y="1580104"/>
                    <a:pt x="4689" y="1599027"/>
                    <a:pt x="0" y="1617784"/>
                  </a:cubicBezTo>
                  <a:cubicBezTo>
                    <a:pt x="4689" y="1763150"/>
                    <a:pt x="6804" y="1908623"/>
                    <a:pt x="14067" y="2053883"/>
                  </a:cubicBezTo>
                  <a:cubicBezTo>
                    <a:pt x="23896" y="2250460"/>
                    <a:pt x="16759" y="2120921"/>
                    <a:pt x="42203" y="2222695"/>
                  </a:cubicBezTo>
                  <a:cubicBezTo>
                    <a:pt x="48002" y="2245892"/>
                    <a:pt x="49980" y="2269966"/>
                    <a:pt x="56271" y="2293034"/>
                  </a:cubicBezTo>
                  <a:cubicBezTo>
                    <a:pt x="64074" y="2321646"/>
                    <a:pt x="67955" y="2352764"/>
                    <a:pt x="84406" y="2377440"/>
                  </a:cubicBezTo>
                  <a:cubicBezTo>
                    <a:pt x="93784" y="2391508"/>
                    <a:pt x="104980" y="2404521"/>
                    <a:pt x="112541" y="2419643"/>
                  </a:cubicBezTo>
                  <a:cubicBezTo>
                    <a:pt x="124361" y="2443283"/>
                    <a:pt x="133916" y="2495579"/>
                    <a:pt x="140677" y="2518117"/>
                  </a:cubicBezTo>
                  <a:cubicBezTo>
                    <a:pt x="149199" y="2546523"/>
                    <a:pt x="162996" y="2573442"/>
                    <a:pt x="168812" y="2602523"/>
                  </a:cubicBezTo>
                  <a:cubicBezTo>
                    <a:pt x="173501" y="2625969"/>
                    <a:pt x="177081" y="2649665"/>
                    <a:pt x="182880" y="2672861"/>
                  </a:cubicBezTo>
                  <a:cubicBezTo>
                    <a:pt x="186476" y="2687247"/>
                    <a:pt x="194039" y="2700523"/>
                    <a:pt x="196947" y="2715064"/>
                  </a:cubicBezTo>
                  <a:cubicBezTo>
                    <a:pt x="208135" y="2771003"/>
                    <a:pt x="193439" y="2836411"/>
                    <a:pt x="225083" y="2883877"/>
                  </a:cubicBezTo>
                  <a:cubicBezTo>
                    <a:pt x="267932" y="2948151"/>
                    <a:pt x="241263" y="2914125"/>
                    <a:pt x="309489" y="2982351"/>
                  </a:cubicBezTo>
                  <a:cubicBezTo>
                    <a:pt x="323557" y="2996419"/>
                    <a:pt x="340657" y="3008001"/>
                    <a:pt x="351692" y="3024554"/>
                  </a:cubicBezTo>
                  <a:cubicBezTo>
                    <a:pt x="361070" y="3038622"/>
                    <a:pt x="366625" y="3056195"/>
                    <a:pt x="379827" y="3066757"/>
                  </a:cubicBezTo>
                  <a:cubicBezTo>
                    <a:pt x="391406" y="3076020"/>
                    <a:pt x="407963" y="3076135"/>
                    <a:pt x="422031" y="3080824"/>
                  </a:cubicBezTo>
                  <a:cubicBezTo>
                    <a:pt x="455359" y="3114153"/>
                    <a:pt x="486850" y="3149325"/>
                    <a:pt x="534572" y="3165231"/>
                  </a:cubicBezTo>
                  <a:lnTo>
                    <a:pt x="576775" y="3179298"/>
                  </a:lnTo>
                  <a:cubicBezTo>
                    <a:pt x="590843" y="3188677"/>
                    <a:pt x="603438" y="3200774"/>
                    <a:pt x="618978" y="3207434"/>
                  </a:cubicBezTo>
                  <a:cubicBezTo>
                    <a:pt x="646474" y="3219218"/>
                    <a:pt x="739453" y="3231896"/>
                    <a:pt x="759655" y="3235569"/>
                  </a:cubicBezTo>
                  <a:cubicBezTo>
                    <a:pt x="783180" y="3239846"/>
                    <a:pt x="806409" y="3245706"/>
                    <a:pt x="829994" y="3249637"/>
                  </a:cubicBezTo>
                  <a:cubicBezTo>
                    <a:pt x="888216" y="3259341"/>
                    <a:pt x="984132" y="3270662"/>
                    <a:pt x="1041009" y="3277772"/>
                  </a:cubicBezTo>
                  <a:cubicBezTo>
                    <a:pt x="1055077" y="3282461"/>
                    <a:pt x="1068671" y="3288932"/>
                    <a:pt x="1083212" y="3291840"/>
                  </a:cubicBezTo>
                  <a:cubicBezTo>
                    <a:pt x="1214892" y="3318176"/>
                    <a:pt x="1254143" y="3320210"/>
                    <a:pt x="1378634" y="3334043"/>
                  </a:cubicBezTo>
                  <a:cubicBezTo>
                    <a:pt x="1565454" y="3396316"/>
                    <a:pt x="1433411" y="3360890"/>
                    <a:pt x="1786597" y="3376246"/>
                  </a:cubicBezTo>
                  <a:cubicBezTo>
                    <a:pt x="1814732" y="3380935"/>
                    <a:pt x="1843159" y="3384126"/>
                    <a:pt x="1871003" y="3390314"/>
                  </a:cubicBezTo>
                  <a:cubicBezTo>
                    <a:pt x="1885478" y="3393531"/>
                    <a:pt x="1898665" y="3401473"/>
                    <a:pt x="1913206" y="3404381"/>
                  </a:cubicBezTo>
                  <a:cubicBezTo>
                    <a:pt x="1945720" y="3410884"/>
                    <a:pt x="1979057" y="3412517"/>
                    <a:pt x="2011680" y="3418449"/>
                  </a:cubicBezTo>
                  <a:cubicBezTo>
                    <a:pt x="2030702" y="3421908"/>
                    <a:pt x="2048689" y="3430842"/>
                    <a:pt x="2067951" y="3432517"/>
                  </a:cubicBezTo>
                  <a:cubicBezTo>
                    <a:pt x="2666749" y="3484586"/>
                    <a:pt x="2050176" y="3414745"/>
                    <a:pt x="2532184" y="3460652"/>
                  </a:cubicBezTo>
                  <a:cubicBezTo>
                    <a:pt x="2565193" y="3463796"/>
                    <a:pt x="2597682" y="3471249"/>
                    <a:pt x="2630658" y="3474720"/>
                  </a:cubicBezTo>
                  <a:cubicBezTo>
                    <a:pt x="2686814" y="3480631"/>
                    <a:pt x="2743200" y="3484099"/>
                    <a:pt x="2799471" y="3488788"/>
                  </a:cubicBezTo>
                  <a:cubicBezTo>
                    <a:pt x="2893255" y="3484099"/>
                    <a:pt x="2987222" y="3482208"/>
                    <a:pt x="3080824" y="3474720"/>
                  </a:cubicBezTo>
                  <a:cubicBezTo>
                    <a:pt x="3104659" y="3472813"/>
                    <a:pt x="3127530" y="3464288"/>
                    <a:pt x="3151163" y="3460652"/>
                  </a:cubicBezTo>
                  <a:cubicBezTo>
                    <a:pt x="3372624" y="3426580"/>
                    <a:pt x="3172750" y="3464774"/>
                    <a:pt x="3334043" y="3432517"/>
                  </a:cubicBezTo>
                  <a:cubicBezTo>
                    <a:pt x="3348111" y="3423138"/>
                    <a:pt x="3360357" y="3410159"/>
                    <a:pt x="3376246" y="3404381"/>
                  </a:cubicBezTo>
                  <a:cubicBezTo>
                    <a:pt x="3442664" y="3380229"/>
                    <a:pt x="3505080" y="3374562"/>
                    <a:pt x="3573194" y="3362178"/>
                  </a:cubicBezTo>
                  <a:cubicBezTo>
                    <a:pt x="3763314" y="3327611"/>
                    <a:pt x="3555580" y="3366582"/>
                    <a:pt x="3685735" y="3334043"/>
                  </a:cubicBezTo>
                  <a:cubicBezTo>
                    <a:pt x="3708932" y="3328244"/>
                    <a:pt x="3732628" y="3324664"/>
                    <a:pt x="3756074" y="3319975"/>
                  </a:cubicBezTo>
                  <a:cubicBezTo>
                    <a:pt x="3945340" y="3225342"/>
                    <a:pt x="3664523" y="3359581"/>
                    <a:pt x="3882683" y="3277772"/>
                  </a:cubicBezTo>
                  <a:cubicBezTo>
                    <a:pt x="3898514" y="3271836"/>
                    <a:pt x="3909764" y="3257198"/>
                    <a:pt x="3924886" y="3249637"/>
                  </a:cubicBezTo>
                  <a:cubicBezTo>
                    <a:pt x="3938149" y="3243005"/>
                    <a:pt x="3953459" y="3241410"/>
                    <a:pt x="3967089" y="3235569"/>
                  </a:cubicBezTo>
                  <a:cubicBezTo>
                    <a:pt x="4069012" y="3191888"/>
                    <a:pt x="3975129" y="3217080"/>
                    <a:pt x="4093698" y="3193366"/>
                  </a:cubicBezTo>
                  <a:cubicBezTo>
                    <a:pt x="4112455" y="3183988"/>
                    <a:pt x="4130498" y="3173019"/>
                    <a:pt x="4149969" y="3165231"/>
                  </a:cubicBezTo>
                  <a:cubicBezTo>
                    <a:pt x="4177505" y="3154217"/>
                    <a:pt x="4209699" y="3153546"/>
                    <a:pt x="4234375" y="3137095"/>
                  </a:cubicBezTo>
                  <a:cubicBezTo>
                    <a:pt x="4262510" y="3118338"/>
                    <a:pt x="4294870" y="3104734"/>
                    <a:pt x="4318781" y="3080824"/>
                  </a:cubicBezTo>
                  <a:cubicBezTo>
                    <a:pt x="4328160" y="3071446"/>
                    <a:pt x="4336560" y="3060974"/>
                    <a:pt x="4346917" y="3052689"/>
                  </a:cubicBezTo>
                  <a:cubicBezTo>
                    <a:pt x="4360119" y="3042127"/>
                    <a:pt x="4376396" y="3035687"/>
                    <a:pt x="4389120" y="3024554"/>
                  </a:cubicBezTo>
                  <a:cubicBezTo>
                    <a:pt x="4414074" y="3002719"/>
                    <a:pt x="4459458" y="2954215"/>
                    <a:pt x="4459458" y="2954215"/>
                  </a:cubicBezTo>
                  <a:cubicBezTo>
                    <a:pt x="4485059" y="2877412"/>
                    <a:pt x="4452074" y="2936806"/>
                    <a:pt x="4529797" y="2897944"/>
                  </a:cubicBezTo>
                  <a:cubicBezTo>
                    <a:pt x="4550768" y="2887459"/>
                    <a:pt x="4566988" y="2869369"/>
                    <a:pt x="4586067" y="2855741"/>
                  </a:cubicBezTo>
                  <a:cubicBezTo>
                    <a:pt x="4599825" y="2845914"/>
                    <a:pt x="4615282" y="2838430"/>
                    <a:pt x="4628271" y="2827606"/>
                  </a:cubicBezTo>
                  <a:cubicBezTo>
                    <a:pt x="4643555" y="2814870"/>
                    <a:pt x="4655190" y="2798139"/>
                    <a:pt x="4670474" y="2785403"/>
                  </a:cubicBezTo>
                  <a:cubicBezTo>
                    <a:pt x="4683462" y="2774579"/>
                    <a:pt x="4699475" y="2767830"/>
                    <a:pt x="4712677" y="2757268"/>
                  </a:cubicBezTo>
                  <a:cubicBezTo>
                    <a:pt x="4812903" y="2677087"/>
                    <a:pt x="4653119" y="2787593"/>
                    <a:pt x="4783015" y="2700997"/>
                  </a:cubicBezTo>
                  <a:cubicBezTo>
                    <a:pt x="4792394" y="2686929"/>
                    <a:pt x="4800589" y="2671996"/>
                    <a:pt x="4811151" y="2658794"/>
                  </a:cubicBezTo>
                  <a:cubicBezTo>
                    <a:pt x="4846042" y="2615181"/>
                    <a:pt x="4838557" y="2646183"/>
                    <a:pt x="4867421" y="2588455"/>
                  </a:cubicBezTo>
                  <a:cubicBezTo>
                    <a:pt x="4874053" y="2575192"/>
                    <a:pt x="4874857" y="2559515"/>
                    <a:pt x="4881489" y="2546252"/>
                  </a:cubicBezTo>
                  <a:cubicBezTo>
                    <a:pt x="4899236" y="2510757"/>
                    <a:pt x="4911589" y="2502084"/>
                    <a:pt x="4937760" y="2475914"/>
                  </a:cubicBezTo>
                  <a:cubicBezTo>
                    <a:pt x="4977607" y="2356367"/>
                    <a:pt x="4922034" y="2502122"/>
                    <a:pt x="4979963" y="2405575"/>
                  </a:cubicBezTo>
                  <a:cubicBezTo>
                    <a:pt x="4987592" y="2392860"/>
                    <a:pt x="4986830" y="2376335"/>
                    <a:pt x="4994031" y="2363372"/>
                  </a:cubicBezTo>
                  <a:cubicBezTo>
                    <a:pt x="5010453" y="2333813"/>
                    <a:pt x="5039608" y="2311045"/>
                    <a:pt x="5050301" y="2278966"/>
                  </a:cubicBezTo>
                  <a:lnTo>
                    <a:pt x="5092504" y="2152357"/>
                  </a:lnTo>
                  <a:lnTo>
                    <a:pt x="5106572" y="2110154"/>
                  </a:lnTo>
                  <a:cubicBezTo>
                    <a:pt x="5111261" y="2096086"/>
                    <a:pt x="5117044" y="2082337"/>
                    <a:pt x="5120640" y="2067951"/>
                  </a:cubicBezTo>
                  <a:cubicBezTo>
                    <a:pt x="5130018" y="2030437"/>
                    <a:pt x="5136547" y="1992093"/>
                    <a:pt x="5148775" y="1955409"/>
                  </a:cubicBezTo>
                  <a:cubicBezTo>
                    <a:pt x="5158154" y="1927274"/>
                    <a:pt x="5169718" y="1899775"/>
                    <a:pt x="5176911" y="1871003"/>
                  </a:cubicBezTo>
                  <a:cubicBezTo>
                    <a:pt x="5181600" y="1852246"/>
                    <a:pt x="5187186" y="1833691"/>
                    <a:pt x="5190978" y="1814732"/>
                  </a:cubicBezTo>
                  <a:cubicBezTo>
                    <a:pt x="5196572" y="1786762"/>
                    <a:pt x="5198858" y="1758170"/>
                    <a:pt x="5205046" y="1730326"/>
                  </a:cubicBezTo>
                  <a:cubicBezTo>
                    <a:pt x="5208263" y="1715850"/>
                    <a:pt x="5215040" y="1702381"/>
                    <a:pt x="5219114" y="1688123"/>
                  </a:cubicBezTo>
                  <a:cubicBezTo>
                    <a:pt x="5254442" y="1564474"/>
                    <a:pt x="5213519" y="1690837"/>
                    <a:pt x="5247249" y="1589649"/>
                  </a:cubicBezTo>
                  <a:cubicBezTo>
                    <a:pt x="5251938" y="1556824"/>
                    <a:pt x="5255386" y="1523798"/>
                    <a:pt x="5261317" y="1491175"/>
                  </a:cubicBezTo>
                  <a:cubicBezTo>
                    <a:pt x="5268384" y="1452307"/>
                    <a:pt x="5277397" y="1428865"/>
                    <a:pt x="5289452" y="1392701"/>
                  </a:cubicBezTo>
                  <a:cubicBezTo>
                    <a:pt x="5294141" y="1359877"/>
                    <a:pt x="5297017" y="1326742"/>
                    <a:pt x="5303520" y="1294228"/>
                  </a:cubicBezTo>
                  <a:cubicBezTo>
                    <a:pt x="5306428" y="1279687"/>
                    <a:pt x="5313513" y="1266282"/>
                    <a:pt x="5317587" y="1252024"/>
                  </a:cubicBezTo>
                  <a:cubicBezTo>
                    <a:pt x="5322898" y="1233434"/>
                    <a:pt x="5326966" y="1214511"/>
                    <a:pt x="5331655" y="1195754"/>
                  </a:cubicBezTo>
                  <a:cubicBezTo>
                    <a:pt x="5326966" y="1064455"/>
                    <a:pt x="5329135" y="932732"/>
                    <a:pt x="5317587" y="801858"/>
                  </a:cubicBezTo>
                  <a:cubicBezTo>
                    <a:pt x="5314980" y="772316"/>
                    <a:pt x="5298830" y="745587"/>
                    <a:pt x="5289452" y="717452"/>
                  </a:cubicBezTo>
                  <a:lnTo>
                    <a:pt x="5261317" y="633046"/>
                  </a:lnTo>
                  <a:cubicBezTo>
                    <a:pt x="5256628" y="618978"/>
                    <a:pt x="5255474" y="603181"/>
                    <a:pt x="5247249" y="590843"/>
                  </a:cubicBezTo>
                  <a:cubicBezTo>
                    <a:pt x="5183621" y="495401"/>
                    <a:pt x="5214888" y="530348"/>
                    <a:pt x="5162843" y="478301"/>
                  </a:cubicBezTo>
                  <a:cubicBezTo>
                    <a:pt x="5146794" y="430155"/>
                    <a:pt x="5125185" y="340654"/>
                    <a:pt x="5078437" y="309489"/>
                  </a:cubicBezTo>
                  <a:cubicBezTo>
                    <a:pt x="5023896" y="273129"/>
                    <a:pt x="5052274" y="286701"/>
                    <a:pt x="4994031" y="267286"/>
                  </a:cubicBezTo>
                  <a:cubicBezTo>
                    <a:pt x="4984652" y="257908"/>
                    <a:pt x="4977268" y="245975"/>
                    <a:pt x="4965895" y="239151"/>
                  </a:cubicBezTo>
                  <a:cubicBezTo>
                    <a:pt x="4953179" y="231522"/>
                    <a:pt x="4935271" y="234346"/>
                    <a:pt x="4923692" y="225083"/>
                  </a:cubicBezTo>
                  <a:cubicBezTo>
                    <a:pt x="4910490" y="214521"/>
                    <a:pt x="4909894" y="191841"/>
                    <a:pt x="4895557" y="182880"/>
                  </a:cubicBezTo>
                  <a:cubicBezTo>
                    <a:pt x="4870408" y="167162"/>
                    <a:pt x="4811151" y="154744"/>
                    <a:pt x="4811151" y="154744"/>
                  </a:cubicBezTo>
                  <a:cubicBezTo>
                    <a:pt x="4787705" y="131298"/>
                    <a:pt x="4772268" y="94891"/>
                    <a:pt x="4740812" y="84406"/>
                  </a:cubicBezTo>
                  <a:cubicBezTo>
                    <a:pt x="4611042" y="41150"/>
                    <a:pt x="4685482" y="62086"/>
                    <a:pt x="4515729" y="28135"/>
                  </a:cubicBezTo>
                  <a:cubicBezTo>
                    <a:pt x="4435107" y="12011"/>
                    <a:pt x="4466778" y="24762"/>
                    <a:pt x="4417255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рямоугольник 3"/>
            <p:cNvSpPr/>
            <p:nvPr/>
          </p:nvSpPr>
          <p:spPr>
            <a:xfrm>
              <a:off x="250920" y="1596600"/>
              <a:ext cx="2665440" cy="914400"/>
            </a:xfrm>
            <a:prstGeom prst="rect">
              <a:avLst/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030a0"/>
                  </a:solidFill>
                  <a:latin typeface="Calibri"/>
                </a:rPr>
                <a:t>облач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рямоугольник 4"/>
            <p:cNvSpPr/>
            <p:nvPr/>
          </p:nvSpPr>
          <p:spPr>
            <a:xfrm>
              <a:off x="755640" y="2749320"/>
              <a:ext cx="2663640" cy="914400"/>
            </a:xfrm>
            <a:prstGeom prst="rect">
              <a:avLst/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030a0"/>
                  </a:solidFill>
                  <a:latin typeface="Calibri"/>
                </a:rPr>
                <a:t>вете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5"/>
            <p:cNvSpPr/>
            <p:nvPr/>
          </p:nvSpPr>
          <p:spPr>
            <a:xfrm>
              <a:off x="1474560" y="4044960"/>
              <a:ext cx="2665440" cy="914400"/>
            </a:xfrm>
            <a:prstGeom prst="rect">
              <a:avLst/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030a0"/>
                  </a:solidFill>
                  <a:latin typeface="Calibri"/>
                </a:rPr>
                <a:t>влаж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оугольник 6"/>
            <p:cNvSpPr/>
            <p:nvPr/>
          </p:nvSpPr>
          <p:spPr>
            <a:xfrm>
              <a:off x="4500720" y="4044960"/>
              <a:ext cx="2663640" cy="914400"/>
            </a:xfrm>
            <a:prstGeom prst="rect">
              <a:avLst/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030a0"/>
                  </a:solidFill>
                  <a:latin typeface="Calibri"/>
                </a:rPr>
                <a:t>давл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оугольник 7"/>
            <p:cNvSpPr/>
            <p:nvPr/>
          </p:nvSpPr>
          <p:spPr>
            <a:xfrm>
              <a:off x="5580000" y="2820960"/>
              <a:ext cx="2665440" cy="914400"/>
            </a:xfrm>
            <a:prstGeom prst="rect">
              <a:avLst/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030a0"/>
                  </a:solidFill>
                  <a:latin typeface="Calibri"/>
                </a:rPr>
                <a:t>осад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оугольник 8"/>
            <p:cNvSpPr/>
            <p:nvPr/>
          </p:nvSpPr>
          <p:spPr>
            <a:xfrm>
              <a:off x="6227640" y="1596600"/>
              <a:ext cx="2665440" cy="914400"/>
            </a:xfrm>
            <a:prstGeom prst="rect">
              <a:avLst/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7030a0"/>
                  </a:solidFill>
                  <a:latin typeface="Calibri"/>
                </a:rPr>
                <a:t>температу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2"/>
          <p:cNvSpPr/>
          <p:nvPr/>
        </p:nvSpPr>
        <p:spPr>
          <a:xfrm>
            <a:off x="539640" y="5373720"/>
            <a:ext cx="8136000" cy="1268280"/>
          </a:xfrm>
          <a:prstGeom prst="rect">
            <a:avLst/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акие сведения необходимы для синоптиков, составляющих прогноз пог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Картинка 5 из 132017"/>
          <p:cNvPicPr/>
          <p:nvPr/>
        </p:nvPicPr>
        <p:blipFill>
          <a:blip r:embed="rId2"/>
          <a:stretch/>
        </p:blipFill>
        <p:spPr>
          <a:xfrm>
            <a:off x="4643280" y="0"/>
            <a:ext cx="4788000" cy="4527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означают эти сведен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Выноска-облако 2"/>
          <p:cNvSpPr/>
          <p:nvPr/>
        </p:nvSpPr>
        <p:spPr>
          <a:xfrm>
            <a:off x="324000" y="1341360"/>
            <a:ext cx="3456000" cy="1871640"/>
          </a:xfrm>
          <a:prstGeom prst="cloudCallout">
            <a:avLst>
              <a:gd name="adj1" fmla="val -11837"/>
              <a:gd name="adj2" fmla="val 2544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безобла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Выноска-облако 3"/>
          <p:cNvSpPr/>
          <p:nvPr/>
        </p:nvSpPr>
        <p:spPr>
          <a:xfrm rot="201000">
            <a:off x="5635440" y="100080"/>
            <a:ext cx="3455640" cy="1871640"/>
          </a:xfrm>
          <a:prstGeom prst="cloudCallout">
            <a:avLst>
              <a:gd name="adj1" fmla="val -11837"/>
              <a:gd name="adj2" fmla="val 2544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небольшая обла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Выноска-облако 4"/>
          <p:cNvSpPr/>
          <p:nvPr/>
        </p:nvSpPr>
        <p:spPr>
          <a:xfrm>
            <a:off x="2700360" y="189000"/>
            <a:ext cx="3456000" cy="1871640"/>
          </a:xfrm>
          <a:prstGeom prst="cloudCallout">
            <a:avLst>
              <a:gd name="adj1" fmla="val -11837"/>
              <a:gd name="adj2" fmla="val 2544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переменная обла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Выноска-облако 5"/>
          <p:cNvSpPr/>
          <p:nvPr/>
        </p:nvSpPr>
        <p:spPr>
          <a:xfrm rot="570600">
            <a:off x="5207040" y="1612800"/>
            <a:ext cx="3456000" cy="1873440"/>
          </a:xfrm>
          <a:prstGeom prst="cloudCallout">
            <a:avLst>
              <a:gd name="adj1" fmla="val -11837"/>
              <a:gd name="adj2" fmla="val 2544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пасмурная по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Выноска-облако 6"/>
          <p:cNvSpPr/>
          <p:nvPr/>
        </p:nvSpPr>
        <p:spPr>
          <a:xfrm>
            <a:off x="2268360" y="2205000"/>
            <a:ext cx="3456000" cy="1871640"/>
          </a:xfrm>
          <a:prstGeom prst="cloudCallout">
            <a:avLst>
              <a:gd name="adj1" fmla="val -11837"/>
              <a:gd name="adj2" fmla="val 2544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небольшой дож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Выноска-облако 7"/>
          <p:cNvSpPr/>
          <p:nvPr/>
        </p:nvSpPr>
        <p:spPr>
          <a:xfrm rot="21266400">
            <a:off x="-181080" y="189000"/>
            <a:ext cx="3673440" cy="1871640"/>
          </a:xfrm>
          <a:prstGeom prst="cloudCallout">
            <a:avLst>
              <a:gd name="adj1" fmla="val -11837"/>
              <a:gd name="adj2" fmla="val 2544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значительное похоло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ароме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Картинка 21 из 82675"/>
          <p:cNvPicPr/>
          <p:nvPr/>
        </p:nvPicPr>
        <p:blipFill>
          <a:blip r:embed="rId1"/>
          <a:stretch/>
        </p:blipFill>
        <p:spPr>
          <a:xfrm>
            <a:off x="2124000" y="1484280"/>
            <a:ext cx="4751640" cy="5310360"/>
          </a:xfrm>
          <a:prstGeom prst="rect">
            <a:avLst/>
          </a:prstGeom>
          <a:ln w="0">
            <a:noFill/>
          </a:ln>
        </p:spPr>
      </p:pic>
      <p:sp>
        <p:nvSpPr>
          <p:cNvPr id="11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оз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Картинка 7 из 126840"/>
          <p:cNvPicPr/>
          <p:nvPr/>
        </p:nvPicPr>
        <p:blipFill>
          <a:blip r:embed="rId1"/>
          <a:stretch/>
        </p:blipFill>
        <p:spPr>
          <a:xfrm>
            <a:off x="1116000" y="1268280"/>
            <a:ext cx="7128000" cy="5042160"/>
          </a:xfrm>
          <a:prstGeom prst="rect">
            <a:avLst/>
          </a:prstGeom>
          <a:ln w="0">
            <a:noFill/>
          </a:ln>
        </p:spPr>
      </p:pic>
      <p:sp>
        <p:nvSpPr>
          <p:cNvPr id="12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7207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ты изменения пог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Картинка 18 из 279"/>
          <p:cNvPicPr/>
          <p:nvPr/>
        </p:nvPicPr>
        <p:blipFill>
          <a:blip r:embed="rId1"/>
          <a:stretch/>
        </p:blipFill>
        <p:spPr>
          <a:xfrm>
            <a:off x="324000" y="1268280"/>
            <a:ext cx="2735280" cy="309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Картинка 112 из 122"/>
          <p:cNvPicPr/>
          <p:nvPr/>
        </p:nvPicPr>
        <p:blipFill>
          <a:blip r:embed="rId2"/>
          <a:stretch/>
        </p:blipFill>
        <p:spPr>
          <a:xfrm>
            <a:off x="3492360" y="1341360"/>
            <a:ext cx="2213280" cy="2951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Картинка 4 из 246"/>
          <p:cNvPicPr/>
          <p:nvPr/>
        </p:nvPicPr>
        <p:blipFill>
          <a:blip r:embed="rId3"/>
          <a:stretch/>
        </p:blipFill>
        <p:spPr>
          <a:xfrm>
            <a:off x="6012000" y="1341360"/>
            <a:ext cx="2901960" cy="29512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395280" y="4869000"/>
            <a:ext cx="2592360" cy="12240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шка ищет место потеплее и сворачивается клубоч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3276720" y="4869000"/>
            <a:ext cx="2590560" cy="12240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уки забираются в середину паут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7"/>
          <p:cNvSpPr/>
          <p:nvPr/>
        </p:nvSpPr>
        <p:spPr>
          <a:xfrm>
            <a:off x="6156360" y="4869000"/>
            <a:ext cx="2592360" cy="12240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асточки летают низко над зем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3"/>
          <p:cNvPicPr/>
          <p:nvPr/>
        </p:nvPicPr>
        <p:blipFill>
          <a:blip r:embed="rId1"/>
          <a:stretch/>
        </p:blipFill>
        <p:spPr>
          <a:xfrm>
            <a:off x="0" y="260280"/>
            <a:ext cx="4356000" cy="6381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стройство термомет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11"/>
          <p:cNvGrpSpPr/>
          <p:nvPr/>
        </p:nvGrpSpPr>
        <p:grpSpPr>
          <a:xfrm>
            <a:off x="2050920" y="5157720"/>
            <a:ext cx="6797880" cy="1104840"/>
            <a:chOff x="2050920" y="5157720"/>
            <a:chExt cx="6797880" cy="1104840"/>
          </a:xfrm>
        </p:grpSpPr>
        <p:grpSp>
          <p:nvGrpSpPr>
            <p:cNvPr id="47" name="Text Box 6"/>
            <p:cNvGrpSpPr/>
            <p:nvPr/>
          </p:nvGrpSpPr>
          <p:grpSpPr>
            <a:xfrm>
              <a:off x="3947040" y="5157720"/>
              <a:ext cx="4901760" cy="1104840"/>
              <a:chOff x="3947040" y="5157720"/>
              <a:chExt cx="4901760" cy="1104840"/>
            </a:xfrm>
          </p:grpSpPr>
          <p:pic>
            <p:nvPicPr>
              <p:cNvPr id="48" name="Text Box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947040" y="5157720"/>
                <a:ext cx="4901760" cy="110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>
                <a:off x="4146480" y="5192640"/>
                <a:ext cx="45090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Calibri"/>
                  </a:rPr>
                  <a:t>стеклянная трубка,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Calibri"/>
                  </a:rPr>
                  <a:t>наполненная жидкостью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Line 8"/>
            <p:cNvSpPr/>
            <p:nvPr/>
          </p:nvSpPr>
          <p:spPr>
            <a:xfrm flipH="1">
              <a:off x="2050920" y="5736600"/>
              <a:ext cx="1864080" cy="27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Группа 12"/>
          <p:cNvGrpSpPr/>
          <p:nvPr/>
        </p:nvGrpSpPr>
        <p:grpSpPr>
          <a:xfrm>
            <a:off x="2268000" y="1844640"/>
            <a:ext cx="4148640" cy="617400"/>
            <a:chOff x="2268000" y="1844640"/>
            <a:chExt cx="4148640" cy="617400"/>
          </a:xfrm>
        </p:grpSpPr>
        <p:grpSp>
          <p:nvGrpSpPr>
            <p:cNvPr id="52" name="Text Box 9"/>
            <p:cNvGrpSpPr/>
            <p:nvPr/>
          </p:nvGrpSpPr>
          <p:grpSpPr>
            <a:xfrm>
              <a:off x="4947120" y="1844640"/>
              <a:ext cx="1469520" cy="617400"/>
              <a:chOff x="4947120" y="1844640"/>
              <a:chExt cx="1469520" cy="617400"/>
            </a:xfrm>
          </p:grpSpPr>
          <p:pic>
            <p:nvPicPr>
              <p:cNvPr id="53" name="Text Box 9" descr=""/>
              <p:cNvPicPr/>
              <p:nvPr/>
            </p:nvPicPr>
            <p:blipFill>
              <a:blip r:embed="rId3"/>
              <a:stretch/>
            </p:blipFill>
            <p:spPr>
              <a:xfrm>
                <a:off x="4947120" y="1844640"/>
                <a:ext cx="1469520" cy="61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5051160" y="1880640"/>
                <a:ext cx="1264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Calibri"/>
                  </a:rPr>
                  <a:t>шкал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Line 10"/>
            <p:cNvSpPr/>
            <p:nvPr/>
          </p:nvSpPr>
          <p:spPr>
            <a:xfrm flipH="1">
              <a:off x="2268000" y="2139840"/>
              <a:ext cx="2714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Группа 10"/>
          <p:cNvGrpSpPr/>
          <p:nvPr/>
        </p:nvGrpSpPr>
        <p:grpSpPr>
          <a:xfrm>
            <a:off x="2484360" y="3141720"/>
            <a:ext cx="6337440" cy="1105200"/>
            <a:chOff x="2484360" y="3141720"/>
            <a:chExt cx="6337440" cy="1105200"/>
          </a:xfrm>
        </p:grpSpPr>
        <p:grpSp>
          <p:nvGrpSpPr>
            <p:cNvPr id="57" name="Text Box 11"/>
            <p:cNvGrpSpPr/>
            <p:nvPr/>
          </p:nvGrpSpPr>
          <p:grpSpPr>
            <a:xfrm>
              <a:off x="3524400" y="3141720"/>
              <a:ext cx="5297400" cy="1105200"/>
              <a:chOff x="3524400" y="3141720"/>
              <a:chExt cx="5297400" cy="1105200"/>
            </a:xfrm>
          </p:grpSpPr>
          <p:pic>
            <p:nvPicPr>
              <p:cNvPr id="58" name="Text Box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524400" y="3141720"/>
                <a:ext cx="5297400" cy="110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3750120" y="3178080"/>
                <a:ext cx="48502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Calibri"/>
                  </a:rPr>
                  <a:t>граница между градусами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Calibri"/>
                  </a:rPr>
                  <a:t>тепла и холод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Line 14"/>
            <p:cNvSpPr/>
            <p:nvPr/>
          </p:nvSpPr>
          <p:spPr>
            <a:xfrm flipH="1">
              <a:off x="2484360" y="3717720"/>
              <a:ext cx="1074240" cy="472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Чем измеряют температуру воздух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ромет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ней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момет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гольник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Что означает одно маленькое деление шкалы термомет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ин град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ин сантиме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ин миллиме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3"/>
          <p:cNvPicPr/>
          <p:nvPr/>
        </p:nvPicPr>
        <p:blipFill>
          <a:blip r:embed="rId1"/>
          <a:stretch/>
        </p:blipFill>
        <p:spPr>
          <a:xfrm>
            <a:off x="5262480" y="1844640"/>
            <a:ext cx="2851200" cy="417672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Calibri"/>
              </a:rPr>
              <a:t>3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.Какие бывают термометр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нат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лич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иц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вен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Calibri"/>
              </a:rPr>
              <a:t>4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. Закончи предложение. Ноль градусов – это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сутствие темпера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ая низкая темпера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ница между градусами тепла и хол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Calibri"/>
              </a:rPr>
              <a:t>5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. При какой температуре теплее все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8 *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 *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 10 *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20 *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 15 *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6. При какой температуре холоднее все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Calibri"/>
              </a:rPr>
              <a:t>7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.Шкала какого термометра имеет деления только от + 34 * С до + 42 * 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нат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лич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ицинс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ве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сказ Джами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0560" y="1600200"/>
            <a:ext cx="8569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тала в 6 утра. На улице светло. Зубы решила не чистить, я это уже делала вчера. Почитала книжку, лежа в кровати. В 6 ч 40 мин съела несколько конфет и пошла гуля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C:\Users\Леша\Pictures\Дети, кляксы\cdolls3.gif"/>
          <p:cNvPicPr/>
          <p:nvPr/>
        </p:nvPicPr>
        <p:blipFill>
          <a:blip r:embed="rId1"/>
          <a:stretch/>
        </p:blipFill>
        <p:spPr>
          <a:xfrm>
            <a:off x="6732720" y="3594240"/>
            <a:ext cx="2087280" cy="32637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6"/>
          <p:cNvSpPr/>
          <p:nvPr/>
        </p:nvSpPr>
        <p:spPr>
          <a:xfrm>
            <a:off x="1619280" y="4508640"/>
            <a:ext cx="4321080" cy="13683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е время года сделана запись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539640" y="4292640"/>
            <a:ext cx="647640" cy="64908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8"/>
          <p:cNvSpPr/>
          <p:nvPr/>
        </p:nvSpPr>
        <p:spPr>
          <a:xfrm>
            <a:off x="539640" y="5013360"/>
            <a:ext cx="647640" cy="64764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9"/>
          <p:cNvSpPr/>
          <p:nvPr/>
        </p:nvSpPr>
        <p:spPr>
          <a:xfrm>
            <a:off x="539640" y="5732640"/>
            <a:ext cx="647640" cy="64908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1692360" y="4508640"/>
            <a:ext cx="4319640" cy="13683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значьте на часах время, указанное в запи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1"/>
          <p:cNvSpPr/>
          <p:nvPr/>
        </p:nvSpPr>
        <p:spPr>
          <a:xfrm>
            <a:off x="1692360" y="4221000"/>
            <a:ext cx="4895640" cy="194472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что можно похвалить Джамил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ей можно посовет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10:42:55Z</dcterms:created>
  <dc:creator>Леша</dc:creator>
  <dc:description/>
  <dc:language>en-US</dc:language>
  <cp:lastModifiedBy>USER</cp:lastModifiedBy>
  <dcterms:modified xsi:type="dcterms:W3CDTF">2012-08-04T19:09:46Z</dcterms:modified>
  <cp:revision>36</cp:revision>
  <dc:subject/>
  <dc:title>Прогноз погоды</dc:title>
</cp:coreProperties>
</file>