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EB4-03D6-405D-AC25-54B4B7EA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B65-9AEE-4B3E-B4E4-06C9484A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C0B-CF6A-45E6-AE0C-78995E38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97C-A87A-406A-BD68-7F5195D4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741-6872-4382-868F-80F51A64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4BC-E4BC-4689-9E81-FEE801EA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C0B-56D4-4F05-94A5-34A04F93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E58-93A1-48C8-8EAA-3348F6CF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340-FABF-4C7F-BB34-508C86DA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5F7-D6C0-41FE-BB04-ED3E723A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110-B8B5-4FF4-8D73-012865CD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A6A-7B69-48A7-9DFB-EBB47951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7ADB-BB73-4FF2-9855-B5752CD981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8920" y="1125360"/>
            <a:ext cx="6769080" cy="31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"Осень в природе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часть 1)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гадк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8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ё красное лето        О буйные ве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были в красе,        Скорее, скоре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али с лучами,         Скорей нас сорви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пались в росе!..        С докучных ветве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рвите, умчи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ждать не хоти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тите, летит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с вами лети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.Тютч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0000991085-preview"/>
          <p:cNvPicPr/>
          <p:nvPr/>
        </p:nvPicPr>
        <p:blipFill>
          <a:blip r:embed="rId1"/>
          <a:stretch/>
        </p:blipFill>
        <p:spPr>
          <a:xfrm rot="19111200">
            <a:off x="6732360" y="2923920"/>
            <a:ext cx="1638000" cy="222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483112"/>
          <p:cNvPicPr/>
          <p:nvPr/>
        </p:nvPicPr>
        <p:blipFill>
          <a:blip r:embed="rId2"/>
          <a:stretch/>
        </p:blipFill>
        <p:spPr>
          <a:xfrm>
            <a:off x="6948360" y="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Aspen-leaves"/>
          <p:cNvPicPr/>
          <p:nvPr/>
        </p:nvPicPr>
        <p:blipFill>
          <a:blip r:embed="rId3"/>
          <a:stretch/>
        </p:blipFill>
        <p:spPr>
          <a:xfrm>
            <a:off x="0" y="4653000"/>
            <a:ext cx="2484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492360" y="2205000"/>
            <a:ext cx="2735280" cy="180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80000" y="278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истопа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95280" y="836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7093080" y="836640"/>
            <a:ext cx="180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иш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116000" y="177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брик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156360" y="2060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бло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492360" y="105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иповн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79280" y="2852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яб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588000" y="3284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у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0.05393 L 0.01962 0.69444 E">
                                      <p:cBhvr>
                                        <p:cTn id="7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0.05393 L 0.02899 0.67338 E">
                                      <p:cBhvr>
                                        <p:cTn id="7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5 0.05371 L 0.01996 0.53681 E">
                                      <p:cBhvr>
                                        <p:cTn id="8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96296E-006 L -3.88889E-006 0.43055 E">
                                      <p:cBhvr>
                                        <p:cTn id="85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5.55556E-007 0.40949 E">
                                      <p:cBhvr>
                                        <p:cTn id="8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6435 L -0.09548 0.17986 E">
                                      <p:cBhvr>
                                        <p:cTn id="9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Викторин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каких деревьев листва красне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клён, осина, рябин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1503048_6"/>
          <p:cNvPicPr/>
          <p:nvPr/>
        </p:nvPicPr>
        <p:blipFill>
          <a:blip r:embed="rId1"/>
          <a:stretch/>
        </p:blipFill>
        <p:spPr>
          <a:xfrm>
            <a:off x="0" y="3284640"/>
            <a:ext cx="2928960" cy="2192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scn4016"/>
          <p:cNvPicPr/>
          <p:nvPr/>
        </p:nvPicPr>
        <p:blipFill>
          <a:blip r:embed="rId2"/>
          <a:stretch/>
        </p:blipFill>
        <p:spPr>
          <a:xfrm>
            <a:off x="3059280" y="3284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0_21fbd_1c472690_XL"/>
          <p:cNvPicPr/>
          <p:nvPr/>
        </p:nvPicPr>
        <p:blipFill>
          <a:blip r:embed="rId3"/>
          <a:stretch/>
        </p:blipFill>
        <p:spPr>
          <a:xfrm>
            <a:off x="6156360" y="3284640"/>
            <a:ext cx="2736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9647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 цвета листва сирени осень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 цвета хвоя лиственниц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какого дерева самый поздний листопад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де быстрее сбрасывают деревья листву: в парках или в лесу?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71640" y="126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Зелёна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400560" y="6035760"/>
            <a:ext cx="239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187280" y="2492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жёлт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00000" y="3645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дуб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00000" y="5445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ар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9" descr="лиственницаanches"/>
          <p:cNvPicPr/>
          <p:nvPr/>
        </p:nvPicPr>
        <p:blipFill>
          <a:blip r:embed="rId1"/>
          <a:stretch/>
        </p:blipFill>
        <p:spPr>
          <a:xfrm>
            <a:off x="3276720" y="333360"/>
            <a:ext cx="34290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арисуйте растения по стихотворению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Свой самый первый листоп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тречает этот клё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ой самый праздничный наря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оделся 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деты на его суч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ять листьев вырез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красны и широ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сем как у больш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nature_488-320x480"/>
          <p:cNvPicPr/>
          <p:nvPr/>
        </p:nvPicPr>
        <p:blipFill>
          <a:blip r:embed="rId1"/>
          <a:stretch/>
        </p:blipFill>
        <p:spPr>
          <a:xfrm>
            <a:off x="6732720" y="1844640"/>
            <a:ext cx="241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чут ивушки, осин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 листья рвёт с ветв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сосёнки ни слезинки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тье зелено на ней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ть зима, хоть весн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я в зелёном сосн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54213f0b3c70"/>
          <p:cNvPicPr/>
          <p:nvPr/>
        </p:nvPicPr>
        <p:blipFill>
          <a:blip r:embed="rId1"/>
          <a:stretch/>
        </p:blipFill>
        <p:spPr>
          <a:xfrm>
            <a:off x="6012000" y="0"/>
            <a:ext cx="29034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1249379210_sosna_enl"/>
          <p:cNvPicPr/>
          <p:nvPr/>
        </p:nvPicPr>
        <p:blipFill>
          <a:blip r:embed="rId2"/>
          <a:stretch/>
        </p:blipFill>
        <p:spPr>
          <a:xfrm>
            <a:off x="5189400" y="3141720"/>
            <a:ext cx="39546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бота выполнена учителем ГБОУ СОШ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№ 687города Москвы Яшковой И.В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x_d16d7338"/>
          <p:cNvPicPr/>
          <p:nvPr/>
        </p:nvPicPr>
        <p:blipFill>
          <a:blip r:embed="rId1"/>
          <a:stretch/>
        </p:blipFill>
        <p:spPr>
          <a:xfrm>
            <a:off x="1403280" y="2060640"/>
            <a:ext cx="57531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ойный, душный летний д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же куры ищут тен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чалась косьба хлебо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мя ягод и гриб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аркое солнц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ов арома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мя для отды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умных ребя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8" descr="лето_2"/>
          <p:cNvPicPr/>
          <p:nvPr/>
        </p:nvPicPr>
        <p:blipFill>
          <a:blip r:embed="rId1"/>
          <a:stretch/>
        </p:blipFill>
        <p:spPr>
          <a:xfrm>
            <a:off x="5867280" y="1125360"/>
            <a:ext cx="2592360" cy="1845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0" y="2852640"/>
            <a:ext cx="35272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е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устел весёлый сад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утинки вдаль летя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ёплые края зем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янулись журав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учи серые не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 землёю вяз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исую я в ле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лотою крас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золотая осень"/>
          <p:cNvPicPr/>
          <p:nvPr/>
        </p:nvPicPr>
        <p:blipFill>
          <a:blip r:embed="rId1"/>
          <a:stretch/>
        </p:blipFill>
        <p:spPr>
          <a:xfrm>
            <a:off x="5508720" y="189000"/>
            <a:ext cx="2735280" cy="246204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684360" y="2852640"/>
            <a:ext cx="3913200" cy="25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Найдите лишний месяц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вгуст,   июнь,  октябрь,   июл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Oval 4"/>
          <p:cNvSpPr/>
          <p:nvPr/>
        </p:nvSpPr>
        <p:spPr>
          <a:xfrm>
            <a:off x="3564000" y="3141720"/>
            <a:ext cx="2232000" cy="107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1.48148E-006 C 0.0361 -0.02106 0.07221 -0.04213 0.09617 -0.05972 C 0.12013 -0.07731 0.14704 -0.08819 0.14357 -0.10532 C 0.1401 -0.12245 0.08645 -0.15347 0.07499 -0.16319 E">
                                      <p:cBhvr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помнит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2 июня – день летне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лнцестояния. Солнце занимает  самое высокое положение на небосводе. В эти сутки день самы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линный, а ночь – самая коротк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Астрономическое начало л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жара1127"/>
          <p:cNvPicPr/>
          <p:nvPr/>
        </p:nvPicPr>
        <p:blipFill>
          <a:blip r:embed="rId1"/>
          <a:stretch/>
        </p:blipFill>
        <p:spPr>
          <a:xfrm>
            <a:off x="6227640" y="0"/>
            <a:ext cx="27352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Запомнит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3 сентября – начало осени по Солнцу. Продолжительность дня и ночи одинаковы, а затем день начнёт убыват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Изменения в неживой природе с приходом осен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Изменения в неживой природ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484280"/>
          <a:ext cx="8229600" cy="4108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начале осе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конце осе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ч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та солн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34"/>
          <p:cNvSpPr/>
          <p:nvPr/>
        </p:nvSpPr>
        <p:spPr>
          <a:xfrm>
            <a:off x="3492360" y="256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ёпл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5"/>
          <p:cNvSpPr/>
          <p:nvPr/>
        </p:nvSpPr>
        <p:spPr>
          <a:xfrm>
            <a:off x="6227640" y="2565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лод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36"/>
          <p:cNvSpPr/>
          <p:nvPr/>
        </p:nvSpPr>
        <p:spPr>
          <a:xfrm>
            <a:off x="3276720" y="33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хлад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6156360" y="3357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ерз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3276720" y="414972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ожен ин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39"/>
          <p:cNvSpPr/>
          <p:nvPr/>
        </p:nvSpPr>
        <p:spPr>
          <a:xfrm>
            <a:off x="6300720" y="41497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мороз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0"/>
          <p:cNvSpPr/>
          <p:nvPr/>
        </p:nvSpPr>
        <p:spPr>
          <a:xfrm>
            <a:off x="3348000" y="49417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олдень поднимается выш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41"/>
          <p:cNvSpPr/>
          <p:nvPr/>
        </p:nvSpPr>
        <p:spPr>
          <a:xfrm>
            <a:off x="6012000" y="4797360"/>
            <a:ext cx="25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олд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нимается ниж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Изменения в жизни растений с приходом осен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251476244_659395"/>
          <p:cNvPicPr/>
          <p:nvPr/>
        </p:nvPicPr>
        <p:blipFill>
          <a:blip r:embed="rId1"/>
          <a:stretch/>
        </p:blipFill>
        <p:spPr>
          <a:xfrm>
            <a:off x="2268360" y="3357720"/>
            <a:ext cx="4286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5:42:55Z</dcterms:created>
  <dc:creator>Вова</dc:creator>
  <dc:description/>
  <dc:language>en-US</dc:language>
  <cp:lastModifiedBy>И В. Яшкова</cp:lastModifiedBy>
  <dcterms:modified xsi:type="dcterms:W3CDTF">2012-08-03T12:26:31Z</dcterms:modified>
  <cp:revision>5</cp:revision>
  <dc:subject/>
  <dc:title>Слайд 1</dc:title>
</cp:coreProperties>
</file>