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EC3-724E-4BCF-9AC0-F1B72E41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1B2-8BF1-407A-AE60-F47AC47A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DD0-2660-4A86-84D8-13BD1714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B17-3499-4F62-A641-0E57E2B0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8DC-F9A3-4EA9-B1F6-A71FAB41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9E3-5922-4E1F-8BC1-DF66FDB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21B-0294-4BBC-B68A-7778911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F9A-B6D6-4228-BFC3-281FE055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394-E9B5-4A0A-86EA-4B4A1A4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D22-7541-425B-8972-0CAC2D2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208-ADA1-44DF-A3D5-825A68AD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BA9-3AB8-47C3-B6CE-DC56FE3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5E9-ADA2-4AB8-A76A-3EBD1ACAC1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125360"/>
            <a:ext cx="6769080" cy="31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Осень в природе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часть 1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гад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8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 красное лето        О буйные ве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были в красе,        Скорее, скоре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али с лучами,         Скорей нас сорв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пались в росе!..        С докучных ветве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рвите, умч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ждать не хоти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ите, летит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с вами лети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.Тютч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0000991085-preview"/>
          <p:cNvPicPr/>
          <p:nvPr/>
        </p:nvPicPr>
        <p:blipFill>
          <a:blip r:embed="rId1"/>
          <a:stretch/>
        </p:blipFill>
        <p:spPr>
          <a:xfrm rot="19111200">
            <a:off x="6732360" y="2923920"/>
            <a:ext cx="1638000" cy="22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483112"/>
          <p:cNvPicPr/>
          <p:nvPr/>
        </p:nvPicPr>
        <p:blipFill>
          <a:blip r:embed="rId2"/>
          <a:stretch/>
        </p:blipFill>
        <p:spPr>
          <a:xfrm>
            <a:off x="6948360" y="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Aspen-leaves"/>
          <p:cNvPicPr/>
          <p:nvPr/>
        </p:nvPicPr>
        <p:blipFill>
          <a:blip r:embed="rId3"/>
          <a:stretch/>
        </p:blipFill>
        <p:spPr>
          <a:xfrm>
            <a:off x="0" y="4653000"/>
            <a:ext cx="2484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492360" y="2205000"/>
            <a:ext cx="2735280" cy="180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8000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топа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95280" y="836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093080" y="83664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ш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116000" y="177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брик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56360" y="2060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бло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492360" y="10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ип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792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яб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588000" y="3284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у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5393 L 0.01962 0.69444 E">
                                      <p:cBhvr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0.05393 L 0.02899 0.67338 E">
                                      <p:cBhvr>
                                        <p:cTn id="7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0.05371 L 0.01996 0.53681 E">
                                      <p:cBhvr>
                                        <p:cTn id="8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-3.88889E-006 0.43055 E">
                                      <p:cBhvr>
                                        <p:cTn id="8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5.55556E-007 0.40949 E">
                                      <p:cBhvr>
                                        <p:cTn id="8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6435 L -0.09548 0.17986 E">
                                      <p:cBhvr>
                                        <p:cTn id="9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икторин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каких деревьев листва красне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лён, осина, ряби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1503048_6"/>
          <p:cNvPicPr/>
          <p:nvPr/>
        </p:nvPicPr>
        <p:blipFill>
          <a:blip r:embed="rId1"/>
          <a:stretch/>
        </p:blipFill>
        <p:spPr>
          <a:xfrm>
            <a:off x="0" y="3284640"/>
            <a:ext cx="2928960" cy="2192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scn4016"/>
          <p:cNvPicPr/>
          <p:nvPr/>
        </p:nvPicPr>
        <p:blipFill>
          <a:blip r:embed="rId2"/>
          <a:stretch/>
        </p:blipFill>
        <p:spPr>
          <a:xfrm>
            <a:off x="3059280" y="3284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0_21fbd_1c472690_XL"/>
          <p:cNvPicPr/>
          <p:nvPr/>
        </p:nvPicPr>
        <p:blipFill>
          <a:blip r:embed="rId3"/>
          <a:stretch/>
        </p:blipFill>
        <p:spPr>
          <a:xfrm>
            <a:off x="6156360" y="3284640"/>
            <a:ext cx="2736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цвета листва сирени осен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цвета хвоя лиственниц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какого дерева самый поздний листопад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быстрее сбрасывают деревья листву: в парках или в лесу?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71640" y="126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Зелён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00560" y="603576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87280" y="24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жёлт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364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ду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00000" y="54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ар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9" descr="лиственницаanches"/>
          <p:cNvPicPr/>
          <p:nvPr/>
        </p:nvPicPr>
        <p:blipFill>
          <a:blip r:embed="rId1"/>
          <a:stretch/>
        </p:blipFill>
        <p:spPr>
          <a:xfrm>
            <a:off x="3276720" y="333360"/>
            <a:ext cx="3429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арисуйте растения по стихотворению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Свой самый первый листоп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тречает этот клё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ой самый праздничный наря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оделся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еты на его суч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ять листьев вырез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красны и ши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сем как у больш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nature_488-320x480"/>
          <p:cNvPicPr/>
          <p:nvPr/>
        </p:nvPicPr>
        <p:blipFill>
          <a:blip r:embed="rId1"/>
          <a:stretch/>
        </p:blipFill>
        <p:spPr>
          <a:xfrm>
            <a:off x="6732720" y="1844640"/>
            <a:ext cx="241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чут ивушки, осин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 листья рвёт с ветв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осёнки ни слезинки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ье зелено на не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ть зима, хоть весн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 в зелёном сосн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54213f0b3c70"/>
          <p:cNvPicPr/>
          <p:nvPr/>
        </p:nvPicPr>
        <p:blipFill>
          <a:blip r:embed="rId1"/>
          <a:stretch/>
        </p:blipFill>
        <p:spPr>
          <a:xfrm>
            <a:off x="6012000" y="0"/>
            <a:ext cx="29034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249379210_sosna_enl"/>
          <p:cNvPicPr/>
          <p:nvPr/>
        </p:nvPicPr>
        <p:blipFill>
          <a:blip r:embed="rId2"/>
          <a:stretch/>
        </p:blipFill>
        <p:spPr>
          <a:xfrm>
            <a:off x="5189400" y="3141720"/>
            <a:ext cx="3954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бота выполнена учителем ГБОУ СОШ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№ 687города Москвы Яшковой И.В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x_d16d7338"/>
          <p:cNvPicPr/>
          <p:nvPr/>
        </p:nvPicPr>
        <p:blipFill>
          <a:blip r:embed="rId1"/>
          <a:stretch/>
        </p:blipFill>
        <p:spPr>
          <a:xfrm>
            <a:off x="1403280" y="2060640"/>
            <a:ext cx="57531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ойный, душный летний д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же куры ищут т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ась косьба хлеб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я ягод и гри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аркое солнц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ов аром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я для отды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ных реб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лето_2"/>
          <p:cNvPicPr/>
          <p:nvPr/>
        </p:nvPicPr>
        <p:blipFill>
          <a:blip r:embed="rId1"/>
          <a:stretch/>
        </p:blipFill>
        <p:spPr>
          <a:xfrm>
            <a:off x="5867280" y="1125360"/>
            <a:ext cx="2592360" cy="1845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0" y="2852640"/>
            <a:ext cx="3527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устел весёлый сад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утинки вдаль летя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ёплые края зем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янулись журав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чи серые не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землёю вяз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исую я в ле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лотою крас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золотая осень"/>
          <p:cNvPicPr/>
          <p:nvPr/>
        </p:nvPicPr>
        <p:blipFill>
          <a:blip r:embed="rId1"/>
          <a:stretch/>
        </p:blipFill>
        <p:spPr>
          <a:xfrm>
            <a:off x="5508720" y="189000"/>
            <a:ext cx="2735280" cy="2462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684360" y="2852640"/>
            <a:ext cx="3913200" cy="25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йдите лишний месяц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вгуст,   июнь,  октябрь,   июл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564000" y="3141720"/>
            <a:ext cx="223200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48148E-006 C 0.0361 -0.02106 0.07221 -0.04213 0.09617 -0.05972 C 0.12013 -0.07731 0.14704 -0.08819 0.14357 -0.10532 C 0.1401 -0.12245 0.08645 -0.15347 0.07499 -0.16319 E">
                                      <p:cBhvr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2 июня – день летн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цестояния. Солнце занимает  самое высокое положение на небосводе. В эти сутки день сам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линный, а ночь – самая коротк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Астрономическое начало л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жара1127"/>
          <p:cNvPicPr/>
          <p:nvPr/>
        </p:nvPicPr>
        <p:blipFill>
          <a:blip r:embed="rId1"/>
          <a:stretch/>
        </p:blipFill>
        <p:spPr>
          <a:xfrm>
            <a:off x="6227640" y="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3 сентября – начало осени по Солнцу. Продолжительность дня и ночи одинаковы, а затем день начнёт убыват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Изменения в неживой природе с приходом осен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зменения в неживой природ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484280"/>
          <a:ext cx="8229600" cy="410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начале ос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конце ос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 солн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34"/>
          <p:cNvSpPr/>
          <p:nvPr/>
        </p:nvSpPr>
        <p:spPr>
          <a:xfrm>
            <a:off x="3492360" y="256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ёп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6227640" y="2565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лод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3276720" y="33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хлад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6156360" y="33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рз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3276720" y="414972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ен и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6300720" y="4149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ороз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3348000" y="49417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лдень поднимается выш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1"/>
          <p:cNvSpPr/>
          <p:nvPr/>
        </p:nvSpPr>
        <p:spPr>
          <a:xfrm>
            <a:off x="6012000" y="4797360"/>
            <a:ext cx="25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л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нимается ниж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Изменения в жизни растений с приходом осен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251476244_659395"/>
          <p:cNvPicPr/>
          <p:nvPr/>
        </p:nvPicPr>
        <p:blipFill>
          <a:blip r:embed="rId1"/>
          <a:stretch/>
        </p:blipFill>
        <p:spPr>
          <a:xfrm>
            <a:off x="2268360" y="3357720"/>
            <a:ext cx="4286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42:55Z</dcterms:created>
  <dc:creator>Вова</dc:creator>
  <dc:description/>
  <dc:language>en-US</dc:language>
  <cp:lastModifiedBy>И В. Яшкова</cp:lastModifiedBy>
  <dcterms:modified xsi:type="dcterms:W3CDTF">2012-08-03T12:26:31Z</dcterms:modified>
  <cp:revision>5</cp:revision>
  <dc:subject/>
  <dc:title>Слайд 1</dc:title>
</cp:coreProperties>
</file>