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10.gif" ContentType="image/gif"/>
  <Override PartName="/ppt/media/image12.jpeg" ContentType="image/jpeg"/>
  <Override PartName="/ppt/media/image27.jpeg" ContentType="image/jpeg"/>
  <Override PartName="/ppt/media/image5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1B6C-9806-475D-85CD-1989BFBB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6FB7-E4D3-4151-A370-4B19ABBD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49C6-B323-4027-BBEC-64588B0B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3F29-3614-4B9A-9D3F-DEC4742B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423F-1731-4BAA-A807-755F92D2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2A69-55A6-4653-BFCE-39B5659E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2096-06BB-4603-A502-EA82C199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B33D-8AEC-4FC2-BAC1-7B0B0CAD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FFA5-A5B2-4DEC-A11E-2331715D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5052-EFDF-409B-9A17-F6A7B7DC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46F8-26D5-48B2-99D1-4B211E3E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4B0A-6E92-4BC6-8447-90BD995E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F5F5-A10F-4D05-9421-47FBA953C5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075"/>
          <p:cNvSpPr txBox="1"/>
          <p:nvPr/>
        </p:nvSpPr>
        <p:spPr>
          <a:xfrm>
            <a:off x="285840" y="214200"/>
            <a:ext cx="8215200" cy="481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 Unicode MS"/>
              </a:rPr>
              <a:t> </a:t>
            </a:r>
            <a:endParaRPr b="0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42920" y="357120"/>
            <a:ext cx="82868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 Формирование гражданского          воспитания  через создание волонтерских отрядов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Автор проекта : Новичкова Елена Юр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Место реализации проекта: Шипицынское сельское посе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II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районный смотр –конкурс социально значимых проектов занятости несовершеннолетних в летний период 2011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3"/>
          <p:cNvSpPr/>
          <p:nvPr/>
        </p:nvSpPr>
        <p:spPr>
          <a:xfrm>
            <a:off x="684360" y="260280"/>
            <a:ext cx="4744800" cy="597960"/>
          </a:xfrm>
          <a:prstGeom prst="downArrowCallout">
            <a:avLst>
              <a:gd name="adj1" fmla="val 62163"/>
              <a:gd name="adj2" fmla="val 61349"/>
              <a:gd name="adj3" fmla="val 29606"/>
              <a:gd name="adj4" fmla="val 66667"/>
            </a:avLst>
          </a:prstGeom>
          <a:gradFill rotWithShape="0">
            <a:gsLst>
              <a:gs pos="0">
                <a:srgbClr val="838300"/>
              </a:gs>
              <a:gs pos="50000">
                <a:srgbClr val="ffff00"/>
              </a:gs>
              <a:gs pos="100000">
                <a:srgbClr val="838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ветительское напр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4143240" y="4214880"/>
            <a:ext cx="2305080" cy="1089000"/>
            <a:chOff x="4143240" y="4214880"/>
            <a:chExt cx="2305080" cy="1089000"/>
          </a:xfrm>
        </p:grpSpPr>
        <p:sp>
          <p:nvSpPr>
            <p:cNvPr id="120" name="File"/>
            <p:cNvSpPr/>
            <p:nvPr/>
          </p:nvSpPr>
          <p:spPr>
            <a:xfrm>
              <a:off x="4143240" y="4214880"/>
              <a:ext cx="2305080" cy="1089000"/>
            </a:xfrm>
            <a:prstGeom prst="pi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6"/>
            <p:cNvSpPr/>
            <p:nvPr/>
          </p:nvSpPr>
          <p:spPr>
            <a:xfrm>
              <a:off x="4357800" y="4500720"/>
              <a:ext cx="17920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Встречи с родителями, Советом школы, администрацией, школы сел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Group 7"/>
          <p:cNvGrpSpPr/>
          <p:nvPr/>
        </p:nvGrpSpPr>
        <p:grpSpPr>
          <a:xfrm>
            <a:off x="6643800" y="3786120"/>
            <a:ext cx="2305080" cy="1089000"/>
            <a:chOff x="6643800" y="3786120"/>
            <a:chExt cx="2305080" cy="1089000"/>
          </a:xfrm>
        </p:grpSpPr>
        <p:sp>
          <p:nvSpPr>
            <p:cNvPr id="123" name="File"/>
            <p:cNvSpPr/>
            <p:nvPr/>
          </p:nvSpPr>
          <p:spPr>
            <a:xfrm>
              <a:off x="6643800" y="3786120"/>
              <a:ext cx="2305080" cy="1089000"/>
            </a:xfrm>
            <a:prstGeom prst="pi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6788520" y="4290840"/>
              <a:ext cx="2087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Экскурсия в музей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10"/>
          <p:cNvGrpSpPr/>
          <p:nvPr/>
        </p:nvGrpSpPr>
        <p:grpSpPr>
          <a:xfrm>
            <a:off x="214200" y="3143160"/>
            <a:ext cx="2305080" cy="1089000"/>
            <a:chOff x="214200" y="3143160"/>
            <a:chExt cx="2305080" cy="1089000"/>
          </a:xfrm>
        </p:grpSpPr>
        <p:sp>
          <p:nvSpPr>
            <p:cNvPr id="126" name="File"/>
            <p:cNvSpPr/>
            <p:nvPr/>
          </p:nvSpPr>
          <p:spPr>
            <a:xfrm>
              <a:off x="214200" y="3143160"/>
              <a:ext cx="2305080" cy="1089000"/>
            </a:xfrm>
            <a:prstGeom prst="pi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12"/>
            <p:cNvSpPr/>
            <p:nvPr/>
          </p:nvSpPr>
          <p:spPr>
            <a:xfrm>
              <a:off x="501480" y="3574800"/>
              <a:ext cx="1871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Классный час « По дорогам Шипицынского с. Поселения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3"/>
          <p:cNvGrpSpPr/>
          <p:nvPr/>
        </p:nvGrpSpPr>
        <p:grpSpPr>
          <a:xfrm>
            <a:off x="6643800" y="5286240"/>
            <a:ext cx="2305080" cy="1089000"/>
            <a:chOff x="6643800" y="5286240"/>
            <a:chExt cx="2305080" cy="1089000"/>
          </a:xfrm>
        </p:grpSpPr>
        <p:sp>
          <p:nvSpPr>
            <p:cNvPr id="129" name="File"/>
            <p:cNvSpPr/>
            <p:nvPr/>
          </p:nvSpPr>
          <p:spPr>
            <a:xfrm>
              <a:off x="6643800" y="5286240"/>
              <a:ext cx="2305080" cy="1089000"/>
            </a:xfrm>
            <a:prstGeom prst="pi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Изготовление и раздача листовок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15"/>
            <p:cNvSpPr/>
            <p:nvPr/>
          </p:nvSpPr>
          <p:spPr>
            <a:xfrm>
              <a:off x="6861240" y="5681520"/>
              <a:ext cx="2016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16"/>
          <p:cNvGrpSpPr/>
          <p:nvPr/>
        </p:nvGrpSpPr>
        <p:grpSpPr>
          <a:xfrm>
            <a:off x="3500280" y="5643720"/>
            <a:ext cx="2305080" cy="1089000"/>
            <a:chOff x="3500280" y="5643720"/>
            <a:chExt cx="2305080" cy="1089000"/>
          </a:xfrm>
        </p:grpSpPr>
        <p:sp>
          <p:nvSpPr>
            <p:cNvPr id="132" name="File"/>
            <p:cNvSpPr/>
            <p:nvPr/>
          </p:nvSpPr>
          <p:spPr>
            <a:xfrm>
              <a:off x="3500280" y="5643720"/>
              <a:ext cx="2305080" cy="1089000"/>
            </a:xfrm>
            <a:prstGeom prst="pi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18"/>
            <p:cNvSpPr/>
            <p:nvPr/>
          </p:nvSpPr>
          <p:spPr>
            <a:xfrm>
              <a:off x="3924360" y="6070680"/>
              <a:ext cx="1439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пецвыпуск в школьной газете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Group 19"/>
          <p:cNvGrpSpPr/>
          <p:nvPr/>
        </p:nvGrpSpPr>
        <p:grpSpPr>
          <a:xfrm>
            <a:off x="1428840" y="4357800"/>
            <a:ext cx="2305080" cy="1089000"/>
            <a:chOff x="1428840" y="4357800"/>
            <a:chExt cx="2305080" cy="1089000"/>
          </a:xfrm>
        </p:grpSpPr>
        <p:sp>
          <p:nvSpPr>
            <p:cNvPr id="135" name="File"/>
            <p:cNvSpPr/>
            <p:nvPr/>
          </p:nvSpPr>
          <p:spPr>
            <a:xfrm>
              <a:off x="1428840" y="4357800"/>
              <a:ext cx="2305080" cy="1089000"/>
            </a:xfrm>
            <a:prstGeom prst="pi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21"/>
            <p:cNvSpPr/>
            <p:nvPr/>
          </p:nvSpPr>
          <p:spPr>
            <a:xfrm>
              <a:off x="1673280" y="4573800"/>
              <a:ext cx="19288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Викторина « Очевидное ,невероятное»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22"/>
          <p:cNvGrpSpPr/>
          <p:nvPr/>
        </p:nvGrpSpPr>
        <p:grpSpPr>
          <a:xfrm>
            <a:off x="285840" y="5500800"/>
            <a:ext cx="2305080" cy="1089000"/>
            <a:chOff x="285840" y="5500800"/>
            <a:chExt cx="2305080" cy="1089000"/>
          </a:xfrm>
        </p:grpSpPr>
        <p:sp>
          <p:nvSpPr>
            <p:cNvPr id="138" name="File"/>
            <p:cNvSpPr/>
            <p:nvPr/>
          </p:nvSpPr>
          <p:spPr>
            <a:xfrm>
              <a:off x="285840" y="5500800"/>
              <a:ext cx="2305080" cy="1089000"/>
            </a:xfrm>
            <a:prstGeom prst="pi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24"/>
            <p:cNvSpPr/>
            <p:nvPr/>
          </p:nvSpPr>
          <p:spPr>
            <a:xfrm>
              <a:off x="357480" y="5858280"/>
              <a:ext cx="2232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Выступления перед жителями сел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AutoShape 7"/>
          <p:cNvSpPr/>
          <p:nvPr/>
        </p:nvSpPr>
        <p:spPr>
          <a:xfrm>
            <a:off x="6000840" y="142920"/>
            <a:ext cx="2636640" cy="19288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Рисунок 32" descr="Изображение 123"/>
          <p:cNvPicPr/>
          <p:nvPr/>
        </p:nvPicPr>
        <p:blipFill>
          <a:blip r:embed="rId3"/>
          <a:stretch/>
        </p:blipFill>
        <p:spPr>
          <a:xfrm>
            <a:off x="857160" y="1000080"/>
            <a:ext cx="2357640" cy="1940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6" descr="C:\Documents and Settings\Admin\Рабочий стол\SDC15278.JPG"/>
          <p:cNvPicPr/>
          <p:nvPr/>
        </p:nvPicPr>
        <p:blipFill>
          <a:blip r:embed="rId4"/>
          <a:stretch/>
        </p:blipFill>
        <p:spPr>
          <a:xfrm>
            <a:off x="3643200" y="2000160"/>
            <a:ext cx="250056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500"/>
                            </p:stCondLst>
                            <p:childTnLst>
                              <p:par>
                                <p:cTn id="4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1285920" y="428760"/>
            <a:ext cx="65721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00"/>
            </a:solidFill>
            <a:miter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удожественно-эстетическое напр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38040" y="1214280"/>
            <a:ext cx="609120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99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тупление перед работниками ЗАО « Лидер» с праздником « Егорьев день»,вечерняя программа в д. Гущино « Мы за ЗОЖ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Рисунок 5" descr="C:\Documents and Settings\Admin\Рабочий стол\102SSCAM\SDC16295.JPG"/>
          <p:cNvPicPr/>
          <p:nvPr/>
        </p:nvPicPr>
        <p:blipFill>
          <a:blip r:embed="rId1"/>
          <a:stretch/>
        </p:blipFill>
        <p:spPr>
          <a:xfrm>
            <a:off x="428760" y="2500200"/>
            <a:ext cx="2857320" cy="22608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6" descr="C:\Documents and Settings\Admin\Рабочий стол\102SSCAM\SDC16292.JPG"/>
          <p:cNvPicPr/>
          <p:nvPr/>
        </p:nvPicPr>
        <p:blipFill>
          <a:blip r:embed="rId2"/>
          <a:stretch/>
        </p:blipFill>
        <p:spPr>
          <a:xfrm>
            <a:off x="6215040" y="1714680"/>
            <a:ext cx="2500200" cy="20858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7" descr="C:\Documents and Settings\Admin\Рабочий стол\102SSCAM\SDC16291.JPG"/>
          <p:cNvPicPr/>
          <p:nvPr/>
        </p:nvPicPr>
        <p:blipFill>
          <a:blip r:embed="rId3"/>
          <a:stretch/>
        </p:blipFill>
        <p:spPr>
          <a:xfrm>
            <a:off x="2000160" y="4429080"/>
            <a:ext cx="2071800" cy="192888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8" descr="E:\Карбышево\Фотки Карбышева\ЗОЖ\IMG_7533.jpg"/>
          <p:cNvPicPr/>
          <p:nvPr/>
        </p:nvPicPr>
        <p:blipFill>
          <a:blip r:embed="rId4"/>
          <a:stretch/>
        </p:blipFill>
        <p:spPr>
          <a:xfrm>
            <a:off x="4214880" y="2857680"/>
            <a:ext cx="1571400" cy="264312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9" descr="E:\Карбышево\Фотки Карбышева\ЗОЖ\IMG_7541.jpg"/>
          <p:cNvPicPr/>
          <p:nvPr/>
        </p:nvPicPr>
        <p:blipFill>
          <a:blip r:embed="rId5"/>
          <a:stretch/>
        </p:blipFill>
        <p:spPr>
          <a:xfrm>
            <a:off x="6215040" y="4357800"/>
            <a:ext cx="2786040" cy="22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C:\Documents and Settings\Admin\Рабочий стол\день бега\SDC18104.JPG"/>
          <p:cNvPicPr/>
          <p:nvPr/>
        </p:nvPicPr>
        <p:blipFill>
          <a:blip r:embed="rId2"/>
          <a:stretch/>
        </p:blipFill>
        <p:spPr>
          <a:xfrm>
            <a:off x="285840" y="2857680"/>
            <a:ext cx="3643200" cy="3143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C:\Documents and Settings\Admin\Рабочий стол\день бега\SDC18106.JPG"/>
          <p:cNvPicPr/>
          <p:nvPr/>
        </p:nvPicPr>
        <p:blipFill>
          <a:blip r:embed="rId3"/>
          <a:stretch/>
        </p:blipFill>
        <p:spPr>
          <a:xfrm>
            <a:off x="5715000" y="1143000"/>
            <a:ext cx="3214800" cy="271476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5"/>
          <p:cNvSpPr/>
          <p:nvPr/>
        </p:nvSpPr>
        <p:spPr>
          <a:xfrm>
            <a:off x="2357280" y="285840"/>
            <a:ext cx="4286520" cy="576720"/>
          </a:xfrm>
          <a:prstGeom prst="roundRect">
            <a:avLst>
              <a:gd name="adj" fmla="val 16667"/>
            </a:avLst>
          </a:prstGeom>
          <a:solidFill>
            <a:srgbClr val="ff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ртивное направ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214200" y="928800"/>
            <a:ext cx="4714920" cy="1623960"/>
          </a:xfrm>
          <a:prstGeom prst="roundRect">
            <a:avLst>
              <a:gd name="adj" fmla="val 16667"/>
            </a:avLst>
          </a:prstGeom>
          <a:solidFill>
            <a:srgbClr val="ff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ужеская встреча по футболу среди молодежи с. Шипицыно и д.Гущино, велопоход в исчезнувшую д. Могулинка,  проведение спортивного праздник а в д/с « Росин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1" descr="C:\Documents and Settings\Admin\Рабочий стол\SDC15876.JPG"/>
          <p:cNvPicPr/>
          <p:nvPr/>
        </p:nvPicPr>
        <p:blipFill>
          <a:blip r:embed="rId4"/>
          <a:stretch/>
        </p:blipFill>
        <p:spPr>
          <a:xfrm>
            <a:off x="4572000" y="4071960"/>
            <a:ext cx="285768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9" descr="C:\Documents and Settings\Admin\Рабочий стол\SSL22814.JPG"/>
          <p:cNvPicPr/>
          <p:nvPr/>
        </p:nvPicPr>
        <p:blipFill>
          <a:blip r:embed="rId1"/>
          <a:stretch/>
        </p:blipFill>
        <p:spPr>
          <a:xfrm>
            <a:off x="714240" y="1643040"/>
            <a:ext cx="4143600" cy="3429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C:\Documents and Settings\Admin\Рабочий стол\SSL22827.JPG"/>
          <p:cNvPicPr/>
          <p:nvPr/>
        </p:nvPicPr>
        <p:blipFill>
          <a:blip r:embed="rId2"/>
          <a:stretch/>
        </p:blipFill>
        <p:spPr>
          <a:xfrm>
            <a:off x="5072040" y="2857680"/>
            <a:ext cx="3857760" cy="38574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4"/>
          <p:cNvSpPr/>
          <p:nvPr/>
        </p:nvSpPr>
        <p:spPr>
          <a:xfrm>
            <a:off x="1285920" y="285840"/>
            <a:ext cx="696276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eac71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уристско-краеведческое напр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"/>
          <p:cNvSpPr/>
          <p:nvPr/>
        </p:nvSpPr>
        <p:spPr>
          <a:xfrm>
            <a:off x="2071800" y="928800"/>
            <a:ext cx="550044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eac71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нятия по физической подготов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29ff"/>
            </a:gs>
            <a:gs pos="50000">
              <a:srgbClr val="b2b2b2"/>
            </a:gs>
            <a:gs pos="100000">
              <a:srgbClr val="942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Documents and Settings\Администратор\Рабочий стол\Новая папка (2)\DSC01564.JPG"/>
          <p:cNvPicPr/>
          <p:nvPr/>
        </p:nvPicPr>
        <p:blipFill>
          <a:blip r:embed="rId1"/>
          <a:stretch/>
        </p:blipFill>
        <p:spPr>
          <a:xfrm>
            <a:off x="142920" y="1571760"/>
            <a:ext cx="2214360" cy="1928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Documents and Settings\Администратор\Рабочий стол\Новая папка (2)\DSC02253.JPG"/>
          <p:cNvPicPr/>
          <p:nvPr/>
        </p:nvPicPr>
        <p:blipFill>
          <a:blip r:embed="rId2"/>
          <a:stretch/>
        </p:blipFill>
        <p:spPr>
          <a:xfrm>
            <a:off x="6929280" y="4143240"/>
            <a:ext cx="2000520" cy="1857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3"/>
          <a:stretch/>
        </p:blipFill>
        <p:spPr>
          <a:xfrm>
            <a:off x="214200" y="4286160"/>
            <a:ext cx="2071800" cy="187344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57"/>
          <p:cNvSpPr/>
          <p:nvPr/>
        </p:nvSpPr>
        <p:spPr>
          <a:xfrm>
            <a:off x="7500960" y="6143760"/>
            <a:ext cx="857160" cy="428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уши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58"/>
          <p:cNvSpPr/>
          <p:nvPr/>
        </p:nvSpPr>
        <p:spPr>
          <a:xfrm>
            <a:off x="714240" y="3714840"/>
            <a:ext cx="1143000" cy="428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дуванч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59"/>
          <p:cNvSpPr/>
          <p:nvPr/>
        </p:nvSpPr>
        <p:spPr>
          <a:xfrm>
            <a:off x="857160" y="6215040"/>
            <a:ext cx="785880" cy="357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ри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5" descr="C:\Documents and Settings\Admin\Рабочий стол\SSL25614.JPG"/>
          <p:cNvPicPr/>
          <p:nvPr/>
        </p:nvPicPr>
        <p:blipFill>
          <a:blip r:embed="rId4"/>
          <a:stretch/>
        </p:blipFill>
        <p:spPr>
          <a:xfrm>
            <a:off x="3071880" y="1571760"/>
            <a:ext cx="3429000" cy="278604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61"/>
          <p:cNvSpPr/>
          <p:nvPr/>
        </p:nvSpPr>
        <p:spPr>
          <a:xfrm>
            <a:off x="3143160" y="4500720"/>
            <a:ext cx="3071880" cy="71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ники проекта « Сохраним зеленую зону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1928880" y="214200"/>
            <a:ext cx="5072040" cy="398880"/>
          </a:xfrm>
          <a:prstGeom prst="rect">
            <a:avLst/>
          </a:prstGeom>
          <a:solidFill>
            <a:srgbClr val="ffff81"/>
          </a:solidFill>
          <a:ln w="38160">
            <a:solidFill>
              <a:srgbClr val="9900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логическое напр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643040" y="714240"/>
            <a:ext cx="5729400" cy="642600"/>
          </a:xfrm>
          <a:prstGeom prst="rect">
            <a:avLst/>
          </a:prstGeom>
          <a:solidFill>
            <a:srgbClr val="ffff81"/>
          </a:solidFill>
          <a:ln w="38160">
            <a:solidFill>
              <a:srgbClr val="9900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ор лекарственных трав, экологический десант « Чистое озер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"/>
          <p:cNvSpPr/>
          <p:nvPr/>
        </p:nvSpPr>
        <p:spPr>
          <a:xfrm>
            <a:off x="1357200" y="1071720"/>
            <a:ext cx="642960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e2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лый стол, оформление фотоальбом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571760" y="428760"/>
            <a:ext cx="585792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e2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ведение итог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Содержимое 3" descr="SDC13327.JPG"/>
          <p:cNvPicPr/>
          <p:nvPr/>
        </p:nvPicPr>
        <p:blipFill>
          <a:blip r:embed="rId1"/>
          <a:stretch/>
        </p:blipFill>
        <p:spPr>
          <a:xfrm>
            <a:off x="357120" y="4286160"/>
            <a:ext cx="2786040" cy="2143080"/>
          </a:xfrm>
          <a:prstGeom prst="rect">
            <a:avLst/>
          </a:prstGeom>
          <a:ln w="0">
            <a:noFill/>
          </a:ln>
        </p:spPr>
      </p:pic>
      <p:pic>
        <p:nvPicPr>
          <p:cNvPr id="172" name="Содержимое 3" descr="SDC13325.JPG"/>
          <p:cNvPicPr/>
          <p:nvPr/>
        </p:nvPicPr>
        <p:blipFill>
          <a:blip r:embed="rId2"/>
          <a:stretch/>
        </p:blipFill>
        <p:spPr>
          <a:xfrm>
            <a:off x="5572080" y="4286160"/>
            <a:ext cx="3143160" cy="2214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E:\фотошкола\SSL25607.JPG"/>
          <p:cNvPicPr/>
          <p:nvPr/>
        </p:nvPicPr>
        <p:blipFill>
          <a:blip r:embed="rId3"/>
          <a:stretch/>
        </p:blipFill>
        <p:spPr>
          <a:xfrm>
            <a:off x="3000240" y="1643040"/>
            <a:ext cx="335772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6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285840" y="90360"/>
            <a:ext cx="84294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Цель: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ация группы старшеклассников школы для прове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уристско- краеведческой и гражданско- патриотической раб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целью просветительской работы среди населения села, молодеж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школьников об исчезнувших деревнях посе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Прямоугольник 8"/>
          <p:cNvSpPr/>
          <p:nvPr/>
        </p:nvSpPr>
        <p:spPr>
          <a:xfrm>
            <a:off x="214200" y="1357200"/>
            <a:ext cx="85726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создать инициативную группу по разработке проект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привлечь внимание руководство школы, администрации, родителей, учащихся, молодежь к идее создания волонтерского отря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разработать программу действ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обеспечить финансовую поддержку проекта и деятельности отря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обеспечить охрану жизни и здоровья участников волонтерского отря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провести туристско- спортивную подготовку и занятия по технике безопасности участник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подготовить отчет, обобщить опыт деятельности отря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использовать накопленный опыт работы для дальнейшей разработки программы деятельности волонтерских отрядов по этому и другим направлениям школьной и общественной жиз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6"/>
          <p:cNvSpPr txBox="1"/>
          <p:nvPr/>
        </p:nvSpPr>
        <p:spPr>
          <a:xfrm>
            <a:off x="2286000" y="2057400"/>
            <a:ext cx="5105520" cy="2895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i="1" lang="en-US" sz="2000" spc="1" strike="noStrike">
                <a:ln w="0">
                  <a:noFill/>
                </a:ln>
                <a:solidFill>
                  <a:srgbClr val="000000"/>
                </a:solidFill>
                <a:latin typeface="Century Schoolbook"/>
              </a:rPr>
              <a:t>Девиз проекта:</a:t>
            </a:r>
            <a:endParaRPr b="1" i="1" lang="en-US" sz="2000" spc="1" strike="noStrike">
              <a:ln w="0">
                <a:noFill/>
              </a:ln>
              <a:solidFill>
                <a:srgbClr val="000000"/>
              </a:solidFill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000000"/>
                </a:solidFill>
                <a:latin typeface="Century Schoolbook"/>
              </a:rPr>
              <a:t>« Через познание и</a:t>
            </a:r>
            <a:endParaRPr b="1" i="1" lang="en-US" sz="2000" spc="1" strike="noStrike">
              <a:ln w="0">
                <a:noFill/>
              </a:ln>
              <a:solidFill>
                <a:srgbClr val="000000"/>
              </a:solidFill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2000" spc="1" strike="noStrike">
                <a:ln w="0">
                  <a:noFill/>
                </a:ln>
                <a:solidFill>
                  <a:srgbClr val="000000"/>
                </a:solidFill>
                <a:latin typeface="Century Schoolbook"/>
              </a:rPr>
              <a:t>действие – к делам,</a:t>
            </a:r>
            <a:endParaRPr b="1" i="1" lang="en-US" sz="2000" spc="1" strike="noStrike">
              <a:ln w="0">
                <a:noFill/>
              </a:ln>
              <a:solidFill>
                <a:srgbClr val="000000"/>
              </a:solidFill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2000" spc="1" strike="noStrike">
                <a:ln w="0">
                  <a:noFill/>
                </a:ln>
                <a:solidFill>
                  <a:srgbClr val="000000"/>
                </a:solidFill>
                <a:latin typeface="Century Schoolbook"/>
              </a:rPr>
              <a:t>умам и  сердцам»</a:t>
            </a:r>
            <a:endParaRPr b="1" i="1" lang="en-US" sz="2000" spc="1" strike="noStrike">
              <a:ln w="0">
                <a:noFill/>
              </a:ln>
              <a:solidFill>
                <a:srgbClr val="000000"/>
              </a:solidFill>
              <a:latin typeface="Century Schoolbook"/>
              <a:ea typeface="Century Schoolbook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57160" y="142920"/>
          <a:ext cx="6072120" cy="4221000"/>
        </p:xfrm>
        <a:graphic>
          <a:graphicData uri="http://schemas.openxmlformats.org/drawingml/2006/table">
            <a:tbl>
              <a:tblPr/>
              <a:tblGrid>
                <a:gridCol w="403200"/>
                <a:gridCol w="1693800"/>
                <a:gridCol w="3975120"/>
              </a:tblGrid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готови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ристско-краевед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светитель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12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ртив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лог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триот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удожественно-эстет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и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едение итог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pic>
        <p:nvPicPr>
          <p:cNvPr id="48" name="Рисунок 3" descr="C:\Documents and Settings\Admin\Рабочий стол\102SSCAM\SDC16291.JPG"/>
          <p:cNvPicPr/>
          <p:nvPr/>
        </p:nvPicPr>
        <p:blipFill>
          <a:blip r:embed="rId2"/>
          <a:stretch/>
        </p:blipFill>
        <p:spPr>
          <a:xfrm>
            <a:off x="5143680" y="4500720"/>
            <a:ext cx="2427120" cy="22143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E:\Карбышево\Фотки Карбышева\ЗОЖ\IMG_7533.jpg"/>
          <p:cNvPicPr/>
          <p:nvPr/>
        </p:nvPicPr>
        <p:blipFill>
          <a:blip r:embed="rId3"/>
          <a:stretch/>
        </p:blipFill>
        <p:spPr>
          <a:xfrm>
            <a:off x="7143840" y="1000080"/>
            <a:ext cx="1857240" cy="2760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C:\Documents and Settings\Admin\Рабочий стол\SDC15272.JPG"/>
          <p:cNvPicPr/>
          <p:nvPr/>
        </p:nvPicPr>
        <p:blipFill>
          <a:blip r:embed="rId4"/>
          <a:stretch/>
        </p:blipFill>
        <p:spPr>
          <a:xfrm>
            <a:off x="357120" y="4429080"/>
            <a:ext cx="30006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33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5"/>
          <p:cNvSpPr/>
          <p:nvPr/>
        </p:nvSpPr>
        <p:spPr>
          <a:xfrm>
            <a:off x="2571840" y="214200"/>
            <a:ext cx="3894120" cy="2386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749"/>
              </a:spcBef>
              <a:buClr>
                <a:srgbClr val="cc33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хем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действия 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ктам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окультурн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Овал 17"/>
          <p:cNvSpPr/>
          <p:nvPr/>
        </p:nvSpPr>
        <p:spPr>
          <a:xfrm>
            <a:off x="6858000" y="1928880"/>
            <a:ext cx="2143080" cy="1214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Овал 18"/>
          <p:cNvSpPr/>
          <p:nvPr/>
        </p:nvSpPr>
        <p:spPr>
          <a:xfrm>
            <a:off x="142920" y="2214720"/>
            <a:ext cx="1714320" cy="1214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Овал 19"/>
          <p:cNvSpPr/>
          <p:nvPr/>
        </p:nvSpPr>
        <p:spPr>
          <a:xfrm>
            <a:off x="214200" y="3429000"/>
            <a:ext cx="178596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ет шко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Овал 21"/>
          <p:cNvSpPr/>
          <p:nvPr/>
        </p:nvSpPr>
        <p:spPr>
          <a:xfrm>
            <a:off x="142920" y="5000760"/>
            <a:ext cx="2571840" cy="16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м-ция сельского по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Овал 22"/>
          <p:cNvSpPr/>
          <p:nvPr/>
        </p:nvSpPr>
        <p:spPr>
          <a:xfrm>
            <a:off x="6572160" y="5000760"/>
            <a:ext cx="2428920" cy="1500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м- ция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ко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5429160" y="3643200"/>
            <a:ext cx="2286000" cy="1357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нс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Прямая со стрелкой 25"/>
          <p:cNvCxnSpPr>
            <a:stCxn id="51" idx="1"/>
            <a:endCxn id="53" idx="6"/>
          </p:cNvCxnSpPr>
          <p:nvPr/>
        </p:nvCxnSpPr>
        <p:spPr>
          <a:xfrm flipH="1">
            <a:off x="1856520" y="1396080"/>
            <a:ext cx="715320" cy="142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Прямая со стрелкой 29"/>
          <p:cNvCxnSpPr/>
          <p:nvPr/>
        </p:nvCxnSpPr>
        <p:spPr>
          <a:xfrm flipH="1">
            <a:off x="1856520" y="2428560"/>
            <a:ext cx="786600" cy="12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Стрелка вправо 30"/>
          <p:cNvSpPr/>
          <p:nvPr/>
        </p:nvSpPr>
        <p:spPr>
          <a:xfrm>
            <a:off x="2786040" y="2571840"/>
            <a:ext cx="71640" cy="46080"/>
          </a:xfrm>
          <a:prstGeom prst="rightArrow">
            <a:avLst>
              <a:gd name="adj1" fmla="val 50000"/>
              <a:gd name="adj2" fmla="val 4975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Прямая со стрелкой 33"/>
          <p:cNvCxnSpPr/>
          <p:nvPr/>
        </p:nvCxnSpPr>
        <p:spPr>
          <a:xfrm flipH="1">
            <a:off x="1999800" y="2642760"/>
            <a:ext cx="1000800" cy="242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Прямая со стрелкой 35"/>
          <p:cNvCxnSpPr>
            <a:endCxn id="52" idx="1"/>
          </p:cNvCxnSpPr>
          <p:nvPr/>
        </p:nvCxnSpPr>
        <p:spPr>
          <a:xfrm>
            <a:off x="6500520" y="1785600"/>
            <a:ext cx="67212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Прямая со стрелкой 37"/>
          <p:cNvCxnSpPr/>
          <p:nvPr/>
        </p:nvCxnSpPr>
        <p:spPr>
          <a:xfrm>
            <a:off x="6286680" y="2499840"/>
            <a:ext cx="35784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Прямая со стрелкой 40"/>
          <p:cNvCxnSpPr/>
          <p:nvPr/>
        </p:nvCxnSpPr>
        <p:spPr>
          <a:xfrm>
            <a:off x="6428160" y="2285640"/>
            <a:ext cx="2001240" cy="278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5" name="Рисунок 41" descr="C:\Documents and Settings\Admin\Рабочий стол\102SSCAM\SDC16292.JPG"/>
          <p:cNvPicPr/>
          <p:nvPr/>
        </p:nvPicPr>
        <p:blipFill>
          <a:blip r:embed="rId1"/>
          <a:stretch/>
        </p:blipFill>
        <p:spPr>
          <a:xfrm>
            <a:off x="357120" y="214200"/>
            <a:ext cx="1928880" cy="171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WINDOWS\Рабочий стол\Зарецкая\карт\учит.jpg"/>
          <p:cNvPicPr/>
          <p:nvPr/>
        </p:nvPicPr>
        <p:blipFill>
          <a:blip r:embed="rId2"/>
          <a:stretch/>
        </p:blipFill>
        <p:spPr>
          <a:xfrm>
            <a:off x="3071880" y="4643280"/>
            <a:ext cx="2357280" cy="2000520"/>
          </a:xfrm>
          <a:prstGeom prst="rect">
            <a:avLst/>
          </a:prstGeom>
          <a:ln w="381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67" name="Picture 4" descr="C:\WINDOWS\Рабочий стол\Зарецкая\pic\Педсовет.jpg"/>
          <p:cNvPicPr/>
          <p:nvPr/>
        </p:nvPicPr>
        <p:blipFill>
          <a:blip r:embed="rId3"/>
          <a:stretch/>
        </p:blipFill>
        <p:spPr>
          <a:xfrm>
            <a:off x="6715080" y="142920"/>
            <a:ext cx="2071800" cy="1571760"/>
          </a:xfrm>
          <a:prstGeom prst="rect">
            <a:avLst/>
          </a:prstGeom>
          <a:ln w="38160">
            <a:solidFill>
              <a:srgbClr val="ff9933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8" name="Овал 18"/>
          <p:cNvSpPr/>
          <p:nvPr/>
        </p:nvSpPr>
        <p:spPr>
          <a:xfrm>
            <a:off x="3286080" y="3214800"/>
            <a:ext cx="2143080" cy="1000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пута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Прямая со стрелкой 20"/>
          <p:cNvCxnSpPr/>
          <p:nvPr/>
        </p:nvCxnSpPr>
        <p:spPr>
          <a:xfrm flipH="1">
            <a:off x="4214520" y="2571480"/>
            <a:ext cx="7200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3"/>
          <p:cNvSpPr/>
          <p:nvPr/>
        </p:nvSpPr>
        <p:spPr>
          <a:xfrm>
            <a:off x="2000160" y="142920"/>
            <a:ext cx="5572080" cy="50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99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прохождения маршру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ая соединительная линия 14"/>
          <p:cNvSpPr/>
          <p:nvPr/>
        </p:nvSpPr>
        <p:spPr>
          <a:xfrm flipH="1">
            <a:off x="3855600" y="3357720"/>
            <a:ext cx="180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оугольник 23"/>
          <p:cNvSpPr/>
          <p:nvPr/>
        </p:nvSpPr>
        <p:spPr>
          <a:xfrm>
            <a:off x="4143240" y="1357200"/>
            <a:ext cx="1785960" cy="50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.Гущи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Прямоугольник 24"/>
          <p:cNvSpPr/>
          <p:nvPr/>
        </p:nvSpPr>
        <p:spPr>
          <a:xfrm>
            <a:off x="6143760" y="2643120"/>
            <a:ext cx="2071440" cy="428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.Могули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рямоугольник 25"/>
          <p:cNvSpPr/>
          <p:nvPr/>
        </p:nvSpPr>
        <p:spPr>
          <a:xfrm>
            <a:off x="3071880" y="3071880"/>
            <a:ext cx="2071800" cy="50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.Шипицы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Прямоугольник 26"/>
          <p:cNvSpPr/>
          <p:nvPr/>
        </p:nvSpPr>
        <p:spPr>
          <a:xfrm>
            <a:off x="500040" y="4929120"/>
            <a:ext cx="2143080" cy="428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.Кирсанов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Прямоугольник 27"/>
          <p:cNvSpPr/>
          <p:nvPr/>
        </p:nvSpPr>
        <p:spPr>
          <a:xfrm>
            <a:off x="4500720" y="6072120"/>
            <a:ext cx="2428560" cy="571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.Малокаирку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Кольцо 29"/>
          <p:cNvSpPr/>
          <p:nvPr/>
        </p:nvSpPr>
        <p:spPr>
          <a:xfrm>
            <a:off x="3786120" y="3571920"/>
            <a:ext cx="214560" cy="214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Кольцо 30"/>
          <p:cNvSpPr/>
          <p:nvPr/>
        </p:nvSpPr>
        <p:spPr>
          <a:xfrm>
            <a:off x="4500720" y="1857240"/>
            <a:ext cx="214200" cy="2145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Кольцо 31"/>
          <p:cNvSpPr/>
          <p:nvPr/>
        </p:nvSpPr>
        <p:spPr>
          <a:xfrm>
            <a:off x="5929200" y="2643120"/>
            <a:ext cx="214560" cy="285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Кольцо 32"/>
          <p:cNvSpPr/>
          <p:nvPr/>
        </p:nvSpPr>
        <p:spPr>
          <a:xfrm>
            <a:off x="2643120" y="5072040"/>
            <a:ext cx="214560" cy="214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Кольцо 33"/>
          <p:cNvSpPr/>
          <p:nvPr/>
        </p:nvSpPr>
        <p:spPr>
          <a:xfrm>
            <a:off x="4357800" y="6000840"/>
            <a:ext cx="214200" cy="285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Прямая со стрелкой 35"/>
          <p:cNvCxnSpPr>
            <a:endCxn id="73" idx="2"/>
          </p:cNvCxnSpPr>
          <p:nvPr/>
        </p:nvCxnSpPr>
        <p:spPr>
          <a:xfrm flipV="1">
            <a:off x="4428000" y="1856880"/>
            <a:ext cx="608760" cy="121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Прямая со стрелкой 37"/>
          <p:cNvCxnSpPr>
            <a:endCxn id="81" idx="8"/>
          </p:cNvCxnSpPr>
          <p:nvPr/>
        </p:nvCxnSpPr>
        <p:spPr>
          <a:xfrm flipH="1">
            <a:off x="2857320" y="5142600"/>
            <a:ext cx="1000800" cy="3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Прямая со стрелкой 39"/>
          <p:cNvCxnSpPr>
            <a:stCxn id="75" idx="3"/>
          </p:cNvCxnSpPr>
          <p:nvPr/>
        </p:nvCxnSpPr>
        <p:spPr>
          <a:xfrm flipV="1">
            <a:off x="5143680" y="2928240"/>
            <a:ext cx="1000800" cy="39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Прямая со стрелкой 41"/>
          <p:cNvCxnSpPr/>
          <p:nvPr/>
        </p:nvCxnSpPr>
        <p:spPr>
          <a:xfrm>
            <a:off x="3857760" y="5143320"/>
            <a:ext cx="1072080" cy="9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7" name="Picture 6" descr="j0223745"/>
          <p:cNvPicPr/>
          <p:nvPr/>
        </p:nvPicPr>
        <p:blipFill>
          <a:blip r:embed="rId2"/>
          <a:stretch/>
        </p:blipFill>
        <p:spPr>
          <a:xfrm>
            <a:off x="6572160" y="3429000"/>
            <a:ext cx="1697040" cy="2379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:\Documents and Settings\Admin\Рабочий стол\день бега\SDC18106.JPG"/>
          <p:cNvPicPr/>
          <p:nvPr/>
        </p:nvPicPr>
        <p:blipFill>
          <a:blip r:embed="rId3"/>
          <a:stretch/>
        </p:blipFill>
        <p:spPr>
          <a:xfrm>
            <a:off x="357120" y="1000080"/>
            <a:ext cx="26431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8100"/>
            </a:gs>
            <a:gs pos="50000">
              <a:srgbClr val="ffcc00"/>
            </a:gs>
            <a:gs pos="100000">
              <a:srgbClr val="c281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500040" y="428760"/>
            <a:ext cx="815184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5e593"/>
              </a:gs>
              <a:gs pos="50000">
                <a:srgbClr val="ffffff"/>
              </a:gs>
              <a:gs pos="100000">
                <a:srgbClr val="f5e593"/>
              </a:gs>
            </a:gsLst>
            <a:lin ang="5400000"/>
          </a:gradFill>
          <a:ln w="1908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триотическое напр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4" descr="C:\Documents and Settings\Admin\Рабочий стол\Картинки ВОВ\Star_Victory.jpg"/>
          <p:cNvPicPr/>
          <p:nvPr/>
        </p:nvPicPr>
        <p:blipFill>
          <a:blip r:embed="rId1"/>
          <a:stretch/>
        </p:blipFill>
        <p:spPr>
          <a:xfrm>
            <a:off x="642960" y="1071720"/>
            <a:ext cx="2428920" cy="10000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2"/>
          <p:cNvSpPr/>
          <p:nvPr/>
        </p:nvSpPr>
        <p:spPr>
          <a:xfrm>
            <a:off x="3286080" y="1000080"/>
            <a:ext cx="5500800" cy="1284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00"/>
            </a:solidFill>
            <a:miter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удовой десант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тупление перед ветеранам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треча с ветеранами, тружениками тыла по сбору фотографий, экспонатов в музей , анкетирование ,пресс-конференция « Как живешь ветеран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Рисунок 7" descr="C:\Documents and Settings\Admin\Рабочий стол\101MSDCF\DSC01518.JPG"/>
          <p:cNvPicPr/>
          <p:nvPr/>
        </p:nvPicPr>
        <p:blipFill>
          <a:blip r:embed="rId2"/>
          <a:stretch/>
        </p:blipFill>
        <p:spPr>
          <a:xfrm>
            <a:off x="214200" y="2857680"/>
            <a:ext cx="1643040" cy="24285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1" descr="G:\SSL22805.JPG"/>
          <p:cNvPicPr/>
          <p:nvPr/>
        </p:nvPicPr>
        <p:blipFill>
          <a:blip r:embed="rId3"/>
          <a:stretch/>
        </p:blipFill>
        <p:spPr>
          <a:xfrm>
            <a:off x="6786720" y="5143680"/>
            <a:ext cx="1857240" cy="14414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3" descr="IMG_0320"/>
          <p:cNvPicPr/>
          <p:nvPr/>
        </p:nvPicPr>
        <p:blipFill>
          <a:blip r:embed="rId4"/>
          <a:stretch/>
        </p:blipFill>
        <p:spPr>
          <a:xfrm>
            <a:off x="4714920" y="5214960"/>
            <a:ext cx="1643040" cy="1332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4" descr="C:\Documents and Settings\Admin\Рабочий стол\SSL23707.JPG"/>
          <p:cNvPicPr/>
          <p:nvPr/>
        </p:nvPicPr>
        <p:blipFill>
          <a:blip r:embed="rId5"/>
          <a:stretch/>
        </p:blipFill>
        <p:spPr>
          <a:xfrm>
            <a:off x="2143080" y="2357280"/>
            <a:ext cx="1714680" cy="30355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5" descr="C:\Documents and Settings\Admin\Рабочий стол\SSL23712.JPG"/>
          <p:cNvPicPr/>
          <p:nvPr/>
        </p:nvPicPr>
        <p:blipFill>
          <a:blip r:embed="rId6"/>
          <a:stretch/>
        </p:blipFill>
        <p:spPr>
          <a:xfrm>
            <a:off x="6500880" y="2286000"/>
            <a:ext cx="1428840" cy="2143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Documents and Settings\Admin\Рабочий стол\SSL23715.JPG"/>
          <p:cNvPicPr/>
          <p:nvPr/>
        </p:nvPicPr>
        <p:blipFill>
          <a:blip r:embed="rId7"/>
          <a:stretch/>
        </p:blipFill>
        <p:spPr>
          <a:xfrm>
            <a:off x="4143240" y="2286000"/>
            <a:ext cx="1500480" cy="22147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7"/>
          <p:cNvSpPr/>
          <p:nvPr/>
        </p:nvSpPr>
        <p:spPr>
          <a:xfrm>
            <a:off x="2143080" y="5643720"/>
            <a:ext cx="1928880" cy="50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тникова Александр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Григорьевна, 1923г.р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18"/>
          <p:cNvSpPr/>
          <p:nvPr/>
        </p:nvSpPr>
        <p:spPr>
          <a:xfrm>
            <a:off x="142920" y="5429160"/>
            <a:ext cx="1714320" cy="642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агаревская Александрина Петровна, 1925г.р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Прямоугольник 19"/>
          <p:cNvSpPr/>
          <p:nvPr/>
        </p:nvSpPr>
        <p:spPr>
          <a:xfrm>
            <a:off x="4000680" y="4643280"/>
            <a:ext cx="1857240" cy="428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утмина Евдокия Александровна, 19256.р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20"/>
          <p:cNvSpPr/>
          <p:nvPr/>
        </p:nvSpPr>
        <p:spPr>
          <a:xfrm>
            <a:off x="6429240" y="4643280"/>
            <a:ext cx="1928880" cy="428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аксимов Михаил Ильич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924 г.р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500120" y="252360"/>
            <a:ext cx="614376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73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экспонатов, переданных в школьный муз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Рисунок 4" descr="C:\Documents and Settings\Admin\Рабочий стол\101MSDCF\DSC01533.JPG"/>
          <p:cNvPicPr/>
          <p:nvPr/>
        </p:nvPicPr>
        <p:blipFill>
          <a:blip r:embed="rId1"/>
          <a:stretch/>
        </p:blipFill>
        <p:spPr>
          <a:xfrm>
            <a:off x="3429000" y="1071720"/>
            <a:ext cx="1285920" cy="17492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"/>
          <p:cNvPicPr/>
          <p:nvPr/>
        </p:nvPicPr>
        <p:blipFill>
          <a:blip r:embed="rId2"/>
          <a:stretch/>
        </p:blipFill>
        <p:spPr>
          <a:xfrm>
            <a:off x="714240" y="928800"/>
            <a:ext cx="1500480" cy="23572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6" descr=""/>
          <p:cNvPicPr/>
          <p:nvPr/>
        </p:nvPicPr>
        <p:blipFill>
          <a:blip r:embed="rId3"/>
          <a:stretch/>
        </p:blipFill>
        <p:spPr>
          <a:xfrm>
            <a:off x="7429680" y="3786120"/>
            <a:ext cx="1357200" cy="20718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"/>
          <p:cNvPicPr/>
          <p:nvPr/>
        </p:nvPicPr>
        <p:blipFill>
          <a:blip r:embed="rId4"/>
          <a:stretch/>
        </p:blipFill>
        <p:spPr>
          <a:xfrm>
            <a:off x="5500800" y="928800"/>
            <a:ext cx="1714320" cy="20001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8" descr="C:\Documents and Settings\Admin\Рабочий стол\101MSDCF\DSC01543.JPG"/>
          <p:cNvPicPr/>
          <p:nvPr/>
        </p:nvPicPr>
        <p:blipFill>
          <a:blip r:embed="rId5"/>
          <a:stretch/>
        </p:blipFill>
        <p:spPr>
          <a:xfrm>
            <a:off x="5000760" y="3929040"/>
            <a:ext cx="2000160" cy="22147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9" descr="C:\Documents and Settings\Admin\Рабочий стол\101MSDCF\DSC01536.JPG"/>
          <p:cNvPicPr/>
          <p:nvPr/>
        </p:nvPicPr>
        <p:blipFill>
          <a:blip r:embed="rId6"/>
          <a:stretch/>
        </p:blipFill>
        <p:spPr>
          <a:xfrm>
            <a:off x="2786040" y="3000240"/>
            <a:ext cx="1714680" cy="32148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0"/>
          <p:cNvSpPr/>
          <p:nvPr/>
        </p:nvSpPr>
        <p:spPr>
          <a:xfrm>
            <a:off x="571680" y="3429000"/>
            <a:ext cx="1714320" cy="357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963г, из-во « Учпедгиз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11"/>
          <p:cNvSpPr/>
          <p:nvPr/>
        </p:nvSpPr>
        <p:spPr>
          <a:xfrm>
            <a:off x="5214960" y="3071880"/>
            <a:ext cx="2214720" cy="357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946г, окрашена ольховой коро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Прямоугольник 12"/>
          <p:cNvSpPr/>
          <p:nvPr/>
        </p:nvSpPr>
        <p:spPr>
          <a:xfrm>
            <a:off x="7215120" y="6000840"/>
            <a:ext cx="1785960" cy="428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вятой Пантелеймон, год неизвенстен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Рисунок 3" descr="P3150070.JPG"/>
          <p:cNvPicPr/>
          <p:nvPr/>
        </p:nvPicPr>
        <p:blipFill>
          <a:blip r:embed="rId7"/>
          <a:stretch/>
        </p:blipFill>
        <p:spPr>
          <a:xfrm>
            <a:off x="428760" y="4214880"/>
            <a:ext cx="221436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3" descr="SDC13309.JPG"/>
          <p:cNvPicPr/>
          <p:nvPr/>
        </p:nvPicPr>
        <p:blipFill>
          <a:blip r:embed="rId1"/>
          <a:stretch/>
        </p:blipFill>
        <p:spPr>
          <a:xfrm>
            <a:off x="214200" y="142920"/>
            <a:ext cx="3286080" cy="300024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3" descr="SDC13299.JPG"/>
          <p:cNvPicPr/>
          <p:nvPr/>
        </p:nvPicPr>
        <p:blipFill>
          <a:blip r:embed="rId2"/>
          <a:stretch/>
        </p:blipFill>
        <p:spPr>
          <a:xfrm>
            <a:off x="6429240" y="214200"/>
            <a:ext cx="2357640" cy="3929040"/>
          </a:xfrm>
          <a:prstGeom prst="rect">
            <a:avLst/>
          </a:prstGeom>
          <a:ln w="0">
            <a:noFill/>
          </a:ln>
        </p:spPr>
      </p:pic>
      <p:pic>
        <p:nvPicPr>
          <p:cNvPr id="115" name="Содержимое 4" descr="SDC13308.JPG"/>
          <p:cNvPicPr/>
          <p:nvPr/>
        </p:nvPicPr>
        <p:blipFill>
          <a:blip r:embed="rId3"/>
          <a:stretch/>
        </p:blipFill>
        <p:spPr>
          <a:xfrm>
            <a:off x="285840" y="4286160"/>
            <a:ext cx="3071880" cy="22147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SDC13311.JPG"/>
          <p:cNvPicPr/>
          <p:nvPr/>
        </p:nvPicPr>
        <p:blipFill>
          <a:blip r:embed="rId4"/>
          <a:stretch/>
        </p:blipFill>
        <p:spPr>
          <a:xfrm>
            <a:off x="3143160" y="1571760"/>
            <a:ext cx="2928960" cy="26431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3" descr="P3150069.JPG"/>
          <p:cNvPicPr/>
          <p:nvPr/>
        </p:nvPicPr>
        <p:blipFill>
          <a:blip r:embed="rId5"/>
          <a:stretch/>
        </p:blipFill>
        <p:spPr>
          <a:xfrm>
            <a:off x="4500720" y="4429080"/>
            <a:ext cx="2928960" cy="207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14:21:52Z</dcterms:created>
  <dc:creator>Зарецкая И.И.,Сологуб В.А., Симонова М.Н.</dc:creator>
  <dc:description/>
  <dc:language>en-US</dc:language>
  <cp:lastModifiedBy>Admin</cp:lastModifiedBy>
  <dcterms:modified xsi:type="dcterms:W3CDTF">2002-12-31T18:08:20Z</dcterms:modified>
  <cp:revision>287</cp:revision>
  <dc:subject>Методы развития коммуникативной культуры</dc:subject>
  <dc:title>Дистанционная методическая поддержка</dc:title>
</cp:coreProperties>
</file>