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B5A-AA59-44AE-8D54-0272AFDD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9F3-B429-4212-8D01-D44A5910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233-760A-4421-998F-1292F6F1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681-1224-4EB4-A1CA-15E80AE3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F9B-1358-455E-B004-496EFDAC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8BFD-53E5-4C6A-A789-3FFB8920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74D-E101-4840-BD7F-A985848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B5BF-3B78-469F-822E-9BD2FD15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1815-FED9-4C5B-ABB5-970D979E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D251-58DC-4845-BCF6-DC1C680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E43-92EF-4AD8-8299-768BEBD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585-314E-4B76-BC54-3AD97020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4BC1-D73D-4D29-9E30-1CFE59F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413-5A35-47A9-B573-D200A49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B490-7F8D-4984-BF10-F6CEA6C3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2C88-5DAE-43B1-97E6-1EE7C2FE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292-34A0-4662-8F93-DA6F74D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593-367E-41FD-A75E-7201EED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660-4EA6-463B-ABE8-C88A5408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089-C319-4458-9B95-A0BD8A45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93A-AB4C-45CA-B340-FE09F45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836-9307-4458-AEA0-37E1FABC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3A8-201B-458B-8A6C-819F5C8F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C3C-A74C-43AC-A7AF-76145C5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E8D-703D-4E7C-92D2-47C5FAAC40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101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9383-4E1B-44E1-8950-1A1D49BF4E13}" type="slidenum">
              <a:rPr b="0" lang="ru-RU" sz="10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6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421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Заимствованные слова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 их употреб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2"/>
          <p:cNvPicPr/>
          <p:nvPr/>
        </p:nvPicPr>
        <p:blipFill>
          <a:blip r:embed="rId1"/>
          <a:stretch/>
        </p:blipFill>
        <p:spPr>
          <a:xfrm>
            <a:off x="2666880" y="3352680"/>
            <a:ext cx="3621240" cy="312444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 иноязычных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Глобус, цирк (из латинс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Бутерброд, верстак (из немец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Авангард, режиссер (из французс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Митинг, матч (из английс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77" name="Picture 4" descr="05"/>
          <p:cNvPicPr/>
          <p:nvPr/>
        </p:nvPicPr>
        <p:blipFill>
          <a:blip r:embed="rId1"/>
          <a:stretch/>
        </p:blipFill>
        <p:spPr>
          <a:xfrm>
            <a:off x="2666880" y="4114800"/>
            <a:ext cx="373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Monotype Corsiva"/>
              </a:rPr>
              <a:t>С данными словами, заимствованными из английского и французского языков, придумайте и запишите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веранс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бажур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мбинезон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никюр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серт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ем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скарад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80" name="Picture 4" descr="regreg"/>
          <p:cNvPicPr/>
          <p:nvPr/>
        </p:nvPicPr>
        <p:blipFill>
          <a:blip r:embed="rId1"/>
          <a:stretch/>
        </p:blipFill>
        <p:spPr>
          <a:xfrm>
            <a:off x="152280" y="3352680"/>
            <a:ext cx="2971800" cy="3314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е́ксика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(от греч. λεξικός — «относящийся к слову», от греч. λέξις  — «слово», «оборот речи») — раздел науки о языке, изучающий значения слов. Также под этим словом понимают совокупность слов того или иного языка, части языка или слов, которые знает тот или иной человек или группа людей.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сические пла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ндоевропейский пласт.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Это, например, такие слова, как мать, сын, брат, волк, вода, нос, три, четыре, брать, быть и др. Эти слова являются исконными не только для русского, но и для многих других индоевропейских языков.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аславянский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(общеславянский) пласт.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Слова этого пласта имеют соответствия во многих славянских языках, являются исконными для них, например: сердце, весна, дождь, трава, внук, тетя, водить, добрый.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ревнерусский пласт.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К нему принадлежат слова, возникшие в период единства Киевской Руси и общие для русского, украинского и белорусского языков: сорок, девяносто, ложка, кочевать, коричневый, вместе, белка, груздь.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Собственно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усский пласт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объединяет слова, возникшие после XIV века, то есть после распада Киевской Руси.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онно русски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Исконным</a:t>
            </a:r>
            <a:r>
              <a:rPr b="0" lang="ru-RU" sz="3200" spc="-1" strike="noStrike">
                <a:solidFill>
                  <a:srgbClr val="010199"/>
                </a:solidFill>
                <a:latin typeface="Times New Roman"/>
              </a:rPr>
              <a:t> считается слово, возникшее в русском языке  или перешедшее в него из древнерусского, праславянского или индоевропейского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ры: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рожь, корова, снег, ветер, город, молотьба и др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Фонетические   приметы исконно русских по происхождению слов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Полногласие </a:t>
            </a:r>
            <a:r>
              <a:rPr b="1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в </a:t>
            </a: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корне слов: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-оро-, -ере-, -оло-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Начальные сочетания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: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-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ро-,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-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л</a:t>
            </a:r>
            <a:r>
              <a:rPr b="1" lang="ru-RU" sz="3600" spc="-1" strike="noStrike">
                <a:solidFill>
                  <a:srgbClr val="010199"/>
                </a:solidFill>
                <a:latin typeface="Times New Roman"/>
              </a:rPr>
              <a:t>о-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Начальные буквы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: 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я, о, </a:t>
            </a:r>
            <a:r>
              <a:rPr b="0" i="1" lang="ru-RU" sz="3600" spc="-1" strike="noStrike">
                <a:solidFill>
                  <a:srgbClr val="010199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06" name="Picture 2" descr="C:\Documents and Settings\Администратор\Рабочий стол\Фото\КАРТИНКИУЙУ\9578501a1a692f16630ed23ad8f24907.gif"/>
          <p:cNvPicPr/>
          <p:nvPr/>
        </p:nvPicPr>
        <p:blipFill>
          <a:blip r:embed="rId1"/>
          <a:stretch/>
        </p:blipFill>
        <p:spPr>
          <a:xfrm>
            <a:off x="3429000" y="4419720"/>
            <a:ext cx="205740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арославяниз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Слова, вошедшие в русский язык из старославянского языка, языка древнейших(Х-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XI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 вв.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 памятников славянской письменности</a:t>
            </a:r>
            <a:endParaRPr b="0" lang="en-US" sz="44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2286000" cy="1189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2286000" cy="1219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6095880" y="5257800"/>
            <a:ext cx="2428920" cy="1219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Calibri"/>
              </a:rPr>
              <a:t>Фонетические   приметы старославянских            по происхождению слов</a:t>
            </a:r>
            <a:endParaRPr b="0" lang="en-US" sz="33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Calibri"/>
              </a:rPr>
              <a:t>Неполногласие в корне слов: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-ра-, -ре-, -ла-, -ле-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Calibri"/>
              </a:rPr>
              <a:t>Начальные буквы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а,е,ю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13" name="Picture 2" descr="C:\Documents and Settings\Администратор\Рабочий стол\Фото\КАРТИНКИУЙУ\9578501a1a692f16630ed23ad8f24907.gif"/>
          <p:cNvPicPr/>
          <p:nvPr/>
        </p:nvPicPr>
        <p:blipFill>
          <a:blip r:embed="rId1"/>
          <a:stretch/>
        </p:blipFill>
        <p:spPr>
          <a:xfrm>
            <a:off x="3429000" y="457200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071800" cy="924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6019920" y="5257800"/>
            <a:ext cx="2701800" cy="1071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6" name="Picture 13" descr=""/>
          <p:cNvPicPr/>
          <p:nvPr/>
        </p:nvPicPr>
        <p:blipFill>
          <a:blip r:embed="rId4"/>
          <a:stretch/>
        </p:blipFill>
        <p:spPr>
          <a:xfrm>
            <a:off x="6019920" y="4038480"/>
            <a:ext cx="2743200" cy="876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7" name="Picture 15" descr=""/>
          <p:cNvPicPr/>
          <p:nvPr/>
        </p:nvPicPr>
        <p:blipFill>
          <a:blip r:embed="rId5"/>
          <a:stretch/>
        </p:blipFill>
        <p:spPr>
          <a:xfrm>
            <a:off x="685800" y="5257800"/>
            <a:ext cx="205740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6c04"/>
                </a:solidFill>
                <a:latin typeface="Arial"/>
              </a:rPr>
              <a:t>Какие  из  данных  слов  не  являются  церковнославянски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Прямоугольник с двумя вырезанными противолежащими углами 16"/>
          <p:cNvGrpSpPr/>
          <p:nvPr/>
        </p:nvGrpSpPr>
        <p:grpSpPr>
          <a:xfrm>
            <a:off x="6267600" y="2481120"/>
            <a:ext cx="1968480" cy="682920"/>
            <a:chOff x="6267600" y="2481120"/>
            <a:chExt cx="1968480" cy="682920"/>
          </a:xfrm>
        </p:grpSpPr>
        <p:pic>
          <p:nvPicPr>
            <p:cNvPr id="120" name="Прямоугольник с двумя вырезанными противолежащими углами 16" descr=""/>
            <p:cNvPicPr/>
            <p:nvPr/>
          </p:nvPicPr>
          <p:blipFill>
            <a:blip r:embed="rId1"/>
            <a:stretch/>
          </p:blipFill>
          <p:spPr>
            <a:xfrm>
              <a:off x="6267600" y="2481120"/>
              <a:ext cx="19684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384960" y="259884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дерево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с двумя вырезанными противолежащими углами 19"/>
          <p:cNvGrpSpPr/>
          <p:nvPr/>
        </p:nvGrpSpPr>
        <p:grpSpPr>
          <a:xfrm>
            <a:off x="6126120" y="1407960"/>
            <a:ext cx="2036880" cy="609840"/>
            <a:chOff x="6126120" y="1407960"/>
            <a:chExt cx="2036880" cy="609840"/>
          </a:xfrm>
        </p:grpSpPr>
        <p:pic>
          <p:nvPicPr>
            <p:cNvPr id="123" name="Прямоугольник с двумя вырезанными противолежащими углами 19" descr=""/>
            <p:cNvPicPr/>
            <p:nvPr/>
          </p:nvPicPr>
          <p:blipFill>
            <a:blip r:embed="rId2"/>
            <a:stretch/>
          </p:blipFill>
          <p:spPr>
            <a:xfrm>
              <a:off x="6126120" y="1407960"/>
              <a:ext cx="203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230880" y="1515960"/>
              <a:ext cx="182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страж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25" name="Прямоугольник с двумя вырезанными противолежащими углами 20"/>
          <p:cNvGrpSpPr/>
          <p:nvPr/>
        </p:nvGrpSpPr>
        <p:grpSpPr>
          <a:xfrm>
            <a:off x="6267600" y="3627360"/>
            <a:ext cx="2035080" cy="676440"/>
            <a:chOff x="6267600" y="3627360"/>
            <a:chExt cx="2035080" cy="676440"/>
          </a:xfrm>
        </p:grpSpPr>
        <p:pic>
          <p:nvPicPr>
            <p:cNvPr id="126" name="Прямоугольник с двумя вырезанными противолежащими углами 20" descr=""/>
            <p:cNvPicPr/>
            <p:nvPr/>
          </p:nvPicPr>
          <p:blipFill>
            <a:blip r:embed="rId3"/>
            <a:stretch/>
          </p:blipFill>
          <p:spPr>
            <a:xfrm>
              <a:off x="6267600" y="3627360"/>
              <a:ext cx="2035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384960" y="3741840"/>
              <a:ext cx="1803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здравие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с двумя вырезанными противолежащими углами 21"/>
          <p:cNvGrpSpPr/>
          <p:nvPr/>
        </p:nvGrpSpPr>
        <p:grpSpPr>
          <a:xfrm>
            <a:off x="3260880" y="1432080"/>
            <a:ext cx="2103120" cy="677880"/>
            <a:chOff x="3260880" y="1432080"/>
            <a:chExt cx="2103120" cy="677880"/>
          </a:xfrm>
        </p:grpSpPr>
        <p:pic>
          <p:nvPicPr>
            <p:cNvPr id="129" name="Прямоугольник с двумя вырезанными противолежащими углами 21" descr=""/>
            <p:cNvPicPr/>
            <p:nvPr/>
          </p:nvPicPr>
          <p:blipFill>
            <a:blip r:embed="rId4"/>
            <a:stretch/>
          </p:blipFill>
          <p:spPr>
            <a:xfrm>
              <a:off x="3260880" y="1432080"/>
              <a:ext cx="21031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375000" y="1546200"/>
              <a:ext cx="18748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Глас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с двумя вырезанными противолежащими углами 23"/>
          <p:cNvGrpSpPr/>
          <p:nvPr/>
        </p:nvGrpSpPr>
        <p:grpSpPr>
          <a:xfrm>
            <a:off x="480960" y="2408400"/>
            <a:ext cx="1963800" cy="682560"/>
            <a:chOff x="480960" y="2408400"/>
            <a:chExt cx="1963800" cy="682560"/>
          </a:xfrm>
        </p:grpSpPr>
        <p:pic>
          <p:nvPicPr>
            <p:cNvPr id="132" name="Прямоугольник с двумя вырезанными противолежащими углами 23" descr=""/>
            <p:cNvPicPr/>
            <p:nvPr/>
          </p:nvPicPr>
          <p:blipFill>
            <a:blip r:embed="rId5"/>
            <a:stretch/>
          </p:blipFill>
          <p:spPr>
            <a:xfrm>
              <a:off x="480960" y="2408400"/>
              <a:ext cx="1963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98320" y="252720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древо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34" name="Прямоугольник с двумя вырезанными противолежащими углами 24"/>
          <p:cNvGrpSpPr/>
          <p:nvPr/>
        </p:nvGrpSpPr>
        <p:grpSpPr>
          <a:xfrm>
            <a:off x="480960" y="1407960"/>
            <a:ext cx="2036880" cy="609840"/>
            <a:chOff x="480960" y="1407960"/>
            <a:chExt cx="2036880" cy="609840"/>
          </a:xfrm>
        </p:grpSpPr>
        <p:pic>
          <p:nvPicPr>
            <p:cNvPr id="135" name="Прямоугольник с двумя вырезанными противолежащими углами 24" descr=""/>
            <p:cNvPicPr/>
            <p:nvPr/>
          </p:nvPicPr>
          <p:blipFill>
            <a:blip r:embed="rId6"/>
            <a:stretch/>
          </p:blipFill>
          <p:spPr>
            <a:xfrm>
              <a:off x="480960" y="1407960"/>
              <a:ext cx="203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87520" y="1515960"/>
              <a:ext cx="182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врата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37" name="Прямоугольник с двумя вырезанными противолежащими углами 25"/>
          <p:cNvGrpSpPr/>
          <p:nvPr/>
        </p:nvGrpSpPr>
        <p:grpSpPr>
          <a:xfrm>
            <a:off x="3340080" y="2481120"/>
            <a:ext cx="1963800" cy="682920"/>
            <a:chOff x="3340080" y="2481120"/>
            <a:chExt cx="1963800" cy="682920"/>
          </a:xfrm>
        </p:grpSpPr>
        <p:pic>
          <p:nvPicPr>
            <p:cNvPr id="138" name="Прямоугольник с двумя вырезанными противолежащими углами 25" descr=""/>
            <p:cNvPicPr/>
            <p:nvPr/>
          </p:nvPicPr>
          <p:blipFill>
            <a:blip r:embed="rId7"/>
            <a:stretch/>
          </p:blipFill>
          <p:spPr>
            <a:xfrm>
              <a:off x="3340080" y="2481120"/>
              <a:ext cx="1963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56000" y="259884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олень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с двумя вырезанными противолежащими углами 26"/>
          <p:cNvGrpSpPr/>
          <p:nvPr/>
        </p:nvGrpSpPr>
        <p:grpSpPr>
          <a:xfrm>
            <a:off x="3340080" y="3693960"/>
            <a:ext cx="1963800" cy="682920"/>
            <a:chOff x="3340080" y="3693960"/>
            <a:chExt cx="1963800" cy="682920"/>
          </a:xfrm>
        </p:grpSpPr>
        <p:pic>
          <p:nvPicPr>
            <p:cNvPr id="141" name="Прямоугольник с двумя вырезанными противолежащими углами 26" descr=""/>
            <p:cNvPicPr/>
            <p:nvPr/>
          </p:nvPicPr>
          <p:blipFill>
            <a:blip r:embed="rId8"/>
            <a:stretch/>
          </p:blipFill>
          <p:spPr>
            <a:xfrm>
              <a:off x="3340080" y="3693960"/>
              <a:ext cx="1963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456000" y="381312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ночь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3" name="Прямоугольник с двумя вырезанными противолежащими углами 27"/>
          <p:cNvGrpSpPr/>
          <p:nvPr/>
        </p:nvGrpSpPr>
        <p:grpSpPr>
          <a:xfrm>
            <a:off x="3413160" y="4840200"/>
            <a:ext cx="2036880" cy="676440"/>
            <a:chOff x="3413160" y="4840200"/>
            <a:chExt cx="2036880" cy="676440"/>
          </a:xfrm>
        </p:grpSpPr>
        <p:pic>
          <p:nvPicPr>
            <p:cNvPr id="144" name="Прямоугольник с двумя вырезанными противолежащими углами 27" descr=""/>
            <p:cNvPicPr/>
            <p:nvPr/>
          </p:nvPicPr>
          <p:blipFill>
            <a:blip r:embed="rId9"/>
            <a:stretch/>
          </p:blipFill>
          <p:spPr>
            <a:xfrm>
              <a:off x="3413160" y="4840200"/>
              <a:ext cx="2036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527280" y="4956120"/>
              <a:ext cx="1803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брада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с двумя вырезанными противолежащими углами 28"/>
          <p:cNvGrpSpPr/>
          <p:nvPr/>
        </p:nvGrpSpPr>
        <p:grpSpPr>
          <a:xfrm>
            <a:off x="6308640" y="4857840"/>
            <a:ext cx="2036880" cy="677880"/>
            <a:chOff x="6308640" y="4857840"/>
            <a:chExt cx="2036880" cy="677880"/>
          </a:xfrm>
        </p:grpSpPr>
        <p:pic>
          <p:nvPicPr>
            <p:cNvPr id="147" name="Прямоугольник с двумя вырезанными противолежащими углами 28" descr=""/>
            <p:cNvPicPr/>
            <p:nvPr/>
          </p:nvPicPr>
          <p:blipFill>
            <a:blip r:embed="rId10"/>
            <a:stretch/>
          </p:blipFill>
          <p:spPr>
            <a:xfrm>
              <a:off x="6308640" y="4857840"/>
              <a:ext cx="20368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423120" y="4975200"/>
              <a:ext cx="1803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вран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с двумя вырезанными противолежащими углами 29"/>
          <p:cNvGrpSpPr/>
          <p:nvPr/>
        </p:nvGrpSpPr>
        <p:grpSpPr>
          <a:xfrm>
            <a:off x="480960" y="4840200"/>
            <a:ext cx="2036880" cy="676440"/>
            <a:chOff x="480960" y="4840200"/>
            <a:chExt cx="2036880" cy="676440"/>
          </a:xfrm>
        </p:grpSpPr>
        <p:pic>
          <p:nvPicPr>
            <p:cNvPr id="150" name="Прямоугольник с двумя вырезанными противолежащими углами 29" descr=""/>
            <p:cNvPicPr/>
            <p:nvPr/>
          </p:nvPicPr>
          <p:blipFill>
            <a:blip r:embed="rId11"/>
            <a:stretch/>
          </p:blipFill>
          <p:spPr>
            <a:xfrm>
              <a:off x="480960" y="4840200"/>
              <a:ext cx="2036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8320" y="4956120"/>
              <a:ext cx="1803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краткий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с двумя вырезанными противолежащими углами 30"/>
          <p:cNvGrpSpPr/>
          <p:nvPr/>
        </p:nvGrpSpPr>
        <p:grpSpPr>
          <a:xfrm>
            <a:off x="480960" y="3627360"/>
            <a:ext cx="1963800" cy="676440"/>
            <a:chOff x="480960" y="3627360"/>
            <a:chExt cx="1963800" cy="676440"/>
          </a:xfrm>
        </p:grpSpPr>
        <p:pic>
          <p:nvPicPr>
            <p:cNvPr id="153" name="Прямоугольник с двумя вырезанными противолежащими углами 30" descr=""/>
            <p:cNvPicPr/>
            <p:nvPr/>
          </p:nvPicPr>
          <p:blipFill>
            <a:blip r:embed="rId12"/>
            <a:stretch/>
          </p:blipFill>
          <p:spPr>
            <a:xfrm>
              <a:off x="480960" y="3627360"/>
              <a:ext cx="1963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8320" y="374184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город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sp>
        <p:nvSpPr>
          <p:cNvPr id="155" name="TextBox 31"/>
          <p:cNvSpPr/>
          <p:nvPr/>
        </p:nvSpPr>
        <p:spPr>
          <a:xfrm>
            <a:off x="2286000" y="614376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Cambria"/>
              </a:rPr>
              <a:t>Русские  слова  исчезают.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оязыч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Иноязычные  – это слова пришедшие в русский язык из других языков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имствование из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H="1">
            <a:off x="2670120" y="3724560"/>
            <a:ext cx="705960" cy="818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1523880" y="44956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француз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6948360" y="3716280"/>
            <a:ext cx="648000" cy="7207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7381800" y="450864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италья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 flipH="1">
            <a:off x="2971800" y="3733920"/>
            <a:ext cx="720720" cy="14414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6443640" y="3716280"/>
            <a:ext cx="936720" cy="136836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Rectangle 35"/>
          <p:cNvSpPr/>
          <p:nvPr/>
        </p:nvSpPr>
        <p:spPr>
          <a:xfrm>
            <a:off x="1910520" y="51577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немец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7165440" y="5157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англий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 flipH="1">
            <a:off x="3203280" y="3789360"/>
            <a:ext cx="863640" cy="201600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7" name="Line 39"/>
          <p:cNvSpPr/>
          <p:nvPr/>
        </p:nvSpPr>
        <p:spPr>
          <a:xfrm>
            <a:off x="6067440" y="3801600"/>
            <a:ext cx="1184400" cy="18457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6879960" y="56610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старославя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2197440" y="57340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фи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0" name="Line 42"/>
          <p:cNvSpPr/>
          <p:nvPr/>
        </p:nvSpPr>
        <p:spPr>
          <a:xfrm flipH="1">
            <a:off x="3564000" y="3860640"/>
            <a:ext cx="792000" cy="23050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5796000" y="3933720"/>
            <a:ext cx="1081080" cy="21592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2" name="Rectangle 44"/>
          <p:cNvSpPr/>
          <p:nvPr/>
        </p:nvSpPr>
        <p:spPr>
          <a:xfrm>
            <a:off x="2485800" y="616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тюрк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3" name="Rectangle 45"/>
          <p:cNvSpPr/>
          <p:nvPr/>
        </p:nvSpPr>
        <p:spPr>
          <a:xfrm>
            <a:off x="6734160" y="609300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лати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74" name="Picture 47" descr="img"/>
          <p:cNvPicPr/>
          <p:nvPr/>
        </p:nvPicPr>
        <p:blipFill>
          <a:blip r:embed="rId1"/>
          <a:stretch/>
        </p:blipFill>
        <p:spPr>
          <a:xfrm>
            <a:off x="4284720" y="4437000"/>
            <a:ext cx="16063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20:34:21Z</dcterms:created>
  <dc:creator>Андрей</dc:creator>
  <dc:description/>
  <dc:language>en-US</dc:language>
  <cp:lastModifiedBy>СОШ №6 2</cp:lastModifiedBy>
  <dcterms:modified xsi:type="dcterms:W3CDTF">2013-03-25T10:13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