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3.gif" ContentType="image/gif"/>
  <Override PartName="/ppt/media/image18.gif" ContentType="image/gif"/>
  <Override PartName="/ppt/media/image4.png" ContentType="image/png"/>
  <Override PartName="/ppt/media/image17.jpeg" ContentType="image/jpeg"/>
  <Override PartName="/ppt/media/image14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038B-56A1-4FFF-BB10-E8322AD4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770B-C9A5-410F-8442-86E9CA48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FBD7-EAFC-4468-B863-D2ABF0E4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6E27-5024-4199-852A-6C20545E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5B13-FC49-417D-9CA9-A428C50A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9166-8709-4272-96E5-13E94189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547A-CF6D-4759-B62D-7CD790B6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F227-FFFC-4DED-9628-F8F08711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F9C9-7E62-413F-832A-C77C6476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BC31-E87A-40CE-85A7-A963D4FE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A372-5D01-46B2-BAE1-10261089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EFC6-D8F0-4596-84B1-A41789E7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9E3B-AA1E-4025-A208-C5EEDFE1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6F70-9135-4E16-8969-E20C6995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4529-36E8-4222-98F0-F8DFE2EC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0DF1-4FAB-4583-8DEC-6B05B7EE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7172-3736-408A-B929-7672A916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AA76-3D9F-4E1E-AD21-F81C1270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60EF-E5BF-4257-A244-C78DA81D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583E-B021-40A1-A80A-5D7E2520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FD60-4987-4E83-9927-F9795505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3595-A620-42F1-80C4-BE6BF714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B6A9-32C4-44F1-BF47-52DF8009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C75E-A278-4FCA-B86F-03DDE1AB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101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101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101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5AB8-A62C-4C63-98D6-47B005E4FFB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101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101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101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101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C3E4-AAAD-41AC-ABE6-A462D1D879FA}" type="slidenum">
              <a:rPr b="0" lang="ru-RU" sz="1000" spc="-1" strike="noStrike">
                <a:solidFill>
                  <a:srgbClr val="0101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2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6.png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4218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Заимствованные слова </a:t>
            </a:r>
            <a:br>
              <a:rPr sz="6600"/>
            </a:b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и их употреблени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02"/>
          <p:cNvPicPr/>
          <p:nvPr/>
        </p:nvPicPr>
        <p:blipFill>
          <a:blip r:embed="rId1"/>
          <a:stretch/>
        </p:blipFill>
        <p:spPr>
          <a:xfrm>
            <a:off x="2666880" y="3352680"/>
            <a:ext cx="3621240" cy="3124440"/>
          </a:xfrm>
          <a:prstGeom prst="rect">
            <a:avLst/>
          </a:prstGeom>
          <a:ln w="5724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ры иноязычных с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Arial"/>
              </a:rPr>
              <a:t>Глобус, цирк (из латинского)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Arial"/>
              </a:rPr>
              <a:t>Бутерброд, верстак (из немецкого)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Arial"/>
              </a:rPr>
              <a:t>Авангард, режиссер (из французского)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Arial"/>
              </a:rPr>
              <a:t>Митинг, матч (из английского)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177" name="Picture 4" descr="05"/>
          <p:cNvPicPr/>
          <p:nvPr/>
        </p:nvPicPr>
        <p:blipFill>
          <a:blip r:embed="rId1"/>
          <a:stretch/>
        </p:blipFill>
        <p:spPr>
          <a:xfrm>
            <a:off x="2666880" y="4114800"/>
            <a:ext cx="3733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Monotype Corsiva"/>
              </a:rPr>
              <a:t>С данными словами, заимствованными из английского и французского языков, придумайте и запишите словосоче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еверанс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бажур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мбинезон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аникюр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есерт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рем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аскарад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180" name="Picture 4" descr="regreg"/>
          <p:cNvPicPr/>
          <p:nvPr/>
        </p:nvPicPr>
        <p:blipFill>
          <a:blip r:embed="rId1"/>
          <a:stretch/>
        </p:blipFill>
        <p:spPr>
          <a:xfrm>
            <a:off x="152280" y="3352680"/>
            <a:ext cx="2971800" cy="33148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2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Ле́ксика</a:t>
            </a: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 (от греч. λεξικός — «относящийся к слову», от греч. λέξις  — «слово», «оборот речи») — раздел науки о языке, изучающий значения слов. Также под этим словом понимают совокупность слов того или иного языка, части языка или слов, которые знает тот или иной человек или группа людей.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сические пла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Индоевропейский пласт.</a:t>
            </a:r>
            <a:r>
              <a:rPr b="0" lang="ru-RU" sz="2400" spc="-1" strike="noStrike">
                <a:solidFill>
                  <a:srgbClr val="010199"/>
                </a:solidFill>
                <a:latin typeface="Arial"/>
              </a:rPr>
              <a:t> Это, например, такие слова, как мать, сын, брат, волк, вода, нос, три, четыре, брать, быть и др. Эти слова являются исконными не только для русского, но и для многих других индоевропейских языков.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раславянский</a:t>
            </a:r>
            <a:r>
              <a:rPr b="0" lang="ru-RU" sz="2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(общеславянский) пласт.</a:t>
            </a:r>
            <a:r>
              <a:rPr b="0" lang="ru-RU" sz="2400" spc="-1" strike="noStrike">
                <a:solidFill>
                  <a:srgbClr val="010199"/>
                </a:solidFill>
                <a:latin typeface="Arial"/>
              </a:rPr>
              <a:t> Слова этого пласта имеют соответствия во многих славянских языках, являются исконными для них, например: сердце, весна, дождь, трава, внук, тетя, водить, добрый.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ревнерусский пласт.</a:t>
            </a:r>
            <a:r>
              <a:rPr b="0" lang="ru-RU" sz="2400" spc="-1" strike="noStrike">
                <a:solidFill>
                  <a:srgbClr val="010199"/>
                </a:solidFill>
                <a:latin typeface="Arial"/>
              </a:rPr>
              <a:t> К нему принадлежат слова, возникшие в период единства Киевской Руси и общие для русского, украинского и белорусского языков: сорок, девяносто, ложка, кочевать, коричневый, вместе, белка, груздь.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Arial"/>
              </a:rPr>
              <a:t>Собственно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русский пласт</a:t>
            </a:r>
            <a:r>
              <a:rPr b="0" lang="ru-RU" sz="2400" spc="-1" strike="noStrike">
                <a:solidFill>
                  <a:srgbClr val="010199"/>
                </a:solidFill>
                <a:latin typeface="Arial"/>
              </a:rPr>
              <a:t> объединяет слова, возникшие после XIV века, то есть после распада Киевской Руси.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конно русски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Исконным</a:t>
            </a:r>
            <a:r>
              <a:rPr b="0" lang="ru-RU" sz="3200" spc="-1" strike="noStrike">
                <a:solidFill>
                  <a:srgbClr val="010199"/>
                </a:solidFill>
                <a:latin typeface="Times New Roman"/>
              </a:rPr>
              <a:t> считается слово, возникшее в русском языке  или перешедшее в него из древнерусского, праславянского или индоевропейского.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Примеры: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рожь, корова, снег, ветер, город, молотьба и др.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Фонетические   приметы исконно русских по происхождению слов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Times New Roman"/>
                <a:ea typeface="Calibri"/>
              </a:rPr>
              <a:t>Полногласие </a:t>
            </a:r>
            <a:r>
              <a:rPr b="1" lang="ru-RU" sz="3600" spc="-1" strike="noStrike">
                <a:solidFill>
                  <a:srgbClr val="010199"/>
                </a:solidFill>
                <a:latin typeface="Times New Roman"/>
                <a:ea typeface="Calibri"/>
              </a:rPr>
              <a:t>в </a:t>
            </a:r>
            <a:r>
              <a:rPr b="0" lang="ru-RU" sz="3600" spc="-1" strike="noStrike">
                <a:solidFill>
                  <a:srgbClr val="010199"/>
                </a:solidFill>
                <a:latin typeface="Times New Roman"/>
                <a:ea typeface="Calibri"/>
              </a:rPr>
              <a:t>корне слов: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  </a:t>
            </a:r>
            <a:r>
              <a:rPr b="1" i="1" lang="ru-RU" sz="3600" spc="-1" strike="noStrike">
                <a:solidFill>
                  <a:srgbClr val="010199"/>
                </a:solidFill>
                <a:latin typeface="Times New Roman"/>
              </a:rPr>
              <a:t>-оро-, -ере-, -оло-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10199"/>
                </a:solidFill>
                <a:latin typeface="Times New Roman"/>
              </a:rPr>
              <a:t>Начальные сочетания</a:t>
            </a:r>
            <a:r>
              <a:rPr b="0" lang="ru-RU" sz="33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:</a:t>
            </a:r>
            <a:r>
              <a:rPr b="0" lang="ru-RU" sz="3300" spc="-1" strike="noStrike">
                <a:solidFill>
                  <a:srgbClr val="010199"/>
                </a:solidFill>
                <a:latin typeface="Times New Roman"/>
              </a:rPr>
              <a:t> </a:t>
            </a:r>
            <a:r>
              <a:rPr b="0" lang="ru-RU" sz="33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-</a:t>
            </a:r>
            <a:r>
              <a:rPr b="1" i="1" lang="ru-RU" sz="3600" spc="-1" strike="noStrike">
                <a:solidFill>
                  <a:srgbClr val="010199"/>
                </a:solidFill>
                <a:latin typeface="Times New Roman"/>
              </a:rPr>
              <a:t>ро-, </a:t>
            </a:r>
            <a:r>
              <a:rPr b="1" i="1" lang="ru-RU" sz="36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-</a:t>
            </a:r>
            <a:r>
              <a:rPr b="1" i="1" lang="ru-RU" sz="3600" spc="-1" strike="noStrike">
                <a:solidFill>
                  <a:srgbClr val="010199"/>
                </a:solidFill>
                <a:latin typeface="Times New Roman"/>
              </a:rPr>
              <a:t>л</a:t>
            </a:r>
            <a:r>
              <a:rPr b="1" lang="ru-RU" sz="3600" spc="-1" strike="noStrike">
                <a:solidFill>
                  <a:srgbClr val="010199"/>
                </a:solidFill>
                <a:latin typeface="Times New Roman"/>
              </a:rPr>
              <a:t>о-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10199"/>
                </a:solidFill>
                <a:latin typeface="Times New Roman"/>
              </a:rPr>
              <a:t>Начальные буквы</a:t>
            </a:r>
            <a:r>
              <a:rPr b="0" lang="ru-RU" sz="33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: </a:t>
            </a:r>
            <a:r>
              <a:rPr b="0" lang="ru-RU" sz="3300" spc="-1" strike="noStrike">
                <a:solidFill>
                  <a:srgbClr val="010199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10199"/>
                </a:solidFill>
                <a:latin typeface="Times New Roman"/>
              </a:rPr>
              <a:t>я, о, </a:t>
            </a:r>
            <a:r>
              <a:rPr b="0" i="1" lang="ru-RU" sz="3600" spc="-1" strike="noStrike">
                <a:solidFill>
                  <a:srgbClr val="010199"/>
                </a:solidFill>
                <a:latin typeface="Times New Roman"/>
              </a:rPr>
              <a:t>у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106" name="Picture 2" descr="C:\Documents and Settings\Администратор\Рабочий стол\Фото\КАРТИНКИУЙУ\9578501a1a692f16630ed23ad8f24907.gif"/>
          <p:cNvPicPr/>
          <p:nvPr/>
        </p:nvPicPr>
        <p:blipFill>
          <a:blip r:embed="rId1"/>
          <a:stretch/>
        </p:blipFill>
        <p:spPr>
          <a:xfrm>
            <a:off x="3429000" y="4419720"/>
            <a:ext cx="205740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тарославяниз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10199"/>
                </a:solidFill>
                <a:latin typeface="Arial"/>
              </a:rPr>
              <a:t>Слова, вошедшие в русский язык из старославянского языка, языка древнейших(Х-</a:t>
            </a: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XI</a:t>
            </a:r>
            <a:r>
              <a:rPr b="0" lang="ru-RU" sz="4400" spc="-1" strike="noStrike">
                <a:solidFill>
                  <a:srgbClr val="010199"/>
                </a:solidFill>
                <a:latin typeface="Arial"/>
              </a:rPr>
              <a:t> вв.</a:t>
            </a: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)</a:t>
            </a:r>
            <a:r>
              <a:rPr b="0" lang="ru-RU" sz="4400" spc="-1" strike="noStrike">
                <a:solidFill>
                  <a:srgbClr val="010199"/>
                </a:solidFill>
                <a:latin typeface="Arial"/>
              </a:rPr>
              <a:t> памятников славянской письменности</a:t>
            </a:r>
            <a:endParaRPr b="0" lang="en-US" sz="44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762120" y="5257800"/>
            <a:ext cx="2286000" cy="1189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3505320" y="5257800"/>
            <a:ext cx="2286000" cy="1219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11" name="Picture 4" descr=""/>
          <p:cNvPicPr/>
          <p:nvPr/>
        </p:nvPicPr>
        <p:blipFill>
          <a:blip r:embed="rId3"/>
          <a:stretch/>
        </p:blipFill>
        <p:spPr>
          <a:xfrm>
            <a:off x="6095880" y="5257800"/>
            <a:ext cx="2428920" cy="1219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  <a:ea typeface="Calibri"/>
              </a:rPr>
              <a:t>Фонетические   приметы старославянских            по происхождению слов</a:t>
            </a:r>
            <a:endParaRPr b="0" lang="en-US" sz="33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10199"/>
                </a:solidFill>
                <a:latin typeface="Times New Roman"/>
                <a:ea typeface="Calibri"/>
              </a:rPr>
              <a:t>Неполногласие в корне слов: </a:t>
            </a:r>
            <a:r>
              <a:rPr b="1" i="1" lang="ru-RU" sz="3600" spc="-1" strike="noStrike">
                <a:solidFill>
                  <a:srgbClr val="010199"/>
                </a:solidFill>
                <a:latin typeface="Times New Roman"/>
                <a:ea typeface="Calibri"/>
              </a:rPr>
              <a:t>-ра-, -ре-, -ла-, -ле-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10199"/>
                </a:solidFill>
                <a:latin typeface="Times New Roman"/>
                <a:ea typeface="Calibri"/>
              </a:rPr>
              <a:t>Начальные буквы </a:t>
            </a:r>
            <a:r>
              <a:rPr b="1" i="1" lang="ru-RU" sz="3600" spc="-1" strike="noStrike">
                <a:solidFill>
                  <a:srgbClr val="010199"/>
                </a:solidFill>
                <a:latin typeface="Times New Roman"/>
                <a:ea typeface="Calibri"/>
              </a:rPr>
              <a:t>а,е,ю</a:t>
            </a: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113" name="Picture 2" descr="C:\Documents and Settings\Администратор\Рабочий стол\Фото\КАРТИНКИУЙУ\9578501a1a692f16630ed23ad8f24907.gif"/>
          <p:cNvPicPr/>
          <p:nvPr/>
        </p:nvPicPr>
        <p:blipFill>
          <a:blip r:embed="rId1"/>
          <a:stretch/>
        </p:blipFill>
        <p:spPr>
          <a:xfrm>
            <a:off x="3429000" y="4572000"/>
            <a:ext cx="2057400" cy="2090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071800" cy="9241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6019920" y="5257800"/>
            <a:ext cx="2701800" cy="1071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16" name="Picture 13" descr=""/>
          <p:cNvPicPr/>
          <p:nvPr/>
        </p:nvPicPr>
        <p:blipFill>
          <a:blip r:embed="rId4"/>
          <a:stretch/>
        </p:blipFill>
        <p:spPr>
          <a:xfrm>
            <a:off x="6019920" y="4038480"/>
            <a:ext cx="2743200" cy="8766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17" name="Picture 15" descr=""/>
          <p:cNvPicPr/>
          <p:nvPr/>
        </p:nvPicPr>
        <p:blipFill>
          <a:blip r:embed="rId5"/>
          <a:stretch/>
        </p:blipFill>
        <p:spPr>
          <a:xfrm>
            <a:off x="685800" y="5257800"/>
            <a:ext cx="2057400" cy="10666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6c04"/>
                </a:solidFill>
                <a:latin typeface="Arial"/>
              </a:rPr>
              <a:t>Какие  из  данных  слов  не  являются  церковнославянски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Прямоугольник с двумя вырезанными противолежащими углами 16"/>
          <p:cNvGrpSpPr/>
          <p:nvPr/>
        </p:nvGrpSpPr>
        <p:grpSpPr>
          <a:xfrm>
            <a:off x="6267600" y="2481120"/>
            <a:ext cx="1968480" cy="682920"/>
            <a:chOff x="6267600" y="2481120"/>
            <a:chExt cx="1968480" cy="682920"/>
          </a:xfrm>
        </p:grpSpPr>
        <p:pic>
          <p:nvPicPr>
            <p:cNvPr id="120" name="Прямоугольник с двумя вырезанными противолежащими углами 16" descr=""/>
            <p:cNvPicPr/>
            <p:nvPr/>
          </p:nvPicPr>
          <p:blipFill>
            <a:blip r:embed="rId1"/>
            <a:stretch/>
          </p:blipFill>
          <p:spPr>
            <a:xfrm>
              <a:off x="6267600" y="2481120"/>
              <a:ext cx="196848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384960" y="2598840"/>
              <a:ext cx="173196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mbria"/>
                </a:rPr>
                <a:t>дерево</a:t>
              </a:r>
              <a:endParaRPr b="0" lang="en-US" sz="2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grpSp>
        <p:nvGrpSpPr>
          <p:cNvPr id="122" name="Прямоугольник с двумя вырезанными противолежащими углами 19"/>
          <p:cNvGrpSpPr/>
          <p:nvPr/>
        </p:nvGrpSpPr>
        <p:grpSpPr>
          <a:xfrm>
            <a:off x="6126120" y="1407960"/>
            <a:ext cx="2036880" cy="609840"/>
            <a:chOff x="6126120" y="1407960"/>
            <a:chExt cx="2036880" cy="609840"/>
          </a:xfrm>
        </p:grpSpPr>
        <p:pic>
          <p:nvPicPr>
            <p:cNvPr id="123" name="Прямоугольник с двумя вырезанными противолежащими углами 19" descr=""/>
            <p:cNvPicPr/>
            <p:nvPr/>
          </p:nvPicPr>
          <p:blipFill>
            <a:blip r:embed="rId2"/>
            <a:stretch/>
          </p:blipFill>
          <p:spPr>
            <a:xfrm>
              <a:off x="6126120" y="1407960"/>
              <a:ext cx="20368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230880" y="1515960"/>
              <a:ext cx="1825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mbria"/>
                </a:rPr>
                <a:t>страж</a:t>
              </a:r>
              <a:endParaRPr b="0" lang="en-US" sz="2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grpSp>
        <p:nvGrpSpPr>
          <p:cNvPr id="125" name="Прямоугольник с двумя вырезанными противолежащими углами 20"/>
          <p:cNvGrpSpPr/>
          <p:nvPr/>
        </p:nvGrpSpPr>
        <p:grpSpPr>
          <a:xfrm>
            <a:off x="6267600" y="3627360"/>
            <a:ext cx="2035080" cy="676440"/>
            <a:chOff x="6267600" y="3627360"/>
            <a:chExt cx="2035080" cy="676440"/>
          </a:xfrm>
        </p:grpSpPr>
        <p:pic>
          <p:nvPicPr>
            <p:cNvPr id="126" name="Прямоугольник с двумя вырезанными противолежащими углами 20" descr=""/>
            <p:cNvPicPr/>
            <p:nvPr/>
          </p:nvPicPr>
          <p:blipFill>
            <a:blip r:embed="rId3"/>
            <a:stretch/>
          </p:blipFill>
          <p:spPr>
            <a:xfrm>
              <a:off x="6267600" y="3627360"/>
              <a:ext cx="20350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384960" y="3741840"/>
              <a:ext cx="18032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mbria"/>
                </a:rPr>
                <a:t>здравие</a:t>
              </a:r>
              <a:endParaRPr b="0" lang="en-US" sz="2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grpSp>
        <p:nvGrpSpPr>
          <p:cNvPr id="128" name="Прямоугольник с двумя вырезанными противолежащими углами 21"/>
          <p:cNvGrpSpPr/>
          <p:nvPr/>
        </p:nvGrpSpPr>
        <p:grpSpPr>
          <a:xfrm>
            <a:off x="3260880" y="1432080"/>
            <a:ext cx="2103120" cy="677880"/>
            <a:chOff x="3260880" y="1432080"/>
            <a:chExt cx="2103120" cy="677880"/>
          </a:xfrm>
        </p:grpSpPr>
        <p:pic>
          <p:nvPicPr>
            <p:cNvPr id="129" name="Прямоугольник с двумя вырезанными противолежащими углами 21" descr=""/>
            <p:cNvPicPr/>
            <p:nvPr/>
          </p:nvPicPr>
          <p:blipFill>
            <a:blip r:embed="rId4"/>
            <a:stretch/>
          </p:blipFill>
          <p:spPr>
            <a:xfrm>
              <a:off x="3260880" y="1432080"/>
              <a:ext cx="210312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375000" y="1546200"/>
              <a:ext cx="18748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mbria"/>
                </a:rPr>
                <a:t>Глас</a:t>
              </a:r>
              <a:endParaRPr b="0" lang="en-US" sz="2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grpSp>
        <p:nvGrpSpPr>
          <p:cNvPr id="131" name="Прямоугольник с двумя вырезанными противолежащими углами 23"/>
          <p:cNvGrpSpPr/>
          <p:nvPr/>
        </p:nvGrpSpPr>
        <p:grpSpPr>
          <a:xfrm>
            <a:off x="480960" y="2408400"/>
            <a:ext cx="1963800" cy="682560"/>
            <a:chOff x="480960" y="2408400"/>
            <a:chExt cx="1963800" cy="682560"/>
          </a:xfrm>
        </p:grpSpPr>
        <p:pic>
          <p:nvPicPr>
            <p:cNvPr id="132" name="Прямоугольник с двумя вырезанными противолежащими углами 23" descr=""/>
            <p:cNvPicPr/>
            <p:nvPr/>
          </p:nvPicPr>
          <p:blipFill>
            <a:blip r:embed="rId5"/>
            <a:stretch/>
          </p:blipFill>
          <p:spPr>
            <a:xfrm>
              <a:off x="480960" y="2408400"/>
              <a:ext cx="19638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98320" y="2527200"/>
              <a:ext cx="173196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mbria"/>
                </a:rPr>
                <a:t>древо</a:t>
              </a:r>
              <a:endParaRPr b="0" lang="en-US" sz="2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grpSp>
        <p:nvGrpSpPr>
          <p:cNvPr id="134" name="Прямоугольник с двумя вырезанными противолежащими углами 24"/>
          <p:cNvGrpSpPr/>
          <p:nvPr/>
        </p:nvGrpSpPr>
        <p:grpSpPr>
          <a:xfrm>
            <a:off x="480960" y="1407960"/>
            <a:ext cx="2036880" cy="609840"/>
            <a:chOff x="480960" y="1407960"/>
            <a:chExt cx="2036880" cy="609840"/>
          </a:xfrm>
        </p:grpSpPr>
        <p:pic>
          <p:nvPicPr>
            <p:cNvPr id="135" name="Прямоугольник с двумя вырезанными противолежащими углами 24" descr=""/>
            <p:cNvPicPr/>
            <p:nvPr/>
          </p:nvPicPr>
          <p:blipFill>
            <a:blip r:embed="rId6"/>
            <a:stretch/>
          </p:blipFill>
          <p:spPr>
            <a:xfrm>
              <a:off x="480960" y="1407960"/>
              <a:ext cx="20368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87520" y="1515960"/>
              <a:ext cx="1825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mbria"/>
                </a:rPr>
                <a:t>врата</a:t>
              </a:r>
              <a:endParaRPr b="0" lang="en-US" sz="2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grpSp>
        <p:nvGrpSpPr>
          <p:cNvPr id="137" name="Прямоугольник с двумя вырезанными противолежащими углами 25"/>
          <p:cNvGrpSpPr/>
          <p:nvPr/>
        </p:nvGrpSpPr>
        <p:grpSpPr>
          <a:xfrm>
            <a:off x="3340080" y="2481120"/>
            <a:ext cx="1963800" cy="682920"/>
            <a:chOff x="3340080" y="2481120"/>
            <a:chExt cx="1963800" cy="682920"/>
          </a:xfrm>
        </p:grpSpPr>
        <p:pic>
          <p:nvPicPr>
            <p:cNvPr id="138" name="Прямоугольник с двумя вырезанными противолежащими углами 25" descr=""/>
            <p:cNvPicPr/>
            <p:nvPr/>
          </p:nvPicPr>
          <p:blipFill>
            <a:blip r:embed="rId7"/>
            <a:stretch/>
          </p:blipFill>
          <p:spPr>
            <a:xfrm>
              <a:off x="3340080" y="2481120"/>
              <a:ext cx="196380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3456000" y="2598840"/>
              <a:ext cx="173196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mbria"/>
                </a:rPr>
                <a:t>олень</a:t>
              </a:r>
              <a:endParaRPr b="0" lang="en-US" sz="2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grpSp>
        <p:nvGrpSpPr>
          <p:cNvPr id="140" name="Прямоугольник с двумя вырезанными противолежащими углами 26"/>
          <p:cNvGrpSpPr/>
          <p:nvPr/>
        </p:nvGrpSpPr>
        <p:grpSpPr>
          <a:xfrm>
            <a:off x="3340080" y="3693960"/>
            <a:ext cx="1963800" cy="682920"/>
            <a:chOff x="3340080" y="3693960"/>
            <a:chExt cx="1963800" cy="682920"/>
          </a:xfrm>
        </p:grpSpPr>
        <p:pic>
          <p:nvPicPr>
            <p:cNvPr id="141" name="Прямоугольник с двумя вырезанными противолежащими углами 26" descr=""/>
            <p:cNvPicPr/>
            <p:nvPr/>
          </p:nvPicPr>
          <p:blipFill>
            <a:blip r:embed="rId8"/>
            <a:stretch/>
          </p:blipFill>
          <p:spPr>
            <a:xfrm>
              <a:off x="3340080" y="3693960"/>
              <a:ext cx="196380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456000" y="3813120"/>
              <a:ext cx="173196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mbria"/>
                </a:rPr>
                <a:t>ночь</a:t>
              </a:r>
              <a:endParaRPr b="0" lang="en-US" sz="2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grpSp>
        <p:nvGrpSpPr>
          <p:cNvPr id="143" name="Прямоугольник с двумя вырезанными противолежащими углами 27"/>
          <p:cNvGrpSpPr/>
          <p:nvPr/>
        </p:nvGrpSpPr>
        <p:grpSpPr>
          <a:xfrm>
            <a:off x="3413160" y="4840200"/>
            <a:ext cx="2036880" cy="676440"/>
            <a:chOff x="3413160" y="4840200"/>
            <a:chExt cx="2036880" cy="676440"/>
          </a:xfrm>
        </p:grpSpPr>
        <p:pic>
          <p:nvPicPr>
            <p:cNvPr id="144" name="Прямоугольник с двумя вырезанными противолежащими углами 27" descr=""/>
            <p:cNvPicPr/>
            <p:nvPr/>
          </p:nvPicPr>
          <p:blipFill>
            <a:blip r:embed="rId9"/>
            <a:stretch/>
          </p:blipFill>
          <p:spPr>
            <a:xfrm>
              <a:off x="3413160" y="4840200"/>
              <a:ext cx="2036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527280" y="4956120"/>
              <a:ext cx="1803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mbria"/>
                </a:rPr>
                <a:t>брада</a:t>
              </a:r>
              <a:endParaRPr b="0" lang="en-US" sz="2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grpSp>
        <p:nvGrpSpPr>
          <p:cNvPr id="146" name="Прямоугольник с двумя вырезанными противолежащими углами 28"/>
          <p:cNvGrpSpPr/>
          <p:nvPr/>
        </p:nvGrpSpPr>
        <p:grpSpPr>
          <a:xfrm>
            <a:off x="6308640" y="4857840"/>
            <a:ext cx="2036880" cy="677880"/>
            <a:chOff x="6308640" y="4857840"/>
            <a:chExt cx="2036880" cy="677880"/>
          </a:xfrm>
        </p:grpSpPr>
        <p:pic>
          <p:nvPicPr>
            <p:cNvPr id="147" name="Прямоугольник с двумя вырезанными противолежащими углами 28" descr=""/>
            <p:cNvPicPr/>
            <p:nvPr/>
          </p:nvPicPr>
          <p:blipFill>
            <a:blip r:embed="rId10"/>
            <a:stretch/>
          </p:blipFill>
          <p:spPr>
            <a:xfrm>
              <a:off x="6308640" y="4857840"/>
              <a:ext cx="203688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423120" y="4975200"/>
              <a:ext cx="18032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mbria"/>
                </a:rPr>
                <a:t>вран</a:t>
              </a:r>
              <a:endParaRPr b="0" lang="en-US" sz="2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grpSp>
        <p:nvGrpSpPr>
          <p:cNvPr id="149" name="Прямоугольник с двумя вырезанными противолежащими углами 29"/>
          <p:cNvGrpSpPr/>
          <p:nvPr/>
        </p:nvGrpSpPr>
        <p:grpSpPr>
          <a:xfrm>
            <a:off x="480960" y="4840200"/>
            <a:ext cx="2036880" cy="676440"/>
            <a:chOff x="480960" y="4840200"/>
            <a:chExt cx="2036880" cy="676440"/>
          </a:xfrm>
        </p:grpSpPr>
        <p:pic>
          <p:nvPicPr>
            <p:cNvPr id="150" name="Прямоугольник с двумя вырезанными противолежащими углами 29" descr=""/>
            <p:cNvPicPr/>
            <p:nvPr/>
          </p:nvPicPr>
          <p:blipFill>
            <a:blip r:embed="rId11"/>
            <a:stretch/>
          </p:blipFill>
          <p:spPr>
            <a:xfrm>
              <a:off x="480960" y="4840200"/>
              <a:ext cx="2036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98320" y="4956120"/>
              <a:ext cx="1803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mbria"/>
                </a:rPr>
                <a:t>краткий</a:t>
              </a:r>
              <a:endParaRPr b="0" lang="en-US" sz="2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grpSp>
        <p:nvGrpSpPr>
          <p:cNvPr id="152" name="Прямоугольник с двумя вырезанными противолежащими углами 30"/>
          <p:cNvGrpSpPr/>
          <p:nvPr/>
        </p:nvGrpSpPr>
        <p:grpSpPr>
          <a:xfrm>
            <a:off x="480960" y="3627360"/>
            <a:ext cx="1963800" cy="676440"/>
            <a:chOff x="480960" y="3627360"/>
            <a:chExt cx="1963800" cy="676440"/>
          </a:xfrm>
        </p:grpSpPr>
        <p:pic>
          <p:nvPicPr>
            <p:cNvPr id="153" name="Прямоугольник с двумя вырезанными противолежащими углами 30" descr=""/>
            <p:cNvPicPr/>
            <p:nvPr/>
          </p:nvPicPr>
          <p:blipFill>
            <a:blip r:embed="rId12"/>
            <a:stretch/>
          </p:blipFill>
          <p:spPr>
            <a:xfrm>
              <a:off x="480960" y="3627360"/>
              <a:ext cx="196380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98320" y="3741840"/>
              <a:ext cx="173196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mbria"/>
                </a:rPr>
                <a:t>город</a:t>
              </a:r>
              <a:endParaRPr b="0" lang="en-US" sz="2800" spc="-1" strike="noStrike">
                <a:solidFill>
                  <a:srgbClr val="010199"/>
                </a:solidFill>
                <a:latin typeface="Arial"/>
              </a:endParaRPr>
            </a:p>
          </p:txBody>
        </p:sp>
      </p:grpSp>
      <p:sp>
        <p:nvSpPr>
          <p:cNvPr id="155" name="TextBox 31"/>
          <p:cNvSpPr/>
          <p:nvPr/>
        </p:nvSpPr>
        <p:spPr>
          <a:xfrm>
            <a:off x="2286000" y="6143760"/>
            <a:ext cx="40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Cambria"/>
              </a:rPr>
              <a:t>Русские  слова  исчезают.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оязычн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10199"/>
                </a:solidFill>
                <a:latin typeface="Arial"/>
              </a:rPr>
              <a:t>Иноязычные  – это слова пришедшие в русский язык из других языков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имствование из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 flipH="1">
            <a:off x="2670120" y="3724560"/>
            <a:ext cx="705960" cy="81864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9" name="Rectangle 30"/>
          <p:cNvSpPr/>
          <p:nvPr/>
        </p:nvSpPr>
        <p:spPr>
          <a:xfrm>
            <a:off x="1523880" y="449568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Arial"/>
              </a:rPr>
              <a:t>французского</a:t>
            </a: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0" name="Line 31"/>
          <p:cNvSpPr/>
          <p:nvPr/>
        </p:nvSpPr>
        <p:spPr>
          <a:xfrm>
            <a:off x="6948360" y="3716280"/>
            <a:ext cx="648000" cy="72072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1" name="Rectangle 32"/>
          <p:cNvSpPr/>
          <p:nvPr/>
        </p:nvSpPr>
        <p:spPr>
          <a:xfrm>
            <a:off x="7381800" y="4508640"/>
            <a:ext cx="15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Arial"/>
              </a:rPr>
              <a:t>итальянского</a:t>
            </a: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2" name="Line 33"/>
          <p:cNvSpPr/>
          <p:nvPr/>
        </p:nvSpPr>
        <p:spPr>
          <a:xfrm flipH="1">
            <a:off x="2971800" y="3733920"/>
            <a:ext cx="720720" cy="144144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3" name="Line 34"/>
          <p:cNvSpPr/>
          <p:nvPr/>
        </p:nvSpPr>
        <p:spPr>
          <a:xfrm>
            <a:off x="6443640" y="3716280"/>
            <a:ext cx="936720" cy="136836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4" name="Rectangle 35"/>
          <p:cNvSpPr/>
          <p:nvPr/>
        </p:nvSpPr>
        <p:spPr>
          <a:xfrm>
            <a:off x="1910520" y="51577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Arial"/>
              </a:rPr>
              <a:t>немецкого</a:t>
            </a: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5" name="Rectangle 36"/>
          <p:cNvSpPr/>
          <p:nvPr/>
        </p:nvSpPr>
        <p:spPr>
          <a:xfrm>
            <a:off x="7165440" y="515772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Arial"/>
              </a:rPr>
              <a:t>английского</a:t>
            </a: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6" name="Line 37"/>
          <p:cNvSpPr/>
          <p:nvPr/>
        </p:nvSpPr>
        <p:spPr>
          <a:xfrm flipH="1">
            <a:off x="3203280" y="3789360"/>
            <a:ext cx="863640" cy="201600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7" name="Line 39"/>
          <p:cNvSpPr/>
          <p:nvPr/>
        </p:nvSpPr>
        <p:spPr>
          <a:xfrm>
            <a:off x="6067440" y="3801600"/>
            <a:ext cx="1184400" cy="184572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8" name="Rectangle 40"/>
          <p:cNvSpPr/>
          <p:nvPr/>
        </p:nvSpPr>
        <p:spPr>
          <a:xfrm>
            <a:off x="6879960" y="566100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Arial"/>
              </a:rPr>
              <a:t>старославянского</a:t>
            </a: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2197440" y="573408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Arial"/>
              </a:rPr>
              <a:t>финского</a:t>
            </a: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0" name="Line 42"/>
          <p:cNvSpPr/>
          <p:nvPr/>
        </p:nvSpPr>
        <p:spPr>
          <a:xfrm flipH="1">
            <a:off x="3564000" y="3860640"/>
            <a:ext cx="792000" cy="230508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1" name="Line 43"/>
          <p:cNvSpPr/>
          <p:nvPr/>
        </p:nvSpPr>
        <p:spPr>
          <a:xfrm>
            <a:off x="5796000" y="3933720"/>
            <a:ext cx="1081080" cy="215928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2" name="Rectangle 44"/>
          <p:cNvSpPr/>
          <p:nvPr/>
        </p:nvSpPr>
        <p:spPr>
          <a:xfrm>
            <a:off x="2485800" y="61657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Arial"/>
              </a:rPr>
              <a:t>тюркского</a:t>
            </a: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3" name="Rectangle 45"/>
          <p:cNvSpPr/>
          <p:nvPr/>
        </p:nvSpPr>
        <p:spPr>
          <a:xfrm>
            <a:off x="6734160" y="6093000"/>
            <a:ext cx="13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Arial"/>
              </a:rPr>
              <a:t>латинского</a:t>
            </a:r>
            <a:endParaRPr b="0" lang="en-US" sz="1800" spc="-1" strike="noStrike">
              <a:solidFill>
                <a:srgbClr val="010199"/>
              </a:solidFill>
              <a:latin typeface="Arial"/>
            </a:endParaRPr>
          </a:p>
        </p:txBody>
      </p:sp>
      <p:pic>
        <p:nvPicPr>
          <p:cNvPr id="174" name="Picture 47" descr="img"/>
          <p:cNvPicPr/>
          <p:nvPr/>
        </p:nvPicPr>
        <p:blipFill>
          <a:blip r:embed="rId1"/>
          <a:stretch/>
        </p:blipFill>
        <p:spPr>
          <a:xfrm>
            <a:off x="4284720" y="4437000"/>
            <a:ext cx="16063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20:34:21Z</dcterms:created>
  <dc:creator>Андрей</dc:creator>
  <dc:description/>
  <dc:language>en-US</dc:language>
  <cp:lastModifiedBy>СОШ №6 2</cp:lastModifiedBy>
  <dcterms:modified xsi:type="dcterms:W3CDTF">2013-03-25T10:13:1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