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1.png" ContentType="image/png"/>
  <Override PartName="/ppt/media/image10.gif" ContentType="image/gif"/>
  <Override PartName="/ppt/media/image9.gif" ContentType="image/gif"/>
  <Override PartName="/ppt/media/image22.wmf" ContentType="image/x-wmf"/>
  <Override PartName="/ppt/media/image13.gif" ContentType="image/gif"/>
  <Override PartName="/ppt/media/image16.jpeg" ContentType="image/jpeg"/>
  <Override PartName="/ppt/media/image8.gif" ContentType="image/gif"/>
  <Override PartName="/ppt/media/image18.jpeg" ContentType="image/jpeg"/>
  <Override PartName="/ppt/media/image7.gif" ContentType="image/gif"/>
  <Override PartName="/ppt/media/image6.gif" ContentType="image/gif"/>
  <Override PartName="/ppt/media/image5.png" ContentType="image/png"/>
  <Override PartName="/ppt/media/image23.wmf" ContentType="image/x-wmf"/>
  <Override PartName="/ppt/media/image3.gif" ContentType="image/gif"/>
  <Override PartName="/ppt/media/image21.png" ContentType="image/png"/>
  <Override PartName="/ppt/media/image19.png" ContentType="image/png"/>
  <Override PartName="/ppt/media/image1.png" ContentType="image/png"/>
  <Override PartName="/ppt/media/image17.jpeg" ContentType="image/jpeg"/>
  <Override PartName="/ppt/media/image24.jpeg" ContentType="image/jpeg"/>
  <Override PartName="/ppt/media/image15.png" ContentType="image/png"/>
  <Override PartName="/ppt/media/image14.gif" ContentType="image/gif"/>
  <Override PartName="/ppt/media/image12.png" ContentType="image/png"/>
  <Override PartName="/ppt/media/image20.jpeg" ContentType="image/jpeg"/>
  <Override PartName="/ppt/media/image2.png" ContentType="image/png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FC40-AA9F-42E9-A915-6AA3ADC62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A6D1-2977-4287-B2B6-0DE7DA8F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E78617-8686-4172-A9BF-7F7B6CB1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21EEC-D66B-464B-AC34-869BA7B5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BB5541-4C79-4090-BC89-DACC3E35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A026E7-8155-487A-BC48-9E4BDBD6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55996D-9095-47BF-894B-7A7F9B3C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50FB6B-6390-4103-91E9-5B60A922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F4DDF1-8EA6-477C-8915-99F6384A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041078-FC0A-4EAC-9360-8D973BDA5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E48022-40F6-48C4-AA44-0355D3AF4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DBBC67-767B-4233-BB1D-FB4151525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5AAE-8034-4E33-8378-AA78E0FB1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62B925-E3C7-4A9F-84DA-CB6F796E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B0AAE9-EECB-4045-9891-667A2D24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8CE759-173F-4960-B3F7-C45218D6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173A91-999E-47D0-AEAB-D8CE4AE0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D18CC3-663B-4024-BEEA-93A4C0FF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9B2C51-A991-421F-82F3-51224F50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61389C-FBCE-4F4A-91B2-74E2DFFD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051835-84F7-4DEC-A3D9-BEC4C54C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F8EA80-3E56-4E62-94E0-30288CE0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7743F6-0B29-48B5-9BE6-6E94405FF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2152-C195-4D93-9948-F97E23ECB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9C6BFA-FD0E-4F56-BE54-4826958E9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8125-641F-4949-B5F0-F9346D4E0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6F12-BC79-4084-BA54-0AA5EAFB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E1F4-182D-407E-9500-DF56785C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19A2D-675C-4CE8-8250-F04F1CEB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E227-B9E9-4A7C-B4C4-0C79B9DC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5192-9F5F-4C6F-B81E-712B2674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E3D1-4518-4AF3-8FF0-A1F3905F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A016-43FE-4538-AF90-68CFA6A9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960A-8682-44A5-9210-103688B6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C517-6324-4AA0-9548-99199661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637D-CC08-4D21-9AB0-23A53CF6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A298-0D0E-404E-BBDF-2CC79895C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E505-F3C7-473B-99ED-7C8AF478F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D1B52-5EBC-4B25-AC61-68A8F2804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3066F-FC66-41E9-AF86-9BF949CA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7B705-A060-4C7F-B2F5-46DFD9E0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39563-CE67-4D75-ADD3-5A2D3541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E65CB-8CF9-43D3-B076-84DE064F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AFAB-21BE-489D-B1C6-1399DE62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2709F-9B40-4D9F-BF4F-7652CCFA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0DB6C-0015-46E4-867B-EAF26C8B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793A0-8110-4D6B-BD10-75A32E72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9E203-717C-4CD2-96F4-DB96013D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879AC-B67E-4D91-A747-C1E5DBF3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EC0AF-4E61-4660-997D-1DA689F8E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8BF10-03D7-4C88-852B-9D237445D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BDB21-5A5E-4BC6-9259-121763AF2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172DA-B51D-4B20-8635-E1D9ADD3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7EFC0-5E79-42B4-B593-0A8A2F4C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7E78-4106-4B26-8A58-744B4A54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A2FEB-86CB-4744-A00A-1B93D627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6E556-3AFC-462F-85F6-1D026EF9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56837-C46C-43A1-8D41-022ABB8B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45946-A47E-4FEB-A110-B5FDC426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B669D-1C5B-4CAE-8A4F-CA836DE6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CD563-CEE7-48D2-94EE-06FECAA6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B8D44-7391-4922-9FC3-F36130AB6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CC0C4-8AF0-4DF8-BF33-9D5174ED6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D4CB2-6D2E-4E19-9037-290A982A0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013CB-046D-4664-851F-8539B6FCA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8D49-945B-444E-B8E1-D65C59EC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32BAD-BB51-4B67-A6FF-C8E7A305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F7A76-1693-489B-A238-4330957B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34E3E-BBA5-4745-B559-F44596E7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5BC3A-2A9D-4492-B018-50794C28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F57D4-EE72-466E-B088-B460C7FE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B5123-1B4B-4265-9D5F-4C45F6A9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71BF4-7F86-41B0-A861-939CA219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EE09A-3E49-4A0E-8FE7-776B7D72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F3050-5917-4E3C-BC4C-F1733097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E86BB-C936-4A97-B24B-6D9486529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2643-1FAC-4B9B-BE2D-628727D4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2DD86-D34E-4DC4-8F34-D46559BBD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35FF9-A3ED-4EED-B384-F69C6F413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448D5-9AB3-4CF4-9E29-2EAF064D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1CE67-FB78-470F-AAAE-14635FB8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9C0A3-5E90-45CD-A762-C0310370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07AF7-3322-43C9-866A-C2624BF2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3C49A-5E86-4E47-93B4-FBA93998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07C2F-5E19-422F-9CFD-E6BFD057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14935-9BA9-49C3-BA97-A1B0450F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F72BC-7B07-4655-8553-070A2B85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BA77-48BE-4FFD-BBA9-5829BE0A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72392-B6DD-4D06-A507-67FECBC3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F14E0-55D9-4827-A231-377E36ADE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16E28-8761-44A8-8035-B6B55A67E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5A5B67-7D62-48B0-8CBE-4A06D41F1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ADDCF9-A8A8-47B9-94E2-46F53A72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20CCBD-0256-4FE4-8DE8-24A62334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80FBC4-EBBB-42EC-9E84-CAD59187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360E98-AC4C-4A98-9FA4-1F38E71E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709CAF-6596-43BB-8863-777E1B01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119D86-4418-4A30-A67D-CC046772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8343-8D30-4CC0-A6D9-0789ED17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737B49-F616-425C-9330-DA05AE0C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4A813D-6738-41C8-933D-BC40565F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B38CBB-C542-45F8-9BBE-AAC91526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5C10A3-E8FA-4AD6-BD92-5AFCBA4FE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A64EA6-C62B-4800-906D-5BBADC18B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1042D-22DF-47DD-A4D6-4DA2E13BD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E3836-360F-47FA-B2FD-BB1875F2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BF55B-8804-457F-B585-E45F2E1B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E6A87-AFF9-4515-BDF7-9B7022EA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C5C8F-7EBC-459A-8930-9BAC3E5B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B1B1-7560-42F8-AEDF-82B2D707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DEC52-7B3D-4D14-8738-DD54F395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E4527-601F-42CC-B98B-419EF3E2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4D351-0B75-435D-B523-5CFCDC7A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A1D57-8D8E-464D-A46D-2225FB02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D8319-AA66-4AA2-A83A-63B85D51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7C272-34CC-4EF6-BF2F-F36FF3643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B279E-E333-44ED-9D6A-5D7A585B6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C3A5AA-9DFF-4BF4-9686-2ECB06A92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F2B8AB-0115-4AB7-8CC4-728398B0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93F3FC-5307-4D09-B3FC-78E8A9AE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E521-A498-4740-8EF4-38B768D94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28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E641-AE5A-4764-9F13-0F675053EE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3C98-EFA4-4321-9C12-8184E77E41C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BEC8-20D8-4B4C-B5FC-A7EF8E6DDFE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D171-675A-400A-A825-EBCD6F1D4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3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F041-6C66-4F8A-B119-EA6F7B459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9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161C-B848-4637-838A-AF2CBC1E8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5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A8E0-D785-470C-9F3F-42676DD9997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dt" idx="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1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4554-9555-4CB3-BA73-AEE261FB3C8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78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1113-CC00-4E24-85BD-6F25444A7F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9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4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2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2484360" y="2060640"/>
            <a:ext cx="52927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«Трудности адапт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8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ятиклассников в школ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" descr="Картинка 150 из 739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/>
          <p:nvPr/>
        </p:nvSpPr>
        <p:spPr>
          <a:xfrm>
            <a:off x="611280" y="5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1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просник Сергея Степанова "Стили родительского поведения"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398600" y="5128920"/>
            <a:ext cx="7745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 четырех вариантов ответа выбер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ый предпочтительный для вас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7885080" cy="69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) Чем, по вашему мнению, в большей мере определяется характер человека - наследственностью или воспитанием?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. Преимущественно воспитанием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.Сочетанием врожденных задатков и условий среды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.Главным образом врожденными задатками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.Ни тем, ни другим, а жизненным опытом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Как вы относитесь к мысли, что дети воспитывают своих родителей?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. Это игра слов, софизм, имеющий мало отношения к действительности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. Абсолютно с этим согласен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.Готов с этим согласиться при услов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нельзя забывать и о традиционной роли родителей как воспитателей своих детей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. Затрудняюсь ответить, не задумывался об этом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6948360" y="2349360"/>
            <a:ext cx="21654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-360" y="404640"/>
            <a:ext cx="716436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) Какое из суждений о воспитании вы находите наиболее удачным?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. Если вам нечего сказать ребенку, скажите ему, чтобы он пошел умыться (Эдгар Шоу)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. Цель воспитания - научить детей обходиться без нас(Эрнст Легуве)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. Детям нужны не поучения, а примеры (Жозеф Жубер)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 Научи сына послушанию, тогда сможешь научить и всему остальному (Томас Фуллер)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) Считаете ли вы, что родители должны просвещать детей в вопросах пола?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. Меня никто этому не учил, и их сама жизнь научит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. Считаю, что родителям следует в доступной форме удовлетворять возникающий у детей интерес к этим вопросам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. Когда дети достаточно повзрослеют, необходимо будет завести разговор и об этом. А в школьном возрасте главное - позаботиться о том, чтобы оградить их от проявления безнравственности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 Конечно, в первую очередь это должны сделать родители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2"/>
          <a:stretch/>
        </p:blipFill>
        <p:spPr>
          <a:xfrm>
            <a:off x="6659640" y="2349360"/>
            <a:ext cx="2484360" cy="24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/>
          </p:nvPr>
        </p:nvSpPr>
        <p:spPr>
          <a:xfrm>
            <a:off x="2627280" y="0"/>
            <a:ext cx="6516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) Следует ли родителям давать ребенку деньги на карманные расходы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. Если попросит, можно и дать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. Лучше всего регулярно давать определенную сумму на конкретные цели и контролировать расходы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. Целесообразно выдавать некоторую сумму на определенный срок (на неделю, на месяц), чтобы ребенок сам учился планировать свои расходы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. Когда есть возможность, можно иной раз дать ему какую-то сумму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) Как вы поступите, если узнаете, что вашего ребенка обидел одноклассник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. Огорчусь, постараюсь утешить ребенка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.Отправлюсь выяснить отношения с родителями обидчика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. Дети сами лучше разберутся в своих отношениях, тем более что их обиды недолги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. Посоветую ребенку, как ему лучше вести в таких ситуациях.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Картинка 160 из 7394"/>
          <p:cNvPicPr/>
          <p:nvPr/>
        </p:nvPicPr>
        <p:blipFill>
          <a:blip r:embed="rId2"/>
          <a:stretch/>
        </p:blipFill>
        <p:spPr>
          <a:xfrm>
            <a:off x="0" y="0"/>
            <a:ext cx="262728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73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) Как вы отнесетесь к сквернословию ребенка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. Постараюсь довести до его понимания, что в нашей семье, да и вообще среди порядочных людей, это не принято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. Сквернословие надо пресекать в зародыше! Наказание тут необходимо, а от общения с невоспитанными сверстниками ребенка впредь надо оградить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. Подумаешь! Все мы знаем эти слова. Не надо придавать этому значения, пока это не выходит за разумные пределы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. Ребенок в праве выражать свои чувства, даже тем способом, который нам не по душе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) Дочь-подросток хочет провести выходные на даче у подруги, где соберется компания сверстников в отсутствие родителей. Отпустили бы вы ее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. Ни в коем случае. Такие сборища до добра не доводят. Если дети хотят отдохнуть и повеселиться, пускай делают это под надзором старших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. Возможно, если знаю ее товарищей как порядочных и надежных ребят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. Она вполне разумный человек, чтобы самой принять решение. Хотя, конечно в ее отсутствие буду немного беспокоиться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. Не вижу причины запрещать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2"/>
          <a:stretch/>
        </p:blipFill>
        <p:spPr>
          <a:xfrm>
            <a:off x="6443640" y="5667480"/>
            <a:ext cx="270036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8373960" cy="618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) Как вы отреагируете, если узнаете, что ребенок вам лгал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. Постараюсь вывести его на чистую воду и пристыдить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. Если повод не слишком серьезный, не стану придавать значения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. Расстроюсь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. Попробую разобраться, что его побудило солгать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) Считаете ли вы, что падаете ребенку достойный пример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. Безусловно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. Стараюсь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. Надеюсь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. Не зна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" descr="Картинка 94 из 15243"/>
          <p:cNvPicPr/>
          <p:nvPr/>
        </p:nvPicPr>
        <p:blipFill>
          <a:blip r:embed="rId2"/>
          <a:stretch/>
        </p:blipFill>
        <p:spPr>
          <a:xfrm>
            <a:off x="4788000" y="4365720"/>
            <a:ext cx="21924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работка результат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250920" y="1268280"/>
          <a:ext cx="8713800" cy="5256360"/>
        </p:xfrm>
        <a:graphic>
          <a:graphicData uri="http://schemas.openxmlformats.org/drawingml/2006/table">
            <a:tbl>
              <a:tblPr/>
              <a:tblGrid>
                <a:gridCol w="2592360"/>
                <a:gridCol w="649080"/>
                <a:gridCol w="648000"/>
                <a:gridCol w="647640"/>
                <a:gridCol w="576000"/>
                <a:gridCol w="648000"/>
                <a:gridCol w="576000"/>
                <a:gridCol w="576360"/>
                <a:gridCol w="576360"/>
                <a:gridCol w="503280"/>
                <a:gridCol w="720720"/>
              </a:tblGrid>
              <a:tr h="876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ил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а вопрос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ритет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ритар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бера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фферентны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Рекомендации родителям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Расспрашивайте Вашего ребенка о его школьных дел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Регулярно беседуйте с учителями вашего ребенк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Не связывайте оценки за успеваемость ребенка со своей системой наказаний и поощр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 Помогайте ребенку выполнять домашние задан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 Помогите ребенку почувствовать интерес к тому, что преподают в школ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 Особенные усилия прилагайте для того, чтобы поддерживать спокойную и стабильную атмосферу в дом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1"/>
          <a:stretch/>
        </p:blipFill>
        <p:spPr>
          <a:xfrm>
            <a:off x="7392960" y="4797360"/>
            <a:ext cx="1751040" cy="206064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2404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58196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611280" y="486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Все в ваших руках” Желаем удачи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0" y="53496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Пятый класс</a:t>
            </a:r>
            <a:br>
              <a:rPr sz="4800"/>
            </a:b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 – это переход не только на новую ступень, но и в новый период развития - </a:t>
            </a: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отрочество.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2"/>
          <a:stretch/>
        </p:blipFill>
        <p:spPr>
          <a:xfrm>
            <a:off x="468360" y="4581360"/>
            <a:ext cx="1514520" cy="185760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3"/>
          <a:stretch/>
        </p:blipFill>
        <p:spPr>
          <a:xfrm>
            <a:off x="7020000" y="260280"/>
            <a:ext cx="1800000" cy="197964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4"/>
          <a:stretch/>
        </p:blipFill>
        <p:spPr>
          <a:xfrm>
            <a:off x="6300720" y="4076640"/>
            <a:ext cx="2592360" cy="255132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5"/>
          <a:stretch/>
        </p:blipFill>
        <p:spPr>
          <a:xfrm>
            <a:off x="324000" y="260280"/>
            <a:ext cx="2106360" cy="2160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4550"/>
                            </p:stCondLst>
                            <p:childTnLst>
                              <p:par>
                                <p:cTn id="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77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770" fill="hold"/>
                                        <p:tgtEl>
                                          <p:spTgt spid="5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озрастные особенности младшего подрост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требность в достойном положении в коллективе сверстников, в семь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ремление обзавестись верным друго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ремление избежать изоляции, как в классе, так и в малом коллектив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вышенный интерес к вопросу о “соотношении сил” в класс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ремление отмежеваться от всего подчеркнуто детског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сутствие авторитета возрас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вращение к необоснованным запрета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оценка своих возможносте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сутствие адаптации к неудача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рко выраженная эмоциона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08120" cy="180036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3"/>
          <a:stretch/>
        </p:blipFill>
        <p:spPr>
          <a:xfrm>
            <a:off x="7524720" y="4508640"/>
            <a:ext cx="117792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11280" y="12682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За то, как наши дети войдут в этот возраст, будут ли успешны в учебе и жизни в целом, лежит ответственность на нас, взрослых – педагогах и родителях.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1511280" cy="147312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2"/>
          <a:stretch/>
        </p:blipFill>
        <p:spPr>
          <a:xfrm>
            <a:off x="7236000" y="501336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изнаки успешной адаптац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довлетворенность ребенка процессом обу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бенок легко справляется с программ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епень самостоятельности ребенка при выполнении им учебных заданий, готовность прибегнуть к помощи взрослого лишь ПОСЛЕ попыток выполнить задание самом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довлетворенность межличностными отношениями – с одноклассниками и учител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2"/>
          <a:stretch/>
        </p:blipFill>
        <p:spPr>
          <a:xfrm>
            <a:off x="6804000" y="2997360"/>
            <a:ext cx="208764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Признаки дезадаптаци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сталый, утомлённый внешний вид ребён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желание ребёнка делиться своими впечатлениями о проведённом дн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тремление отвлечь взрослого от школьных событий, переключить внимание на другие тем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желания выполнять домашние зада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гативные характеристики в адрес школы, учителей, одноклассник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Жалобы на те или иные события, связанные со школ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еспокойный со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рудности утреннего пробуждения, вялос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стоянные жалобы на плохое самочувств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54764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cc"/>
                </a:solidFill>
                <a:latin typeface="Tahoma"/>
              </a:rPr>
              <a:t>Тест «Как вы думаете, все ли благополучно у вашего ребенка в школе?»</a:t>
            </a:r>
            <a:endParaRPr b="0" lang="en-US" sz="4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99640" y="3141360"/>
            <a:ext cx="8007480" cy="27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Если согласны с утверждением, то поставьте “+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Если утверждение к вам не относится, то поставьте “-”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7236000" y="4940280"/>
            <a:ext cx="1641240" cy="164160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79280" y="5276880"/>
            <a:ext cx="24847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Моему ребенку нравится учиться в школ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Я думаю, что мой ребенок охотно перешел бы в другую школу, класс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Если бы был выбор, он не хотел бы учиться дом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К сожалению, мой ребенок никогда не рассказывает мне и родственникам о школе с радостью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 классе у него много друзе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Ему мало нравятся учителя в школ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н активно участвует во внеклассных мероприятиях, вечерах, поход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Мой ребенок не расстраивается, когда отменяют уроки (по болезни учителя или др. причине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Мой ребенок редко делает уроки без напомина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ругие интересы и хобби не мешают его учебе в школ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7262640" y="2133720"/>
            <a:ext cx="188136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58560" y="47592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cc"/>
                </a:solidFill>
                <a:latin typeface="Tahoma"/>
              </a:rPr>
              <a:t>Подсчитайте количество совпадений:</a:t>
            </a:r>
            <a:br>
              <a:rPr sz="2900"/>
            </a:b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1 “+”, 2 “+”, 3 “-”, 4 “-”, 5 “-”, 6 “-”, 7“-”, 8 “+”, 9 “-”, 10 “+”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8-10 баллов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 У вашего ребенка хорошее отношение к школе и скорее всего у него в ближайшее время не возникнет пробле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6-7 баллов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 В школе дела обстоят неплох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4-5 баллов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 Будьте внимательны! В школьной жизни что-то неблагополучн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1-3 балл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 Ребенку крайне необходима ваша помощь. У него негативное отношен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 школе, связанное с конфликтам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нижением успеваем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7740720" y="5162400"/>
            <a:ext cx="124128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08:30:21Z</dcterms:created>
  <dc:creator>Админ</dc:creator>
  <dc:description/>
  <dc:language>en-US</dc:language>
  <cp:lastModifiedBy>Дмитрий Каленюк</cp:lastModifiedBy>
  <dcterms:modified xsi:type="dcterms:W3CDTF">2012-10-09T16:37:52Z</dcterms:modified>
  <cp:revision>10</cp:revision>
  <dc:subject/>
  <dc:title>Слайд 1</dc:title>
</cp:coreProperties>
</file>