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png" ContentType="image/png"/>
  <Override PartName="/ppt/media/image10.gif" ContentType="image/gif"/>
  <Override PartName="/ppt/media/image9.gif" ContentType="image/gif"/>
  <Override PartName="/ppt/media/image22.wmf" ContentType="image/x-wmf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6.gif" ContentType="image/gif"/>
  <Override PartName="/ppt/media/image5.png" ContentType="image/png"/>
  <Override PartName="/ppt/media/image23.wmf" ContentType="image/x-wmf"/>
  <Override PartName="/ppt/media/image3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24.jpeg" ContentType="image/jpeg"/>
  <Override PartName="/ppt/media/image15.png" ContentType="image/png"/>
  <Override PartName="/ppt/media/image14.gif" ContentType="image/gif"/>
  <Override PartName="/ppt/media/image12.png" ContentType="image/png"/>
  <Override PartName="/ppt/media/image20.jpeg" ContentType="image/jpeg"/>
  <Override PartName="/ppt/media/image2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393-04BF-4304-8203-4B16E8EC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98A-E8B2-43A0-AEBB-ADE66978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89ADB-35A0-45FF-818C-C1095477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3E884-9596-414C-ADC3-8A5D33D8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62FFD-9861-4A9A-969A-11C9A65F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93374-24D2-43FE-9CAE-B8536413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D26C8-9491-417C-9FD4-33D480A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5019-841A-4987-BD2A-4E8F7CEC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8B72C-DD5A-4E71-92FC-EE93E486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C6C50-3260-4733-BA08-389B19C5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86B8-D180-4213-BD85-DBA393AA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C8AE3-7E3C-4625-AF35-D1F6DA29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DF5-DABD-4166-AAEF-425D5CD9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AC1E7-C8EF-4A39-8316-B0F73BA7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4B125-3873-4F57-9D45-A84BAFDE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9C7E5-DB31-4EBF-9B75-06B6A900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B3030-8F72-458A-94A5-89300F53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A10B7-9AF4-4E56-8825-40C19FB7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0BA77-299E-4F1B-85EE-D9DE473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5ADFD-306C-4929-A5D4-BF8DCF48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F7403-B3CB-4B0E-9A37-010A396A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A06FD-53C7-4C7E-B841-C50D703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B7C07-3B4C-4EC9-BD3D-ECDED0F9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3BC-AEF0-4E14-B2A3-716F4F1A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6C0DA-4448-4494-8590-A51181E5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A533-B0CD-400D-91CF-49FCB626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A1DA-E402-426C-AAC2-31E7375C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220-75C8-4D79-BFAC-4785ED0C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244F-3FA3-4829-B12D-C120790C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9CDA-A2C7-418E-8476-AB93DB6C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1BF1-0EA5-41B1-8F7E-C010BCC4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448-FFF8-4942-A28D-E5D450C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AD1-0C0A-4F37-9B90-23283972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326-D196-46A0-8365-F7FC887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27B3-1228-41A8-9D42-706EEA9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117B-496F-4D9C-8C61-212C007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2E0A-B853-4313-BFA5-11CFEA51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AC41-76C5-4200-9DB2-0728F41B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0BAD-3CC4-4B2F-9DAF-43330C38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DFC2-1430-478A-84F4-83AEF16E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86EF-166B-41C6-BCFE-D98C2265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E80F-A8D0-4CFF-B516-8A7A9D7A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FBA2-7148-407E-A147-440C588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764-960A-47A6-A886-5413769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430E-D1F8-45CC-AC5C-1D6F44A6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2857-9571-48B2-A416-4831B84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89DE-27B5-4CC5-B9B4-55C1BCE6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E134-237A-4180-90CF-E092CF65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7F50-8F39-4F88-B6B6-0A11FBFA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E4E9-BA1F-46F2-B962-AD5A552B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34F5-00BC-4A31-914A-78A102EF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D87A-79C2-4E2F-8773-633F6E2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F2E5-7920-4918-8F1E-063F3EB7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829AF-F8F3-45D5-A1A9-A308117A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F99-18E5-4916-9983-CB9283BA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2402-ADCA-4E0C-9EA3-C6CBB832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EFE0-377D-41E5-BC49-1031BB6E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3983C-C56D-48DA-9C7C-E17EF057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CFF4-9451-4B33-BCE8-D2D87A7A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765A-094F-4A4C-A44B-B64B20F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0FDD1-8C6B-44F6-B7C9-D7B0B06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B5B0-8833-4F4A-9D01-A0508A6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675F-5CD2-426D-9A50-DE409179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3A99-D0B5-4CB5-8629-342D37AA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3C639-528B-4135-9AE1-07C9A337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BF9-556D-4EA3-80FF-8F671711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A15EA-9783-49D3-9DBA-8AB43130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0DF3-3B76-4187-A425-7FBE2F03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7A6C-A227-4B33-8397-CF1381BA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C4C0-D232-43EE-9DCE-7B3928B5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E5533-DDC6-41C4-A196-806E70B8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4D57-EA6B-4816-A98C-F11A144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9F66-CD35-43E1-A183-F13F1C0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BCF9-15A9-4388-B543-9D302A89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157E-C998-44EF-BB73-F8D39A1D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870E7-AD47-4323-8011-D39C9227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A23-5EED-4D12-B91D-C6776A42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8B900-1C0A-4753-B9FB-44C23687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ECAF-D120-422E-9FB6-FA77316B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155B-FF94-4C0E-A52E-D73B513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B971-0242-4010-B29D-E867C897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788D7-9102-463F-B3DF-4F59467E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8EF7-2355-4B97-A943-E5063C2B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CCA13-6DCC-4176-9719-4C745AE6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753A9-2559-4F76-82F2-F277B0E3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A6D14-ABB5-4101-861E-6267689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73CF-74C0-4E2E-AAB9-4FB8FDF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296-BED2-4C95-A1C6-6DDEB126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24DA-8353-4102-B6A7-252AF1CB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6931-5199-489B-BDFF-058C0F47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DE235-B7A5-4173-820C-ABBADD61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16047-EEE6-4AE7-8555-2E78F761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D06E2B-8218-45D0-91C0-3F8EC0C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F7366-7A85-4A43-9BCD-D206063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10DA0-C38D-4E97-9A46-CF2ACD6F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27AA1-78E9-422C-A7FE-DDAF0D02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5FE51-B9FC-4F01-9228-AF965129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923ED-75CD-448F-B64C-DF6DA36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B1C-D847-4DA4-A4E8-466D228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5694A-A72C-4758-9A2F-0589084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6CFEB-CFE9-4348-99CE-6A4B07EB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BF465-6656-46F3-9AB4-62A8CD5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AA2E1-AD29-4FDE-A43B-7C3818A8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5DBEF-1B32-4B09-BF08-2AD543C7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0E15-6E99-4447-A3A5-6BC0F346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57938-60CF-49DB-A73A-8AD6A144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96C4-8F03-4A66-AD46-105A34D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710CF-7C6A-4859-8603-744A16FC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6D62B-7F5F-4B99-842A-4258C461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7A6-0A22-49D1-AC73-FA593CB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5CE6A-49B4-4C32-AC50-F487730C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A251F-4CD4-4672-A25D-CCE1B5B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FE17-2FC5-4476-B587-8520E00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D6F5D-AD16-448F-BA1D-ABF1AB1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E2848-9AE5-4FD2-9135-644E889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9982-7A1D-4305-8F66-5FAD8F3B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A44E-BA37-4CBD-AEF2-0D1F93EE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E828F-30DB-4C59-A6A2-F77F09F0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C5BBF-F5BC-4096-BEF2-37D87452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05A48-1995-44C5-8D09-AEF004B1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B7F9-C40A-4C66-95D9-6EB99949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1972-5099-45CA-803A-A6902A860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EB91-5D84-46DF-9D00-99238465E3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622D-8A71-4383-92BA-5162408869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7AA-0AAC-4BF7-8FCB-EEFAFA2F9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B441-6D7E-4B0C-B79F-47677288B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5C03-8AEA-40E7-8473-EEF810452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C987-15CC-4C17-9ED7-BA1FFF8EDF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8C9-78F8-4C95-847D-258312A18E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8A91-84B3-4669-A23A-38BE33727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2484360" y="2060640"/>
            <a:ext cx="529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Трудности адап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ятиклассников в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Картинка 150 из 73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611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1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осник Сергея Степанова "Стили родительского поведения"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398600" y="5128920"/>
            <a:ext cx="774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четырех вариантов ответа выбе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ый предпочтительный для вас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788508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Чем, по вашему мнению, в большей мере определяется характер человека - наследственностью или воспитанием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 Преимущественно воспитанием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Сочетанием врожденных задатков и условий среды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Главным образом врожденными задаткам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Ни тем, ни другим, а жизненным опыт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Как вы относитесь к мысли, что дети воспитывают своих родителей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 Это игра слов, софизм, имеющий мало отношения к действительност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 Абсолютно с этим согласен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Готов с этим согласиться при усло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ельзя забывать и о традиционной роли родителей как воспитателей своих детей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 Затрудняюсь ответить, не задумывался об эт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2165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7164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Какое из суждений о воспитании вы находите наиболее удачным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Если вам нечего сказать ребенку, скажите ему, чтобы он пошел умыться (Эдгар Шоу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Цель воспитания - научить детей обходиться без нас(Эрнст Легуве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Детям нужны не поучения, а примеры (Жозеф Жубер)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Научи сына послушанию, тогда сможешь научить и всему остальному (Томас Фуллер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читаете ли вы, что родители должны просвещать детей в вопросах пола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Меня никто этому не учил, и их сама жизнь науч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 Считаю, что родителям следует в доступной форме удовлетворять возникающий у детей интерес к этим вопроса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Когда дети достаточно повзрослеют, необходимо будет завести разговор и об этом. А в школьном возрасте главное - позаботиться о том, чтобы оградить их от проявления безнравственност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Конечно, в первую очередь это должны сделать родите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6659640" y="2349360"/>
            <a:ext cx="24843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Следует ли родителям давать ребенку деньги на карманные расходы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Если попросит, можно и дать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Лучше всего регулярно давать определенную сумму на конкретные цели и контролировать расход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Целесообразно выдавать некоторую сумму на определенный срок (на неделю, на месяц), чтобы ребенок сам учился планировать свои расход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Когда есть возможность, можно иной раз дать ему какую-то сумму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Как вы поступите, если узнаете, что вашего ребенка обидел одноклассник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Огорчусь, постараюсь утешить ребенк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Отправлюсь выяснить отношения с родителями обидчик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Дети сами лучше разберутся в своих отношениях, тем более что их обиды недолги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Посоветую ребенку, как ему лучше вести в таких ситуациях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Картинка 160 из 7394"/>
          <p:cNvPicPr/>
          <p:nvPr/>
        </p:nvPicPr>
        <p:blipFill>
          <a:blip r:embed="rId2"/>
          <a:stretch/>
        </p:blipFill>
        <p:spPr>
          <a:xfrm>
            <a:off x="0" y="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Как вы отнесетесь к сквернословию ребенк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Постараюсь довести до его понимания, что в нашей семье, да и вообще среди порядочных людей, это не принято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Сквернословие надо пресекать в зародыше! Наказание тут необходимо, а от общения с невоспитанными сверстниками ребенка впредь надо оградить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Подумаешь! Все мы знаем эти слова. Не надо придавать этому значения, пока это не выходит за разумные предел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Ребенок в праве выражать свои чувства, даже тем способом, который нам не по душе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Дочь-подросток хочет провести выходные на даче у подруги, где соберется компания сверстников в отсутствие родителей. Отпустили бы вы ее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Ни в коем случае. Такие сборища до добра не доводят. Если дети хотят отдохнуть и повеселиться, пускай делают это под надзором старших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Возможно, если знаю ее товарищей как порядочных и надежных ребят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. Она вполне разумный человек, чтобы самой принять решение. Хотя, конечно в ее отсутствие буду немного беспокоиться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 Не вижу причины запрещат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6443640" y="5667480"/>
            <a:ext cx="2700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73960" cy="618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 Как вы отреагируете, если узнаете, что ребенок вам лгал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. Постараюсь вывести его на чистую воду и пристыди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. Если повод не слишком серьезный, не стану придавать значени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. Расстроюс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Попробую разобраться, что его побудило солгать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) Считаете ли вы, что падаете ребенку достойный пример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. Безусловно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. Стараюс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. Надеюс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. Н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Картинка 94 из 15243"/>
          <p:cNvPicPr/>
          <p:nvPr/>
        </p:nvPicPr>
        <p:blipFill>
          <a:blip r:embed="rId2"/>
          <a:stretch/>
        </p:blipFill>
        <p:spPr>
          <a:xfrm>
            <a:off x="4788000" y="436572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ботка результа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50920" y="1268280"/>
          <a:ext cx="8713800" cy="5256360"/>
        </p:xfrm>
        <a:graphic>
          <a:graphicData uri="http://schemas.openxmlformats.org/drawingml/2006/table">
            <a:tbl>
              <a:tblPr/>
              <a:tblGrid>
                <a:gridCol w="2592360"/>
                <a:gridCol w="649080"/>
                <a:gridCol w="648000"/>
                <a:gridCol w="647640"/>
                <a:gridCol w="576000"/>
                <a:gridCol w="648000"/>
                <a:gridCol w="576000"/>
                <a:gridCol w="576360"/>
                <a:gridCol w="576360"/>
                <a:gridCol w="503280"/>
                <a:gridCol w="720720"/>
              </a:tblGrid>
              <a:tr h="876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вопро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е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ита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фферент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Рекомендации родителям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Расспрашивайте Вашего ребенка о его школьных дел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Регулярно беседуйте с учителями вашего ребе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Не связывайте оценки за успеваемость ребенка со своей системой наказаний и поощ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Помогайте ребенку выполнять домашние зада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Помогите ребенку почувствовать интерес к тому, что преподают в школ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Особенные усилия прилагайте для того, чтобы поддерживать спокойную и стабильную атмосферу в дом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392960" y="4797360"/>
            <a:ext cx="1751040" cy="2060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5819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61128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се в ваших руках” Желаем удачи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53496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Пятый класс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– это переход не только на новую ступень, но и в новый период развития -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отрочество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1514520" cy="18576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00000" cy="197964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2592360" cy="25513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2106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5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7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770" fill="hold"/>
                                        <p:tgtEl>
                                          <p:spTgt spid="5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растные особенности младшего подрост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ь в достойном положении в коллективе сверстников, в семь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обзавестись верным друг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избежать изоляции, как в классе, так и в малом коллекти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ышенный интерес к вопросу о “соотношении сил” в клас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отмежеваться от всего подчеркнуто детск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авторитета возрас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ращение к необоснованным запре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ка своих возможн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адаптации к неудач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ко выраженная эмоцион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8120" cy="18003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7524720" y="4508640"/>
            <a:ext cx="1177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За то, как наши дети войдут в этот возраст, будут ли успешны в учебе и жизни в целом, лежит ответственность на нас, взрослых – педагогах и родителях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11280" cy="14731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7236000" y="5013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знаки успешной адап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ность межличностными отношениями – с одноклассниками и учите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6804000" y="2997360"/>
            <a:ext cx="208764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ризнаки дезадапт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спокойный с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47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cc"/>
                </a:solidFill>
                <a:latin typeface="Tahoma"/>
              </a:rPr>
              <a:t>Тест «Как вы думаете, все ли благополучно у вашего ребенка в школе?»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99640" y="3141360"/>
            <a:ext cx="800748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ли согласны с утверждением, то поставьте “+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ли утверждение к вам не относится, то поставьте “-”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236000" y="4940280"/>
            <a:ext cx="1641240" cy="16416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79280" y="5276880"/>
            <a:ext cx="2484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ему ребенку нравится учитьс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Я думаю, что мой ребенок охотно перешел бы в другую школу, кла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сли бы был выбор, он не хотел бы учиться до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 сожалению, мой ребенок никогда не рассказывает мне и родственникам о школе с радос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классе у него много друз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му мало нравятся учителя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н активно участвует во внеклассных мероприятиях, вечерах, поход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й ребенок не расстраивается, когда отменяют уроки (по болезни учителя или др. причине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ой ребенок редко делает уроки без напомин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ругие интересы и хобби не мешают его учебе в шко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262640" y="2133720"/>
            <a:ext cx="18813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58560" y="475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Tahoma"/>
              </a:rPr>
              <a:t>Подсчитайте количество совпадений:</a:t>
            </a:r>
            <a:br>
              <a:rPr sz="29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1 “+”, 2 “+”, 3 “-”, 4 “-”, 5 “-”, 6 “-”, 7“-”, 8 “+”, 9 “-”, 10 “+”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8-10 балл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У вашего ребенка хорошее отношение к школе и скорее всего у него в ближайшее время не возникнет пробл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6-7 балл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В школе дела обстоят неплох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4-5 балл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Будьте внимательны! В школьной жизни что-то неблагополуч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1-3 балл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Ребенку крайне необходима ваша помощь. У него негативное отноше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школе, связанное с конфликт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нижением успеваем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740720" y="5162400"/>
            <a:ext cx="1241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8:30:21Z</dcterms:created>
  <dc:creator>Админ</dc:creator>
  <dc:description/>
  <dc:language>en-US</dc:language>
  <cp:lastModifiedBy>Дмитрий Каленюк</cp:lastModifiedBy>
  <dcterms:modified xsi:type="dcterms:W3CDTF">2012-10-09T16:37:52Z</dcterms:modified>
  <cp:revision>10</cp:revision>
  <dc:subject/>
  <dc:title>Слайд 1</dc:title>
</cp:coreProperties>
</file>