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24F-BB96-4438-A5A0-0F9DA879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EBE-865F-4206-88B6-0EBAD3E9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450-E40C-4954-9B87-9B86C591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431-9102-4C8A-95F2-372D66DC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A0D-23E2-4371-8283-210BA9E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972-59A6-43B6-9977-5021274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3FB-EC8C-49B4-AE10-C0B1E99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CD4-5151-43CC-8652-8F1A96B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DAF-E0F1-4FC0-B9E8-E5D19C2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4F8-F033-47F0-BB23-AC0CCA8E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6AC-41B8-4DE4-903A-B518E9A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1CF-760E-4E97-8148-21F7B0B7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887-144A-4311-867C-D1343B3F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art.ioso.ru/wiki/index.php/&#1040;&#1082;&#1074;&#1072;&#1088;&#1077;&#1083;&#1100;&#1085;&#1072;&#1103;_&#1078;&#1080;&#1074;&#1086;&#1087;&#1080;&#1089;&#1100;" TargetMode="External"/><Relationship Id="rId2" Type="http://schemas.openxmlformats.org/officeDocument/2006/relationships/hyperlink" Target="http://art.ioso.ru/wiki/index.php/&#1040;&#1082;&#1074;&#1072;&#1088;&#1077;&#1083;&#1100;&#1085;&#1072;&#1103;_&#1078;&#1080;&#1074;&#1086;&#1087;&#1080;&#1089;&#1100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Краски акварельные. Их состав и изготовление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96056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ученицы 6-б класса МАОУ СОШ  №107, Никитиной Ульяны, 2013г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62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1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Очис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ро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Измель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См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оль с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50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2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Очист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рон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Измель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Сме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у с к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4720" y="981000"/>
            <a:ext cx="4859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3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Очистить мел от посторонних прим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Измельчить мел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Просеять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Смешать мел  с яичным бел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добавить немного бриллиантовой зел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4196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отовить акварельные краски из природных компонентов в домашни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86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4-го эксперимен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той от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ковой шелу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сту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меш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ар с ме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5076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План 5-го эксперимен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Измельч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манга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я в тон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Просе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ме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манга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лия с во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067280" y="836640"/>
            <a:ext cx="5076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х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луч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чнев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жеву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л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елен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360" y="476280"/>
            <a:ext cx="5651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ить состав и свойства акварельных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яснить функциональное значение компонентов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Рассмотреть основные этапы производства кра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риготовить основу акварельных красок из растительного сырь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ить растительные пиг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 по рабо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ные краски имеют преимущества и недостатки: экологически чистые, бесплатные, имеют естественный цвет, но трудоемкие по производству, неудобно их хранить и нет среди полученных растворов насыщенн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 акварели мир художественной живописи будет скучен и однообраз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укушкин Ю.Н. - Химия вокруг нас -  Дрофа, 2003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етров В.- Мир искусства. Художественное объединение 20 века.-М.: Аврора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разовательные интернет-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rt.ioso.ru/wiki/index.ph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кварельная_живо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я только с растительным материалом, возможно получение акварельных красок на основе природных пигментов даже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варель – один из поэтичных видов живопис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варелью 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мятеж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еву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ужева обла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лену тум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позв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ечатле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ления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9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нуж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 белой зернистой бумаги, коробочка с красками, мягкая, послушная кисть, вода в небольшом сосуде – вот и все что нужно художнику. Можно писать по сырой или сухой бумаге сразу, в полную силу цвета. Но в любом случае нельзя или почти нельзя исправить испорченное место: акварель не выносит добавления или исправления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и рисунки акварель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853920"/>
            <a:ext cx="83516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ски для акварельной живописи должны обладать следующими качеств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Большой прозра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Хорошо браться влажной кисточкой и легко размыва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Акварельная краска должна ровно ложиться на бумагу и не    образовывать пятен и т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После высыхания давать прочный, не трескающийся с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Не проникать на обратную сторону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 предположила, что акварельные краски можно изготовить самостоятельно в домашних условиях, но они будут отличаться от магази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роведения экспериментов мне надо было раздобыть природные пигменты и связующие ве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моем распоряжении оказалась глина, уголь, мел, луковая шелуха, перманганат калия, ,канцелярский клей, мед и куриное яйц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7:05:22Z</dcterms:created>
  <dc:creator>Коковина</dc:creator>
  <dc:description/>
  <dc:language>en-US</dc:language>
  <cp:lastModifiedBy>Коковина</cp:lastModifiedBy>
  <dcterms:modified xsi:type="dcterms:W3CDTF">2013-03-26T16:45:47Z</dcterms:modified>
  <cp:revision>6</cp:revision>
  <dc:subject/>
  <dc:title>«Краски акварельные. Их состав и изготовление» </dc:title>
</cp:coreProperties>
</file>