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B0E2-FA59-49EE-B4A0-0AF034E0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8F2-ACD6-4633-9EFA-C3E9C6F8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B13-3C85-4129-BBA6-E0DB8C9C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C9C-DF55-4F53-AEF1-04BADF41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0D5C-7860-4767-8612-4747F6BA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4ED-B35C-45AC-A1FA-D25AC8B0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1CAC-A0B0-4D16-B9C2-A66400EA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FB57-06CB-4019-9708-19AAD04F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05A-FB99-4197-99B5-CFDB18F6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0AE1-AE63-4361-B014-B9D32F3B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375-DE10-4618-A16F-FA8CE816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65D-1C16-400B-A8DE-13D8D7D8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2861-BB9D-4B78-B4BB-214B59A63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art.ioso.ru/wiki/index.php/&#1040;&#1082;&#1074;&#1072;&#1088;&#1077;&#1083;&#1100;&#1085;&#1072;&#1103;_&#1078;&#1080;&#1074;&#1086;&#1087;&#1080;&#1089;&#1100;" TargetMode="External"/><Relationship Id="rId2" Type="http://schemas.openxmlformats.org/officeDocument/2006/relationships/hyperlink" Target="http://art.ioso.ru/wiki/index.php/&#1040;&#1082;&#1074;&#1072;&#1088;&#1077;&#1083;&#1100;&#1085;&#1072;&#1103;_&#1078;&#1080;&#1074;&#1086;&#1087;&#1080;&#1089;&#1100;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Краски акварельные. Их состав и изготовление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196056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ученицы 6-б класса МАОУ СОШ  №107, Никитиной Ульяны, 2013г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6624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лан 1-го эксперимент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Очист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оль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оро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Измельч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оль в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Просея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Сме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оль с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140360" y="1413000"/>
            <a:ext cx="50036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лан 2-го эксперимент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Очист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ину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оронн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Измель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ину в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Просея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Смеш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ину с кле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284720" y="981000"/>
            <a:ext cx="48592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лан 3-го эксперимент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Очистить мел от посторонних приме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Измельчить мел в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Просеять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Смешать мел  с яичным бел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добавить немного бриллиантовой зел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л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34196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готовить акварельные краски из природных компонентов в домашних услов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58672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лан 4-го эксперимент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Сдел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стой от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уковой шелу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Осту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Смеш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ар с ме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067280" y="1052640"/>
            <a:ext cx="5076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3516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лан 5-го эксперимен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Измельч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мангана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лия в тон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Просея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Сме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мангана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лия с вод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067280" y="836640"/>
            <a:ext cx="5076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х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спери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получ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рну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ичневу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жеву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елт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елен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а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360" y="476280"/>
            <a:ext cx="56516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Изучить состав и свойства акварельных кра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ыяснить функциональное значение компонентов кра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Рассмотреть основные этапы производства кра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Приготовить основу акварельных красок из растительного сырья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чить растительные пигмен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ы по рабо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ченные краски имеют преимущества и недостатки: экологически чистые, бесплатные, имеют естественный цвет, но трудоемкие по производству, неудобно их хранить и нет среди полученных растворов насыщенны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ез акварели мир художественной живописи будет скучен и однообразе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0647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Кукушкин Ю.Н. - Химия вокруг нас -  Дрофа, 2003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Петров В.- Мир искусства. Художественное объединение 20 века.-М.: Аврора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образовательные интернет-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rt.ioso.ru/wiki/index.php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Акварельная_живо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ипотез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я только с растительным материалом, возможно получение акварельных красок на основе природных пигментов даже в домашних услов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кварель – один из поэтичных видов живопис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варелью мо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мятеж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неву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ужева обла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лену тума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а позво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ечатле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вления приро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11640" y="1916280"/>
            <a:ext cx="493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нужн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ст белой зернистой бумаги, коробочка с красками, мягкая, послушная кисть, вода в небольшом сосуде – вот и все что нужно художнику. Можно писать по сырой или сухой бумаге сразу, в полную силу цвета. Но в любом случае нельзя или почти нельзя исправить испорченное место: акварель не выносит добавления или исправления ц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и рисунки акварелью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853920"/>
            <a:ext cx="835164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аски для акварельной живописи должны обладать следующими качествам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Большой прозрач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Хорошо браться влажной кисточкой и легко размыва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Акварельная краска должна ровно ложиться на бумагу и не    образовывать пятен и точ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После высыхания давать прочный, не трескающийся сл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Не проникать на обратную сторону бума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ипоте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 предположила, что акварельные краски можно изготовить самостоятельно в домашних условиях, но они будут отличаться от магази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проведения экспериментов мне надо было раздобыть природные пигменты и связующие ве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моем распоряжении оказалась глина, уголь, мел, луковая шелуха, перманганат калия, ,канцелярский клей, мед и куриное яйц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7:05:22Z</dcterms:created>
  <dc:creator>Коковина</dc:creator>
  <dc:description/>
  <dc:language>en-US</dc:language>
  <cp:lastModifiedBy>Коковина</cp:lastModifiedBy>
  <dcterms:modified xsi:type="dcterms:W3CDTF">2013-03-26T16:45:47Z</dcterms:modified>
  <cp:revision>6</cp:revision>
  <dc:subject/>
  <dc:title>«Краски акварельные. Их состав и изготовление» </dc:title>
</cp:coreProperties>
</file>