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05D5-09B3-4CF8-844B-6B0C3A3B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6AB-9162-4483-B7B9-E1E6A4B2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5D17-C26F-427B-B849-C73EB68A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2C8-9583-4B03-B038-99827213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B1B5-6C3F-45A1-830A-DBC6020E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FDC6-6B62-4005-A12B-7073B5E6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4A49-A3C1-4A62-83D5-2B321771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981C-5738-444D-827D-36BE6803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ADF4-B73D-4E32-B077-D6E5C5D1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F8FA-E21A-431F-B77C-86D31EDA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8D1A-B773-42DC-B3A7-ECE0B4CB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F6B-81C4-424D-960F-5953E955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6D1E-61BC-44FE-B5F4-4F943EF2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5E23-1F8B-40D6-81CF-B9B8BE0A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3AF2-A610-4B87-B73E-F700F4D6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4A28-52DF-40C4-8663-3A50788E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5751-55D6-4502-90EF-A2B35AA5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58DC-3A93-4162-BFD8-87F9CCDD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8208-A092-4CF2-B1F4-08C14DA4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9B3A-9E94-4CD0-8958-466EE132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9A91F-D1A3-4E00-9A27-9AE979D6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CE12-FC07-4FA8-97A5-82E581C0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749-AF0F-47D5-8D94-CCA4DC8F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A06E5-6597-4309-A895-A3ACDD5B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C78D6-AC45-40C8-92CA-D9BF8144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F4904-1C19-4F47-9F06-E956B427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1A192-6E54-4B25-A260-24993144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3017-28FF-487B-8E2B-DD65CD37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2BB67-356B-4887-92E5-5A63A635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4E63-457C-4DCF-AEE0-ABA72549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8F7-E175-492E-94AA-3C4AC1EF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7D8-7340-4E1C-B47A-607300FA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5BB-7F78-4FBB-BF75-5AFB6A3E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51E-B524-495C-BB9A-246E2D39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052-A570-4C0F-ABA7-AAA95B8A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035-4B2A-4A4F-B1F6-3AF632FD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628F-0B65-4C60-BD42-29683AB2D7E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358B-294A-4002-8B99-E8B34387EC2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D73F-6A41-48DD-BD7A-111C951035E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4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2"/>
          <a:stretch/>
        </p:blipFill>
        <p:spPr>
          <a:xfrm>
            <a:off x="633240" y="1116000"/>
            <a:ext cx="8339400" cy="2560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4000680" y="428616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Symbol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ЯСНИНСКАЯ СОШ №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 Пугачёва О.В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ga.pugacheva@inbo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4" descr=""/>
          <p:cNvPicPr/>
          <p:nvPr/>
        </p:nvPicPr>
        <p:blipFill>
          <a:blip r:embed="rId2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3"/>
          <a:srcRect l="2431" t="6159" r="3969" b="4547"/>
          <a:stretch/>
        </p:blipFill>
        <p:spPr>
          <a:xfrm>
            <a:off x="1357200" y="2428920"/>
            <a:ext cx="6215040" cy="23400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6"/>
          <p:cNvSpPr/>
          <p:nvPr/>
        </p:nvSpPr>
        <p:spPr>
          <a:xfrm>
            <a:off x="2286000" y="5143680"/>
            <a:ext cx="435780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Constantia"/>
              </a:rPr>
              <a:t>АЛГОРИТ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4" descr=""/>
          <p:cNvPicPr/>
          <p:nvPr/>
        </p:nvPicPr>
        <p:blipFill>
          <a:blip r:embed="rId2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6"/>
          <p:cNvSpPr/>
          <p:nvPr/>
        </p:nvSpPr>
        <p:spPr>
          <a:xfrm>
            <a:off x="2214720" y="5143680"/>
            <a:ext cx="43574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Constantia"/>
              </a:rPr>
              <a:t>ЦИК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Rectangle 4" descr=""/>
          <p:cNvPicPr/>
          <p:nvPr/>
        </p:nvPicPr>
        <p:blipFill>
          <a:blip r:embed="rId3"/>
          <a:stretch/>
        </p:blipFill>
        <p:spPr>
          <a:xfrm>
            <a:off x="-96840" y="2475000"/>
            <a:ext cx="3699000" cy="1096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995640" y="1268280"/>
            <a:ext cx="427212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2"/>
          <a:stretch/>
        </p:blipFill>
        <p:spPr>
          <a:xfrm>
            <a:off x="-96840" y="353880"/>
            <a:ext cx="8691480" cy="11509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Геометрический орнамент"/>
          <p:cNvPicPr/>
          <p:nvPr/>
        </p:nvPicPr>
        <p:blipFill>
          <a:blip r:embed="rId3"/>
          <a:stretch/>
        </p:blipFill>
        <p:spPr>
          <a:xfrm>
            <a:off x="500040" y="1500120"/>
            <a:ext cx="3789360" cy="27860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35" descr="http://mith.ru/treasury/natio/ireland/celt05.gif"/>
          <p:cNvPicPr/>
          <p:nvPr/>
        </p:nvPicPr>
        <p:blipFill>
          <a:blip r:embed="rId4"/>
          <a:stretch/>
        </p:blipFill>
        <p:spPr>
          <a:xfrm>
            <a:off x="5429160" y="1143000"/>
            <a:ext cx="2359080" cy="23414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8" descr="http://mith.ru/treasury/natio/ireland/celt13.gif"/>
          <p:cNvPicPr/>
          <p:nvPr/>
        </p:nvPicPr>
        <p:blipFill>
          <a:blip r:embed="rId5"/>
          <a:stretch/>
        </p:blipFill>
        <p:spPr>
          <a:xfrm>
            <a:off x="5429160" y="3857760"/>
            <a:ext cx="2357640" cy="23572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93" descr="http://art.ioso.ru/seminar/2008/projects7/ornament/Pictures/image012.jpg"/>
          <p:cNvPicPr/>
          <p:nvPr/>
        </p:nvPicPr>
        <p:blipFill>
          <a:blip r:embed="rId6"/>
          <a:stretch/>
        </p:blipFill>
        <p:spPr>
          <a:xfrm>
            <a:off x="500040" y="4429080"/>
            <a:ext cx="3500640" cy="17254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5" descr="http://mith.ru/treasury/natio/ireland/celt05.gif"/>
          <p:cNvPicPr/>
          <p:nvPr/>
        </p:nvPicPr>
        <p:blipFill>
          <a:blip r:embed="rId7"/>
          <a:stretch/>
        </p:blipFill>
        <p:spPr>
          <a:xfrm>
            <a:off x="5253120" y="1366920"/>
            <a:ext cx="2359080" cy="23414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93" descr="http://art.ioso.ru/seminar/2008/projects7/ornament/Pictures/image012.jpg"/>
          <p:cNvPicPr/>
          <p:nvPr/>
        </p:nvPicPr>
        <p:blipFill>
          <a:blip r:embed="rId8"/>
          <a:stretch/>
        </p:blipFill>
        <p:spPr>
          <a:xfrm>
            <a:off x="324000" y="4653000"/>
            <a:ext cx="35002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Заголовок 1" descr=""/>
          <p:cNvPicPr/>
          <p:nvPr/>
        </p:nvPicPr>
        <p:blipFill>
          <a:blip r:embed="rId2"/>
          <a:srcRect l="0" t="0" r="69870" b="-5500"/>
          <a:stretch/>
        </p:blipFill>
        <p:spPr>
          <a:xfrm>
            <a:off x="73080" y="701640"/>
            <a:ext cx="2554200" cy="1214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к уроку2"/>
          <p:cNvPicPr/>
          <p:nvPr/>
        </p:nvPicPr>
        <p:blipFill>
          <a:blip r:embed="rId3"/>
          <a:stretch/>
        </p:blipFill>
        <p:spPr>
          <a:xfrm>
            <a:off x="1785960" y="2000160"/>
            <a:ext cx="5857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3-03-26T17:08:39Z</dcterms:modified>
  <cp:revision>50</cp:revision>
  <dc:subject/>
  <dc:title>Алгоритмический язык стрелок для создания циклического алгоритма</dc:title>
</cp:coreProperties>
</file>