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42D4-1F05-4AA8-BF3B-B0208FAF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5904-E777-4907-A6CF-1199CE0E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1DA6-5D93-49A2-8A30-1280A893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8D9F-F0B6-4E6A-BFDF-0681CF96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1A57-01C1-4213-ABA0-63C5A5F8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5C26-11E8-40F1-887E-3B4A0896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1FC9-960F-445B-BD2E-B667E1E2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6A37-F7C8-4383-BBA3-F507D248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8F1F-AA2F-4DDF-9660-AAF27DFD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6047-7B3A-4F8E-B382-63006023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0324-4DDB-4992-B2E5-263ABFFB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FEE7-2082-4A0A-A046-E963F1D5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3559-9BCA-4069-9EA7-621A3EA6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3C8B-2257-4D38-95B0-4186395A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CDA3-3D52-4547-99FC-A5DE9B94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EEDF-12C2-4FF8-B619-64A5D8B3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3B36-C6AA-4C20-AD11-DA8FE9AE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FB104-675D-4C8F-9A93-B5B0F808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3B12E-8342-4C60-85A8-6D35BD87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29D69-A729-43E2-B466-811D5304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289CE-106D-4FBF-8867-22B2666B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68CFD-76CA-4797-8DA2-4F01357D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BF72-29A9-449F-9F90-E6F7BF2C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AC9C0-7082-4442-A2D5-6097DD4B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9D8B9-A81E-4D2E-B20A-08449151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8F86D-85B7-4378-A584-570EFDBB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33CC4-C7F7-43AC-979C-35738FA9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A4696-F7E8-4938-A7C8-88160E5C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97FBC-9AEE-4F2B-AA93-A3ADA14F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6FD50-5194-48C6-8C0E-613E770B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036C-5E36-40F4-8917-F26F016B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BB11-3438-41C4-981E-A454594F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6DBA-2A66-4077-B554-4FD4761F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9349-E8DC-4C20-9153-4DB78263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9BDA-6680-4119-9DD2-E8A80912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E6B6-A42E-4020-83E6-82F8CD30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7088-0996-4EEB-9949-B5FA34C5381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9495-09D7-435A-83C2-FA6C240B1AB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4B2E-36F9-4210-82F3-204804211C7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4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1" descr=""/>
          <p:cNvPicPr/>
          <p:nvPr/>
        </p:nvPicPr>
        <p:blipFill>
          <a:blip r:embed="rId2"/>
          <a:stretch/>
        </p:blipFill>
        <p:spPr>
          <a:xfrm>
            <a:off x="633240" y="1116000"/>
            <a:ext cx="8339400" cy="2560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4000680" y="428616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ЯСНИНСКАЯ СОШ №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 Пугачёва О.В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ga.pugacheva@inbox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Заголовок 4" descr=""/>
          <p:cNvPicPr/>
          <p:nvPr/>
        </p:nvPicPr>
        <p:blipFill>
          <a:blip r:embed="rId2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3"/>
          <a:srcRect l="2431" t="6159" r="3969" b="4547"/>
          <a:stretch/>
        </p:blipFill>
        <p:spPr>
          <a:xfrm>
            <a:off x="1357200" y="2428920"/>
            <a:ext cx="6215040" cy="234000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6"/>
          <p:cNvSpPr/>
          <p:nvPr/>
        </p:nvSpPr>
        <p:spPr>
          <a:xfrm>
            <a:off x="2286000" y="5143680"/>
            <a:ext cx="435780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Constantia"/>
              </a:rPr>
              <a:t>АЛГОРИТ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4" descr=""/>
          <p:cNvPicPr/>
          <p:nvPr/>
        </p:nvPicPr>
        <p:blipFill>
          <a:blip r:embed="rId2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6"/>
          <p:cNvSpPr/>
          <p:nvPr/>
        </p:nvSpPr>
        <p:spPr>
          <a:xfrm>
            <a:off x="2214720" y="5143680"/>
            <a:ext cx="435744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Constantia"/>
              </a:rPr>
              <a:t>ЦИК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Rectangle 4" descr=""/>
          <p:cNvPicPr/>
          <p:nvPr/>
        </p:nvPicPr>
        <p:blipFill>
          <a:blip r:embed="rId3"/>
          <a:stretch/>
        </p:blipFill>
        <p:spPr>
          <a:xfrm>
            <a:off x="-96840" y="2475000"/>
            <a:ext cx="3699000" cy="1096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3995640" y="1268280"/>
            <a:ext cx="4272120" cy="34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1" descr=""/>
          <p:cNvPicPr/>
          <p:nvPr/>
        </p:nvPicPr>
        <p:blipFill>
          <a:blip r:embed="rId2"/>
          <a:stretch/>
        </p:blipFill>
        <p:spPr>
          <a:xfrm>
            <a:off x="-96840" y="353880"/>
            <a:ext cx="8691480" cy="115092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4" descr="Геометрический орнамент"/>
          <p:cNvPicPr/>
          <p:nvPr/>
        </p:nvPicPr>
        <p:blipFill>
          <a:blip r:embed="rId3"/>
          <a:stretch/>
        </p:blipFill>
        <p:spPr>
          <a:xfrm>
            <a:off x="500040" y="1500120"/>
            <a:ext cx="3789360" cy="27860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35" descr="http://mith.ru/treasury/natio/ireland/celt05.gif"/>
          <p:cNvPicPr/>
          <p:nvPr/>
        </p:nvPicPr>
        <p:blipFill>
          <a:blip r:embed="rId4"/>
          <a:stretch/>
        </p:blipFill>
        <p:spPr>
          <a:xfrm>
            <a:off x="5429160" y="1143000"/>
            <a:ext cx="2359080" cy="23414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38" descr="http://mith.ru/treasury/natio/ireland/celt13.gif"/>
          <p:cNvPicPr/>
          <p:nvPr/>
        </p:nvPicPr>
        <p:blipFill>
          <a:blip r:embed="rId5"/>
          <a:stretch/>
        </p:blipFill>
        <p:spPr>
          <a:xfrm>
            <a:off x="5429160" y="3857760"/>
            <a:ext cx="2357640" cy="235728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293" descr="http://art.ioso.ru/seminar/2008/projects7/ornament/Pictures/image012.jpg"/>
          <p:cNvPicPr/>
          <p:nvPr/>
        </p:nvPicPr>
        <p:blipFill>
          <a:blip r:embed="rId6"/>
          <a:stretch/>
        </p:blipFill>
        <p:spPr>
          <a:xfrm>
            <a:off x="500040" y="4429080"/>
            <a:ext cx="3500640" cy="17254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35" descr="http://mith.ru/treasury/natio/ireland/celt05.gif"/>
          <p:cNvPicPr/>
          <p:nvPr/>
        </p:nvPicPr>
        <p:blipFill>
          <a:blip r:embed="rId7"/>
          <a:stretch/>
        </p:blipFill>
        <p:spPr>
          <a:xfrm>
            <a:off x="5253120" y="1366920"/>
            <a:ext cx="2359080" cy="23414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293" descr="http://art.ioso.ru/seminar/2008/projects7/ornament/Pictures/image012.jpg"/>
          <p:cNvPicPr/>
          <p:nvPr/>
        </p:nvPicPr>
        <p:blipFill>
          <a:blip r:embed="rId8"/>
          <a:stretch/>
        </p:blipFill>
        <p:spPr>
          <a:xfrm>
            <a:off x="324000" y="4653000"/>
            <a:ext cx="35002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Заголовок 1" descr=""/>
          <p:cNvPicPr/>
          <p:nvPr/>
        </p:nvPicPr>
        <p:blipFill>
          <a:blip r:embed="rId2"/>
          <a:srcRect l="0" t="0" r="69870" b="-5500"/>
          <a:stretch/>
        </p:blipFill>
        <p:spPr>
          <a:xfrm>
            <a:off x="73080" y="701640"/>
            <a:ext cx="2554200" cy="1214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к уроку2"/>
          <p:cNvPicPr/>
          <p:nvPr/>
        </p:nvPicPr>
        <p:blipFill>
          <a:blip r:embed="rId3"/>
          <a:stretch/>
        </p:blipFill>
        <p:spPr>
          <a:xfrm>
            <a:off x="1785960" y="2000160"/>
            <a:ext cx="58579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13-03-26T17:08:39Z</dcterms:modified>
  <cp:revision>50</cp:revision>
  <dc:subject/>
  <dc:title>Алгоритмический язык стрелок для создания циклического алгоритма</dc:title>
</cp:coreProperties>
</file>