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png" ContentType="image/png"/>
  <Override PartName="/ppt/media/image8.png" ContentType="image/png"/>
  <Override PartName="/ppt/media/image19.gif" ContentType="image/gif"/>
  <Override PartName="/ppt/media/image18.gif" ContentType="image/gif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7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C2D-CF1D-4670-9CAD-056D6D1C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74B-9D00-4601-8151-5D618B3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139-97B0-4D9E-8B47-92B4DA36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A98-DD2D-4E05-8DFE-7A3B529F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6E1-5C9C-4F48-9BD2-DB76E7E6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6B8-BA81-4B16-BAC6-5AE6348E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47B-6AEC-4E1C-A2BB-3A9CC02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D1F-03A2-4BE7-B05E-648A62E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9AD-C80A-49C6-AEE1-0134DB76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4F1-AB37-4EA1-8332-B9432872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D07-6266-4966-BDBB-23E02B6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459-859B-49C9-AAD7-19C4BA04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D4B3-6E6D-4BCC-A9A2-7DBF9A6BD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89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ня зовут Ву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  вами - Интерактивная до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поминаю Вам, что писать на такой доске нужно специальным электронным карандаш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еюсь, что с интерактивной доской ваши уроки станут значительно интересн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пехов вам в освоении новых технологий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189000"/>
            <a:ext cx="44578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равствуйте, ребят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582560" cy="135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703-A1FE-4BBF-A262-31C3478C2E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55444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Лена любит картошку со сметаной.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Расставь по порядку действия её ма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олила карто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сила картошку в кип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жгла газовую пли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истила карто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пила в магазине картофель и смет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асила огонь и слила кип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ила  картофель смет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ла картофель на таре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ла воду в кастрюлю и поставила её на ог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71640" y="5661000"/>
            <a:ext cx="7848360" cy="720360"/>
            <a:chOff x="971640" y="5661000"/>
            <a:chExt cx="7848360" cy="720360"/>
          </a:xfrm>
        </p:grpSpPr>
        <p:sp>
          <p:nvSpPr>
            <p:cNvPr id="85" name=""/>
            <p:cNvSpPr/>
            <p:nvPr/>
          </p:nvSpPr>
          <p:spPr>
            <a:xfrm>
              <a:off x="971640" y="56869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6280" y="57067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57067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00440" y="571320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82440" y="571320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3520" y="570924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32480" y="56869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41840" y="57121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84720" y="605412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356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10640" y="60800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828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2648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44120" y="60800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5204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4088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11600" y="566100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6012000" y="333360"/>
            <a:ext cx="273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3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51640" y="1700280"/>
            <a:ext cx="1368360" cy="131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C59-FFD1-41F9-9593-2F7C680C66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24000" y="188640"/>
            <a:ext cx="5003640" cy="646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лгоритм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«Подготовка к рисовани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11280" y="1773360"/>
            <a:ext cx="7848360" cy="4642920"/>
            <a:chOff x="611280" y="1773360"/>
            <a:chExt cx="7848360" cy="4642920"/>
          </a:xfrm>
        </p:grpSpPr>
        <p:grpSp>
          <p:nvGrpSpPr>
            <p:cNvPr id="106" name=""/>
            <p:cNvGrpSpPr/>
            <p:nvPr/>
          </p:nvGrpSpPr>
          <p:grpSpPr>
            <a:xfrm>
              <a:off x="611280" y="1773360"/>
              <a:ext cx="3318480" cy="4616640"/>
              <a:chOff x="611280" y="1773360"/>
              <a:chExt cx="3318480" cy="4616640"/>
            </a:xfrm>
          </p:grpSpPr>
          <p:sp>
            <p:nvSpPr>
              <p:cNvPr id="107" name=""/>
              <p:cNvSpPr/>
              <p:nvPr/>
            </p:nvSpPr>
            <p:spPr>
              <a:xfrm>
                <a:off x="624240" y="2765520"/>
                <a:ext cx="3278880" cy="489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Окунуть в нее ки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1280" y="177336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ткрыть баночку с краско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1280" y="379728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Надеть хала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7560" y="484236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Рисовать на бумаг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0880" y="588744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асстелить бумагу на стол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70520" y="2289240"/>
                <a:ext cx="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0520" y="324180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283480" y="429984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296800" y="5358240"/>
                <a:ext cx="0" cy="50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141160" y="1799640"/>
              <a:ext cx="3318480" cy="4616640"/>
              <a:chOff x="5141160" y="1799640"/>
              <a:chExt cx="3318480" cy="4616640"/>
            </a:xfrm>
          </p:grpSpPr>
          <p:sp>
            <p:nvSpPr>
              <p:cNvPr id="117" name=""/>
              <p:cNvSpPr/>
              <p:nvPr/>
            </p:nvSpPr>
            <p:spPr>
              <a:xfrm>
                <a:off x="5154120" y="2791800"/>
                <a:ext cx="3278880" cy="489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41160" y="179964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41160" y="382356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67440" y="486864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0760" y="591372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00400" y="2315520"/>
                <a:ext cx="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00400" y="326808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13360" y="432612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826680" y="5384520"/>
                <a:ext cx="0" cy="50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 txBox="1"/>
          <p:nvPr/>
        </p:nvSpPr>
        <p:spPr>
          <a:xfrm>
            <a:off x="395280" y="189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4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96000" cy="431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пособ записи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E61-667B-47E2-979F-A829FEEA9D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Составить и записать в тетради алгоритм заварки чая (не менее семи действ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2436840" cy="237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0163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260-B9DD-4FE9-ADE6-285E5BFA0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229600" cy="23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ы прекрасно справились со всеми задания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Желаю вам дальнейших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627280" y="40464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Молодцы, ребя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08360" y="465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58256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BE7-A2B1-4810-AB7D-14CC69A33E5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26920" y="189000"/>
            <a:ext cx="770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ллектуальная размин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40000" y="1197000"/>
            <a:ext cx="46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гадайте ребу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32000" y="450864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5157720"/>
          <a:ext cx="8568720" cy="1079640"/>
        </p:xfrm>
        <a:graphic>
          <a:graphicData uri="http://schemas.openxmlformats.org/drawingml/2006/table">
            <a:tbl>
              <a:tblPr/>
              <a:tblGrid>
                <a:gridCol w="8568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138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CFE-4D92-439B-A22A-B20236139E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50920" y="692280"/>
            <a:ext cx="8442000" cy="4979880"/>
            <a:chOff x="250920" y="692280"/>
            <a:chExt cx="8442000" cy="49798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70320" y="692280"/>
              <a:ext cx="5921640" cy="49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250920" y="1043280"/>
              <a:ext cx="913320" cy="121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cc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130400" y="2431800"/>
              <a:ext cx="896400" cy="121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49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cc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Л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7711920" y="1857240"/>
              <a:ext cx="981000" cy="121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cc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М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5FA-4D5B-4EE8-8538-52C6D4D153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лжны 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такое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то такое команда алгорит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чем нужен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лжны на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составлять алгорит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50920" y="333360"/>
            <a:ext cx="532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Алгоритм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975-A5B6-44FC-A369-6C050345E1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онумеруйте рисунки в правильном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740720" y="4941720"/>
            <a:ext cx="681120" cy="89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436840" cy="23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2208240" cy="2171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224820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B5F-C552-498F-BC64-23FB8BFB3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874880" cy="187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1660320" cy="187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659640" y="1557360"/>
            <a:ext cx="2160360" cy="180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1839960" cy="2233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659640" y="4076640"/>
            <a:ext cx="2158920" cy="1963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260280"/>
            <a:ext cx="822960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Пронумеруйте рисунки по порядку следования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11D-0B20-4D83-A259-51E8BF88C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арисуйте в тетради 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92360" y="54936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1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E35-055C-4C04-9426-4271BFCD8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427640" cy="1054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ыполни следующую последовательность действий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поле с кле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67280" y="1600200"/>
          <a:ext cx="4897440" cy="5176800"/>
        </p:xfrm>
        <a:graphic>
          <a:graphicData uri="http://schemas.openxmlformats.org/drawingml/2006/table">
            <a:tbl>
              <a:tblPr/>
              <a:tblGrid>
                <a:gridCol w="488880"/>
                <a:gridCol w="490680"/>
                <a:gridCol w="488880"/>
                <a:gridCol w="490320"/>
                <a:gridCol w="490680"/>
                <a:gridCol w="488880"/>
                <a:gridCol w="490680"/>
                <a:gridCol w="488880"/>
                <a:gridCol w="490680"/>
                <a:gridCol w="488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3322800" cy="525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 верхний левый уг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тупи вправо 2 клетки и вниз 3 кле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игаясь по часовой стрелке, нарисуй квадрат со стороной 6 кле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 верхний левый угол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тупи вправо и вверх по 3 кле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тавь т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едини эту точку с верхними уголками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 верхний левый угол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тупи 2 клетки вправо и 2 клетк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игаясь по часовой стрелке, нарисуй квадрат со стороной 2 кл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дели маленький квадрат на 4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3640" y="260280"/>
            <a:ext cx="316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2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51640" y="692280"/>
            <a:ext cx="223200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990-5892-4B57-AE79-60D9BC9B87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Что такое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247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план действий п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ным правила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ый приводит к достижени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ли к решению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4436640"/>
            <a:ext cx="8229600" cy="1435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ман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отдельное действ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A85-FF18-4E03-B8E6-A7D05308D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8:35:23Z</dcterms:created>
  <dc:creator>Александр</dc:creator>
  <dc:description/>
  <dc:language>en-US</dc:language>
  <cp:lastModifiedBy>Козырева</cp:lastModifiedBy>
  <dcterms:modified xsi:type="dcterms:W3CDTF">2009-02-12T08:43:01Z</dcterms:modified>
  <cp:revision>15</cp:revision>
  <dc:subject/>
  <dc:title>Алгоритм</dc:title>
</cp:coreProperties>
</file>