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19.gif" ContentType="image/gif"/>
  <Override PartName="/ppt/media/image18.gif" ContentType="image/gif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7.jpeg" ContentType="image/jpeg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2CB-1C87-4FB2-8ADA-37FD9A38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021-EDA6-4DB2-8856-EB77116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D88-D28B-43EB-904A-6DA667B2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4FA-227B-4E9A-85BC-0F3B0D48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4DD-8AEF-4ACA-A4FF-21CE14A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0A3-3170-4408-9996-E457FD7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B0E7-85FF-45E6-9B6A-4F6C2A0F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758-D8E3-4B1D-AF4E-29834BE3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01A-986B-44BC-8D08-F4176B77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2F3-D220-4D0B-9AAA-6C65807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3F3-9AAB-42E1-9074-2C5578A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F9D-B128-4C53-9FE0-82E3408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136-5D36-4866-A5C8-6FDF62E68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89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ня зовут Ву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  вами - Интерактивная до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поминаю Вам, что писать на такой доске нужно специальным электронным карандаш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еюсь, что с интерактивной доской ваши уроки станут значительно интересн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пехов вам в освоении новых технологий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189000"/>
            <a:ext cx="44578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равствуйте, ребята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582560" cy="1354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49F-4466-4837-AEDC-9C353C9F38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55444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Лена любит картошку со сметаной.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Расставь по порядку действия её ма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олила картош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сила картошку в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жгла газовую пли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истила карто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пила в магазине картофель и смет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асила огонь и слила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ла  картофель смет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ла картофель на таре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ла воду в кастрюлю и поставила её на ог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71640" y="5661000"/>
            <a:ext cx="7848360" cy="720360"/>
            <a:chOff x="971640" y="5661000"/>
            <a:chExt cx="7848360" cy="720360"/>
          </a:xfrm>
        </p:grpSpPr>
        <p:sp>
          <p:nvSpPr>
            <p:cNvPr id="85" name=""/>
            <p:cNvSpPr/>
            <p:nvPr/>
          </p:nvSpPr>
          <p:spPr>
            <a:xfrm>
              <a:off x="971640" y="56869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16280" y="57067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08360" y="57067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00440" y="571320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82440" y="571320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3520" y="570924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32480" y="56869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41840" y="571212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4720" y="605412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356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10640" y="60800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828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2648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44120" y="60800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5204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40880" y="606708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11600" y="5661000"/>
              <a:ext cx="608400" cy="6681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6012000" y="333360"/>
            <a:ext cx="2735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3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51640" y="1700280"/>
            <a:ext cx="1368360" cy="131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21B-D150-422E-9DE1-447582C73F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24000" y="188640"/>
            <a:ext cx="5003640" cy="646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лгоритм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«Подготовка к рисовани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11280" y="1773360"/>
            <a:ext cx="7848360" cy="4642920"/>
            <a:chOff x="611280" y="1773360"/>
            <a:chExt cx="7848360" cy="4642920"/>
          </a:xfrm>
        </p:grpSpPr>
        <p:grpSp>
          <p:nvGrpSpPr>
            <p:cNvPr id="106" name=""/>
            <p:cNvGrpSpPr/>
            <p:nvPr/>
          </p:nvGrpSpPr>
          <p:grpSpPr>
            <a:xfrm>
              <a:off x="611280" y="1773360"/>
              <a:ext cx="3318480" cy="4616640"/>
              <a:chOff x="611280" y="1773360"/>
              <a:chExt cx="3318480" cy="4616640"/>
            </a:xfrm>
          </p:grpSpPr>
          <p:sp>
            <p:nvSpPr>
              <p:cNvPr id="107" name=""/>
              <p:cNvSpPr/>
              <p:nvPr/>
            </p:nvSpPr>
            <p:spPr>
              <a:xfrm>
                <a:off x="624240" y="2765520"/>
                <a:ext cx="3278880" cy="489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Окунуть в нее ки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1280" y="177336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ткрыть баночку с краско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1280" y="379728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Надеть хала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7560" y="484236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Рисовать на бумаг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0880" y="588744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асстелить бумагу на стол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70520" y="2289240"/>
                <a:ext cx="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0520" y="324180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283480" y="429984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296800" y="5358240"/>
                <a:ext cx="0" cy="50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141160" y="1799640"/>
              <a:ext cx="3318480" cy="4616640"/>
              <a:chOff x="5141160" y="1799640"/>
              <a:chExt cx="3318480" cy="4616640"/>
            </a:xfrm>
          </p:grpSpPr>
          <p:sp>
            <p:nvSpPr>
              <p:cNvPr id="117" name=""/>
              <p:cNvSpPr/>
              <p:nvPr/>
            </p:nvSpPr>
            <p:spPr>
              <a:xfrm>
                <a:off x="5154120" y="2791800"/>
                <a:ext cx="3278880" cy="489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41160" y="179964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41160" y="382356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67440" y="486864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80760" y="5913720"/>
                <a:ext cx="3278880" cy="502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00400" y="2315520"/>
                <a:ext cx="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00400" y="326808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813360" y="4326120"/>
                <a:ext cx="0" cy="55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6826680" y="5384520"/>
                <a:ext cx="0" cy="50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 txBox="1"/>
          <p:nvPr/>
        </p:nvSpPr>
        <p:spPr>
          <a:xfrm>
            <a:off x="395280" y="189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4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96000" cy="431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пособ записи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AC5-9305-41D8-BE78-D71D30E30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оставить и записать в тетради алгоритм заварки чая (не менее семи действ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2436840" cy="2379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0163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A8F-1B0C-49BA-8B16-D52549E661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229600" cy="2303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ы прекрасно справились со всеми задания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Желаю вам дальнейших успех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627280" y="40464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Молодцы, ребя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0836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00000" y="46530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582560" cy="135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306-D9AF-4D93-906A-CB9C13994C8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26920" y="189000"/>
            <a:ext cx="770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ллектуальная размин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1197000"/>
            <a:ext cx="460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гадайте ребу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32000" y="450864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5157720"/>
          <a:ext cx="8568720" cy="1079640"/>
        </p:xfrm>
        <a:graphic>
          <a:graphicData uri="http://schemas.openxmlformats.org/drawingml/2006/table">
            <a:tbl>
              <a:tblPr/>
              <a:tblGrid>
                <a:gridCol w="856872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138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59F-6258-4478-AFFC-B357E2FC46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50920" y="692280"/>
            <a:ext cx="8442000" cy="4979880"/>
            <a:chOff x="250920" y="692280"/>
            <a:chExt cx="8442000" cy="49798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570320" y="692280"/>
              <a:ext cx="5921640" cy="49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250920" y="1043280"/>
              <a:ext cx="913320" cy="121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cc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А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130400" y="2431800"/>
              <a:ext cx="896400" cy="121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49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cc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Л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711920" y="1857240"/>
              <a:ext cx="981000" cy="121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306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ccff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М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35D-64F0-45E7-AE01-4492AC8D3D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лжны 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такое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то такое команда алгорит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чем нужен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лжны науч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о составлять алгорит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0920" y="333360"/>
            <a:ext cx="532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Алгоритм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AA7-C111-4AFB-8B69-10DCFED885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онумеруйте рисунки в правильном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740720" y="4941720"/>
            <a:ext cx="681120" cy="89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1484280"/>
            <a:ext cx="2436840" cy="23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84360" y="1484280"/>
            <a:ext cx="2208240" cy="2171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224820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734-77E3-4954-BDB6-E580A5DE46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874880" cy="187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1660320" cy="1873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659640" y="1557360"/>
            <a:ext cx="2160360" cy="180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26920" y="4076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1839960" cy="2233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659640" y="4076640"/>
            <a:ext cx="2158920" cy="1963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260280"/>
            <a:ext cx="822960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Пронумеруйте рисунки по порядку следования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8AF-B4B0-466F-A256-2AEC916073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арисуйте в тетради д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92360" y="54936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1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A95-6562-4278-A966-AE8BC1C20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427640" cy="1054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ыполни следующую последовательность действий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поле с клет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67280" y="1600200"/>
          <a:ext cx="4897440" cy="5176800"/>
        </p:xfrm>
        <a:graphic>
          <a:graphicData uri="http://schemas.openxmlformats.org/drawingml/2006/table">
            <a:tbl>
              <a:tblPr/>
              <a:tblGrid>
                <a:gridCol w="488880"/>
                <a:gridCol w="490680"/>
                <a:gridCol w="488880"/>
                <a:gridCol w="490320"/>
                <a:gridCol w="490680"/>
                <a:gridCol w="488880"/>
                <a:gridCol w="490680"/>
                <a:gridCol w="488880"/>
                <a:gridCol w="490680"/>
                <a:gridCol w="488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3322800" cy="525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верхний левый уг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тупи вправо 2 клетки и вниз 3 кле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гаясь по часовой стрелке, нарисуй квадрат со стороной 6 кле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верхний левый угол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тупи вправо и вверх по 3 клето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тавь т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едини эту точку с верхними уголками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 верхний левый угол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тупи 2 клетки вправо и 2 клетк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гаясь по часовой стрелке, нарисуй квадрат со стороной 2 кл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дели маленький квадрат на 4 квад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3640" y="260280"/>
            <a:ext cx="316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Задание № 2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51640" y="692280"/>
            <a:ext cx="223200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952-8BF1-432F-8E74-A2FEC287E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Что такое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247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план действий п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ным правилам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ый приводит к достижению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ли к решению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4436640"/>
            <a:ext cx="8229600" cy="1435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ан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отдельное действ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510-6B2C-49BC-A3BD-95245D0AF8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18:35:23Z</dcterms:created>
  <dc:creator>Александр</dc:creator>
  <dc:description/>
  <dc:language>en-US</dc:language>
  <cp:lastModifiedBy>Козырева</cp:lastModifiedBy>
  <dcterms:modified xsi:type="dcterms:W3CDTF">2009-02-12T08:43:01Z</dcterms:modified>
  <cp:revision>15</cp:revision>
  <dc:subject/>
  <dc:title>Алгоритм</dc:title>
</cp:coreProperties>
</file>