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23.png" ContentType="image/png"/>
  <Override PartName="/ppt/media/image13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0.png" ContentType="image/png"/>
  <Override PartName="/ppt/media/image41.jpeg" ContentType="image/jpeg"/>
  <Override PartName="/ppt/media/image44.jpeg" ContentType="image/jpeg"/>
  <Override PartName="/ppt/media/image38.jpeg" ContentType="image/jpeg"/>
  <Override PartName="/ppt/media/image36.jpeg" ContentType="image/jpeg"/>
  <Override PartName="/ppt/media/image57.png" ContentType="image/png"/>
  <Override PartName="/ppt/media/image46.jpeg" ContentType="image/jpeg"/>
  <Override PartName="/ppt/media/image45.jpeg" ContentType="image/jpeg"/>
  <Override PartName="/ppt/media/image55.png" ContentType="image/png"/>
  <Override PartName="/ppt/media/image47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2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2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0AC02F0-5BFF-446B-B57C-6EF159AF5C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5362CF0-BA23-47D8-A7AE-335C24F78F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3B9-E38D-405F-83C9-A6C54CBA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914-B08B-4A38-811E-CDFE179D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EEF-A84E-4096-AE6D-0042A718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BCE-898C-4076-AB47-F2D7FF86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AB11-3549-4AB2-8307-6D395E53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D8B6-1D54-4C09-BB4B-2AD2BE89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90EC-E1C9-4885-849E-77CA356B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3131-C9CF-42E4-8169-D3DF335B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B9D5-605F-40C9-85C6-7ABC458F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368E-EBCA-41E4-A87A-BF978B0C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EEB3-8B6D-45CA-92E8-2AE63209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41C-05D7-4F6C-84AC-7484AD03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6577-CCB1-400D-8D6D-54E80B1F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44A2-9CCE-4796-AD3C-A0BD61D9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19BB-E82C-4C8D-B145-5B2475C8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9E0D-B9CF-4AF5-A851-1AF13938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16B4-A1B8-4C29-A947-76A37CDC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7416-8163-4A76-8064-913E7B04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A4C68-1F27-4699-8775-271630BC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C3F57-281E-449E-846B-F0EA7D14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6BE65-377E-44EE-A172-635D0B59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1D6E-BD23-4A71-9996-A49479F6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A8E-728D-449E-B753-E0BA2097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839F4-76D7-4C4C-8E0C-0A51606F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E8280-E228-485A-A9F8-9487722A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E8C36-448C-4219-B129-76C22DD2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E936-CCBC-46E6-B332-54B44F52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945D-3221-49F4-9C9B-32185A19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FBE72-7EF0-4F77-8BA2-13C7BACF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766BF-802A-4A1F-937F-D86D02FF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97F74-32F4-49FF-9B8A-166D8D6D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AA94-984D-46BE-AC54-7C4CBCD7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CAA5-5EF7-4260-BE25-D65746F8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DDB-8943-46D7-8E3B-7361ED96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01F81-ED26-44B0-A27C-107C3C10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7EBB3-561E-4EDF-9922-39DFE378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764F3-C8E7-477A-AF4E-0731A4EC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B28C-6E9E-40D7-9FCC-76B48B83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79261-53EA-4C00-BF03-E8757031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96BBF-48E3-4B17-A16A-FB4A9ACF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58564-AF95-411F-9855-80F70132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C7DF8-213A-4071-BB95-F2579095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E6FA3-7AA3-41CC-8048-F9EBEE76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56210-53C1-4CA2-A15C-E2E6C3B7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C24B-E1D1-453A-AA82-9E13DF67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7800A-6202-4A97-B790-05B7C23F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7EF64-0B0E-4A31-9F5D-44F7DCF9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DED0E-B16E-4F3B-A08C-03F51772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D262C-4623-4E29-9A0B-448EA7B0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A1310-37FA-4F1C-A318-4F891C87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99C0E-7E13-47D4-81A5-E9CE9FF6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B4E19-CF4D-4622-9108-D53C7D59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D2651-D0B9-42D1-B860-E8004169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6C89E-7C43-424E-9172-E3F22CC6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B36B5-BF4A-4E7B-BCF7-7787B35F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D42-11EB-49E5-AEA1-EB054809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7BE34-55D0-4A99-8D80-BC977032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BACF5-0879-41A6-8CF7-5830CA16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D67C3-B83B-42AB-87F8-0086BFD6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3D9E1-D73A-4451-BBCA-87609751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371E5-B98C-4FC8-8DB9-F357A65A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E5AA0-C86E-4D3F-B01C-9BE69F1F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407ED-0019-493C-86A6-3CBA8951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DE3ED-A346-4C6A-8776-55269B6B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AD443-66B6-4A26-9A88-8ECA1DD4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A17E1-62BE-49EA-8B0D-E20B1EAC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B5E-AD5B-4EB4-A83B-0BE79F28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A3C98-BA5C-4121-AD1A-C2156A58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E99D5-1A75-4DAF-8093-327055A0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77237-2124-4B9B-BEDB-528B44CC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44AAF-962F-4137-B468-22CFEAAB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DBB5F-140E-4878-BEC9-8D7CA16C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9364B-859A-41E4-B56E-09D1539F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B98D2-7AF7-4C46-B56B-7E2F9E8D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56530-B971-4938-BE6F-C9095E71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4A87C-F31A-4B5D-BF67-30E14BF3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13CC3-D074-40BA-BCC1-7EF0E1EC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756-9FC1-4317-9797-6B6D72CB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8E739-C67E-4E00-BCE4-21615908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DF048-2AEB-4F43-A6E0-EF2B67C9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25A2A-FBE0-476C-A7B6-3CAB4864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53043-4BE7-4F59-826F-BE8690E4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0E20F-41A2-4C8D-9C39-F21FF6C3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475-CFB4-4ED8-936B-7DB5AC10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1E10-E425-4CF4-BFE9-B82D5A18A11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0D70-5DB8-4C91-891E-FF14674DAA2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5D8D-24D3-4E16-A353-1FE5CCD8B311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8072-8246-4050-BBD8-BE1D28E7B439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2220-4FFC-4554-BE8B-6B68DD6973C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A92A-57D5-463F-B45B-F2520026F20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81FA-2B03-4C43-99D7-1C74251A73E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D92B-C214-448D-A954-CDF6B9B5D4B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A171-61FF-4545-A6EA-D298C2CE513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023D-1908-4F31-8ED1-5F8EEE1CD5B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8AB5-DD32-48F9-982F-0CE8B6D0B5A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D874-6A9D-4A68-B84B-CC532ADC26C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7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DDB5-6C27-4510-BDF7-636661C6CE14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5220-5139-488B-B667-758B24BBDDF8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омер слайда 2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8808-84F3-4D23-AB25-60BC2C28E71E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00"/>
                </a:solidFill>
                <a:latin typeface="Arial"/>
              </a:rPr>
              <a:t>БОГИ ДРЕВНЕГО ЕГИПТА</a:t>
            </a: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411280" y="5013000"/>
            <a:ext cx="4897440" cy="77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9900"/>
            </a:solidFill>
            <a:miter/>
          </a:ln>
        </p:spPr>
        <p:txBody>
          <a:bodyPr anchor="t">
            <a:normAutofit fontScale="99000"/>
          </a:bodyPr>
          <a:p>
            <a:pPr marL="361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откина О.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3780000" y="5950080"/>
            <a:ext cx="20574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 20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4" name="Picture 17" descr="1227197383_sfinks"/>
          <p:cNvPicPr/>
          <p:nvPr/>
        </p:nvPicPr>
        <p:blipFill>
          <a:blip r:embed="rId1"/>
          <a:stretch/>
        </p:blipFill>
        <p:spPr>
          <a:xfrm>
            <a:off x="1692360" y="1413000"/>
            <a:ext cx="5904000" cy="345600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1"/>
          <p:cNvSpPr/>
          <p:nvPr/>
        </p:nvSpPr>
        <p:spPr>
          <a:xfrm>
            <a:off x="2627280" y="404640"/>
            <a:ext cx="338472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АНУБИ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0" name="Picture 5" descr="1239650580_zzzanubis1"/>
          <p:cNvPicPr/>
          <p:nvPr/>
        </p:nvPicPr>
        <p:blipFill>
          <a:blip r:embed="rId1"/>
          <a:stretch/>
        </p:blipFill>
        <p:spPr>
          <a:xfrm>
            <a:off x="1042920" y="1628640"/>
            <a:ext cx="4591080" cy="327672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381" name="Picture 7" descr="26691c4fc06e"/>
          <p:cNvPicPr/>
          <p:nvPr/>
        </p:nvPicPr>
        <p:blipFill>
          <a:blip r:embed="rId2"/>
          <a:stretch/>
        </p:blipFill>
        <p:spPr>
          <a:xfrm>
            <a:off x="5940360" y="1052640"/>
            <a:ext cx="2782800" cy="374472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sp>
        <p:nvSpPr>
          <p:cNvPr id="382" name="Rectangle 8"/>
          <p:cNvSpPr/>
          <p:nvPr/>
        </p:nvSpPr>
        <p:spPr>
          <a:xfrm>
            <a:off x="684360" y="5373720"/>
            <a:ext cx="813564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Ануби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бог в образе шакала или дикой собак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ли человека с головой шакала или собаки)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читался покровителем умерши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D:\Артем\научка история\amon.jpg"/>
          <p:cNvPicPr/>
          <p:nvPr/>
        </p:nvPicPr>
        <p:blipFill>
          <a:blip r:embed="rId1"/>
          <a:stretch/>
        </p:blipFill>
        <p:spPr>
          <a:xfrm>
            <a:off x="1403280" y="907920"/>
            <a:ext cx="1800360" cy="4248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180px-Amun_svg"/>
          <p:cNvPicPr/>
          <p:nvPr/>
        </p:nvPicPr>
        <p:blipFill>
          <a:blip r:embed="rId2"/>
          <a:stretch/>
        </p:blipFill>
        <p:spPr>
          <a:xfrm>
            <a:off x="6372360" y="549360"/>
            <a:ext cx="1785960" cy="47242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7"/>
          <p:cNvSpPr/>
          <p:nvPr/>
        </p:nvSpPr>
        <p:spPr>
          <a:xfrm>
            <a:off x="468360" y="5445000"/>
            <a:ext cx="8280360" cy="10796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Амо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покровитель города Фивы, бог воздуха и урожая, творец мира; изображался с головой человека, а иногда быка или барана, с двузубой короной и длинным скипетром в рук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1"/>
          <p:cNvSpPr/>
          <p:nvPr/>
        </p:nvSpPr>
        <p:spPr>
          <a:xfrm>
            <a:off x="3059280" y="549360"/>
            <a:ext cx="338436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АМОН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7" name="Picture 9" descr="10"/>
          <p:cNvPicPr/>
          <p:nvPr/>
        </p:nvPicPr>
        <p:blipFill>
          <a:blip r:embed="rId3"/>
          <a:stretch/>
        </p:blipFill>
        <p:spPr>
          <a:xfrm rot="262200">
            <a:off x="3708000" y="1628640"/>
            <a:ext cx="2160720" cy="162108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388" name="Picture 10" descr="ef567dae9bf9"/>
          <p:cNvPicPr/>
          <p:nvPr/>
        </p:nvPicPr>
        <p:blipFill>
          <a:blip r:embed="rId4"/>
          <a:stretch/>
        </p:blipFill>
        <p:spPr>
          <a:xfrm rot="21395400">
            <a:off x="3708000" y="3573000"/>
            <a:ext cx="2162160" cy="144000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250920" y="4941720"/>
            <a:ext cx="8675640" cy="17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Ш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бог воздуха, разделяющий небо и землю, сын солнечного бога Ра-Атума, супруг и брат богини влаги Тефнут. Его чаще всего изображали человеком, стоящим на одном колене с поднятыми руками, которыми он поддерживает небо над земл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21"/>
          <p:cNvSpPr/>
          <p:nvPr/>
        </p:nvSpPr>
        <p:spPr>
          <a:xfrm>
            <a:off x="2268360" y="476280"/>
            <a:ext cx="3384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Ш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1" name="Picture 6" descr="N45674B0C6D96"/>
          <p:cNvPicPr/>
          <p:nvPr/>
        </p:nvPicPr>
        <p:blipFill>
          <a:blip r:embed="rId1"/>
          <a:stretch/>
        </p:blipFill>
        <p:spPr>
          <a:xfrm>
            <a:off x="5435640" y="1125360"/>
            <a:ext cx="3319560" cy="331956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392" name="Picture 2" descr="D:\Артем\научка история\shu.jpg"/>
          <p:cNvPicPr/>
          <p:nvPr/>
        </p:nvPicPr>
        <p:blipFill>
          <a:blip r:embed="rId2"/>
          <a:stretch/>
        </p:blipFill>
        <p:spPr>
          <a:xfrm>
            <a:off x="611280" y="692280"/>
            <a:ext cx="2611440" cy="3816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a2[1]"/>
          <p:cNvPicPr/>
          <p:nvPr/>
        </p:nvPicPr>
        <p:blipFill>
          <a:blip r:embed="rId3"/>
          <a:stretch/>
        </p:blipFill>
        <p:spPr>
          <a:xfrm rot="21288000">
            <a:off x="3348000" y="1557000"/>
            <a:ext cx="1670040" cy="119052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394" name="Picture 11" descr="0_20c30_e444682a_XL"/>
          <p:cNvPicPr/>
          <p:nvPr/>
        </p:nvPicPr>
        <p:blipFill>
          <a:blip r:embed="rId4"/>
          <a:stretch/>
        </p:blipFill>
        <p:spPr>
          <a:xfrm rot="361800">
            <a:off x="3347640" y="3132000"/>
            <a:ext cx="1728720" cy="129708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1"/>
          <p:cNvSpPr/>
          <p:nvPr/>
        </p:nvSpPr>
        <p:spPr>
          <a:xfrm>
            <a:off x="270036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СЕ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6" name="Picture 2" descr="D:\Артем\научка история\seth.jpg"/>
          <p:cNvPicPr/>
          <p:nvPr/>
        </p:nvPicPr>
        <p:blipFill>
          <a:blip r:embed="rId1"/>
          <a:stretch/>
        </p:blipFill>
        <p:spPr>
          <a:xfrm>
            <a:off x="5508720" y="1268280"/>
            <a:ext cx="3219480" cy="3743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58859989_kv3406"/>
          <p:cNvPicPr/>
          <p:nvPr/>
        </p:nvPicPr>
        <p:blipFill>
          <a:blip r:embed="rId2"/>
          <a:stretch/>
        </p:blipFill>
        <p:spPr>
          <a:xfrm>
            <a:off x="611280" y="1413000"/>
            <a:ext cx="2759040" cy="367164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sp>
        <p:nvSpPr>
          <p:cNvPr id="398" name="Rectangle 7"/>
          <p:cNvSpPr/>
          <p:nvPr/>
        </p:nvSpPr>
        <p:spPr>
          <a:xfrm>
            <a:off x="250920" y="5373720"/>
            <a:ext cx="867564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Сет</a:t>
            </a:r>
            <a:r>
              <a:rPr b="1" lang="ru-RU" sz="2000" spc="-1" strike="noStrike">
                <a:solidFill>
                  <a:srgbClr val="da1f2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бог пустыни, т. е. "чужеземных стран", олицетворение злого начала, брат и убийца Осириса, один из четырех детей бога земли Геба и Нут, богини неб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9" name="Picture 8" descr="аа"/>
          <p:cNvPicPr/>
          <p:nvPr/>
        </p:nvPicPr>
        <p:blipFill>
          <a:blip r:embed="rId3"/>
          <a:stretch/>
        </p:blipFill>
        <p:spPr>
          <a:xfrm rot="406200">
            <a:off x="3563640" y="1890360"/>
            <a:ext cx="1800000" cy="115416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400" name="Picture 9" descr="0_20c30_e444682a_XL"/>
          <p:cNvPicPr/>
          <p:nvPr/>
        </p:nvPicPr>
        <p:blipFill>
          <a:blip r:embed="rId4"/>
          <a:stretch/>
        </p:blipFill>
        <p:spPr>
          <a:xfrm rot="21445800">
            <a:off x="3564000" y="3573000"/>
            <a:ext cx="1722240" cy="129240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1"/>
          <p:cNvSpPr/>
          <p:nvPr/>
        </p:nvSpPr>
        <p:spPr>
          <a:xfrm>
            <a:off x="2771640" y="404640"/>
            <a:ext cx="338472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ПТАХ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2" name="Picture 2" descr="D:\Артем\научка история\ptah.jpg"/>
          <p:cNvPicPr/>
          <p:nvPr/>
        </p:nvPicPr>
        <p:blipFill>
          <a:blip r:embed="rId1"/>
          <a:stretch/>
        </p:blipFill>
        <p:spPr>
          <a:xfrm>
            <a:off x="6300720" y="1052640"/>
            <a:ext cx="2016360" cy="41749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ptah_f"/>
          <p:cNvPicPr/>
          <p:nvPr/>
        </p:nvPicPr>
        <p:blipFill>
          <a:blip r:embed="rId2"/>
          <a:stretch/>
        </p:blipFill>
        <p:spPr>
          <a:xfrm>
            <a:off x="826920" y="1413000"/>
            <a:ext cx="2286000" cy="345600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sp>
        <p:nvSpPr>
          <p:cNvPr id="404" name="Rectangle 8"/>
          <p:cNvSpPr/>
          <p:nvPr/>
        </p:nvSpPr>
        <p:spPr>
          <a:xfrm>
            <a:off x="250920" y="5373720"/>
            <a:ext cx="867564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Пта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бог-творец, покровитель искусств и ремесе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тах создал первых восемь богов, мир и все в нем существующее - животных, растения, людей, храм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5" name="Picture 9" descr="53848434_1263594655_hram_v_Luksore"/>
          <p:cNvPicPr/>
          <p:nvPr/>
        </p:nvPicPr>
        <p:blipFill>
          <a:blip r:embed="rId3"/>
          <a:stretch/>
        </p:blipFill>
        <p:spPr>
          <a:xfrm rot="21336000">
            <a:off x="3851280" y="1699920"/>
            <a:ext cx="1944720" cy="144756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406" name="Picture 10" descr="83906_heops"/>
          <p:cNvPicPr/>
          <p:nvPr/>
        </p:nvPicPr>
        <p:blipFill>
          <a:blip r:embed="rId4"/>
          <a:stretch/>
        </p:blipFill>
        <p:spPr>
          <a:xfrm rot="393000">
            <a:off x="3924000" y="3500280"/>
            <a:ext cx="1966680" cy="147492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D:\Артем\научка история\geb.jpg"/>
          <p:cNvPicPr/>
          <p:nvPr/>
        </p:nvPicPr>
        <p:blipFill>
          <a:blip r:embed="rId1"/>
          <a:stretch/>
        </p:blipFill>
        <p:spPr>
          <a:xfrm>
            <a:off x="5435640" y="1268280"/>
            <a:ext cx="2808360" cy="39610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21"/>
          <p:cNvSpPr/>
          <p:nvPr/>
        </p:nvSpPr>
        <p:spPr>
          <a:xfrm>
            <a:off x="3348000" y="333360"/>
            <a:ext cx="338472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ГЕБ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250920" y="5589720"/>
            <a:ext cx="867564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Ге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бог земли, сын бога воздуха Шу и богини влаги Тефнут. Детьми Геба были Осирис, Сет, Исида, Нефтид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0" name="Picture 8" descr="83906_heops"/>
          <p:cNvPicPr/>
          <p:nvPr/>
        </p:nvPicPr>
        <p:blipFill>
          <a:blip r:embed="rId2"/>
          <a:stretch/>
        </p:blipFill>
        <p:spPr>
          <a:xfrm rot="21260400">
            <a:off x="893520" y="899640"/>
            <a:ext cx="1747800" cy="131148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411" name="Picture 10" descr="i260160495_4211"/>
          <p:cNvPicPr/>
          <p:nvPr/>
        </p:nvPicPr>
        <p:blipFill>
          <a:blip r:embed="rId3"/>
          <a:stretch/>
        </p:blipFill>
        <p:spPr>
          <a:xfrm rot="276000">
            <a:off x="3563640" y="1484280"/>
            <a:ext cx="1944720" cy="145728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412" name="Picture 11" descr="egypt_pyramid"/>
          <p:cNvPicPr/>
          <p:nvPr/>
        </p:nvPicPr>
        <p:blipFill>
          <a:blip r:embed="rId4"/>
          <a:stretch/>
        </p:blipFill>
        <p:spPr>
          <a:xfrm rot="554400">
            <a:off x="899640" y="3933360"/>
            <a:ext cx="1729080" cy="138276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413" name="Picture 12" descr="belaya_piramida_faraona_snofru_dahshur_egipet-365"/>
          <p:cNvPicPr/>
          <p:nvPr/>
        </p:nvPicPr>
        <p:blipFill>
          <a:blip r:embed="rId5"/>
          <a:stretch/>
        </p:blipFill>
        <p:spPr>
          <a:xfrm rot="332400">
            <a:off x="3276720" y="3715920"/>
            <a:ext cx="1944720" cy="153828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414" name="Picture 13" descr="1172"/>
          <p:cNvPicPr/>
          <p:nvPr/>
        </p:nvPicPr>
        <p:blipFill>
          <a:blip r:embed="rId6"/>
          <a:stretch/>
        </p:blipFill>
        <p:spPr>
          <a:xfrm rot="21421800">
            <a:off x="1258920" y="2492280"/>
            <a:ext cx="1773360" cy="118764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6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7" name="Номер слайда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E0F3-0DAE-41B0-8B24-0B442C99CC2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4352760" cy="3876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</p:pic>
      <p:pic>
        <p:nvPicPr>
          <p:cNvPr id="419" name="Picture 3" descr=""/>
          <p:cNvPicPr/>
          <p:nvPr/>
        </p:nvPicPr>
        <p:blipFill>
          <a:blip r:embed="rId3"/>
          <a:stretch/>
        </p:blipFill>
        <p:spPr>
          <a:xfrm>
            <a:off x="4427640" y="1052640"/>
            <a:ext cx="4038480" cy="3028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</p:pic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140360" y="1481040"/>
            <a:ext cx="431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олько он знал молитвы и мог совершить жертвоприношение. Жертва клалась на алтарь (спец. Камень и произносились молитвы). Затем статую божества он натирал аромамаслами.  После обряда по особым приметам он мог понять принята жертва богом или нет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Другие люди не могли зайти в храм, они могли только подходить к вратам храма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1" name="Заголовок 3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614600"/>
          </a:xfrm>
          <a:prstGeom prst="rect">
            <a:avLst/>
          </a:prstGeom>
          <a:ln w="0">
            <a:noFill/>
          </a:ln>
        </p:spPr>
      </p:pic>
      <p:sp>
        <p:nvSpPr>
          <p:cNvPr id="422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6238-F04E-4465-950C-FDDA5C653AF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1397160" y="1916280"/>
            <a:ext cx="2158920" cy="3657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</p:pic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5" descr=""/>
          <p:cNvPicPr/>
          <p:nvPr/>
        </p:nvPicPr>
        <p:blipFill>
          <a:blip r:embed="rId1"/>
          <a:stretch/>
        </p:blipFill>
        <p:spPr>
          <a:xfrm>
            <a:off x="433440" y="2127240"/>
            <a:ext cx="8028000" cy="14749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ар. 9, вопр. 1,2.(понятия знать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C31F-08CF-4ED3-8E9F-A7B9F8EF29F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тетради заполнить таблицу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6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37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9FD9-51E1-4B7E-9E58-73163C667BE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900000" y="2421000"/>
          <a:ext cx="7201080" cy="1879560"/>
        </p:xfrm>
        <a:graphic>
          <a:graphicData uri="http://schemas.openxmlformats.org/drawingml/2006/table">
            <a:tbl>
              <a:tblPr/>
              <a:tblGrid>
                <a:gridCol w="3600720"/>
                <a:gridCol w="3600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Название  египетского бож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ила природы или занятие, которое бог отража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98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04A8-3441-47FE-B532-E8156DA78A2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21"/>
          <p:cNvSpPr/>
          <p:nvPr/>
        </p:nvSpPr>
        <p:spPr>
          <a:xfrm>
            <a:off x="2627280" y="692280"/>
            <a:ext cx="338472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Р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611280" y="4724280"/>
            <a:ext cx="8208720" cy="18446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Ра</a:t>
            </a:r>
            <a:r>
              <a:rPr b="1" lang="ru-RU" sz="20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бог солнца. Изображали в виде человека с головой сокола и с солнечным диском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олнечный диск символизировал свет и тепло, которое дарует Бог людям. Считалось, что каждое утро Ра на золотой лодке выплывает из-за гор и плывет по небу. Вечером же Ра возвращался в свои годы и наступала тьм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2" descr="D:\Артем\научка история\re.jpg"/>
          <p:cNvPicPr/>
          <p:nvPr/>
        </p:nvPicPr>
        <p:blipFill>
          <a:blip r:embed="rId1"/>
          <a:stretch/>
        </p:blipFill>
        <p:spPr>
          <a:xfrm>
            <a:off x="1332000" y="260280"/>
            <a:ext cx="2122560" cy="388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4" descr="64264496_Stele_2"/>
          <p:cNvPicPr/>
          <p:nvPr/>
        </p:nvPicPr>
        <p:blipFill>
          <a:blip r:embed="rId2"/>
          <a:stretch/>
        </p:blipFill>
        <p:spPr>
          <a:xfrm>
            <a:off x="6012000" y="404640"/>
            <a:ext cx="2741400" cy="3888000"/>
          </a:xfrm>
          <a:prstGeom prst="rect">
            <a:avLst/>
          </a:prstGeom>
          <a:ln w="28440">
            <a:solidFill>
              <a:srgbClr val="808000"/>
            </a:solidFill>
            <a:miter/>
          </a:ln>
        </p:spPr>
      </p:pic>
      <p:pic>
        <p:nvPicPr>
          <p:cNvPr id="344" name="Picture 27" descr="03_el-faraun_entrance"/>
          <p:cNvPicPr/>
          <p:nvPr/>
        </p:nvPicPr>
        <p:blipFill>
          <a:blip r:embed="rId3"/>
          <a:stretch/>
        </p:blipFill>
        <p:spPr>
          <a:xfrm rot="312600">
            <a:off x="3563640" y="1844640"/>
            <a:ext cx="1859040" cy="139392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345" name="Picture 28" descr="hurgada1_30"/>
          <p:cNvPicPr/>
          <p:nvPr/>
        </p:nvPicPr>
        <p:blipFill>
          <a:blip r:embed="rId4"/>
          <a:stretch/>
        </p:blipFill>
        <p:spPr>
          <a:xfrm rot="21400800">
            <a:off x="3532320" y="3193560"/>
            <a:ext cx="1900080" cy="142560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92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Апоп- бог тьм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Его изображали египтяне в виде зме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поп не хочет пропускать Ра на землю. Бог солнца вступает с ним в борьбу и побеждае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7958-EA18-4821-9CCE-68D05A42D52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457200" y="1735200"/>
            <a:ext cx="4040280" cy="336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</p:pic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487440" y="4992840"/>
            <a:ext cx="8418600" cy="170640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1"/>
          <p:cNvSpPr/>
          <p:nvPr/>
        </p:nvSpPr>
        <p:spPr>
          <a:xfrm>
            <a:off x="2771640" y="476280"/>
            <a:ext cx="338472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ТО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2" descr="D:\Артем\научка история\thoth.jpg"/>
          <p:cNvPicPr/>
          <p:nvPr/>
        </p:nvPicPr>
        <p:blipFill>
          <a:blip r:embed="rId2"/>
          <a:stretch/>
        </p:blipFill>
        <p:spPr>
          <a:xfrm>
            <a:off x="5219640" y="620640"/>
            <a:ext cx="2465280" cy="42498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f_4aa14d463e3e9"/>
          <p:cNvPicPr/>
          <p:nvPr/>
        </p:nvPicPr>
        <p:blipFill>
          <a:blip r:embed="rId3"/>
          <a:stretch/>
        </p:blipFill>
        <p:spPr>
          <a:xfrm>
            <a:off x="1403280" y="981000"/>
            <a:ext cx="2460600" cy="3816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53848434_1263594655_hram_v_Luksore"/>
          <p:cNvPicPr/>
          <p:nvPr/>
        </p:nvPicPr>
        <p:blipFill>
          <a:blip r:embed="rId4"/>
          <a:stretch/>
        </p:blipFill>
        <p:spPr>
          <a:xfrm rot="21336000">
            <a:off x="3635280" y="1699920"/>
            <a:ext cx="1944720" cy="144756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356" name="Picture 9" descr="i260160495_4211"/>
          <p:cNvPicPr/>
          <p:nvPr/>
        </p:nvPicPr>
        <p:blipFill>
          <a:blip r:embed="rId5"/>
          <a:stretch/>
        </p:blipFill>
        <p:spPr>
          <a:xfrm rot="276000">
            <a:off x="3634920" y="3429000"/>
            <a:ext cx="1944720" cy="145728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826920" y="5157720"/>
            <a:ext cx="777564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Хап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бог воды и разлива Нила, чьим священным животным являлся крокодил. Его изображали в виде  человека с кувшином на голове, верили, что он придет на землю и выльет кувшин воды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8" name="Picture 2" descr="D:\Артем\научка история\sobek.jpg"/>
          <p:cNvPicPr/>
          <p:nvPr/>
        </p:nvPicPr>
        <p:blipFill>
          <a:blip r:embed="rId1"/>
          <a:stretch/>
        </p:blipFill>
        <p:spPr>
          <a:xfrm>
            <a:off x="5867280" y="981000"/>
            <a:ext cx="2952720" cy="40323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21"/>
          <p:cNvSpPr/>
          <p:nvPr/>
        </p:nvSpPr>
        <p:spPr>
          <a:xfrm>
            <a:off x="2916360" y="47628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ХАП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2233800" cy="3240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</p:pic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D:\Артем\научка история\osiris.jpg"/>
          <p:cNvPicPr/>
          <p:nvPr/>
        </p:nvPicPr>
        <p:blipFill>
          <a:blip r:embed="rId1"/>
          <a:stretch/>
        </p:blipFill>
        <p:spPr>
          <a:xfrm>
            <a:off x="684360" y="549360"/>
            <a:ext cx="2116080" cy="46800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21"/>
          <p:cNvSpPr/>
          <p:nvPr/>
        </p:nvSpPr>
        <p:spPr>
          <a:xfrm>
            <a:off x="3059280" y="40464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a1f28"/>
                </a:solidFill>
                <a:latin typeface="Arial"/>
              </a:rPr>
              <a:t>ОСИРИ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3" name="Picture 5" descr="Безымянный"/>
          <p:cNvPicPr/>
          <p:nvPr/>
        </p:nvPicPr>
        <p:blipFill>
          <a:blip r:embed="rId2"/>
          <a:stretch/>
        </p:blipFill>
        <p:spPr>
          <a:xfrm>
            <a:off x="6299280" y="1125360"/>
            <a:ext cx="2809800" cy="381024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364" name="Rectangle 9" descr=""/>
          <p:cNvPicPr/>
          <p:nvPr/>
        </p:nvPicPr>
        <p:blipFill>
          <a:blip r:embed="rId3"/>
          <a:stretch/>
        </p:blipFill>
        <p:spPr>
          <a:xfrm>
            <a:off x="476280" y="5065560"/>
            <a:ext cx="8356680" cy="14446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3573000"/>
            <a:ext cx="4040280" cy="259884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Му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ия – тело умершего фараона, обработанное сильным соляным раствором и ароматическими маслами и после этого высушивалось, затем заворачивалось в льняные ткани и клалось в саркофаг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4720" y="3645000"/>
            <a:ext cx="4041720" cy="252720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аркофаг фараона – место где находится тело (мумия) фараона после смер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44720" y="1444680"/>
            <a:ext cx="3095640" cy="20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Номер слайда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1023-4BBB-4FE8-87B4-2734FAA9235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1" name="Picture 10" descr="53848416_1263593224_Abusir"/>
          <p:cNvPicPr/>
          <p:nvPr/>
        </p:nvPicPr>
        <p:blipFill>
          <a:blip r:embed="rId1"/>
          <a:stretch/>
        </p:blipFill>
        <p:spPr>
          <a:xfrm>
            <a:off x="684360" y="1484280"/>
            <a:ext cx="2306520" cy="173052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  <p:pic>
        <p:nvPicPr>
          <p:cNvPr id="372" name="Picture 12" descr="post-40296-1211525853"/>
          <p:cNvPicPr/>
          <p:nvPr/>
        </p:nvPicPr>
        <p:blipFill>
          <a:blip r:embed="rId2"/>
          <a:stretch/>
        </p:blipFill>
        <p:spPr>
          <a:xfrm>
            <a:off x="5076720" y="1484280"/>
            <a:ext cx="2305080" cy="1728720"/>
          </a:xfrm>
          <a:prstGeom prst="rect">
            <a:avLst/>
          </a:prstGeom>
          <a:ln w="28440">
            <a:solidFill>
              <a:srgbClr val="669900"/>
            </a:solidFill>
            <a:miter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 fontScale="91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ирамида – гробница египетского фараон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44720" y="3645000"/>
            <a:ext cx="4041720" cy="252720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льмож хоронили в гробницах, которые вырубали в скалах. Бедных хоронили в земл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B343-28B9-4D2A-995F-AEDDBE4462D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7" name="Picture 9" descr="аа"/>
          <p:cNvPicPr/>
          <p:nvPr/>
        </p:nvPicPr>
        <p:blipFill>
          <a:blip r:embed="rId1"/>
          <a:stretch/>
        </p:blipFill>
        <p:spPr>
          <a:xfrm rot="276600">
            <a:off x="1184400" y="1740960"/>
            <a:ext cx="2857320" cy="1828800"/>
          </a:xfrm>
          <a:prstGeom prst="rect">
            <a:avLst/>
          </a:prstGeom>
          <a:ln w="28440">
            <a:solidFill>
              <a:srgbClr val="669900"/>
            </a:solidFill>
            <a:prstDash val="sysDash"/>
            <a:miter/>
          </a:ln>
        </p:spPr>
      </p:pic>
      <p:pic>
        <p:nvPicPr>
          <p:cNvPr id="378" name="Picture 10" descr="53848434_1263594655_hram_v_Luksore"/>
          <p:cNvPicPr/>
          <p:nvPr/>
        </p:nvPicPr>
        <p:blipFill>
          <a:blip r:embed="rId2"/>
          <a:stretch/>
        </p:blipFill>
        <p:spPr>
          <a:xfrm rot="21354000">
            <a:off x="5414760" y="1769760"/>
            <a:ext cx="2014560" cy="1500120"/>
          </a:xfrm>
          <a:prstGeom prst="rect">
            <a:avLst/>
          </a:prstGeom>
          <a:ln w="28440">
            <a:solidFill>
              <a:srgbClr val="669900"/>
            </a:solidFill>
            <a:prstDash val="sysDash"/>
            <a:miter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8:25:48Z</dcterms:created>
  <dc:creator>Valiulis</dc:creator>
  <dc:description>2008</dc:description>
  <dc:language>en-US</dc:language>
  <cp:lastModifiedBy>user</cp:lastModifiedBy>
  <dcterms:modified xsi:type="dcterms:W3CDTF">2013-03-26T12:44:50Z</dcterms:modified>
  <cp:revision>398</cp:revision>
  <dc:subject/>
  <dc:title>PowerPoint Presentation</dc:title>
</cp:coreProperties>
</file>