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5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23.png" ContentType="image/png"/>
  <Override PartName="/ppt/media/image13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40.png" ContentType="image/png"/>
  <Override PartName="/ppt/media/image41.jpeg" ContentType="image/jpeg"/>
  <Override PartName="/ppt/media/image44.jpeg" ContentType="image/jpeg"/>
  <Override PartName="/ppt/media/image38.jpeg" ContentType="image/jpeg"/>
  <Override PartName="/ppt/media/image36.jpeg" ContentType="image/jpeg"/>
  <Override PartName="/ppt/media/image57.png" ContentType="image/png"/>
  <Override PartName="/ppt/media/image46.jpeg" ContentType="image/jpeg"/>
  <Override PartName="/ppt/media/image45.jpeg" ContentType="image/jpeg"/>
  <Override PartName="/ppt/media/image55.png" ContentType="image/png"/>
  <Override PartName="/ppt/media/image47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33.jpeg" ContentType="image/jpeg"/>
  <Override PartName="/ppt/media/image32.jpeg" ContentType="image/jpeg"/>
  <Override PartName="/ppt/media/image31.png" ContentType="image/png"/>
  <Override PartName="/ppt/media/image3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2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2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2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90D8951-4F79-448C-A8A2-EED52DAEC7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65812BA-7EEF-422A-9E88-D855CA9C85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ADC-8741-46E6-8B9E-20AFC931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5175-E616-4606-8B68-935A9959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3B6-2538-4993-B471-446F1BB3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18DC-B900-4C9B-A780-B3E865D8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FDEC-2E37-4A69-9F1F-41AF38F3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32B5-28CF-42CD-AC62-BF275E15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F2F6-A35E-4ED8-A2B9-B1F534EB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D5CF-68B8-45E0-B424-1EF701F6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3B63-4905-490C-8F4F-34F4AA4B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AD08-AECF-443E-B4A6-BE5CAB1F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372D-88F0-4057-A1BF-D133D08F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0E69-BEED-473B-808F-88CB927A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50EC-88DF-4D85-8A0A-18E29BC1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11F0-E7EC-434F-BF17-B0975AE6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E8B7-E765-4B33-A111-72FF3F45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558A-3003-4F81-820C-6DEA4320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BEA5-9494-480D-8740-52A9B11E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7410A-C2F4-4149-B065-59E41423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DF4BE-8090-4096-8B07-D621D1E9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6D067-BE10-4758-AF1D-1CB2C6F5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17AC8-4E70-4ACF-922D-C31136A2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A172A-C7AA-4C3C-A923-92266B1F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68D9-4FA5-43EE-BB40-931C24ED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64AC9-94AB-476F-A1D0-F4F6E93C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4338B-7E2B-4EEC-B16C-5F6B7C20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F7E0C-B0EF-4D7C-AC4C-CB054EAF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B3D46-8A11-4C1E-BAA3-3F93D3C9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33BF6-BF01-4821-B575-CA64D1B4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BF3C2-C912-4618-B403-F2AB451B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600EA-FC97-45FB-BEEC-AE7EF900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2612A-B07D-439D-BB58-FA517E7A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73BE8-B5F3-48CD-A777-6C679A7A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35F1C-B352-4B19-AC2C-0FB33FB5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0CF-44E8-49FE-8D9C-6E8D12D4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470EE-D5B6-4984-A558-9497A656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33D5C-20FA-4C3B-AC22-AA48F4FD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CBE14-E22F-4F7B-970D-DBE67A8F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5E93A-D4C7-462C-9ADD-24D65917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11196-FC38-4FDF-94AB-4E352FAC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4BCBA-8355-413E-8A4C-AE831479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B1612-EEFC-4B82-964B-3B1D7F40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08B30-B8FA-4201-A01F-8390839A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96793-94A5-4606-BF0B-2148A08B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B7D55-3AE3-4065-9782-A0E26032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2E3-D727-4732-BF9B-3A2A5041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C1199-83EC-42C2-B0E7-6C4ABF3D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0A998-5C60-4F4C-89ED-D34A73EB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DA877-8A22-410F-BF10-77339DEB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30696-5FA5-4A1B-9ECA-A04F081E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E518C-5176-4E2B-B345-3FF033B8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C6D90-1559-442D-A255-8C51D95B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4623F-DA11-4EEE-B35C-B400996B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2237B-536A-4BA2-AE24-93369048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FFF5F-C6B9-4242-BCCC-4861E1D1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1DCE5-786E-4F4F-AD6A-BD65C1D7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935-B2EF-41A4-996B-CC5F2365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6D7A9-9622-4B9F-ACAA-413EEFF4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DD40D-8065-4819-8209-0D09ACEB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1DAA1-174D-4015-98CE-108BEB6D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E6055-5AC5-4461-8DD2-18E68DBD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EAF08-E90F-4637-AEA3-C456BB1F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5FA2E-6EC2-4AEF-9D42-A722F9BB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FDA73-2528-409E-834D-578705BD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EE295-BD49-4514-AAD7-26E60D02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F4B20-9006-484C-98D9-DB1C86C4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2F597-4B62-4C55-855C-9879A9CF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610D-D7E5-4D4F-9454-67F92C46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23B7D-1CE6-4852-ACA4-FA0DE620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95C87-DB90-4B9A-9864-6221F1BA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2D98C-7039-46B1-9A3B-35858A4E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99806-1DB0-46BC-A563-74247494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240E7-E0C9-4ABB-A501-DAE9E43F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48674-B844-4DC8-A84D-1591F96D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66F34-9B93-41EA-B1D3-98357B17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8F30F-5C84-49C9-9D38-A09819EE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EA2F1-1C6B-45F0-9ADD-67453D08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7C26F-1E06-4DEC-A8FA-1AD35416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DF3-F9CD-4151-95C8-C71D1D60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944EE-4853-4629-85BB-130B9EDE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71110-6C1A-4BDC-8F60-69C5E825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D6319-F851-4B5E-A1CF-C934A412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F03B3-CB5B-464A-B887-0D161F4E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8A153-1DFF-436B-9208-2A21F952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FAFB-DE46-4A22-87F6-01BFED49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D732-AB31-46A1-9C2D-29268A9A190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EFBE-7D97-4B9E-A1E1-688EADC6D49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9797-EB01-4711-9B88-6EC02A3F4A27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1963-3173-403F-AC00-C8CA32CDE435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EB08-3FED-4256-BD8D-AF146F48A4F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90D3-7805-44D0-AA50-2A57DD3A8E4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47A8-D995-49AC-9266-DA60B901BF0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4A30-F726-496A-91AA-4338EA398E3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1BE6-103F-409B-8D8D-46350A803D8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1C39-4BE2-4E7C-9EE2-FDFDCA1D4A1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FB7A-0F77-4453-9309-FC4AD19B334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12F4-B5DF-43AA-80CF-79C703E1D3C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6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7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79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0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2BDE-831C-48AB-80C1-A7597ECA5FB6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4C44-3AF4-484B-96D0-1F4E894D5655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омер слайда 2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F9EC-8505-44CC-B429-31FCFA3F533C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33300"/>
                </a:solidFill>
                <a:latin typeface="Arial"/>
              </a:rPr>
              <a:t>БОГИ ДРЕВНЕГО ЕГИПТА</a:t>
            </a: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411280" y="5013000"/>
            <a:ext cx="4897440" cy="77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9900"/>
            </a:solidFill>
            <a:miter/>
          </a:ln>
        </p:spPr>
        <p:txBody>
          <a:bodyPr anchor="t">
            <a:normAutofit fontScale="99000"/>
          </a:bodyPr>
          <a:p>
            <a:pPr marL="361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откина О.И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3780000" y="5950080"/>
            <a:ext cx="20574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ва 201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4" name="Picture 17" descr="1227197383_sfinks"/>
          <p:cNvPicPr/>
          <p:nvPr/>
        </p:nvPicPr>
        <p:blipFill>
          <a:blip r:embed="rId1"/>
          <a:stretch/>
        </p:blipFill>
        <p:spPr>
          <a:xfrm>
            <a:off x="1692360" y="1413000"/>
            <a:ext cx="5904000" cy="345600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1"/>
          <p:cNvSpPr/>
          <p:nvPr/>
        </p:nvSpPr>
        <p:spPr>
          <a:xfrm>
            <a:off x="2627280" y="404640"/>
            <a:ext cx="338472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1f28"/>
                </a:solidFill>
                <a:latin typeface="Arial"/>
              </a:rPr>
              <a:t>АНУБИ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0" name="Picture 5" descr="1239650580_zzzanubis1"/>
          <p:cNvPicPr/>
          <p:nvPr/>
        </p:nvPicPr>
        <p:blipFill>
          <a:blip r:embed="rId1"/>
          <a:stretch/>
        </p:blipFill>
        <p:spPr>
          <a:xfrm>
            <a:off x="1042920" y="1628640"/>
            <a:ext cx="4591080" cy="327672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381" name="Picture 7" descr="26691c4fc06e"/>
          <p:cNvPicPr/>
          <p:nvPr/>
        </p:nvPicPr>
        <p:blipFill>
          <a:blip r:embed="rId2"/>
          <a:stretch/>
        </p:blipFill>
        <p:spPr>
          <a:xfrm>
            <a:off x="5940360" y="1052640"/>
            <a:ext cx="2782800" cy="374472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sp>
        <p:nvSpPr>
          <p:cNvPr id="382" name="Rectangle 8"/>
          <p:cNvSpPr/>
          <p:nvPr/>
        </p:nvSpPr>
        <p:spPr>
          <a:xfrm>
            <a:off x="684360" y="5373720"/>
            <a:ext cx="813564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Ануби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— бог в образе шакала или дикой собак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ли человека с головой шакала или собаки)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читался покровителем умерши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D:\Артем\научка история\amon.jpg"/>
          <p:cNvPicPr/>
          <p:nvPr/>
        </p:nvPicPr>
        <p:blipFill>
          <a:blip r:embed="rId1"/>
          <a:stretch/>
        </p:blipFill>
        <p:spPr>
          <a:xfrm>
            <a:off x="1403280" y="907920"/>
            <a:ext cx="1800360" cy="4248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180px-Amun_svg"/>
          <p:cNvPicPr/>
          <p:nvPr/>
        </p:nvPicPr>
        <p:blipFill>
          <a:blip r:embed="rId2"/>
          <a:stretch/>
        </p:blipFill>
        <p:spPr>
          <a:xfrm>
            <a:off x="6372360" y="549360"/>
            <a:ext cx="1785960" cy="47242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7"/>
          <p:cNvSpPr/>
          <p:nvPr/>
        </p:nvSpPr>
        <p:spPr>
          <a:xfrm>
            <a:off x="468360" y="5445000"/>
            <a:ext cx="828036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Амо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— покровитель города Фивы, бог воздуха и урожая, творец мира; изображался с головой человека, а иногда быка или барана, с двузубой короной и длинным скипетром в рук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21"/>
          <p:cNvSpPr/>
          <p:nvPr/>
        </p:nvSpPr>
        <p:spPr>
          <a:xfrm>
            <a:off x="3059280" y="549360"/>
            <a:ext cx="338436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1f28"/>
                </a:solidFill>
                <a:latin typeface="Arial"/>
              </a:rPr>
              <a:t>АМОН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7" name="Picture 9" descr="10"/>
          <p:cNvPicPr/>
          <p:nvPr/>
        </p:nvPicPr>
        <p:blipFill>
          <a:blip r:embed="rId3"/>
          <a:stretch/>
        </p:blipFill>
        <p:spPr>
          <a:xfrm rot="262200">
            <a:off x="3708000" y="1628640"/>
            <a:ext cx="2160720" cy="162108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388" name="Picture 10" descr="ef567dae9bf9"/>
          <p:cNvPicPr/>
          <p:nvPr/>
        </p:nvPicPr>
        <p:blipFill>
          <a:blip r:embed="rId4"/>
          <a:stretch/>
        </p:blipFill>
        <p:spPr>
          <a:xfrm rot="21395400">
            <a:off x="3708000" y="3573000"/>
            <a:ext cx="2162160" cy="144000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250920" y="4941720"/>
            <a:ext cx="8675640" cy="17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Ш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бог воздуха, разделяющий небо и землю, сын солнечного бога Ра-Атума, супруг и брат богини влаги Тефнут. Его чаще всего изображали человеком, стоящим на одном колене с поднятыми руками, которыми он поддерживает небо над земл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Rectangle 21"/>
          <p:cNvSpPr/>
          <p:nvPr/>
        </p:nvSpPr>
        <p:spPr>
          <a:xfrm>
            <a:off x="2268360" y="476280"/>
            <a:ext cx="338472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1f28"/>
                </a:solidFill>
                <a:latin typeface="Arial"/>
              </a:rPr>
              <a:t>Ш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1" name="Picture 6" descr="N45674B0C6D96"/>
          <p:cNvPicPr/>
          <p:nvPr/>
        </p:nvPicPr>
        <p:blipFill>
          <a:blip r:embed="rId1"/>
          <a:stretch/>
        </p:blipFill>
        <p:spPr>
          <a:xfrm>
            <a:off x="5435640" y="1125360"/>
            <a:ext cx="3319560" cy="331956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392" name="Picture 2" descr="D:\Артем\научка история\shu.jpg"/>
          <p:cNvPicPr/>
          <p:nvPr/>
        </p:nvPicPr>
        <p:blipFill>
          <a:blip r:embed="rId2"/>
          <a:stretch/>
        </p:blipFill>
        <p:spPr>
          <a:xfrm>
            <a:off x="611280" y="692280"/>
            <a:ext cx="2611440" cy="3816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a2[1]"/>
          <p:cNvPicPr/>
          <p:nvPr/>
        </p:nvPicPr>
        <p:blipFill>
          <a:blip r:embed="rId3"/>
          <a:stretch/>
        </p:blipFill>
        <p:spPr>
          <a:xfrm rot="21288000">
            <a:off x="3348000" y="1557000"/>
            <a:ext cx="1670040" cy="119052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394" name="Picture 11" descr="0_20c30_e444682a_XL"/>
          <p:cNvPicPr/>
          <p:nvPr/>
        </p:nvPicPr>
        <p:blipFill>
          <a:blip r:embed="rId4"/>
          <a:stretch/>
        </p:blipFill>
        <p:spPr>
          <a:xfrm rot="361800">
            <a:off x="3347640" y="3132000"/>
            <a:ext cx="1728720" cy="129708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1"/>
          <p:cNvSpPr/>
          <p:nvPr/>
        </p:nvSpPr>
        <p:spPr>
          <a:xfrm>
            <a:off x="2700360" y="549360"/>
            <a:ext cx="3384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1f28"/>
                </a:solidFill>
                <a:latin typeface="Arial"/>
              </a:rPr>
              <a:t>СЕ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6" name="Picture 2" descr="D:\Артем\научка история\seth.jpg"/>
          <p:cNvPicPr/>
          <p:nvPr/>
        </p:nvPicPr>
        <p:blipFill>
          <a:blip r:embed="rId1"/>
          <a:stretch/>
        </p:blipFill>
        <p:spPr>
          <a:xfrm>
            <a:off x="5508720" y="1268280"/>
            <a:ext cx="3219480" cy="3743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58859989_kv3406"/>
          <p:cNvPicPr/>
          <p:nvPr/>
        </p:nvPicPr>
        <p:blipFill>
          <a:blip r:embed="rId2"/>
          <a:stretch/>
        </p:blipFill>
        <p:spPr>
          <a:xfrm>
            <a:off x="611280" y="1413000"/>
            <a:ext cx="2759040" cy="367164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sp>
        <p:nvSpPr>
          <p:cNvPr id="398" name="Rectangle 7"/>
          <p:cNvSpPr/>
          <p:nvPr/>
        </p:nvSpPr>
        <p:spPr>
          <a:xfrm>
            <a:off x="250920" y="5373720"/>
            <a:ext cx="867564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Сет</a:t>
            </a:r>
            <a:r>
              <a:rPr b="1" lang="ru-RU" sz="2000" spc="-1" strike="noStrike">
                <a:solidFill>
                  <a:srgbClr val="da1f28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бог пустыни, т. е. "чужеземных стран", олицетворение злого начала, брат и убийца Осириса, один из четырех детей бога земли Геба и Нут, богини неб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9" name="Picture 8" descr="аа"/>
          <p:cNvPicPr/>
          <p:nvPr/>
        </p:nvPicPr>
        <p:blipFill>
          <a:blip r:embed="rId3"/>
          <a:stretch/>
        </p:blipFill>
        <p:spPr>
          <a:xfrm rot="406200">
            <a:off x="3563640" y="1890360"/>
            <a:ext cx="1800000" cy="115416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400" name="Picture 9" descr="0_20c30_e444682a_XL"/>
          <p:cNvPicPr/>
          <p:nvPr/>
        </p:nvPicPr>
        <p:blipFill>
          <a:blip r:embed="rId4"/>
          <a:stretch/>
        </p:blipFill>
        <p:spPr>
          <a:xfrm rot="21445800">
            <a:off x="3564000" y="3573000"/>
            <a:ext cx="1722240" cy="129240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1"/>
          <p:cNvSpPr/>
          <p:nvPr/>
        </p:nvSpPr>
        <p:spPr>
          <a:xfrm>
            <a:off x="2771640" y="404640"/>
            <a:ext cx="338472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1f28"/>
                </a:solidFill>
                <a:latin typeface="Arial"/>
              </a:rPr>
              <a:t>ПТАХ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2" name="Picture 2" descr="D:\Артем\научка история\ptah.jpg"/>
          <p:cNvPicPr/>
          <p:nvPr/>
        </p:nvPicPr>
        <p:blipFill>
          <a:blip r:embed="rId1"/>
          <a:stretch/>
        </p:blipFill>
        <p:spPr>
          <a:xfrm>
            <a:off x="6300720" y="1052640"/>
            <a:ext cx="2016360" cy="4174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ptah_f"/>
          <p:cNvPicPr/>
          <p:nvPr/>
        </p:nvPicPr>
        <p:blipFill>
          <a:blip r:embed="rId2"/>
          <a:stretch/>
        </p:blipFill>
        <p:spPr>
          <a:xfrm>
            <a:off x="826920" y="1413000"/>
            <a:ext cx="2286000" cy="345600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sp>
        <p:nvSpPr>
          <p:cNvPr id="404" name="Rectangle 8"/>
          <p:cNvSpPr/>
          <p:nvPr/>
        </p:nvSpPr>
        <p:spPr>
          <a:xfrm>
            <a:off x="250920" y="5373720"/>
            <a:ext cx="867564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Пта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— бог-творец, покровитель искусств и ремесе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тах создал первых восемь богов, мир и все в нем существующее - животных, растения, людей, храм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5" name="Picture 9" descr="53848434_1263594655_hram_v_Luksore"/>
          <p:cNvPicPr/>
          <p:nvPr/>
        </p:nvPicPr>
        <p:blipFill>
          <a:blip r:embed="rId3"/>
          <a:stretch/>
        </p:blipFill>
        <p:spPr>
          <a:xfrm rot="21336000">
            <a:off x="3851280" y="1699920"/>
            <a:ext cx="1944720" cy="144756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406" name="Picture 10" descr="83906_heops"/>
          <p:cNvPicPr/>
          <p:nvPr/>
        </p:nvPicPr>
        <p:blipFill>
          <a:blip r:embed="rId4"/>
          <a:stretch/>
        </p:blipFill>
        <p:spPr>
          <a:xfrm rot="393000">
            <a:off x="3924000" y="3500280"/>
            <a:ext cx="1966680" cy="147492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D:\Артем\научка история\geb.jpg"/>
          <p:cNvPicPr/>
          <p:nvPr/>
        </p:nvPicPr>
        <p:blipFill>
          <a:blip r:embed="rId1"/>
          <a:stretch/>
        </p:blipFill>
        <p:spPr>
          <a:xfrm>
            <a:off x="5435640" y="1268280"/>
            <a:ext cx="2808360" cy="396108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21"/>
          <p:cNvSpPr/>
          <p:nvPr/>
        </p:nvSpPr>
        <p:spPr>
          <a:xfrm>
            <a:off x="3348000" y="333360"/>
            <a:ext cx="338472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1f28"/>
                </a:solidFill>
                <a:latin typeface="Arial"/>
              </a:rPr>
              <a:t>ГЕБ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250920" y="5589720"/>
            <a:ext cx="867564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Ге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— бог земли, сын бога воздуха Шу и богини влаги Тефнут. Детьми Геба были Осирис, Сет, Исида, Нефтид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0" name="Picture 8" descr="83906_heops"/>
          <p:cNvPicPr/>
          <p:nvPr/>
        </p:nvPicPr>
        <p:blipFill>
          <a:blip r:embed="rId2"/>
          <a:stretch/>
        </p:blipFill>
        <p:spPr>
          <a:xfrm rot="21260400">
            <a:off x="893520" y="899640"/>
            <a:ext cx="1747800" cy="131148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411" name="Picture 10" descr="i260160495_4211"/>
          <p:cNvPicPr/>
          <p:nvPr/>
        </p:nvPicPr>
        <p:blipFill>
          <a:blip r:embed="rId3"/>
          <a:stretch/>
        </p:blipFill>
        <p:spPr>
          <a:xfrm rot="276000">
            <a:off x="3563640" y="1484280"/>
            <a:ext cx="1944720" cy="145728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412" name="Picture 11" descr="egypt_pyramid"/>
          <p:cNvPicPr/>
          <p:nvPr/>
        </p:nvPicPr>
        <p:blipFill>
          <a:blip r:embed="rId4"/>
          <a:stretch/>
        </p:blipFill>
        <p:spPr>
          <a:xfrm rot="554400">
            <a:off x="899640" y="3933360"/>
            <a:ext cx="1729080" cy="138276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413" name="Picture 12" descr="belaya_piramida_faraona_snofru_dahshur_egipet-365"/>
          <p:cNvPicPr/>
          <p:nvPr/>
        </p:nvPicPr>
        <p:blipFill>
          <a:blip r:embed="rId5"/>
          <a:stretch/>
        </p:blipFill>
        <p:spPr>
          <a:xfrm rot="332400">
            <a:off x="3276720" y="3715920"/>
            <a:ext cx="1944720" cy="153828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414" name="Picture 13" descr="1172"/>
          <p:cNvPicPr/>
          <p:nvPr/>
        </p:nvPicPr>
        <p:blipFill>
          <a:blip r:embed="rId6"/>
          <a:stretch/>
        </p:blipFill>
        <p:spPr>
          <a:xfrm rot="21421800">
            <a:off x="1258920" y="2492280"/>
            <a:ext cx="1773360" cy="118764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6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7" name="Номер слайда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5E27-5EC0-4D76-BAB5-564553D7D47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4352760" cy="3876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</p:pic>
      <p:pic>
        <p:nvPicPr>
          <p:cNvPr id="419" name="Picture 3" descr=""/>
          <p:cNvPicPr/>
          <p:nvPr/>
        </p:nvPicPr>
        <p:blipFill>
          <a:blip r:embed="rId3"/>
          <a:stretch/>
        </p:blipFill>
        <p:spPr>
          <a:xfrm>
            <a:off x="4427640" y="1052640"/>
            <a:ext cx="4038480" cy="3028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</p:pic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140360" y="1481040"/>
            <a:ext cx="431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Только он знал молитвы и мог совершить жертвоприношение. Жертва клалась на алтарь (спец. Камень и произносились молитвы). Затем статую божества он натирал аромамаслами.  После обряда по особым приметам он мог понять принята жертва богом или нет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Другие люди не могли зайти в храм, они могли только подходить к вратам храма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21" name="Заголовок 3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614600"/>
          </a:xfrm>
          <a:prstGeom prst="rect">
            <a:avLst/>
          </a:prstGeom>
          <a:ln w="0">
            <a:noFill/>
          </a:ln>
        </p:spPr>
      </p:pic>
      <p:sp>
        <p:nvSpPr>
          <p:cNvPr id="422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AB09-8E7C-4EC4-9439-4878713EC1A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2"/>
          <a:stretch/>
        </p:blipFill>
        <p:spPr>
          <a:xfrm>
            <a:off x="1397160" y="1916280"/>
            <a:ext cx="2158920" cy="3657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</p:pic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5" descr=""/>
          <p:cNvPicPr/>
          <p:nvPr/>
        </p:nvPicPr>
        <p:blipFill>
          <a:blip r:embed="rId1"/>
          <a:stretch/>
        </p:blipFill>
        <p:spPr>
          <a:xfrm>
            <a:off x="433440" y="2127240"/>
            <a:ext cx="8028000" cy="14749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ар. 9, вопр. 1,2.(понятия знать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A359-4E0B-4096-9153-0D086F53652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тетради заполнить таблицу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6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37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7699-6758-4250-84FB-3DE35B48FB7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900000" y="2421000"/>
          <a:ext cx="7201080" cy="1879560"/>
        </p:xfrm>
        <a:graphic>
          <a:graphicData uri="http://schemas.openxmlformats.org/drawingml/2006/table">
            <a:tbl>
              <a:tblPr/>
              <a:tblGrid>
                <a:gridCol w="3600720"/>
                <a:gridCol w="3600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Название  египетского бож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ила природы или занятие, которое бог отража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98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082A-308F-4AD9-B0C1-B8A93D39451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21"/>
          <p:cNvSpPr/>
          <p:nvPr/>
        </p:nvSpPr>
        <p:spPr>
          <a:xfrm>
            <a:off x="2627280" y="692280"/>
            <a:ext cx="338472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1f28"/>
                </a:solidFill>
                <a:latin typeface="Arial"/>
              </a:rPr>
              <a:t>Р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611280" y="4724280"/>
            <a:ext cx="8208720" cy="18446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Ра</a:t>
            </a: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бог солнца. Изображали в виде человека с головой сокола и с солнечным диском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олнечный диск символизировал свет и тепло, которое дарует Бог людям. Считалось, что каждое утро Ра на золотой лодке выплывает из-за гор и плывет по небу. Вечером же Ра возвращался в свои годы и наступала тьм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2" name="Picture 2" descr="D:\Артем\научка история\re.jpg"/>
          <p:cNvPicPr/>
          <p:nvPr/>
        </p:nvPicPr>
        <p:blipFill>
          <a:blip r:embed="rId1"/>
          <a:stretch/>
        </p:blipFill>
        <p:spPr>
          <a:xfrm>
            <a:off x="1332000" y="260280"/>
            <a:ext cx="2122560" cy="388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4" descr="64264496_Stele_2"/>
          <p:cNvPicPr/>
          <p:nvPr/>
        </p:nvPicPr>
        <p:blipFill>
          <a:blip r:embed="rId2"/>
          <a:stretch/>
        </p:blipFill>
        <p:spPr>
          <a:xfrm>
            <a:off x="6012000" y="404640"/>
            <a:ext cx="2741400" cy="3888000"/>
          </a:xfrm>
          <a:prstGeom prst="rect">
            <a:avLst/>
          </a:prstGeom>
          <a:ln w="28440">
            <a:solidFill>
              <a:srgbClr val="808000"/>
            </a:solidFill>
            <a:miter/>
          </a:ln>
        </p:spPr>
      </p:pic>
      <p:pic>
        <p:nvPicPr>
          <p:cNvPr id="344" name="Picture 27" descr="03_el-faraun_entrance"/>
          <p:cNvPicPr/>
          <p:nvPr/>
        </p:nvPicPr>
        <p:blipFill>
          <a:blip r:embed="rId3"/>
          <a:stretch/>
        </p:blipFill>
        <p:spPr>
          <a:xfrm rot="312600">
            <a:off x="3563640" y="1844640"/>
            <a:ext cx="1859040" cy="139392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345" name="Picture 28" descr="hurgada1_30"/>
          <p:cNvPicPr/>
          <p:nvPr/>
        </p:nvPicPr>
        <p:blipFill>
          <a:blip r:embed="rId4"/>
          <a:stretch/>
        </p:blipFill>
        <p:spPr>
          <a:xfrm rot="21400800">
            <a:off x="3532320" y="3193560"/>
            <a:ext cx="1900080" cy="142560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2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Апоп- бог тьм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Его изображали египтяне в виде зме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Апоп не хочет пропускать Ра на землю. Бог солнца вступает с ним в борьбу и побеждает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51D2-2407-460A-8132-5153BE1D4D6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457200" y="1735200"/>
            <a:ext cx="4040280" cy="3360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</p:pic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487440" y="4992840"/>
            <a:ext cx="8418600" cy="170640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21"/>
          <p:cNvSpPr/>
          <p:nvPr/>
        </p:nvSpPr>
        <p:spPr>
          <a:xfrm>
            <a:off x="2771640" y="476280"/>
            <a:ext cx="338472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1f28"/>
                </a:solidFill>
                <a:latin typeface="Arial"/>
              </a:rPr>
              <a:t>ТО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" name="Picture 2" descr="D:\Артем\научка история\thoth.jpg"/>
          <p:cNvPicPr/>
          <p:nvPr/>
        </p:nvPicPr>
        <p:blipFill>
          <a:blip r:embed="rId2"/>
          <a:stretch/>
        </p:blipFill>
        <p:spPr>
          <a:xfrm>
            <a:off x="5219640" y="620640"/>
            <a:ext cx="2465280" cy="42498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f_4aa14d463e3e9"/>
          <p:cNvPicPr/>
          <p:nvPr/>
        </p:nvPicPr>
        <p:blipFill>
          <a:blip r:embed="rId3"/>
          <a:stretch/>
        </p:blipFill>
        <p:spPr>
          <a:xfrm>
            <a:off x="1403280" y="981000"/>
            <a:ext cx="2460600" cy="3816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53848434_1263594655_hram_v_Luksore"/>
          <p:cNvPicPr/>
          <p:nvPr/>
        </p:nvPicPr>
        <p:blipFill>
          <a:blip r:embed="rId4"/>
          <a:stretch/>
        </p:blipFill>
        <p:spPr>
          <a:xfrm rot="21336000">
            <a:off x="3635280" y="1699920"/>
            <a:ext cx="1944720" cy="144756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356" name="Picture 9" descr="i260160495_4211"/>
          <p:cNvPicPr/>
          <p:nvPr/>
        </p:nvPicPr>
        <p:blipFill>
          <a:blip r:embed="rId5"/>
          <a:stretch/>
        </p:blipFill>
        <p:spPr>
          <a:xfrm rot="276000">
            <a:off x="3634920" y="3429000"/>
            <a:ext cx="1944720" cy="145728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826920" y="5157720"/>
            <a:ext cx="7775640" cy="129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Хап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бог воды и разлива Нила, чьим священным животным являлся крокодил. Его изображали в виде  человека с кувшином на голове, верили, что он придет на землю и выльет кувшин воды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8" name="Picture 2" descr="D:\Артем\научка история\sobek.jpg"/>
          <p:cNvPicPr/>
          <p:nvPr/>
        </p:nvPicPr>
        <p:blipFill>
          <a:blip r:embed="rId1"/>
          <a:stretch/>
        </p:blipFill>
        <p:spPr>
          <a:xfrm>
            <a:off x="5867280" y="981000"/>
            <a:ext cx="2952720" cy="40323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21"/>
          <p:cNvSpPr/>
          <p:nvPr/>
        </p:nvSpPr>
        <p:spPr>
          <a:xfrm>
            <a:off x="2916360" y="476280"/>
            <a:ext cx="3384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1f28"/>
                </a:solidFill>
                <a:latin typeface="Arial"/>
              </a:rPr>
              <a:t>ХАП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2233800" cy="3240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</p:pic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D:\Артем\научка история\osiris.jpg"/>
          <p:cNvPicPr/>
          <p:nvPr/>
        </p:nvPicPr>
        <p:blipFill>
          <a:blip r:embed="rId1"/>
          <a:stretch/>
        </p:blipFill>
        <p:spPr>
          <a:xfrm>
            <a:off x="684360" y="549360"/>
            <a:ext cx="2116080" cy="468000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21"/>
          <p:cNvSpPr/>
          <p:nvPr/>
        </p:nvSpPr>
        <p:spPr>
          <a:xfrm>
            <a:off x="3059280" y="404640"/>
            <a:ext cx="3384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1f28"/>
                </a:solidFill>
                <a:latin typeface="Arial"/>
              </a:rPr>
              <a:t>ОСИРИ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3" name="Picture 5" descr="Безымянный"/>
          <p:cNvPicPr/>
          <p:nvPr/>
        </p:nvPicPr>
        <p:blipFill>
          <a:blip r:embed="rId2"/>
          <a:stretch/>
        </p:blipFill>
        <p:spPr>
          <a:xfrm>
            <a:off x="6299280" y="1125360"/>
            <a:ext cx="2809800" cy="381024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364" name="Rectangle 9" descr=""/>
          <p:cNvPicPr/>
          <p:nvPr/>
        </p:nvPicPr>
        <p:blipFill>
          <a:blip r:embed="rId3"/>
          <a:stretch/>
        </p:blipFill>
        <p:spPr>
          <a:xfrm>
            <a:off x="476280" y="5065560"/>
            <a:ext cx="8356680" cy="14446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3573000"/>
            <a:ext cx="4040280" cy="259884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Му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ия – тело умершего фараона, обработанное сильным соляным раствором и ароматическими маслами и после этого высушивалось, затем заворачивалось в льняные ткани и клалось в саркофаг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4720" y="3645000"/>
            <a:ext cx="4041720" cy="252720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аркофаг фараона – место где находится тело (мумия) фараона после смерт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44720" y="1444680"/>
            <a:ext cx="3095640" cy="20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Номер слайда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37AB-291C-4515-BBD2-FEAC58FC3D9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Picture 10" descr="53848416_1263593224_Abusir"/>
          <p:cNvPicPr/>
          <p:nvPr/>
        </p:nvPicPr>
        <p:blipFill>
          <a:blip r:embed="rId1"/>
          <a:stretch/>
        </p:blipFill>
        <p:spPr>
          <a:xfrm>
            <a:off x="684360" y="1484280"/>
            <a:ext cx="2306520" cy="173052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372" name="Picture 12" descr="post-40296-1211525853"/>
          <p:cNvPicPr/>
          <p:nvPr/>
        </p:nvPicPr>
        <p:blipFill>
          <a:blip r:embed="rId2"/>
          <a:stretch/>
        </p:blipFill>
        <p:spPr>
          <a:xfrm>
            <a:off x="5076720" y="1484280"/>
            <a:ext cx="2305080" cy="172872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 fontScale="91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ирамида – гробница египетского фараон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44720" y="3645000"/>
            <a:ext cx="4041720" cy="252720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льмож хоронили в гробницах, которые вырубали в скалах. Бедных хоронили в земл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A5FC-14D0-4BBF-B3D9-A727B1E2FCB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7" name="Picture 9" descr="аа"/>
          <p:cNvPicPr/>
          <p:nvPr/>
        </p:nvPicPr>
        <p:blipFill>
          <a:blip r:embed="rId1"/>
          <a:stretch/>
        </p:blipFill>
        <p:spPr>
          <a:xfrm rot="276600">
            <a:off x="1184400" y="1740960"/>
            <a:ext cx="2857320" cy="1828800"/>
          </a:xfrm>
          <a:prstGeom prst="rect">
            <a:avLst/>
          </a:prstGeom>
          <a:ln w="28440">
            <a:solidFill>
              <a:srgbClr val="669900"/>
            </a:solidFill>
            <a:prstDash val="sysDash"/>
            <a:miter/>
          </a:ln>
        </p:spPr>
      </p:pic>
      <p:pic>
        <p:nvPicPr>
          <p:cNvPr id="378" name="Picture 10" descr="53848434_1263594655_hram_v_Luksore"/>
          <p:cNvPicPr/>
          <p:nvPr/>
        </p:nvPicPr>
        <p:blipFill>
          <a:blip r:embed="rId2"/>
          <a:stretch/>
        </p:blipFill>
        <p:spPr>
          <a:xfrm rot="21354000">
            <a:off x="5414760" y="1769760"/>
            <a:ext cx="2014560" cy="1500120"/>
          </a:xfrm>
          <a:prstGeom prst="rect">
            <a:avLst/>
          </a:prstGeom>
          <a:ln w="28440">
            <a:solidFill>
              <a:srgbClr val="669900"/>
            </a:solidFill>
            <a:prstDash val="sysDash"/>
            <a:miter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08:25:48Z</dcterms:created>
  <dc:creator>Valiulis</dc:creator>
  <dc:description>2008</dc:description>
  <dc:language>en-US</dc:language>
  <cp:lastModifiedBy>user</cp:lastModifiedBy>
  <dcterms:modified xsi:type="dcterms:W3CDTF">2013-03-26T12:44:50Z</dcterms:modified>
  <cp:revision>398</cp:revision>
  <dc:subject/>
  <dc:title>PowerPoint Presentation</dc:title>
</cp:coreProperties>
</file>