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7.png" ContentType="image/png"/>
  <Override PartName="/ppt/media/image22.jpeg" ContentType="image/jpeg"/>
  <Override PartName="/ppt/media/image4.png" ContentType="image/png"/>
  <Override PartName="/ppt/media/image27.png" ContentType="image/png"/>
  <Override PartName="/ppt/media/image12.wmf" ContentType="image/x-wmf"/>
  <Override PartName="/ppt/media/image9.wmf" ContentType="image/x-wmf"/>
  <Override PartName="/ppt/media/image8.png" ContentType="image/png"/>
  <Override PartName="/ppt/media/image28.gif" ContentType="image/gif"/>
  <Override PartName="/ppt/media/image29.jpeg" ContentType="image/jpeg"/>
  <Override PartName="/ppt/media/image5.png" ContentType="image/png"/>
  <Override PartName="/ppt/media/image13.wmf" ContentType="image/x-wmf"/>
  <Override PartName="/ppt/media/image30.jpeg" ContentType="image/jpeg"/>
  <Override PartName="/ppt/media/image32.jpeg" ContentType="image/jpeg"/>
  <Override PartName="/ppt/media/image11.png" ContentType="image/png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14.wmf" ContentType="image/x-wmf"/>
  <Override PartName="/ppt/media/image3.png" ContentType="image/png"/>
  <Override PartName="/ppt/media/image26.png" ContentType="image/png"/>
  <Override PartName="/ppt/media/image1.wmf" ContentType="image/x-wmf"/>
  <Override PartName="/ppt/media/image15.jpeg" ContentType="image/jpeg"/>
  <Override PartName="/ppt/media/image16.jpeg" ContentType="image/jpeg"/>
  <Override PartName="/ppt/media/image17.wmf" ContentType="image/x-wmf"/>
  <Override PartName="/ppt/media/image18.jpeg" ContentType="image/jpeg"/>
  <Override PartName="/ppt/media/image19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AF28-5460-42DE-A0E3-C8CFCBD1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3E64-3E7E-4F85-947B-3D07CCBF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40B3-BF71-499B-86D7-6E9EA339B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CA93-8A44-43B4-9C1E-0168A8A28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317B-2B73-438B-8E4F-34BC2BFC4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909D-DC98-4690-86F6-CCCF60AA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5E3E-0376-49B7-90EF-8E042963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7C61-F172-47AD-ACE3-71C3AEB8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25FE-808E-4CFE-8CA2-5A8DC01D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434C-35FF-49D7-8CE4-CC7B1F58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9DB3-B0E6-41B0-B1B5-1CBA4A41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394C-CB81-48C0-BE06-B74B82DE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1B54-A362-4D00-8E6C-A8F607C3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8E90-4AA0-4420-891A-681B66FD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8AF8-0C81-4A94-9643-92285DFA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9BB9-040F-47E8-85B2-60092FD4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DDD5-C6CD-47F1-9CFC-A3F9A4A37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F7690-1599-4AE1-9431-2BC5DDBF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53F79-CE46-4B67-87A0-983B52BF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E955A-DB14-47E0-8EDF-37542C19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9360C-1411-47A5-BA70-A6005122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CEFA4-1B3B-485E-881B-16294A6B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374D-5B94-4FE1-ACB4-037B9BEA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CC6AA-453A-432B-B05B-86DC1C60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1EF62-A5ED-4A11-BD8A-5BB3D41D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5A352-BBCB-46A6-9ECE-04C12A62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9E01D-FC51-46DB-867F-A87FB5D6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DB18B-7DE2-49F5-99E6-2F0085AD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E8BA5-D91E-4AA1-9496-23B0AAEC0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CE903-A1B4-443F-9AC5-DE7F8E79F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2EC0F-658B-4485-84ED-30DD4C79C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7206B-FD22-4F1F-8044-7C0BA06B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5B71F-B6C1-448A-8B99-C55083C0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3F6F-2695-42AB-9A03-AC8F8BF4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A929C-7815-4475-B644-110A9E79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8DC67-6ACC-4FC6-8C6C-D848D1DD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EEA8C-6CB3-414E-940B-03086D77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17166-4972-4ABC-AED1-9EE56573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15F72-D89A-4708-9FD8-0BF6821E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5AF5E-BDBA-454C-9A5C-2CB23209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F1DF4-B3AD-441D-B240-1EA4DD59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C4A1F-14B8-415F-A9F6-4C617899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1229A-8660-49CF-AD0E-B089E868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47F95-624D-4611-847D-E509C689C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89EA-7D09-449D-B1F9-9B001370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C448A-FD99-457A-9EFA-E2427740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E2869-B02E-40AA-8F66-F888E6DC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4C462-B8C7-4067-9EA3-FAD6330C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B7775-B84D-4893-B4C0-B7CB2AC7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07970-7550-4DC9-B327-A449A31E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D9A25-AADD-4A8D-BBD2-8A349E28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98457-7FF0-4845-BD6B-169BD1BF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EB4B6-266A-47D5-B843-BFD7B02E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B20CC-83EE-4653-ADDA-E3F7F153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8E336-BDF4-4216-A2E3-7978D138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9043-FE03-47E9-891C-53463570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32800-0376-4D45-982D-728FE6D67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08934-21CE-40B5-A07F-B9E7994F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ECB62-967A-427D-95DA-042355D2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AF5DF-CC88-434E-9ABF-1203E548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A84BF-C838-4111-84B5-4CE0CFEB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72FB9-A8D9-4F70-AB70-07BBA591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41D67-EF61-488A-9D09-6454D211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025B4-8865-4C84-BF6A-566E8E93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C9E1C-198B-487E-9284-333CA923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FEE65-5AC0-4B0C-B427-DFC7C049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F9D6-B3D2-4E63-92D3-5464E3CC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985C9-DD74-4B7B-9759-E229F382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CF8BD-33D0-43D5-8655-E92704748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3FF02-ACC3-4D32-853B-6900986AC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1B373-BC81-4F82-835F-0A78B8D0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251C6-16E5-44D6-8EE8-42BF3A7A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F993F-00AD-4599-965B-7B50EEFB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605B3-79A5-4183-A84B-C037D1DE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F6E2E-042C-45BC-98A1-57FC23E4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12FD5-B924-413E-A216-34C50DBC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F1EE0-0E04-43F5-A2F3-99AF2C65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2936-307E-4C3F-BA0D-E3CA1517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2BFB3-5EBC-4378-86B6-B9BD5614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7BE4C-8E6C-4DCB-97A8-67DCFCA9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0F794-488A-4FDC-8C39-770AF613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067EA-B2D7-4B04-8F13-F431C414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983BF-9071-483B-A19F-58FDB85D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263E3-68F0-4C4A-B4A2-C70A5D04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DF2BF-6514-4983-B3D3-112E8060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0597E-C79F-4EE8-8747-ACBA3C65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4D554-48CE-4916-8502-2F555B57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E9A83-96A0-4CE4-AA13-D281CF4F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B8F8-B868-4537-AE9E-F7E8B846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96809-BE95-42FD-B86F-A66D2FF4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20BD7-64E2-41B6-998A-96372B63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24D47-574B-4B4A-9E4E-0DEDFBAE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46D87-CC2F-4534-9C69-E32E9980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32B4B-D64A-4751-8522-318A8FDE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B2BEF-3BF5-4422-A60A-A019CDA3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E28BC-7436-42DE-8129-1EC2B4E9C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D609-20B7-4794-BA6A-FC5E7860DA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C4D1-6A17-476F-B93E-85EB9E332A4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9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AD86-8B24-45CB-BDA3-D1938E57B43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7424-1E96-4BB4-91EC-379124A81E8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86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CFE0-492C-418E-B9E8-3351D592025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34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7478-30D7-4AB1-847F-023D060A36E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82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8BB5-4816-418E-8444-6ACBCCEC594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30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AFA3-3C26-4992-9C7F-90AE2C6872F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28800" y="56433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GulimChe"/>
              </a:rPr>
              <a:t>Урок математики 3 класс по теме </a:t>
            </a:r>
            <a:br>
              <a:rPr sz="2900"/>
            </a:b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GulimChe"/>
              </a:rPr>
              <a:t>« Деление и умножение трёхзначных чисел на однозначное число»</a:t>
            </a:r>
            <a:r>
              <a:rPr b="1" lang="ru-RU" sz="2900" spc="-1" strike="noStrike">
                <a:solidFill>
                  <a:srgbClr val="c00000"/>
                </a:solidFill>
                <a:latin typeface="GulimChe"/>
                <a:ea typeface="GulimChe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7" name="Picture 2" descr="C:\Users\viki\AppData\Local\Microsoft\Windows\Temporary Internet Files\Content.IE5\M4P7N6CI\MCj04303170000[1].wmf"/>
          <p:cNvPicPr/>
          <p:nvPr/>
        </p:nvPicPr>
        <p:blipFill>
          <a:blip r:embed="rId1"/>
          <a:stretch/>
        </p:blipFill>
        <p:spPr>
          <a:xfrm>
            <a:off x="1832040" y="333360"/>
            <a:ext cx="5715000" cy="5040360"/>
          </a:xfrm>
          <a:prstGeom prst="rect">
            <a:avLst/>
          </a:prstGeom>
          <a:ln w="0">
            <a:noFill/>
          </a:ln>
        </p:spPr>
      </p:pic>
      <p:grpSp>
        <p:nvGrpSpPr>
          <p:cNvPr id="378" name="Group 51"/>
          <p:cNvGrpSpPr/>
          <p:nvPr/>
        </p:nvGrpSpPr>
        <p:grpSpPr>
          <a:xfrm>
            <a:off x="358560" y="194760"/>
            <a:ext cx="1369800" cy="1356120"/>
            <a:chOff x="358560" y="194760"/>
            <a:chExt cx="1369800" cy="1356120"/>
          </a:xfrm>
        </p:grpSpPr>
        <p:sp>
          <p:nvSpPr>
            <p:cNvPr id="379" name="AutoShape 52"/>
            <p:cNvSpPr/>
            <p:nvPr/>
          </p:nvSpPr>
          <p:spPr>
            <a:xfrm>
              <a:off x="539640" y="404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53"/>
            <p:cNvSpPr/>
            <p:nvPr/>
          </p:nvSpPr>
          <p:spPr>
            <a:xfrm rot="2241600">
              <a:off x="539280" y="404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51"/>
          <p:cNvGrpSpPr/>
          <p:nvPr/>
        </p:nvGrpSpPr>
        <p:grpSpPr>
          <a:xfrm>
            <a:off x="287280" y="2750760"/>
            <a:ext cx="1369800" cy="1356120"/>
            <a:chOff x="287280" y="2750760"/>
            <a:chExt cx="1369800" cy="1356120"/>
          </a:xfrm>
        </p:grpSpPr>
        <p:sp>
          <p:nvSpPr>
            <p:cNvPr id="382" name="AutoShape 52"/>
            <p:cNvSpPr/>
            <p:nvPr/>
          </p:nvSpPr>
          <p:spPr>
            <a:xfrm>
              <a:off x="468360" y="2960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53"/>
            <p:cNvSpPr/>
            <p:nvPr/>
          </p:nvSpPr>
          <p:spPr>
            <a:xfrm rot="2241600">
              <a:off x="468000" y="29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51"/>
          <p:cNvGrpSpPr/>
          <p:nvPr/>
        </p:nvGrpSpPr>
        <p:grpSpPr>
          <a:xfrm>
            <a:off x="7402320" y="-14760"/>
            <a:ext cx="1369800" cy="1356120"/>
            <a:chOff x="7402320" y="-14760"/>
            <a:chExt cx="1369800" cy="1356120"/>
          </a:xfrm>
        </p:grpSpPr>
        <p:sp>
          <p:nvSpPr>
            <p:cNvPr id="385" name="AutoShape 52"/>
            <p:cNvSpPr/>
            <p:nvPr/>
          </p:nvSpPr>
          <p:spPr>
            <a:xfrm>
              <a:off x="7583400" y="1951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53"/>
            <p:cNvSpPr/>
            <p:nvPr/>
          </p:nvSpPr>
          <p:spPr>
            <a:xfrm rot="2241600">
              <a:off x="7583040" y="1947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ndara"/>
              </a:rPr>
              <a:t>Валентина Владимировна Терешкова</a:t>
            </a:r>
            <a:r>
              <a:rPr b="0" lang="ru-RU" sz="3600" spc="-1" strike="noStrike">
                <a:solidFill>
                  <a:srgbClr val="c00000"/>
                </a:solidFill>
                <a:latin typeface="Candara"/>
              </a:rPr>
              <a:t> 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571320" y="5857560"/>
            <a:ext cx="807228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женщина-космонавт, генерал-майор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513" name="Рисунок 2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3528720" cy="4175280"/>
          </a:xfrm>
          <a:prstGeom prst="rect">
            <a:avLst/>
          </a:prstGeom>
          <a:ln w="0">
            <a:noFill/>
          </a:ln>
        </p:spPr>
      </p:pic>
      <p:grpSp>
        <p:nvGrpSpPr>
          <p:cNvPr id="514" name="Group 51"/>
          <p:cNvGrpSpPr/>
          <p:nvPr/>
        </p:nvGrpSpPr>
        <p:grpSpPr>
          <a:xfrm>
            <a:off x="6838920" y="987120"/>
            <a:ext cx="1369800" cy="1356120"/>
            <a:chOff x="6838920" y="987120"/>
            <a:chExt cx="1369800" cy="1356120"/>
          </a:xfrm>
        </p:grpSpPr>
        <p:sp>
          <p:nvSpPr>
            <p:cNvPr id="515" name="AutoShape 52"/>
            <p:cNvSpPr/>
            <p:nvPr/>
          </p:nvSpPr>
          <p:spPr>
            <a:xfrm>
              <a:off x="7020000" y="1197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53"/>
            <p:cNvSpPr/>
            <p:nvPr/>
          </p:nvSpPr>
          <p:spPr>
            <a:xfrm rot="2241600">
              <a:off x="7019640" y="1196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51"/>
          <p:cNvGrpSpPr/>
          <p:nvPr/>
        </p:nvGrpSpPr>
        <p:grpSpPr>
          <a:xfrm>
            <a:off x="5975280" y="3687480"/>
            <a:ext cx="1369800" cy="1356120"/>
            <a:chOff x="5975280" y="3687480"/>
            <a:chExt cx="1369800" cy="1356120"/>
          </a:xfrm>
        </p:grpSpPr>
        <p:sp>
          <p:nvSpPr>
            <p:cNvPr id="518" name="AutoShape 52"/>
            <p:cNvSpPr/>
            <p:nvPr/>
          </p:nvSpPr>
          <p:spPr>
            <a:xfrm>
              <a:off x="6156360" y="3897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AutoShape 53"/>
            <p:cNvSpPr/>
            <p:nvPr/>
          </p:nvSpPr>
          <p:spPr>
            <a:xfrm rot="2241600">
              <a:off x="6156000" y="3897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51"/>
          <p:cNvGrpSpPr/>
          <p:nvPr/>
        </p:nvGrpSpPr>
        <p:grpSpPr>
          <a:xfrm>
            <a:off x="287280" y="1131480"/>
            <a:ext cx="1369800" cy="1356120"/>
            <a:chOff x="287280" y="1131480"/>
            <a:chExt cx="1369800" cy="1356120"/>
          </a:xfrm>
        </p:grpSpPr>
        <p:sp>
          <p:nvSpPr>
            <p:cNvPr id="521" name="AutoShape 52"/>
            <p:cNvSpPr/>
            <p:nvPr/>
          </p:nvSpPr>
          <p:spPr>
            <a:xfrm>
              <a:off x="468360" y="13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AutoShape 53"/>
            <p:cNvSpPr/>
            <p:nvPr/>
          </p:nvSpPr>
          <p:spPr>
            <a:xfrm rot="2241600">
              <a:off x="468000" y="134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Объект 3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5724720" cy="428652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анета Юпитер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5" name="Прямоугольник 4"/>
          <p:cNvSpPr/>
          <p:nvPr/>
        </p:nvSpPr>
        <p:spPr>
          <a:xfrm>
            <a:off x="1476360" y="5645160"/>
            <a:ext cx="538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питер – самая большая из планет. Вращается она  настолько быстро, что сутки на Юпитере не превышают десяти часов. Зато год почти в 12 раз длиннее нашего. У Юпитера имеется 1 кольцо и 16 спут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51"/>
          <p:cNvGrpSpPr/>
          <p:nvPr/>
        </p:nvGrpSpPr>
        <p:grpSpPr>
          <a:xfrm>
            <a:off x="-1800" y="1814040"/>
            <a:ext cx="1369800" cy="1356120"/>
            <a:chOff x="-1800" y="1814040"/>
            <a:chExt cx="1369800" cy="1356120"/>
          </a:xfrm>
        </p:grpSpPr>
        <p:sp>
          <p:nvSpPr>
            <p:cNvPr id="527" name="AutoShape 52"/>
            <p:cNvSpPr/>
            <p:nvPr/>
          </p:nvSpPr>
          <p:spPr>
            <a:xfrm>
              <a:off x="179280" y="2023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AutoShape 53"/>
            <p:cNvSpPr/>
            <p:nvPr/>
          </p:nvSpPr>
          <p:spPr>
            <a:xfrm rot="2241600">
              <a:off x="178920" y="20235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51"/>
          <p:cNvGrpSpPr/>
          <p:nvPr/>
        </p:nvGrpSpPr>
        <p:grpSpPr>
          <a:xfrm>
            <a:off x="16200" y="5422680"/>
            <a:ext cx="1369440" cy="1355760"/>
            <a:chOff x="16200" y="5422680"/>
            <a:chExt cx="1369440" cy="1355760"/>
          </a:xfrm>
        </p:grpSpPr>
        <p:sp>
          <p:nvSpPr>
            <p:cNvPr id="530" name="AutoShape 52"/>
            <p:cNvSpPr/>
            <p:nvPr/>
          </p:nvSpPr>
          <p:spPr>
            <a:xfrm>
              <a:off x="196920" y="563256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53"/>
            <p:cNvSpPr/>
            <p:nvPr/>
          </p:nvSpPr>
          <p:spPr>
            <a:xfrm rot="2241600">
              <a:off x="196560" y="563220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51"/>
          <p:cNvGrpSpPr/>
          <p:nvPr/>
        </p:nvGrpSpPr>
        <p:grpSpPr>
          <a:xfrm>
            <a:off x="7775640" y="-93960"/>
            <a:ext cx="1369800" cy="1356120"/>
            <a:chOff x="7775640" y="-93960"/>
            <a:chExt cx="1369800" cy="1356120"/>
          </a:xfrm>
        </p:grpSpPr>
        <p:sp>
          <p:nvSpPr>
            <p:cNvPr id="533" name="AutoShape 52"/>
            <p:cNvSpPr/>
            <p:nvPr/>
          </p:nvSpPr>
          <p:spPr>
            <a:xfrm>
              <a:off x="7956720" y="115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53"/>
            <p:cNvSpPr/>
            <p:nvPr/>
          </p:nvSpPr>
          <p:spPr>
            <a:xfrm rot="2241600">
              <a:off x="7956360" y="1155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горитмы письменных действий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7644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537" name="Объект 6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887640" cy="4680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4832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539" name="Объект 7" descr=""/>
          <p:cNvPicPr/>
          <p:nvPr/>
        </p:nvPicPr>
        <p:blipFill>
          <a:blip r:embed="rId2"/>
          <a:stretch/>
        </p:blipFill>
        <p:spPr>
          <a:xfrm>
            <a:off x="4427640" y="1557360"/>
            <a:ext cx="4248000" cy="4680000"/>
          </a:xfrm>
          <a:prstGeom prst="rect">
            <a:avLst/>
          </a:prstGeom>
          <a:ln w="0">
            <a:noFill/>
          </a:ln>
        </p:spPr>
      </p:pic>
      <p:grpSp>
        <p:nvGrpSpPr>
          <p:cNvPr id="540" name="Group 51"/>
          <p:cNvGrpSpPr/>
          <p:nvPr/>
        </p:nvGrpSpPr>
        <p:grpSpPr>
          <a:xfrm>
            <a:off x="142920" y="-93960"/>
            <a:ext cx="1369800" cy="1356120"/>
            <a:chOff x="142920" y="-93960"/>
            <a:chExt cx="1369800" cy="1356120"/>
          </a:xfrm>
        </p:grpSpPr>
        <p:sp>
          <p:nvSpPr>
            <p:cNvPr id="541" name="AutoShape 52"/>
            <p:cNvSpPr/>
            <p:nvPr/>
          </p:nvSpPr>
          <p:spPr>
            <a:xfrm>
              <a:off x="324000" y="115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utoShape 53"/>
            <p:cNvSpPr/>
            <p:nvPr/>
          </p:nvSpPr>
          <p:spPr>
            <a:xfrm rot="2241600">
              <a:off x="323640" y="1155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Объект 3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248000" cy="381636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анета Нептун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pSp>
        <p:nvGrpSpPr>
          <p:cNvPr id="545" name="Group 51"/>
          <p:cNvGrpSpPr/>
          <p:nvPr/>
        </p:nvGrpSpPr>
        <p:grpSpPr>
          <a:xfrm>
            <a:off x="-73080" y="3219120"/>
            <a:ext cx="1369800" cy="1356120"/>
            <a:chOff x="-73080" y="3219120"/>
            <a:chExt cx="1369800" cy="1356120"/>
          </a:xfrm>
        </p:grpSpPr>
        <p:sp>
          <p:nvSpPr>
            <p:cNvPr id="546" name="AutoShape 52"/>
            <p:cNvSpPr/>
            <p:nvPr/>
          </p:nvSpPr>
          <p:spPr>
            <a:xfrm>
              <a:off x="108000" y="3429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utoShape 53"/>
            <p:cNvSpPr/>
            <p:nvPr/>
          </p:nvSpPr>
          <p:spPr>
            <a:xfrm rot="2241600">
              <a:off x="107640" y="3428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51"/>
          <p:cNvGrpSpPr/>
          <p:nvPr/>
        </p:nvGrpSpPr>
        <p:grpSpPr>
          <a:xfrm>
            <a:off x="6912360" y="5019480"/>
            <a:ext cx="1369440" cy="1355760"/>
            <a:chOff x="6912360" y="5019480"/>
            <a:chExt cx="1369440" cy="1355760"/>
          </a:xfrm>
        </p:grpSpPr>
        <p:sp>
          <p:nvSpPr>
            <p:cNvPr id="549" name="AutoShape 52"/>
            <p:cNvSpPr/>
            <p:nvPr/>
          </p:nvSpPr>
          <p:spPr>
            <a:xfrm>
              <a:off x="7093080" y="522936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utoShape 53"/>
            <p:cNvSpPr/>
            <p:nvPr/>
          </p:nvSpPr>
          <p:spPr>
            <a:xfrm rot="2241600">
              <a:off x="7092720" y="522900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51"/>
          <p:cNvGrpSpPr/>
          <p:nvPr/>
        </p:nvGrpSpPr>
        <p:grpSpPr>
          <a:xfrm>
            <a:off x="7270560" y="266400"/>
            <a:ext cx="1369800" cy="1356120"/>
            <a:chOff x="7270560" y="266400"/>
            <a:chExt cx="1369800" cy="1356120"/>
          </a:xfrm>
        </p:grpSpPr>
        <p:sp>
          <p:nvSpPr>
            <p:cNvPr id="552" name="AutoShape 52"/>
            <p:cNvSpPr/>
            <p:nvPr/>
          </p:nvSpPr>
          <p:spPr>
            <a:xfrm>
              <a:off x="7451640" y="476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AutoShape 53"/>
            <p:cNvSpPr/>
            <p:nvPr/>
          </p:nvSpPr>
          <p:spPr>
            <a:xfrm rot="2241600">
              <a:off x="7451280" y="475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51"/>
          <p:cNvGrpSpPr/>
          <p:nvPr/>
        </p:nvGrpSpPr>
        <p:grpSpPr>
          <a:xfrm>
            <a:off x="2446200" y="5595480"/>
            <a:ext cx="1369800" cy="1356120"/>
            <a:chOff x="2446200" y="5595480"/>
            <a:chExt cx="1369800" cy="1356120"/>
          </a:xfrm>
        </p:grpSpPr>
        <p:sp>
          <p:nvSpPr>
            <p:cNvPr id="555" name="AutoShape 52"/>
            <p:cNvSpPr/>
            <p:nvPr/>
          </p:nvSpPr>
          <p:spPr>
            <a:xfrm>
              <a:off x="2627280" y="5805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utoShape 53"/>
            <p:cNvSpPr/>
            <p:nvPr/>
          </p:nvSpPr>
          <p:spPr>
            <a:xfrm rot="2241600">
              <a:off x="2626920" y="5805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38"/>
          <p:cNvGrpSpPr/>
          <p:nvPr/>
        </p:nvGrpSpPr>
        <p:grpSpPr>
          <a:xfrm>
            <a:off x="645840" y="50400"/>
            <a:ext cx="1369800" cy="1356120"/>
            <a:chOff x="645840" y="50400"/>
            <a:chExt cx="1369800" cy="1356120"/>
          </a:xfrm>
        </p:grpSpPr>
        <p:sp>
          <p:nvSpPr>
            <p:cNvPr id="558" name="AutoShape 28"/>
            <p:cNvSpPr/>
            <p:nvPr/>
          </p:nvSpPr>
          <p:spPr>
            <a:xfrm>
              <a:off x="82692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utoShape 32"/>
            <p:cNvSpPr/>
            <p:nvPr/>
          </p:nvSpPr>
          <p:spPr>
            <a:xfrm rot="2241600">
              <a:off x="82656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42"/>
          <p:cNvGrpSpPr/>
          <p:nvPr/>
        </p:nvGrpSpPr>
        <p:grpSpPr>
          <a:xfrm>
            <a:off x="6983280" y="3363480"/>
            <a:ext cx="1369800" cy="1356120"/>
            <a:chOff x="6983280" y="3363480"/>
            <a:chExt cx="1369800" cy="1356120"/>
          </a:xfrm>
        </p:grpSpPr>
        <p:sp>
          <p:nvSpPr>
            <p:cNvPr id="561" name="AutoShape 43"/>
            <p:cNvSpPr/>
            <p:nvPr/>
          </p:nvSpPr>
          <p:spPr>
            <a:xfrm>
              <a:off x="7164360" y="3573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AutoShape 44"/>
            <p:cNvSpPr/>
            <p:nvPr/>
          </p:nvSpPr>
          <p:spPr>
            <a:xfrm rot="2241600">
              <a:off x="7164000" y="3573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48"/>
          <p:cNvGrpSpPr/>
          <p:nvPr/>
        </p:nvGrpSpPr>
        <p:grpSpPr>
          <a:xfrm>
            <a:off x="4678200" y="2858760"/>
            <a:ext cx="1369800" cy="1356120"/>
            <a:chOff x="4678200" y="2858760"/>
            <a:chExt cx="1369800" cy="1356120"/>
          </a:xfrm>
        </p:grpSpPr>
        <p:sp>
          <p:nvSpPr>
            <p:cNvPr id="564" name="AutoShape 49"/>
            <p:cNvSpPr/>
            <p:nvPr/>
          </p:nvSpPr>
          <p:spPr>
            <a:xfrm>
              <a:off x="4859280" y="3068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AutoShape 50"/>
            <p:cNvSpPr/>
            <p:nvPr/>
          </p:nvSpPr>
          <p:spPr>
            <a:xfrm rot="2241600">
              <a:off x="4858920" y="3068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57"/>
          <p:cNvGrpSpPr/>
          <p:nvPr/>
        </p:nvGrpSpPr>
        <p:grpSpPr>
          <a:xfrm>
            <a:off x="718920" y="5235120"/>
            <a:ext cx="1369800" cy="1356120"/>
            <a:chOff x="718920" y="5235120"/>
            <a:chExt cx="1369800" cy="1356120"/>
          </a:xfrm>
        </p:grpSpPr>
        <p:sp>
          <p:nvSpPr>
            <p:cNvPr id="567" name="AutoShape 58"/>
            <p:cNvSpPr/>
            <p:nvPr/>
          </p:nvSpPr>
          <p:spPr>
            <a:xfrm>
              <a:off x="900000" y="5445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AutoShape 59"/>
            <p:cNvSpPr/>
            <p:nvPr/>
          </p:nvSpPr>
          <p:spPr>
            <a:xfrm rot="2241600">
              <a:off x="899640" y="5444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 60"/>
          <p:cNvGrpSpPr/>
          <p:nvPr/>
        </p:nvGrpSpPr>
        <p:grpSpPr>
          <a:xfrm>
            <a:off x="4174920" y="4731840"/>
            <a:ext cx="1369800" cy="1356120"/>
            <a:chOff x="4174920" y="4731840"/>
            <a:chExt cx="1369800" cy="1356120"/>
          </a:xfrm>
        </p:grpSpPr>
        <p:sp>
          <p:nvSpPr>
            <p:cNvPr id="570" name="AutoShape 61"/>
            <p:cNvSpPr/>
            <p:nvPr/>
          </p:nvSpPr>
          <p:spPr>
            <a:xfrm>
              <a:off x="4356000" y="49417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AutoShape 62"/>
            <p:cNvSpPr/>
            <p:nvPr/>
          </p:nvSpPr>
          <p:spPr>
            <a:xfrm rot="2241600">
              <a:off x="4355640" y="49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63"/>
          <p:cNvGrpSpPr/>
          <p:nvPr/>
        </p:nvGrpSpPr>
        <p:grpSpPr>
          <a:xfrm>
            <a:off x="5111640" y="1131480"/>
            <a:ext cx="1369800" cy="1356120"/>
            <a:chOff x="5111640" y="1131480"/>
            <a:chExt cx="1369800" cy="1356120"/>
          </a:xfrm>
        </p:grpSpPr>
        <p:sp>
          <p:nvSpPr>
            <p:cNvPr id="573" name="AutoShape 64"/>
            <p:cNvSpPr/>
            <p:nvPr/>
          </p:nvSpPr>
          <p:spPr>
            <a:xfrm>
              <a:off x="5292720" y="13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AutoShape 65"/>
            <p:cNvSpPr/>
            <p:nvPr/>
          </p:nvSpPr>
          <p:spPr>
            <a:xfrm rot="2241600">
              <a:off x="5292360" y="134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66"/>
          <p:cNvGrpSpPr/>
          <p:nvPr/>
        </p:nvGrpSpPr>
        <p:grpSpPr>
          <a:xfrm>
            <a:off x="3743280" y="50400"/>
            <a:ext cx="1369800" cy="1356120"/>
            <a:chOff x="3743280" y="50400"/>
            <a:chExt cx="1369800" cy="1356120"/>
          </a:xfrm>
        </p:grpSpPr>
        <p:sp>
          <p:nvSpPr>
            <p:cNvPr id="576" name="AutoShape 67"/>
            <p:cNvSpPr/>
            <p:nvPr/>
          </p:nvSpPr>
          <p:spPr>
            <a:xfrm>
              <a:off x="392436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utoShape 68"/>
            <p:cNvSpPr/>
            <p:nvPr/>
          </p:nvSpPr>
          <p:spPr>
            <a:xfrm rot="2241600">
              <a:off x="392400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Group 72"/>
          <p:cNvGrpSpPr/>
          <p:nvPr/>
        </p:nvGrpSpPr>
        <p:grpSpPr>
          <a:xfrm>
            <a:off x="7270560" y="50400"/>
            <a:ext cx="1369800" cy="1356120"/>
            <a:chOff x="7270560" y="50400"/>
            <a:chExt cx="1369800" cy="1356120"/>
          </a:xfrm>
        </p:grpSpPr>
        <p:sp>
          <p:nvSpPr>
            <p:cNvPr id="579" name="AutoShape 73"/>
            <p:cNvSpPr/>
            <p:nvPr/>
          </p:nvSpPr>
          <p:spPr>
            <a:xfrm>
              <a:off x="745164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AutoShape 74"/>
            <p:cNvSpPr/>
            <p:nvPr/>
          </p:nvSpPr>
          <p:spPr>
            <a:xfrm rot="2241600">
              <a:off x="745128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75"/>
          <p:cNvGrpSpPr/>
          <p:nvPr/>
        </p:nvGrpSpPr>
        <p:grpSpPr>
          <a:xfrm>
            <a:off x="3743280" y="2211120"/>
            <a:ext cx="1369800" cy="1356120"/>
            <a:chOff x="3743280" y="2211120"/>
            <a:chExt cx="1369800" cy="1356120"/>
          </a:xfrm>
        </p:grpSpPr>
        <p:sp>
          <p:nvSpPr>
            <p:cNvPr id="582" name="AutoShape 76"/>
            <p:cNvSpPr/>
            <p:nvPr/>
          </p:nvSpPr>
          <p:spPr>
            <a:xfrm>
              <a:off x="3924360" y="242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AutoShape 77"/>
            <p:cNvSpPr/>
            <p:nvPr/>
          </p:nvSpPr>
          <p:spPr>
            <a:xfrm rot="2241600">
              <a:off x="3924000" y="2420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4" name="dzink.ru-fizkultura_witch_doctor.mp3" descr=""/>
          <p:cNvPicPr/>
          <p:nvPr/>
        </p:nvPicPr>
        <p:blipFill>
          <a:blip r:embed="rId1"/>
          <a:stretch/>
        </p:blipFill>
        <p:spPr>
          <a:xfrm>
            <a:off x="290520" y="55227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2" descr=""/>
          <p:cNvPicPr/>
          <p:nvPr/>
        </p:nvPicPr>
        <p:blipFill>
          <a:blip r:embed="rId2"/>
          <a:stretch/>
        </p:blipFill>
        <p:spPr>
          <a:xfrm>
            <a:off x="355680" y="1460520"/>
            <a:ext cx="1011240" cy="9381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7" descr="ddcedc575fd11e632e1f1619ab8cd005"/>
          <p:cNvPicPr/>
          <p:nvPr/>
        </p:nvPicPr>
        <p:blipFill>
          <a:blip r:embed="rId3"/>
          <a:stretch/>
        </p:blipFill>
        <p:spPr>
          <a:xfrm>
            <a:off x="1908000" y="1628640"/>
            <a:ext cx="3959280" cy="445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5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5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56 C 0.15521 -0.28856 0.2757 -0.14936 0.2757 0.02196 C 0.2757 0.19306 0.15521 0.33295 0.00764 0.33295 C -0.1401 0.33295 -0.25989 0.19306 -0.25989 0.02196 C -0.25989 -0.14936 -0.1401 -0.28856 0.00764 -0.28856 Z">
                                      <p:cBhvr>
                                        <p:cTn id="156" dur="3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8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56 C 0.15434 -0.28856 0.27413 -0.14752 0.27413 0.0259 C 0.27413 0.19954 0.15434 0.34058 0.00764 0.34058 C -0.13889 0.34058 -0.25764 0.19954 -0.25764 0.0259 C -0.25764 -0.14752 -0.13889 -0.28856 0.00764 -0.28856 Z">
                                      <p:cBhvr>
                                        <p:cTn id="159" dur="2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161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21529" fill="hold"/>
                                        <p:tgtEl>
                                          <p:spTgt spid="5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Объект 3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4105440" cy="403236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анета Марс</a:t>
            </a:r>
            <a:br>
              <a:rPr sz="36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9" name="Прямоугольник 4"/>
          <p:cNvSpPr/>
          <p:nvPr/>
        </p:nvSpPr>
        <p:spPr>
          <a:xfrm>
            <a:off x="5076720" y="1582560"/>
            <a:ext cx="3311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с – четвертая по удаленности от Солнца планета красного цвета. Он вдвое меньше Земли. На поверхности Марса есть образования, напоминающие русла пересохших рек. У Марса есть два крохотных спутника Дэймос и Фобос. Пока наш корабль летит к Марсу и совершает на нём посадку, космонавты, т.е. мы с вами, следим за работой приборов, проводим нужные расчёты и тем самым узнаем много полезной информации о красной план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51"/>
          <p:cNvGrpSpPr/>
          <p:nvPr/>
        </p:nvGrpSpPr>
        <p:grpSpPr>
          <a:xfrm>
            <a:off x="6478560" y="339480"/>
            <a:ext cx="1369800" cy="1356120"/>
            <a:chOff x="6478560" y="339480"/>
            <a:chExt cx="1369800" cy="1356120"/>
          </a:xfrm>
        </p:grpSpPr>
        <p:sp>
          <p:nvSpPr>
            <p:cNvPr id="591" name="AutoShape 52"/>
            <p:cNvSpPr/>
            <p:nvPr/>
          </p:nvSpPr>
          <p:spPr>
            <a:xfrm>
              <a:off x="6659640" y="549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AutoShape 53"/>
            <p:cNvSpPr/>
            <p:nvPr/>
          </p:nvSpPr>
          <p:spPr>
            <a:xfrm rot="2241600">
              <a:off x="6659280" y="549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Group 51"/>
          <p:cNvGrpSpPr/>
          <p:nvPr/>
        </p:nvGrpSpPr>
        <p:grpSpPr>
          <a:xfrm>
            <a:off x="358920" y="5557680"/>
            <a:ext cx="1369440" cy="1355760"/>
            <a:chOff x="358920" y="5557680"/>
            <a:chExt cx="1369440" cy="1355760"/>
          </a:xfrm>
        </p:grpSpPr>
        <p:sp>
          <p:nvSpPr>
            <p:cNvPr id="594" name="AutoShape 52"/>
            <p:cNvSpPr/>
            <p:nvPr/>
          </p:nvSpPr>
          <p:spPr>
            <a:xfrm>
              <a:off x="539640" y="576756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AutoShape 53"/>
            <p:cNvSpPr/>
            <p:nvPr/>
          </p:nvSpPr>
          <p:spPr>
            <a:xfrm rot="2241600">
              <a:off x="539280" y="576720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Group 51"/>
          <p:cNvGrpSpPr/>
          <p:nvPr/>
        </p:nvGrpSpPr>
        <p:grpSpPr>
          <a:xfrm>
            <a:off x="3527640" y="5476680"/>
            <a:ext cx="1369440" cy="1355760"/>
            <a:chOff x="3527640" y="5476680"/>
            <a:chExt cx="1369440" cy="1355760"/>
          </a:xfrm>
        </p:grpSpPr>
        <p:sp>
          <p:nvSpPr>
            <p:cNvPr id="597" name="AutoShape 52"/>
            <p:cNvSpPr/>
            <p:nvPr/>
          </p:nvSpPr>
          <p:spPr>
            <a:xfrm>
              <a:off x="3708360" y="568656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AutoShape 53"/>
            <p:cNvSpPr/>
            <p:nvPr/>
          </p:nvSpPr>
          <p:spPr>
            <a:xfrm rot="2241600">
              <a:off x="3708000" y="568620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600" name="Прямоугольник 2"/>
          <p:cNvSpPr/>
          <p:nvPr/>
        </p:nvSpPr>
        <p:spPr>
          <a:xfrm>
            <a:off x="1116000" y="1268280"/>
            <a:ext cx="64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ш корабль движется со скоростью 420 км\мин, а скорость метеорита в 2 раза больше. Какова скорость метеорита? Что предпринять, если известно, что метеорит движется по определённой траектор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51"/>
          <p:cNvGrpSpPr/>
          <p:nvPr/>
        </p:nvGrpSpPr>
        <p:grpSpPr>
          <a:xfrm>
            <a:off x="214560" y="5019480"/>
            <a:ext cx="1369440" cy="1355760"/>
            <a:chOff x="214560" y="5019480"/>
            <a:chExt cx="1369440" cy="1355760"/>
          </a:xfrm>
        </p:grpSpPr>
        <p:sp>
          <p:nvSpPr>
            <p:cNvPr id="602" name="AutoShape 52"/>
            <p:cNvSpPr/>
            <p:nvPr/>
          </p:nvSpPr>
          <p:spPr>
            <a:xfrm>
              <a:off x="395280" y="522936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AutoShape 53"/>
            <p:cNvSpPr/>
            <p:nvPr/>
          </p:nvSpPr>
          <p:spPr>
            <a:xfrm rot="2241600">
              <a:off x="394920" y="522900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51"/>
          <p:cNvGrpSpPr/>
          <p:nvPr/>
        </p:nvGrpSpPr>
        <p:grpSpPr>
          <a:xfrm>
            <a:off x="7270560" y="1928520"/>
            <a:ext cx="1369800" cy="1356120"/>
            <a:chOff x="7270560" y="1928520"/>
            <a:chExt cx="1369800" cy="1356120"/>
          </a:xfrm>
        </p:grpSpPr>
        <p:sp>
          <p:nvSpPr>
            <p:cNvPr id="605" name="AutoShape 52"/>
            <p:cNvSpPr/>
            <p:nvPr/>
          </p:nvSpPr>
          <p:spPr>
            <a:xfrm>
              <a:off x="7451640" y="21384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AutoShape 53"/>
            <p:cNvSpPr/>
            <p:nvPr/>
          </p:nvSpPr>
          <p:spPr>
            <a:xfrm rot="2241600">
              <a:off x="7451280" y="21380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Group 51"/>
          <p:cNvGrpSpPr/>
          <p:nvPr/>
        </p:nvGrpSpPr>
        <p:grpSpPr>
          <a:xfrm>
            <a:off x="5686200" y="4443120"/>
            <a:ext cx="1369800" cy="1356120"/>
            <a:chOff x="5686200" y="4443120"/>
            <a:chExt cx="1369800" cy="1356120"/>
          </a:xfrm>
        </p:grpSpPr>
        <p:sp>
          <p:nvSpPr>
            <p:cNvPr id="608" name="AutoShape 52"/>
            <p:cNvSpPr/>
            <p:nvPr/>
          </p:nvSpPr>
          <p:spPr>
            <a:xfrm>
              <a:off x="5867280" y="4653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AutoShape 53"/>
            <p:cNvSpPr/>
            <p:nvPr/>
          </p:nvSpPr>
          <p:spPr>
            <a:xfrm rot="2241600">
              <a:off x="5866920" y="4652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Group 51"/>
          <p:cNvGrpSpPr/>
          <p:nvPr/>
        </p:nvGrpSpPr>
        <p:grpSpPr>
          <a:xfrm>
            <a:off x="-162000" y="-165600"/>
            <a:ext cx="1369800" cy="1356120"/>
            <a:chOff x="-162000" y="-165600"/>
            <a:chExt cx="1369800" cy="1356120"/>
          </a:xfrm>
        </p:grpSpPr>
        <p:sp>
          <p:nvSpPr>
            <p:cNvPr id="611" name="AutoShape 52"/>
            <p:cNvSpPr/>
            <p:nvPr/>
          </p:nvSpPr>
          <p:spPr>
            <a:xfrm>
              <a:off x="19080" y="44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AutoShape 53"/>
            <p:cNvSpPr/>
            <p:nvPr/>
          </p:nvSpPr>
          <p:spPr>
            <a:xfrm rot="2241600">
              <a:off x="18720" y="43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Объект 3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5091120" cy="331308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анета Сатурн</a:t>
            </a:r>
            <a:br>
              <a:rPr sz="36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5" name="Прямоугольник 4"/>
          <p:cNvSpPr/>
          <p:nvPr/>
        </p:nvSpPr>
        <p:spPr>
          <a:xfrm>
            <a:off x="826920" y="4365720"/>
            <a:ext cx="67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каждые 15 лет кольца исчезают и Сатурн кажется самой обычной планетой. Потом кольца снова появляются в виде тоненькой ниточки. Увеличиваются и через 7-8 лет принимают наибольший разм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51"/>
          <p:cNvGrpSpPr/>
          <p:nvPr/>
        </p:nvGrpSpPr>
        <p:grpSpPr>
          <a:xfrm>
            <a:off x="7270560" y="50400"/>
            <a:ext cx="1369800" cy="1356120"/>
            <a:chOff x="7270560" y="50400"/>
            <a:chExt cx="1369800" cy="1356120"/>
          </a:xfrm>
        </p:grpSpPr>
        <p:sp>
          <p:nvSpPr>
            <p:cNvPr id="617" name="AutoShape 52"/>
            <p:cNvSpPr/>
            <p:nvPr/>
          </p:nvSpPr>
          <p:spPr>
            <a:xfrm>
              <a:off x="745164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AutoShape 53"/>
            <p:cNvSpPr/>
            <p:nvPr/>
          </p:nvSpPr>
          <p:spPr>
            <a:xfrm rot="2241600">
              <a:off x="745128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51"/>
          <p:cNvGrpSpPr/>
          <p:nvPr/>
        </p:nvGrpSpPr>
        <p:grpSpPr>
          <a:xfrm>
            <a:off x="-181080" y="1058400"/>
            <a:ext cx="1369800" cy="1356120"/>
            <a:chOff x="-181080" y="1058400"/>
            <a:chExt cx="1369800" cy="1356120"/>
          </a:xfrm>
        </p:grpSpPr>
        <p:sp>
          <p:nvSpPr>
            <p:cNvPr id="620" name="AutoShape 52"/>
            <p:cNvSpPr/>
            <p:nvPr/>
          </p:nvSpPr>
          <p:spPr>
            <a:xfrm>
              <a:off x="0" y="1268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AutoShape 53"/>
            <p:cNvSpPr/>
            <p:nvPr/>
          </p:nvSpPr>
          <p:spPr>
            <a:xfrm rot="2241600">
              <a:off x="0" y="1267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51"/>
          <p:cNvGrpSpPr/>
          <p:nvPr/>
        </p:nvGrpSpPr>
        <p:grpSpPr>
          <a:xfrm>
            <a:off x="6910560" y="5450760"/>
            <a:ext cx="1370880" cy="1357200"/>
            <a:chOff x="6910560" y="5450760"/>
            <a:chExt cx="1370880" cy="1357200"/>
          </a:xfrm>
        </p:grpSpPr>
        <p:sp>
          <p:nvSpPr>
            <p:cNvPr id="623" name="AutoShape 52"/>
            <p:cNvSpPr/>
            <p:nvPr/>
          </p:nvSpPr>
          <p:spPr>
            <a:xfrm>
              <a:off x="7091280" y="5661000"/>
              <a:ext cx="1009440" cy="936720"/>
            </a:xfrm>
            <a:custGeom>
              <a:avLst/>
              <a:gdLst>
                <a:gd name="textAreaLeft" fmla="*/ 415800 w 1009440"/>
                <a:gd name="textAreaRight" fmla="*/ 593640 w 100944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AutoShape 53"/>
            <p:cNvSpPr/>
            <p:nvPr/>
          </p:nvSpPr>
          <p:spPr>
            <a:xfrm rot="2241600">
              <a:off x="7091280" y="5660640"/>
              <a:ext cx="1009440" cy="936720"/>
            </a:xfrm>
            <a:custGeom>
              <a:avLst/>
              <a:gdLst>
                <a:gd name="textAreaLeft" fmla="*/ 415800 w 1009440"/>
                <a:gd name="textAreaRight" fmla="*/ 593640 w 100944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Объект 3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2663640" cy="259236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анета Земл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7" name="Прямоугольник 4"/>
          <p:cNvSpPr/>
          <p:nvPr/>
        </p:nvSpPr>
        <p:spPr>
          <a:xfrm>
            <a:off x="4067280" y="1557360"/>
            <a:ext cx="32414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т планеты другой                                        Но беззащитна с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яркой зелени трав                                        Перед громом вой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чистой водой ключевой                              Так неужели дад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прохладой дубрав                                        Мы в обиду с то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т планеты теплей,                                        Маленький шар голу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бы хлебу расти                                           Что зовётся Землё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десь, только здес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Зем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частье можно най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лы даёт нам З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рит мирные с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51"/>
          <p:cNvGrpSpPr/>
          <p:nvPr/>
        </p:nvGrpSpPr>
        <p:grpSpPr>
          <a:xfrm>
            <a:off x="214560" y="5019480"/>
            <a:ext cx="1369440" cy="1355760"/>
            <a:chOff x="214560" y="5019480"/>
            <a:chExt cx="1369440" cy="1355760"/>
          </a:xfrm>
        </p:grpSpPr>
        <p:sp>
          <p:nvSpPr>
            <p:cNvPr id="629" name="AutoShape 52"/>
            <p:cNvSpPr/>
            <p:nvPr/>
          </p:nvSpPr>
          <p:spPr>
            <a:xfrm>
              <a:off x="395280" y="522936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AutoShape 53"/>
            <p:cNvSpPr/>
            <p:nvPr/>
          </p:nvSpPr>
          <p:spPr>
            <a:xfrm rot="2241600">
              <a:off x="394920" y="522900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51"/>
          <p:cNvGrpSpPr/>
          <p:nvPr/>
        </p:nvGrpSpPr>
        <p:grpSpPr>
          <a:xfrm>
            <a:off x="2087280" y="5487480"/>
            <a:ext cx="1369800" cy="1356120"/>
            <a:chOff x="2087280" y="5487480"/>
            <a:chExt cx="1369800" cy="1356120"/>
          </a:xfrm>
        </p:grpSpPr>
        <p:sp>
          <p:nvSpPr>
            <p:cNvPr id="632" name="AutoShape 52"/>
            <p:cNvSpPr/>
            <p:nvPr/>
          </p:nvSpPr>
          <p:spPr>
            <a:xfrm>
              <a:off x="2268360" y="5697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AutoShape 53"/>
            <p:cNvSpPr/>
            <p:nvPr/>
          </p:nvSpPr>
          <p:spPr>
            <a:xfrm rot="2241600">
              <a:off x="2268000" y="5697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Group 51"/>
          <p:cNvGrpSpPr/>
          <p:nvPr/>
        </p:nvGrpSpPr>
        <p:grpSpPr>
          <a:xfrm>
            <a:off x="645840" y="50400"/>
            <a:ext cx="1369800" cy="1356120"/>
            <a:chOff x="645840" y="50400"/>
            <a:chExt cx="1369800" cy="1356120"/>
          </a:xfrm>
        </p:grpSpPr>
        <p:sp>
          <p:nvSpPr>
            <p:cNvPr id="635" name="AutoShape 52"/>
            <p:cNvSpPr/>
            <p:nvPr/>
          </p:nvSpPr>
          <p:spPr>
            <a:xfrm>
              <a:off x="82692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AutoShape 53"/>
            <p:cNvSpPr/>
            <p:nvPr/>
          </p:nvSpPr>
          <p:spPr>
            <a:xfrm rot="2241600">
              <a:off x="82656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Group 51"/>
          <p:cNvGrpSpPr/>
          <p:nvPr/>
        </p:nvGrpSpPr>
        <p:grpSpPr>
          <a:xfrm>
            <a:off x="7270560" y="372600"/>
            <a:ext cx="1369800" cy="1356120"/>
            <a:chOff x="7270560" y="372600"/>
            <a:chExt cx="1369800" cy="1356120"/>
          </a:xfrm>
        </p:grpSpPr>
        <p:sp>
          <p:nvSpPr>
            <p:cNvPr id="638" name="AutoShape 52"/>
            <p:cNvSpPr/>
            <p:nvPr/>
          </p:nvSpPr>
          <p:spPr>
            <a:xfrm>
              <a:off x="7451640" y="5824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AutoShape 53"/>
            <p:cNvSpPr/>
            <p:nvPr/>
          </p:nvSpPr>
          <p:spPr>
            <a:xfrm rot="2241600">
              <a:off x="7451280" y="5821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Group 51"/>
          <p:cNvGrpSpPr/>
          <p:nvPr/>
        </p:nvGrpSpPr>
        <p:grpSpPr>
          <a:xfrm>
            <a:off x="7128000" y="5229000"/>
            <a:ext cx="1369440" cy="1355760"/>
            <a:chOff x="7128000" y="5229000"/>
            <a:chExt cx="1369440" cy="1355760"/>
          </a:xfrm>
        </p:grpSpPr>
        <p:sp>
          <p:nvSpPr>
            <p:cNvPr id="641" name="AutoShape 52"/>
            <p:cNvSpPr/>
            <p:nvPr/>
          </p:nvSpPr>
          <p:spPr>
            <a:xfrm>
              <a:off x="7308720" y="543888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AutoShape 53"/>
            <p:cNvSpPr/>
            <p:nvPr/>
          </p:nvSpPr>
          <p:spPr>
            <a:xfrm rot="2241600">
              <a:off x="7308360" y="543852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42560" y="1000080"/>
            <a:ext cx="4500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так! Внимание! Взлёт!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наша ракета помчалась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перёд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щально мигнут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тают вдали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гни золотые любимой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емли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88" name="Picture 3" descr=""/>
          <p:cNvPicPr/>
          <p:nvPr/>
        </p:nvPicPr>
        <p:blipFill>
          <a:blip r:embed="rId1"/>
          <a:stretch/>
        </p:blipFill>
        <p:spPr>
          <a:xfrm>
            <a:off x="5000760" y="642960"/>
            <a:ext cx="3733560" cy="5072040"/>
          </a:xfrm>
          <a:prstGeom prst="rect">
            <a:avLst/>
          </a:prstGeom>
          <a:ln w="0">
            <a:noFill/>
          </a:ln>
        </p:spPr>
      </p:pic>
      <p:grpSp>
        <p:nvGrpSpPr>
          <p:cNvPr id="389" name="Group 51"/>
          <p:cNvGrpSpPr/>
          <p:nvPr/>
        </p:nvGrpSpPr>
        <p:grpSpPr>
          <a:xfrm>
            <a:off x="69840" y="194760"/>
            <a:ext cx="1369800" cy="1356120"/>
            <a:chOff x="69840" y="194760"/>
            <a:chExt cx="1369800" cy="1356120"/>
          </a:xfrm>
        </p:grpSpPr>
        <p:sp>
          <p:nvSpPr>
            <p:cNvPr id="390" name="AutoShape 52"/>
            <p:cNvSpPr/>
            <p:nvPr/>
          </p:nvSpPr>
          <p:spPr>
            <a:xfrm>
              <a:off x="250920" y="404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53"/>
            <p:cNvSpPr/>
            <p:nvPr/>
          </p:nvSpPr>
          <p:spPr>
            <a:xfrm rot="2241600">
              <a:off x="250560" y="404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51"/>
          <p:cNvGrpSpPr/>
          <p:nvPr/>
        </p:nvGrpSpPr>
        <p:grpSpPr>
          <a:xfrm>
            <a:off x="2878200" y="5235120"/>
            <a:ext cx="1369800" cy="1356120"/>
            <a:chOff x="2878200" y="5235120"/>
            <a:chExt cx="1369800" cy="1356120"/>
          </a:xfrm>
        </p:grpSpPr>
        <p:sp>
          <p:nvSpPr>
            <p:cNvPr id="393" name="AutoShape 52"/>
            <p:cNvSpPr/>
            <p:nvPr/>
          </p:nvSpPr>
          <p:spPr>
            <a:xfrm>
              <a:off x="3059280" y="5445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53"/>
            <p:cNvSpPr/>
            <p:nvPr/>
          </p:nvSpPr>
          <p:spPr>
            <a:xfrm rot="2241600">
              <a:off x="3058920" y="5444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51"/>
          <p:cNvGrpSpPr/>
          <p:nvPr/>
        </p:nvGrpSpPr>
        <p:grpSpPr>
          <a:xfrm>
            <a:off x="106200" y="4874760"/>
            <a:ext cx="1369800" cy="1356120"/>
            <a:chOff x="106200" y="4874760"/>
            <a:chExt cx="1369800" cy="1356120"/>
          </a:xfrm>
        </p:grpSpPr>
        <p:sp>
          <p:nvSpPr>
            <p:cNvPr id="396" name="AutoShape 52"/>
            <p:cNvSpPr/>
            <p:nvPr/>
          </p:nvSpPr>
          <p:spPr>
            <a:xfrm>
              <a:off x="287280" y="5084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53"/>
            <p:cNvSpPr/>
            <p:nvPr/>
          </p:nvSpPr>
          <p:spPr>
            <a:xfrm rot="2241600">
              <a:off x="286920" y="5084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51"/>
          <p:cNvGrpSpPr/>
          <p:nvPr/>
        </p:nvGrpSpPr>
        <p:grpSpPr>
          <a:xfrm>
            <a:off x="6622920" y="5552640"/>
            <a:ext cx="1369800" cy="1356120"/>
            <a:chOff x="6622920" y="5552640"/>
            <a:chExt cx="1369800" cy="1356120"/>
          </a:xfrm>
        </p:grpSpPr>
        <p:sp>
          <p:nvSpPr>
            <p:cNvPr id="399" name="AutoShape 52"/>
            <p:cNvSpPr/>
            <p:nvPr/>
          </p:nvSpPr>
          <p:spPr>
            <a:xfrm>
              <a:off x="6804000" y="57625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53"/>
            <p:cNvSpPr/>
            <p:nvPr/>
          </p:nvSpPr>
          <p:spPr>
            <a:xfrm rot="2241600">
              <a:off x="6803640" y="57621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51"/>
          <p:cNvGrpSpPr/>
          <p:nvPr/>
        </p:nvGrpSpPr>
        <p:grpSpPr>
          <a:xfrm>
            <a:off x="3886200" y="2750760"/>
            <a:ext cx="1369800" cy="1356120"/>
            <a:chOff x="3886200" y="2750760"/>
            <a:chExt cx="1369800" cy="1356120"/>
          </a:xfrm>
        </p:grpSpPr>
        <p:sp>
          <p:nvSpPr>
            <p:cNvPr id="402" name="AutoShape 52"/>
            <p:cNvSpPr/>
            <p:nvPr/>
          </p:nvSpPr>
          <p:spPr>
            <a:xfrm>
              <a:off x="4067280" y="2960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53"/>
            <p:cNvSpPr/>
            <p:nvPr/>
          </p:nvSpPr>
          <p:spPr>
            <a:xfrm rot="2241600">
              <a:off x="4066920" y="29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3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2016360" cy="22320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5" descr=""/>
          <p:cNvPicPr/>
          <p:nvPr/>
        </p:nvPicPr>
        <p:blipFill>
          <a:blip r:embed="rId2"/>
          <a:stretch/>
        </p:blipFill>
        <p:spPr>
          <a:xfrm>
            <a:off x="3995640" y="1197000"/>
            <a:ext cx="1227240" cy="10080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7" descr=""/>
          <p:cNvPicPr/>
          <p:nvPr/>
        </p:nvPicPr>
        <p:blipFill>
          <a:blip r:embed="rId3"/>
          <a:stretch/>
        </p:blipFill>
        <p:spPr>
          <a:xfrm>
            <a:off x="3746520" y="3573360"/>
            <a:ext cx="896760" cy="110016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9" descr=""/>
          <p:cNvPicPr/>
          <p:nvPr/>
        </p:nvPicPr>
        <p:blipFill>
          <a:blip r:embed="rId4"/>
          <a:stretch/>
        </p:blipFill>
        <p:spPr>
          <a:xfrm>
            <a:off x="1187280" y="3933720"/>
            <a:ext cx="1008360" cy="99216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11" descr=""/>
          <p:cNvPicPr/>
          <p:nvPr/>
        </p:nvPicPr>
        <p:blipFill>
          <a:blip r:embed="rId5"/>
          <a:stretch/>
        </p:blipFill>
        <p:spPr>
          <a:xfrm>
            <a:off x="5580000" y="2205000"/>
            <a:ext cx="1038240" cy="93672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13" descr=""/>
          <p:cNvPicPr/>
          <p:nvPr/>
        </p:nvPicPr>
        <p:blipFill>
          <a:blip r:embed="rId6"/>
          <a:stretch/>
        </p:blipFill>
        <p:spPr>
          <a:xfrm>
            <a:off x="5435640" y="4292640"/>
            <a:ext cx="1800360" cy="1657440"/>
          </a:xfrm>
          <a:prstGeom prst="rect">
            <a:avLst/>
          </a:prstGeom>
          <a:ln w="0">
            <a:noFill/>
          </a:ln>
        </p:spPr>
      </p:pic>
      <p:grpSp>
        <p:nvGrpSpPr>
          <p:cNvPr id="416" name="Group 51"/>
          <p:cNvGrpSpPr/>
          <p:nvPr/>
        </p:nvGrpSpPr>
        <p:grpSpPr>
          <a:xfrm>
            <a:off x="6010200" y="410760"/>
            <a:ext cx="1369800" cy="1356120"/>
            <a:chOff x="6010200" y="410760"/>
            <a:chExt cx="1369800" cy="1356120"/>
          </a:xfrm>
        </p:grpSpPr>
        <p:sp>
          <p:nvSpPr>
            <p:cNvPr id="417" name="AutoShape 52"/>
            <p:cNvSpPr/>
            <p:nvPr/>
          </p:nvSpPr>
          <p:spPr>
            <a:xfrm>
              <a:off x="6191280" y="620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53"/>
            <p:cNvSpPr/>
            <p:nvPr/>
          </p:nvSpPr>
          <p:spPr>
            <a:xfrm rot="2241600">
              <a:off x="6190920" y="62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51"/>
          <p:cNvGrpSpPr/>
          <p:nvPr/>
        </p:nvGrpSpPr>
        <p:grpSpPr>
          <a:xfrm>
            <a:off x="214560" y="5522760"/>
            <a:ext cx="1369440" cy="1355760"/>
            <a:chOff x="214560" y="5522760"/>
            <a:chExt cx="1369440" cy="1355760"/>
          </a:xfrm>
        </p:grpSpPr>
        <p:sp>
          <p:nvSpPr>
            <p:cNvPr id="420" name="AutoShape 52"/>
            <p:cNvSpPr/>
            <p:nvPr/>
          </p:nvSpPr>
          <p:spPr>
            <a:xfrm>
              <a:off x="395280" y="573264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53"/>
            <p:cNvSpPr/>
            <p:nvPr/>
          </p:nvSpPr>
          <p:spPr>
            <a:xfrm rot="2241600">
              <a:off x="394920" y="573228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51"/>
          <p:cNvGrpSpPr/>
          <p:nvPr/>
        </p:nvGrpSpPr>
        <p:grpSpPr>
          <a:xfrm>
            <a:off x="214200" y="-24120"/>
            <a:ext cx="1369800" cy="1356120"/>
            <a:chOff x="214200" y="-24120"/>
            <a:chExt cx="1369800" cy="1356120"/>
          </a:xfrm>
        </p:grpSpPr>
        <p:sp>
          <p:nvSpPr>
            <p:cNvPr id="423" name="AutoShape 52"/>
            <p:cNvSpPr/>
            <p:nvPr/>
          </p:nvSpPr>
          <p:spPr>
            <a:xfrm>
              <a:off x="395280" y="1857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53"/>
            <p:cNvSpPr/>
            <p:nvPr/>
          </p:nvSpPr>
          <p:spPr>
            <a:xfrm rot="2241600">
              <a:off x="394920" y="1854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51"/>
          <p:cNvGrpSpPr/>
          <p:nvPr/>
        </p:nvGrpSpPr>
        <p:grpSpPr>
          <a:xfrm>
            <a:off x="7846920" y="2642760"/>
            <a:ext cx="1369800" cy="1356120"/>
            <a:chOff x="7846920" y="2642760"/>
            <a:chExt cx="1369800" cy="1356120"/>
          </a:xfrm>
        </p:grpSpPr>
        <p:sp>
          <p:nvSpPr>
            <p:cNvPr id="426" name="AutoShape 52"/>
            <p:cNvSpPr/>
            <p:nvPr/>
          </p:nvSpPr>
          <p:spPr>
            <a:xfrm>
              <a:off x="8028000" y="2852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AutoShape 53"/>
            <p:cNvSpPr/>
            <p:nvPr/>
          </p:nvSpPr>
          <p:spPr>
            <a:xfrm rot="2241600">
              <a:off x="8027640" y="2852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51"/>
          <p:cNvGrpSpPr/>
          <p:nvPr/>
        </p:nvGrpSpPr>
        <p:grpSpPr>
          <a:xfrm>
            <a:off x="4097160" y="5595480"/>
            <a:ext cx="1369800" cy="1356120"/>
            <a:chOff x="4097160" y="5595480"/>
            <a:chExt cx="1369800" cy="1356120"/>
          </a:xfrm>
        </p:grpSpPr>
        <p:sp>
          <p:nvSpPr>
            <p:cNvPr id="429" name="AutoShape 52"/>
            <p:cNvSpPr/>
            <p:nvPr/>
          </p:nvSpPr>
          <p:spPr>
            <a:xfrm>
              <a:off x="4278240" y="5805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53"/>
            <p:cNvSpPr/>
            <p:nvPr/>
          </p:nvSpPr>
          <p:spPr>
            <a:xfrm rot="2241600">
              <a:off x="4277880" y="5805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ша ракет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1371600" y="1699920"/>
            <a:ext cx="64008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33" name="Picture 4" descr=""/>
          <p:cNvPicPr/>
          <p:nvPr/>
        </p:nvPicPr>
        <p:blipFill>
          <a:blip r:embed="rId1"/>
          <a:stretch/>
        </p:blipFill>
        <p:spPr>
          <a:xfrm>
            <a:off x="4140360" y="1773360"/>
            <a:ext cx="4895640" cy="504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"/>
          <p:cNvPicPr/>
          <p:nvPr/>
        </p:nvPicPr>
        <p:blipFill>
          <a:blip r:embed="rId2"/>
          <a:stretch/>
        </p:blipFill>
        <p:spPr>
          <a:xfrm>
            <a:off x="4140360" y="2349360"/>
            <a:ext cx="5937120" cy="9921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6" descr=""/>
          <p:cNvPicPr/>
          <p:nvPr/>
        </p:nvPicPr>
        <p:blipFill>
          <a:blip r:embed="rId3"/>
          <a:stretch/>
        </p:blipFill>
        <p:spPr>
          <a:xfrm>
            <a:off x="1552680" y="1266840"/>
            <a:ext cx="6400800" cy="43228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7" descr=""/>
          <p:cNvPicPr/>
          <p:nvPr/>
        </p:nvPicPr>
        <p:blipFill>
          <a:blip r:embed="rId4"/>
          <a:stretch/>
        </p:blipFill>
        <p:spPr>
          <a:xfrm>
            <a:off x="2771640" y="1274760"/>
            <a:ext cx="3961080" cy="4322880"/>
          </a:xfrm>
          <a:prstGeom prst="rect">
            <a:avLst/>
          </a:prstGeom>
          <a:ln w="0">
            <a:noFill/>
          </a:ln>
        </p:spPr>
      </p:pic>
      <p:sp>
        <p:nvSpPr>
          <p:cNvPr id="437" name="Подзаголовок 2"/>
          <p:cNvSpPr/>
          <p:nvPr/>
        </p:nvSpPr>
        <p:spPr>
          <a:xfrm>
            <a:off x="1835280" y="1822320"/>
            <a:ext cx="489744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8" descr=""/>
          <p:cNvPicPr/>
          <p:nvPr/>
        </p:nvPicPr>
        <p:blipFill>
          <a:blip r:embed="rId5"/>
          <a:stretch/>
        </p:blipFill>
        <p:spPr>
          <a:xfrm>
            <a:off x="4140360" y="3478320"/>
            <a:ext cx="5937120" cy="5047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9" descr=""/>
          <p:cNvPicPr/>
          <p:nvPr/>
        </p:nvPicPr>
        <p:blipFill>
          <a:blip r:embed="rId6"/>
          <a:stretch/>
        </p:blipFill>
        <p:spPr>
          <a:xfrm>
            <a:off x="3348000" y="3460680"/>
            <a:ext cx="5937120" cy="5731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0" descr=""/>
          <p:cNvPicPr/>
          <p:nvPr/>
        </p:nvPicPr>
        <p:blipFill>
          <a:blip r:embed="rId7"/>
          <a:stretch/>
        </p:blipFill>
        <p:spPr>
          <a:xfrm>
            <a:off x="4859280" y="3443400"/>
            <a:ext cx="5937480" cy="573120"/>
          </a:xfrm>
          <a:prstGeom prst="rect">
            <a:avLst/>
          </a:prstGeom>
          <a:ln w="0">
            <a:noFill/>
          </a:ln>
        </p:spPr>
      </p:pic>
      <p:grpSp>
        <p:nvGrpSpPr>
          <p:cNvPr id="441" name="Group 51"/>
          <p:cNvGrpSpPr/>
          <p:nvPr/>
        </p:nvGrpSpPr>
        <p:grpSpPr>
          <a:xfrm>
            <a:off x="214200" y="1347480"/>
            <a:ext cx="1369800" cy="1356120"/>
            <a:chOff x="214200" y="1347480"/>
            <a:chExt cx="1369800" cy="1356120"/>
          </a:xfrm>
        </p:grpSpPr>
        <p:sp>
          <p:nvSpPr>
            <p:cNvPr id="442" name="AutoShape 52"/>
            <p:cNvSpPr/>
            <p:nvPr/>
          </p:nvSpPr>
          <p:spPr>
            <a:xfrm>
              <a:off x="395280" y="1557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53"/>
            <p:cNvSpPr/>
            <p:nvPr/>
          </p:nvSpPr>
          <p:spPr>
            <a:xfrm rot="2241600">
              <a:off x="394920" y="1557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51"/>
          <p:cNvGrpSpPr/>
          <p:nvPr/>
        </p:nvGrpSpPr>
        <p:grpSpPr>
          <a:xfrm>
            <a:off x="1149120" y="3776400"/>
            <a:ext cx="1369800" cy="1356120"/>
            <a:chOff x="1149120" y="3776400"/>
            <a:chExt cx="1369800" cy="1356120"/>
          </a:xfrm>
        </p:grpSpPr>
        <p:sp>
          <p:nvSpPr>
            <p:cNvPr id="445" name="AutoShape 52"/>
            <p:cNvSpPr/>
            <p:nvPr/>
          </p:nvSpPr>
          <p:spPr>
            <a:xfrm>
              <a:off x="1330200" y="3986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53"/>
            <p:cNvSpPr/>
            <p:nvPr/>
          </p:nvSpPr>
          <p:spPr>
            <a:xfrm rot="2241600">
              <a:off x="1329840" y="3985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51"/>
          <p:cNvGrpSpPr/>
          <p:nvPr/>
        </p:nvGrpSpPr>
        <p:grpSpPr>
          <a:xfrm>
            <a:off x="5075280" y="4719240"/>
            <a:ext cx="1369800" cy="1356120"/>
            <a:chOff x="5075280" y="4719240"/>
            <a:chExt cx="1369800" cy="1356120"/>
          </a:xfrm>
        </p:grpSpPr>
        <p:sp>
          <p:nvSpPr>
            <p:cNvPr id="448" name="AutoShape 52"/>
            <p:cNvSpPr/>
            <p:nvPr/>
          </p:nvSpPr>
          <p:spPr>
            <a:xfrm>
              <a:off x="5256360" y="49291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AutoShape 53"/>
            <p:cNvSpPr/>
            <p:nvPr/>
          </p:nvSpPr>
          <p:spPr>
            <a:xfrm rot="2241600">
              <a:off x="5256000" y="49287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51"/>
          <p:cNvGrpSpPr/>
          <p:nvPr/>
        </p:nvGrpSpPr>
        <p:grpSpPr>
          <a:xfrm>
            <a:off x="6361200" y="1055520"/>
            <a:ext cx="1369440" cy="1355760"/>
            <a:chOff x="6361200" y="1055520"/>
            <a:chExt cx="1369440" cy="1355760"/>
          </a:xfrm>
        </p:grpSpPr>
        <p:sp>
          <p:nvSpPr>
            <p:cNvPr id="451" name="AutoShape 52"/>
            <p:cNvSpPr/>
            <p:nvPr/>
          </p:nvSpPr>
          <p:spPr>
            <a:xfrm>
              <a:off x="6541920" y="126540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53"/>
            <p:cNvSpPr/>
            <p:nvPr/>
          </p:nvSpPr>
          <p:spPr>
            <a:xfrm rot="2241600">
              <a:off x="6541560" y="126504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213840" y="836640"/>
            <a:ext cx="4070520" cy="56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рку́рий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я близка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лнцу планета, поэтому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 на него светит и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ет в 7 раз сильнее, че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емлю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планета вращаетс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круг Солнца быстре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ьных планет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 составляет 88 земных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ок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54" name="Объект 2" descr=""/>
          <p:cNvPicPr/>
          <p:nvPr/>
        </p:nvPicPr>
        <p:blipFill>
          <a:blip r:embed="rId1"/>
          <a:stretch/>
        </p:blipFill>
        <p:spPr>
          <a:xfrm>
            <a:off x="4427640" y="1268280"/>
            <a:ext cx="3992400" cy="4268880"/>
          </a:xfrm>
          <a:prstGeom prst="rect">
            <a:avLst/>
          </a:prstGeom>
          <a:ln w="0">
            <a:noFill/>
          </a:ln>
        </p:spPr>
      </p:pic>
      <p:grpSp>
        <p:nvGrpSpPr>
          <p:cNvPr id="455" name="Group 51"/>
          <p:cNvGrpSpPr/>
          <p:nvPr/>
        </p:nvGrpSpPr>
        <p:grpSpPr>
          <a:xfrm>
            <a:off x="1438200" y="4803480"/>
            <a:ext cx="1369800" cy="1356120"/>
            <a:chOff x="1438200" y="4803480"/>
            <a:chExt cx="1369800" cy="1356120"/>
          </a:xfrm>
        </p:grpSpPr>
        <p:sp>
          <p:nvSpPr>
            <p:cNvPr id="456" name="AutoShape 52"/>
            <p:cNvSpPr/>
            <p:nvPr/>
          </p:nvSpPr>
          <p:spPr>
            <a:xfrm>
              <a:off x="1619280" y="5013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AutoShape 53"/>
            <p:cNvSpPr/>
            <p:nvPr/>
          </p:nvSpPr>
          <p:spPr>
            <a:xfrm rot="2241600">
              <a:off x="1618920" y="5013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51"/>
          <p:cNvGrpSpPr/>
          <p:nvPr/>
        </p:nvGrpSpPr>
        <p:grpSpPr>
          <a:xfrm>
            <a:off x="7630920" y="50400"/>
            <a:ext cx="1369800" cy="1356120"/>
            <a:chOff x="7630920" y="50400"/>
            <a:chExt cx="1369800" cy="1356120"/>
          </a:xfrm>
        </p:grpSpPr>
        <p:sp>
          <p:nvSpPr>
            <p:cNvPr id="459" name="AutoShape 52"/>
            <p:cNvSpPr/>
            <p:nvPr/>
          </p:nvSpPr>
          <p:spPr>
            <a:xfrm>
              <a:off x="781200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53"/>
            <p:cNvSpPr/>
            <p:nvPr/>
          </p:nvSpPr>
          <p:spPr>
            <a:xfrm rot="2241600">
              <a:off x="781164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51"/>
          <p:cNvGrpSpPr/>
          <p:nvPr/>
        </p:nvGrpSpPr>
        <p:grpSpPr>
          <a:xfrm>
            <a:off x="6686280" y="5595480"/>
            <a:ext cx="1369800" cy="1356120"/>
            <a:chOff x="6686280" y="5595480"/>
            <a:chExt cx="1369800" cy="1356120"/>
          </a:xfrm>
        </p:grpSpPr>
        <p:sp>
          <p:nvSpPr>
            <p:cNvPr id="462" name="AutoShape 52"/>
            <p:cNvSpPr/>
            <p:nvPr/>
          </p:nvSpPr>
          <p:spPr>
            <a:xfrm>
              <a:off x="6867360" y="5805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53"/>
            <p:cNvSpPr/>
            <p:nvPr/>
          </p:nvSpPr>
          <p:spPr>
            <a:xfrm rot="2241600">
              <a:off x="6867000" y="5805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Объект 4" descr=""/>
          <p:cNvPicPr/>
          <p:nvPr/>
        </p:nvPicPr>
        <p:blipFill>
          <a:blip r:embed="rId1"/>
          <a:stretch/>
        </p:blipFill>
        <p:spPr>
          <a:xfrm>
            <a:off x="919080" y="1125360"/>
            <a:ext cx="2716200" cy="345600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395280" y="5013360"/>
            <a:ext cx="82152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66" name="Picture 4" descr=""/>
          <p:cNvPicPr/>
          <p:nvPr/>
        </p:nvPicPr>
        <p:blipFill>
          <a:blip r:embed="rId2"/>
          <a:stretch/>
        </p:blipFill>
        <p:spPr>
          <a:xfrm>
            <a:off x="539640" y="4724280"/>
            <a:ext cx="7632720" cy="1800360"/>
          </a:xfrm>
          <a:prstGeom prst="rect">
            <a:avLst/>
          </a:prstGeom>
          <a:ln w="0">
            <a:noFill/>
          </a:ln>
        </p:spPr>
      </p:pic>
      <p:sp>
        <p:nvSpPr>
          <p:cNvPr id="467" name="Прямоугольник 1"/>
          <p:cNvSpPr/>
          <p:nvPr/>
        </p:nvSpPr>
        <p:spPr>
          <a:xfrm>
            <a:off x="4356000" y="692280"/>
            <a:ext cx="43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ексей Архипович ЛЕ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51"/>
          <p:cNvGrpSpPr/>
          <p:nvPr/>
        </p:nvGrpSpPr>
        <p:grpSpPr>
          <a:xfrm>
            <a:off x="3886200" y="2750760"/>
            <a:ext cx="1369800" cy="1356120"/>
            <a:chOff x="3886200" y="2750760"/>
            <a:chExt cx="1369800" cy="1356120"/>
          </a:xfrm>
        </p:grpSpPr>
        <p:sp>
          <p:nvSpPr>
            <p:cNvPr id="469" name="AutoShape 52"/>
            <p:cNvSpPr/>
            <p:nvPr/>
          </p:nvSpPr>
          <p:spPr>
            <a:xfrm>
              <a:off x="4067280" y="2960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utoShape 53"/>
            <p:cNvSpPr/>
            <p:nvPr/>
          </p:nvSpPr>
          <p:spPr>
            <a:xfrm rot="2241600">
              <a:off x="4066920" y="29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51"/>
          <p:cNvGrpSpPr/>
          <p:nvPr/>
        </p:nvGrpSpPr>
        <p:grpSpPr>
          <a:xfrm>
            <a:off x="5311800" y="1814040"/>
            <a:ext cx="1369800" cy="1356120"/>
            <a:chOff x="5311800" y="1814040"/>
            <a:chExt cx="1369800" cy="1356120"/>
          </a:xfrm>
        </p:grpSpPr>
        <p:sp>
          <p:nvSpPr>
            <p:cNvPr id="472" name="AutoShape 52"/>
            <p:cNvSpPr/>
            <p:nvPr/>
          </p:nvSpPr>
          <p:spPr>
            <a:xfrm>
              <a:off x="5492880" y="2023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AutoShape 53"/>
            <p:cNvSpPr/>
            <p:nvPr/>
          </p:nvSpPr>
          <p:spPr>
            <a:xfrm rot="2241600">
              <a:off x="5492520" y="20235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51"/>
          <p:cNvGrpSpPr/>
          <p:nvPr/>
        </p:nvGrpSpPr>
        <p:grpSpPr>
          <a:xfrm>
            <a:off x="6767640" y="3120840"/>
            <a:ext cx="1369440" cy="1355760"/>
            <a:chOff x="6767640" y="3120840"/>
            <a:chExt cx="1369440" cy="1355760"/>
          </a:xfrm>
        </p:grpSpPr>
        <p:sp>
          <p:nvSpPr>
            <p:cNvPr id="475" name="AutoShape 52"/>
            <p:cNvSpPr/>
            <p:nvPr/>
          </p:nvSpPr>
          <p:spPr>
            <a:xfrm>
              <a:off x="6948360" y="333072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AutoShape 53"/>
            <p:cNvSpPr/>
            <p:nvPr/>
          </p:nvSpPr>
          <p:spPr>
            <a:xfrm rot="2241600">
              <a:off x="6948000" y="333036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285480" y="4357440"/>
            <a:ext cx="8643960" cy="27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апреля 1961 года в 6:07 с космодрома Байконур стартовала ракета-носитель "Восток«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в мире космический корабль с человеком на борту ворвался в просторы Вселенной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78" name="Picture 2" descr="C:\Мои документы\Рисунки\Фото\Космос. Фото\00018791.jpg"/>
          <p:cNvPicPr/>
          <p:nvPr/>
        </p:nvPicPr>
        <p:blipFill>
          <a:blip r:embed="rId1"/>
          <a:stretch/>
        </p:blipFill>
        <p:spPr>
          <a:xfrm>
            <a:off x="2071800" y="428760"/>
            <a:ext cx="5308560" cy="4246560"/>
          </a:xfrm>
          <a:prstGeom prst="rect">
            <a:avLst/>
          </a:prstGeom>
          <a:ln w="0">
            <a:noFill/>
          </a:ln>
        </p:spPr>
      </p:pic>
      <p:grpSp>
        <p:nvGrpSpPr>
          <p:cNvPr id="479" name="Group 51"/>
          <p:cNvGrpSpPr/>
          <p:nvPr/>
        </p:nvGrpSpPr>
        <p:grpSpPr>
          <a:xfrm>
            <a:off x="143280" y="482400"/>
            <a:ext cx="1369440" cy="1355760"/>
            <a:chOff x="143280" y="482400"/>
            <a:chExt cx="1369440" cy="1355760"/>
          </a:xfrm>
        </p:grpSpPr>
        <p:sp>
          <p:nvSpPr>
            <p:cNvPr id="480" name="AutoShape 52"/>
            <p:cNvSpPr/>
            <p:nvPr/>
          </p:nvSpPr>
          <p:spPr>
            <a:xfrm>
              <a:off x="324000" y="69228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AutoShape 53"/>
            <p:cNvSpPr/>
            <p:nvPr/>
          </p:nvSpPr>
          <p:spPr>
            <a:xfrm rot="2241600">
              <a:off x="323640" y="69192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Group 51"/>
          <p:cNvGrpSpPr/>
          <p:nvPr/>
        </p:nvGrpSpPr>
        <p:grpSpPr>
          <a:xfrm>
            <a:off x="7343640" y="123480"/>
            <a:ext cx="1369800" cy="1356120"/>
            <a:chOff x="7343640" y="123480"/>
            <a:chExt cx="1369800" cy="1356120"/>
          </a:xfrm>
        </p:grpSpPr>
        <p:sp>
          <p:nvSpPr>
            <p:cNvPr id="483" name="AutoShape 52"/>
            <p:cNvSpPr/>
            <p:nvPr/>
          </p:nvSpPr>
          <p:spPr>
            <a:xfrm>
              <a:off x="7524720" y="333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53"/>
            <p:cNvSpPr/>
            <p:nvPr/>
          </p:nvSpPr>
          <p:spPr>
            <a:xfrm rot="2241600">
              <a:off x="7524360" y="333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oup 51"/>
          <p:cNvGrpSpPr/>
          <p:nvPr/>
        </p:nvGrpSpPr>
        <p:grpSpPr>
          <a:xfrm>
            <a:off x="430200" y="3290400"/>
            <a:ext cx="1369800" cy="1356120"/>
            <a:chOff x="430200" y="3290400"/>
            <a:chExt cx="1369800" cy="1356120"/>
          </a:xfrm>
        </p:grpSpPr>
        <p:sp>
          <p:nvSpPr>
            <p:cNvPr id="486" name="AutoShape 52"/>
            <p:cNvSpPr/>
            <p:nvPr/>
          </p:nvSpPr>
          <p:spPr>
            <a:xfrm>
              <a:off x="611280" y="350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53"/>
            <p:cNvSpPr/>
            <p:nvPr/>
          </p:nvSpPr>
          <p:spPr>
            <a:xfrm rot="2241600">
              <a:off x="610920" y="349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285480" y="5000400"/>
            <a:ext cx="864396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абль пилотировал советский космонавт Юрий Алексеевич Гагарин.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был первым человеком, который собственными глазами увидел, что Земля действительно круглая, действительно большей частью покрыта водой и действительно великолепна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2928960" y="357120"/>
            <a:ext cx="3357720" cy="4502160"/>
          </a:xfrm>
          <a:prstGeom prst="rect">
            <a:avLst/>
          </a:prstGeom>
          <a:ln w="0">
            <a:noFill/>
          </a:ln>
        </p:spPr>
      </p:pic>
      <p:grpSp>
        <p:nvGrpSpPr>
          <p:cNvPr id="490" name="Group 51"/>
          <p:cNvGrpSpPr/>
          <p:nvPr/>
        </p:nvGrpSpPr>
        <p:grpSpPr>
          <a:xfrm>
            <a:off x="718920" y="147240"/>
            <a:ext cx="1369800" cy="1356120"/>
            <a:chOff x="718920" y="147240"/>
            <a:chExt cx="1369800" cy="1356120"/>
          </a:xfrm>
        </p:grpSpPr>
        <p:sp>
          <p:nvSpPr>
            <p:cNvPr id="491" name="AutoShape 52"/>
            <p:cNvSpPr/>
            <p:nvPr/>
          </p:nvSpPr>
          <p:spPr>
            <a:xfrm>
              <a:off x="900000" y="3571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53"/>
            <p:cNvSpPr/>
            <p:nvPr/>
          </p:nvSpPr>
          <p:spPr>
            <a:xfrm rot="2241600">
              <a:off x="899640" y="3567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51"/>
          <p:cNvGrpSpPr/>
          <p:nvPr/>
        </p:nvGrpSpPr>
        <p:grpSpPr>
          <a:xfrm>
            <a:off x="6983280" y="615600"/>
            <a:ext cx="1369800" cy="1356120"/>
            <a:chOff x="6983280" y="615600"/>
            <a:chExt cx="1369800" cy="1356120"/>
          </a:xfrm>
        </p:grpSpPr>
        <p:sp>
          <p:nvSpPr>
            <p:cNvPr id="494" name="AutoShape 52"/>
            <p:cNvSpPr/>
            <p:nvPr/>
          </p:nvSpPr>
          <p:spPr>
            <a:xfrm>
              <a:off x="7164360" y="8254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AutoShape 53"/>
            <p:cNvSpPr/>
            <p:nvPr/>
          </p:nvSpPr>
          <p:spPr>
            <a:xfrm rot="2241600">
              <a:off x="7164000" y="8251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51"/>
          <p:cNvGrpSpPr/>
          <p:nvPr/>
        </p:nvGrpSpPr>
        <p:grpSpPr>
          <a:xfrm>
            <a:off x="538560" y="3147840"/>
            <a:ext cx="1369440" cy="1355760"/>
            <a:chOff x="538560" y="3147840"/>
            <a:chExt cx="1369440" cy="1355760"/>
          </a:xfrm>
        </p:grpSpPr>
        <p:sp>
          <p:nvSpPr>
            <p:cNvPr id="497" name="AutoShape 52"/>
            <p:cNvSpPr/>
            <p:nvPr/>
          </p:nvSpPr>
          <p:spPr>
            <a:xfrm>
              <a:off x="719280" y="335772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53"/>
            <p:cNvSpPr/>
            <p:nvPr/>
          </p:nvSpPr>
          <p:spPr>
            <a:xfrm rot="2241600">
              <a:off x="718920" y="3357360"/>
              <a:ext cx="1008000" cy="93636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360"/>
                <a:gd name="textAreaBottom" fmla="*/ 55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вый космонавт  Юрий Гагарин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4643280" y="857160"/>
            <a:ext cx="3786480" cy="5554800"/>
          </a:xfrm>
          <a:prstGeom prst="rect">
            <a:avLst/>
          </a:prstGeom>
          <a:ln w="0">
            <a:noFill/>
          </a:ln>
        </p:spPr>
      </p:pic>
      <p:sp>
        <p:nvSpPr>
          <p:cNvPr id="501" name="Прямоугольник 4"/>
          <p:cNvSpPr/>
          <p:nvPr/>
        </p:nvSpPr>
        <p:spPr>
          <a:xfrm>
            <a:off x="285840" y="1571760"/>
            <a:ext cx="392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смическом корабле Восток-1 старший лейтенант Юрий Алексеевич Гагарин один раз облетел вокруг Зем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51"/>
          <p:cNvGrpSpPr/>
          <p:nvPr/>
        </p:nvGrpSpPr>
        <p:grpSpPr>
          <a:xfrm>
            <a:off x="503280" y="4227120"/>
            <a:ext cx="1369800" cy="1356120"/>
            <a:chOff x="503280" y="4227120"/>
            <a:chExt cx="1369800" cy="1356120"/>
          </a:xfrm>
        </p:grpSpPr>
        <p:sp>
          <p:nvSpPr>
            <p:cNvPr id="503" name="AutoShape 52"/>
            <p:cNvSpPr/>
            <p:nvPr/>
          </p:nvSpPr>
          <p:spPr>
            <a:xfrm>
              <a:off x="684360" y="4437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53"/>
            <p:cNvSpPr/>
            <p:nvPr/>
          </p:nvSpPr>
          <p:spPr>
            <a:xfrm rot="2241600">
              <a:off x="684000" y="4436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51"/>
          <p:cNvGrpSpPr/>
          <p:nvPr/>
        </p:nvGrpSpPr>
        <p:grpSpPr>
          <a:xfrm>
            <a:off x="168120" y="425160"/>
            <a:ext cx="1369800" cy="1356120"/>
            <a:chOff x="168120" y="425160"/>
            <a:chExt cx="1369800" cy="1356120"/>
          </a:xfrm>
        </p:grpSpPr>
        <p:sp>
          <p:nvSpPr>
            <p:cNvPr id="506" name="AutoShape 52"/>
            <p:cNvSpPr/>
            <p:nvPr/>
          </p:nvSpPr>
          <p:spPr>
            <a:xfrm>
              <a:off x="349200" y="6350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AutoShape 53"/>
            <p:cNvSpPr/>
            <p:nvPr/>
          </p:nvSpPr>
          <p:spPr>
            <a:xfrm rot="2241600">
              <a:off x="348840" y="6346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Group 51"/>
          <p:cNvGrpSpPr/>
          <p:nvPr/>
        </p:nvGrpSpPr>
        <p:grpSpPr>
          <a:xfrm>
            <a:off x="3095640" y="4695480"/>
            <a:ext cx="1369800" cy="1356120"/>
            <a:chOff x="3095640" y="4695480"/>
            <a:chExt cx="1369800" cy="1356120"/>
          </a:xfrm>
        </p:grpSpPr>
        <p:sp>
          <p:nvSpPr>
            <p:cNvPr id="509" name="AutoShape 52"/>
            <p:cNvSpPr/>
            <p:nvPr/>
          </p:nvSpPr>
          <p:spPr>
            <a:xfrm>
              <a:off x="3276720" y="4905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AutoShape 53"/>
            <p:cNvSpPr/>
            <p:nvPr/>
          </p:nvSpPr>
          <p:spPr>
            <a:xfrm rot="2241600">
              <a:off x="3276360" y="4905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17:50:45Z</dcterms:created>
  <dc:creator>Admin</dc:creator>
  <dc:description/>
  <dc:language>en-US</dc:language>
  <cp:lastModifiedBy>Pahanchik</cp:lastModifiedBy>
  <dcterms:modified xsi:type="dcterms:W3CDTF">2013-03-24T14:07:03Z</dcterms:modified>
  <cp:revision>85</cp:revision>
  <dc:subject/>
  <dc:title>Слайд 1</dc:title>
</cp:coreProperties>
</file>