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79AE-8466-467B-BCB6-8FCD211F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D13A-BCC3-4F77-A4BE-B2387294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E807-DED8-4511-A495-167E356D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A4C2-DB93-4AC2-8356-D4613F64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7642-7729-4FFF-A13A-BBB79E87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5B23-15D3-48D8-B7FA-7065EB9F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71B4-500F-4023-89EF-B188146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A562-3D6F-4943-9661-C8D9D189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B48B-B8D7-41F5-AFDB-B8A7EE8B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A74A-3DE4-480D-A2D3-44262A41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3DA5-DA18-41C3-A329-782C40A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8856-7B35-46CD-B364-9EF63CBB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A44A-B49E-4CBB-B024-C63BB5E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BD1E-4501-4855-890A-678F3683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886F-ED30-4706-AA9F-70116AB2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51BF-907C-49B4-86CE-22A57EA9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2912-209F-4107-91F9-059709B4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7C4A-BF81-464F-94CA-BA003670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2E78-1DB5-44EA-B330-B1B73542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769D-B7F4-4465-A0FC-69B51E28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EF08-66C9-4801-8C4F-C9898A2F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C119-EFBD-402E-A9DA-29940C7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3DD46-0680-4E11-A0E1-315FB1C6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0C91-95FE-475B-B62E-96D5BE90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417-82DA-4994-BDE6-25E9472441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D32D-6CA4-4FA1-9F1A-1B8515D16D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47120" cy="1463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160" y="41907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ект дл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Имя на географической кар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работчики: Горшкова Анна,  Алексеева Е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1 ф/м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: Хаванцева Еле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\Логотип лицей\Логотп.JPG"/>
          <p:cNvPicPr/>
          <p:nvPr/>
        </p:nvPicPr>
        <p:blipFill>
          <a:blip r:embed="rId2"/>
          <a:stretch/>
        </p:blipFill>
        <p:spPr>
          <a:xfrm>
            <a:off x="-23760" y="762120"/>
            <a:ext cx="288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улкан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ющий стратовулк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, Сахалинская область, Южно-Курильский район, остров Кунаш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ордина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43°58′35″ с. ш. 145°44′10″ в. 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т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9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—230 тыс.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днее извержени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80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19560" y="4952520"/>
            <a:ext cx="28191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Менделе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3°58′35″ с. ш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45°44′10″ в. д.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Южно-Курильском районе, на острове Кунашир, находится исключительно живописный и интересный в научном и учебно-просветительном отношении комплексный геологический памятник природы федерального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нделеев был сторонником изнуряющего стиля в работе, всем доказывая, что непрерывные долгие усилия необходимы, даже если вредят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ый авторитет Д. И. Менделеева был огромен. Список титулов и званий его включает более ста наименовани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800px-Mendeleev_Davi_medal"/>
          <p:cNvPicPr/>
          <p:nvPr/>
        </p:nvPicPr>
        <p:blipFill>
          <a:blip r:embed="rId1"/>
          <a:stretch/>
        </p:blipFill>
        <p:spPr>
          <a:xfrm>
            <a:off x="990720" y="3505320"/>
            <a:ext cx="41907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дник Менделеева (Киргиз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ер Менделеев на Лу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одный хребет Менделеева в Северном Ледовитом оке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лкан Менделеева (остров Кунаши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тероид Менделеев (астероид № 1219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ий центр Государства Российского (рассчитан И. Д. Менделеевым) (Правый берег р. Таз близ села Киккиаки). Закреплен на местности НСЭ им. И. Д. Папанина в 1983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КОНЕЦ!!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о новых встреч: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делеев Д.И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я в области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я в области метр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я  в области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я в области ге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улкан Менделе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рады уче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е объекты, названные в честь уче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а рождени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 января (8 февраля) 18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рождения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хние Аремзяны, Тобольский уезд, Тобольская губерния, Россий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та смерт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 января (2 февраля) 1907 (72 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сто смерти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кт-Петербург, Россий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ств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ая сфер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мия, экономика, геология, метр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А. Воскресенс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енитые уче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П. Коновалов, В. А. Гемили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А. Байков, А. Л. Потылицын, С. М. Прокудин-Горс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естен как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периодического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48320" y="5638320"/>
            <a:ext cx="40384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.И.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427px-DIMendeleevCab"/>
          <p:cNvPicPr/>
          <p:nvPr/>
        </p:nvPicPr>
        <p:blipFill>
          <a:blip r:embed="rId1"/>
          <a:stretch/>
        </p:blipFill>
        <p:spPr>
          <a:xfrm>
            <a:off x="533520" y="609480"/>
            <a:ext cx="3959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делеев - хим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я над трудом «Основы химии», Д. И. Менделеев открыл в феврале 1869 года один из фундаментальных законов природы — периодический закон химических эле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8840" y="761760"/>
            <a:ext cx="34290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рукописный вариант периодического закон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8 февраля 1869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таблица"/>
          <p:cNvPicPr/>
          <p:nvPr/>
        </p:nvPicPr>
        <p:blipFill>
          <a:blip r:embed="rId1"/>
          <a:stretch/>
        </p:blipFill>
        <p:spPr>
          <a:xfrm>
            <a:off x="762120" y="762120"/>
            <a:ext cx="3697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крытия в области метр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является автором ряда работ по метрологии. Создал точную теорию весов, разработал наилучшие конструкции коромысла и арретира, предложил точнейшие приёмы взвеши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делеев - эконом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 И. Менделеев был также выдающимся экономистом, обосновавшим главные направления хозяйственного развития России. Вся его деятельность имела практическую реализацию, которая всегда подразумевала учтение и хорошее понимание экономического смыс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делеев-гео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65 году Д.И.Менделеев работал над исследованием вулкана на острове Кунашир и создал его геологическую характеристику. В дальнейшем вулкан был назван в честь своего исследов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11T17:51:1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