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9FB5-05AD-4D3E-AA8C-75946133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DFCA-FC97-4968-8B99-A714478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5534-C785-403D-AE7C-6C8A9F65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7764-4E09-46D4-BE4A-C4F972D0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E19-DF26-4426-B169-B658DD9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C6F-4A2D-4A1A-8952-BF61D402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DF96-82F8-46D0-98D6-1A1E90C7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DD18-F473-4B8E-8A2D-6CA2AC8E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4D2-7496-4140-96CD-45FFB306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4575-2C6D-47AF-A29F-58D0BFD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367-9035-4ECC-AFFB-A50A4271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8F9E-B484-49F5-BF28-1E05A3B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CAD-9A9B-4A69-A2E2-7A9E9AC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51E-F6FB-4697-878B-579FDD99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F94A-8D8A-4AA9-AEE0-47DD70D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1BB1-0A2E-4A4C-88B4-2E788E3B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819D-0A3E-4329-A277-B2931F03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ED6D-BE48-4E6A-9AC6-09F5A462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FD89-F1FC-4BCA-8CF9-D1BD55E7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575B-DBC4-43A4-AE75-52E3C0F9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0D71-3029-4E41-B2EA-6E68CEA9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A1CB-0C92-4333-AE71-E0AABD3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DC5F-C099-4E72-9CCF-09179E5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821E-6391-4A4F-85BF-051356C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DFFD-1FFD-4764-AE35-7E3F8F2C62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3BAF-00D6-4906-BC00-0EF4A27956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47120" cy="146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41907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ект дл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Имя на географической кар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работчики: Горшкова Анна,  Алексеева Е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1 ф/м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: Хаванцева Еле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\Логотип лицей\Логотп.JPG"/>
          <p:cNvPicPr/>
          <p:nvPr/>
        </p:nvPicPr>
        <p:blipFill>
          <a:blip r:embed="rId2"/>
          <a:stretch/>
        </p:blipFill>
        <p:spPr>
          <a:xfrm>
            <a:off x="-23760" y="762120"/>
            <a:ext cx="288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лкан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ющий стратовулк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, Сахалинская область, Южно-Курильский район, остров Кунаш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43°58′35″ с. ш. 145°44′10″ в. 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т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9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—230 тыс.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днее изверже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8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19560" y="4952520"/>
            <a:ext cx="28191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Менделе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3°58′35″ с. ш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45°44′10″ в. д.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Южно-Курильском районе, на острове Кунашир, находится исключительно живописный и интересный в научном и учебно-просветительном отношении комплексный геологический памятник природы федерального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нделеев был сторонником изнуряющего стиля в работе, всем доказывая, что непрерывные долгие усилия необходимы, даже если вредят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ый авторитет Д. И. Менделеева был огромен. Список титулов и званий его включает более ста наименован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800px-Mendeleev_Davi_medal"/>
          <p:cNvPicPr/>
          <p:nvPr/>
        </p:nvPicPr>
        <p:blipFill>
          <a:blip r:embed="rId1"/>
          <a:stretch/>
        </p:blipFill>
        <p:spPr>
          <a:xfrm>
            <a:off x="990720" y="3505320"/>
            <a:ext cx="41907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ник Менделеева (Киргиз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ер Менделеев на Лу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ный хребет Менделеева в Северном Ледовитом оке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лкан Менделеева (остров Кунаши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ероид Менделеев (астероид № 121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ий центр Государства Российского (рассчитан И. Д. Менделеевым) (Правый берег р. Таз близ села Киккиаки). Закреплен на местности НСЭ им. И. Д. Папанина в 1983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КОНЕЦ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о новых встреч: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 Д.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в области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в области метр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 в области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в области г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улкан Менделе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ады уче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е объекты, названные в честь уче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а рожде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 января (8 февраля) 18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рождения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ие Аремзяны, Тобольский уезд, Тобольская губерния, 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а смерт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 января (2 февраля) 1907 (72 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смерти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, 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ств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ая сфер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я, экономика, геология, метр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А. Воскресенс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итые уче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П. Коновалов, В. А. Гемили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А. Байков, А. Л. Потылицын, С. М. Прокудин-Горс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ен как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ериодического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48320" y="56383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.И.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27px-DIMendeleevCab"/>
          <p:cNvPicPr/>
          <p:nvPr/>
        </p:nvPicPr>
        <p:blipFill>
          <a:blip r:embed="rId1"/>
          <a:stretch/>
        </p:blipFill>
        <p:spPr>
          <a:xfrm>
            <a:off x="533520" y="609480"/>
            <a:ext cx="3959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 - хим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над трудом «Основы химии», Д. И. Менделеев открыл в феврале 1869 года один из фундаментальных законов природы — периодический закон химических 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8840" y="76176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рукописный вариант периодического закон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8 февраля 186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аблица"/>
          <p:cNvPicPr/>
          <p:nvPr/>
        </p:nvPicPr>
        <p:blipFill>
          <a:blip r:embed="rId1"/>
          <a:stretch/>
        </p:blipFill>
        <p:spPr>
          <a:xfrm>
            <a:off x="762120" y="762120"/>
            <a:ext cx="3697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ия в области метр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является автором ряда работ по метрологии. Создал точную теорию весов, разработал наилучшие конструкции коромысла и арретира, предложил точнейшие приёмы взвеши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 - эконом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 И. Менделеев был также выдающимся экономистом, обосновавшим главные направления хозяйственного развития России. Вся его деятельность имела практическую реализацию, которая всегда подразумевала учтение и хорошее понимание экономического смы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-ге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65 году Д.И.Менделеев работал над исследованием вулкана на острове Кунашир и создал его геологическую характеристику. В дальнейшем вулкан был назван в честь своего исследов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1T17:51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