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FA3-D7B5-4035-AEAA-E6EBDE28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053-E9EA-4268-BEDB-BED50649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7B5-37BC-4B6D-98C7-645BD7D1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EF3-DCE9-4D22-9482-69AC742A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8D8D-3B6A-4DFE-BEB6-DD38F514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3D6B-8D9F-4BFF-BD96-776C1D1E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460C-9F65-46C8-9141-3CAC8897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72C4-3EE4-4B38-8857-2DA35725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5281-C19B-486F-B4D5-8F298BC8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7B56-1EFA-493F-B0EC-14AFE36C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75CB-A03F-46C0-BD4E-1719714A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52F-E8C6-4884-AC04-3F0F6113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DAB0-0144-46E9-91C1-AC77E4B1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DD8D-23BF-4165-8226-EDC9D88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EA8C-B725-47D8-A9B5-CFF417CF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487B-2E02-4765-882E-80D82867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D199-EE8C-4D5A-B0EE-F55B8EB1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FBB-5E22-4715-986E-2A080830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378-7F3B-423D-A87D-5A6C3228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0E1-38E8-4E5E-8750-7051DFA8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554-2705-4F1D-93F8-8EF1C341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D4D-1AF8-438D-9688-D13A31AA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A9F-B2BE-4A57-882E-37E312F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6B8-F4FC-49A4-B59F-BB937B3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7C2D-0A86-4778-B7C4-34BF75563C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5C5B-90BE-4C30-A4CE-BB8962FD68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Характеристики жидкого состояния вещества.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менение данной темы в медицин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Графический дикта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565360"/>
            <a:ext cx="755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Физические основы клинического метода измерения давления кро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1989000"/>
            <a:ext cx="1943280" cy="16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1052640"/>
            <a:ext cx="2016360" cy="1655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924360" y="4508640"/>
            <a:ext cx="2374920" cy="1368360"/>
            <a:chOff x="3924360" y="4508640"/>
            <a:chExt cx="2374920" cy="1368360"/>
          </a:xfrm>
        </p:grpSpPr>
        <p:sp>
          <p:nvSpPr>
            <p:cNvPr id="128" name=""/>
            <p:cNvSpPr/>
            <p:nvPr/>
          </p:nvSpPr>
          <p:spPr>
            <a:xfrm>
              <a:off x="3924360" y="4508640"/>
              <a:ext cx="1655640" cy="13683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8000" y="4581360"/>
              <a:ext cx="1511280" cy="1114560"/>
            </a:xfrm>
            <a:prstGeom prst="cloudCallout">
              <a:avLst>
                <a:gd name="adj1" fmla="val -74791"/>
                <a:gd name="adj2" fmla="val 14487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2133720"/>
            <a:ext cx="7200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ПАСИБО ЗА РАБОТ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До новых встреч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17640"/>
            <a:ext cx="7164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Тестирование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Как работает сердц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как работает сердце"/>
          <p:cNvPicPr/>
          <p:nvPr/>
        </p:nvPicPr>
        <p:blipFill>
          <a:blip r:embed="rId1"/>
          <a:stretch/>
        </p:blipFill>
        <p:spPr>
          <a:xfrm>
            <a:off x="2268360" y="1484280"/>
            <a:ext cx="4575240" cy="5229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80360" y="4941720"/>
            <a:ext cx="1368360" cy="863640"/>
          </a:xfrm>
          <a:custGeom>
            <a:avLst/>
            <a:gdLst>
              <a:gd name="textAreaLeft" fmla="*/ 55800 w 1368360"/>
              <a:gd name="textAreaRight" fmla="*/ 1312560 w 1368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4218" h="21600">
                <a:moveTo>
                  <a:pt x="0" y="0"/>
                </a:moveTo>
                <a:lnTo>
                  <a:pt x="34218" y="0"/>
                </a:lnTo>
                <a:lnTo>
                  <a:pt x="34218" y="21600"/>
                </a:lnTo>
                <a:lnTo>
                  <a:pt x="0" y="21600"/>
                </a:lnTo>
                <a:close/>
              </a:path>
              <a:path fill="lightenLess" w="34218" h="21600">
                <a:moveTo>
                  <a:pt x="0" y="0"/>
                </a:moveTo>
                <a:lnTo>
                  <a:pt x="34218" y="0"/>
                </a:lnTo>
                <a:lnTo>
                  <a:pt x="32818" y="1400"/>
                </a:lnTo>
                <a:lnTo>
                  <a:pt x="1400" y="1400"/>
                </a:lnTo>
                <a:close/>
              </a:path>
              <a:path fill="darken" w="34218" h="21600">
                <a:moveTo>
                  <a:pt x="34218" y="0"/>
                </a:moveTo>
                <a:lnTo>
                  <a:pt x="34218" y="21600"/>
                </a:lnTo>
                <a:lnTo>
                  <a:pt x="32818" y="20200"/>
                </a:lnTo>
                <a:lnTo>
                  <a:pt x="32818" y="1400"/>
                </a:lnTo>
                <a:close/>
              </a:path>
              <a:path fill="darkenLess" w="34218" h="21600">
                <a:moveTo>
                  <a:pt x="34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18" y="20200"/>
                </a:lnTo>
                <a:close/>
              </a:path>
              <a:path fill="lighten" w="34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18" h="21600">
                <a:moveTo>
                  <a:pt x="10103" y="7301"/>
                </a:moveTo>
                <a:lnTo>
                  <a:pt x="11016" y="7301"/>
                </a:lnTo>
                <a:lnTo>
                  <a:pt x="11399" y="7667"/>
                </a:lnTo>
                <a:lnTo>
                  <a:pt x="20608" y="7667"/>
                </a:lnTo>
                <a:lnTo>
                  <a:pt x="21165" y="8224"/>
                </a:lnTo>
                <a:lnTo>
                  <a:pt x="21165" y="8772"/>
                </a:lnTo>
                <a:lnTo>
                  <a:pt x="23010" y="8772"/>
                </a:lnTo>
                <a:lnTo>
                  <a:pt x="23376" y="8224"/>
                </a:lnTo>
                <a:lnTo>
                  <a:pt x="24115" y="8224"/>
                </a:lnTo>
                <a:lnTo>
                  <a:pt x="24115" y="13376"/>
                </a:lnTo>
                <a:lnTo>
                  <a:pt x="23376" y="13376"/>
                </a:lnTo>
                <a:lnTo>
                  <a:pt x="23010" y="12828"/>
                </a:lnTo>
                <a:lnTo>
                  <a:pt x="21165" y="12828"/>
                </a:lnTo>
                <a:lnTo>
                  <a:pt x="21165" y="14107"/>
                </a:lnTo>
                <a:lnTo>
                  <a:pt x="11582" y="14107"/>
                </a:lnTo>
                <a:lnTo>
                  <a:pt x="11582" y="9877"/>
                </a:lnTo>
                <a:lnTo>
                  <a:pt x="11399" y="9877"/>
                </a:lnTo>
                <a:lnTo>
                  <a:pt x="11016" y="10243"/>
                </a:lnTo>
                <a:lnTo>
                  <a:pt x="10103" y="1024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Приборы для измерения АД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06" name="_s7180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7179"/>
            <p:cNvCxnSpPr>
              <a:stCxn id="110" idx="0"/>
              <a:endCxn id="108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7178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8" name="_s7174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приборов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ля измерения АД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7175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cc"/>
                  </a:solidFill>
                  <a:uFillTx/>
                  <a:latin typeface="Arial"/>
                  <a:hlinkClick r:id="rId1" action="ppaction://hlinksldjump"/>
                </a:rPr>
                <a:t>Ручные</a:t>
              </a:r>
              <a:r>
                <a:rPr b="0" lang="en-US" sz="21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7176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cc"/>
                  </a:solidFill>
                  <a:uFillTx/>
                  <a:latin typeface="Arial"/>
                  <a:hlinkClick r:id="rId2" action="ppaction://hlinksldjump"/>
                </a:rPr>
                <a:t>Полуавтоматические</a:t>
              </a:r>
              <a:r>
                <a:rPr b="0" lang="en-US" sz="21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7177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cc"/>
                  </a:solidFill>
                  <a:uFillTx/>
                  <a:latin typeface="Arial"/>
                  <a:hlinkClick r:id="rId3" action="ppaction://hlinksldjump"/>
                </a:rPr>
                <a:t>Автоматические</a:t>
              </a:r>
              <a:r>
                <a:rPr b="0" lang="en-US" sz="2100" spc="-1" strike="noStrike" u="sng">
                  <a:solidFill>
                    <a:srgbClr val="ffffcc"/>
                  </a:solidFill>
                  <a:uFillTx/>
                  <a:latin typeface="Arial"/>
                  <a:hlinkClick r:id="rId4" action="ppaction://hlinksldjump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ручной тонометр"/>
          <p:cNvPicPr/>
          <p:nvPr/>
        </p:nvPicPr>
        <p:blipFill>
          <a:blip r:embed="rId1"/>
          <a:stretch/>
        </p:blipFill>
        <p:spPr>
          <a:xfrm>
            <a:off x="0" y="0"/>
            <a:ext cx="6130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 rot="5400000">
            <a:off x="4441680" y="2550960"/>
            <a:ext cx="666900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учно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полуавтоматический тонометр"/>
          <p:cNvPicPr/>
          <p:nvPr/>
        </p:nvPicPr>
        <p:blipFill>
          <a:blip r:embed="rId1"/>
          <a:stretch/>
        </p:blipFill>
        <p:spPr>
          <a:xfrm>
            <a:off x="0" y="33480"/>
            <a:ext cx="7596360" cy="686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 rot="5400000">
            <a:off x="4959720" y="2925000"/>
            <a:ext cx="6858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луавтоматически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автоматический тонометр"/>
          <p:cNvPicPr/>
          <p:nvPr/>
        </p:nvPicPr>
        <p:blipFill>
          <a:blip r:embed="rId1"/>
          <a:stretch/>
        </p:blipFill>
        <p:spPr>
          <a:xfrm>
            <a:off x="0" y="33480"/>
            <a:ext cx="65912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 rot="5400000">
            <a:off x="4418280" y="2817000"/>
            <a:ext cx="6858000" cy="122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Автоматически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вила измерение А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5357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427640" y="6021360"/>
            <a:ext cx="1944720" cy="836640"/>
          </a:xfrm>
          <a:custGeom>
            <a:avLst/>
            <a:gdLst>
              <a:gd name="textAreaLeft" fmla="*/ 54000 w 1944720"/>
              <a:gd name="textAreaRight" fmla="*/ 1890720 w 19447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50196" h="21600">
                <a:moveTo>
                  <a:pt x="0" y="0"/>
                </a:moveTo>
                <a:lnTo>
                  <a:pt x="50196" y="0"/>
                </a:lnTo>
                <a:lnTo>
                  <a:pt x="50196" y="21600"/>
                </a:lnTo>
                <a:lnTo>
                  <a:pt x="0" y="21600"/>
                </a:lnTo>
                <a:close/>
              </a:path>
              <a:path fill="lightenLess" w="50196" h="21600">
                <a:moveTo>
                  <a:pt x="0" y="0"/>
                </a:moveTo>
                <a:lnTo>
                  <a:pt x="50196" y="0"/>
                </a:lnTo>
                <a:lnTo>
                  <a:pt x="48796" y="1400"/>
                </a:lnTo>
                <a:lnTo>
                  <a:pt x="1400" y="1400"/>
                </a:lnTo>
                <a:close/>
              </a:path>
              <a:path fill="darken" w="50196" h="21600">
                <a:moveTo>
                  <a:pt x="50196" y="0"/>
                </a:moveTo>
                <a:lnTo>
                  <a:pt x="50196" y="21600"/>
                </a:lnTo>
                <a:lnTo>
                  <a:pt x="48796" y="20200"/>
                </a:lnTo>
                <a:lnTo>
                  <a:pt x="48796" y="1400"/>
                </a:lnTo>
                <a:close/>
              </a:path>
              <a:path fill="darkenLess" w="50196" h="21600">
                <a:moveTo>
                  <a:pt x="5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96" y="20200"/>
                </a:lnTo>
                <a:close/>
              </a:path>
              <a:path fill="lighten" w="5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196" h="21600">
                <a:moveTo>
                  <a:pt x="18091" y="7301"/>
                </a:moveTo>
                <a:lnTo>
                  <a:pt x="19005" y="7301"/>
                </a:lnTo>
                <a:lnTo>
                  <a:pt x="19388" y="7667"/>
                </a:lnTo>
                <a:lnTo>
                  <a:pt x="28597" y="7667"/>
                </a:lnTo>
                <a:lnTo>
                  <a:pt x="29154" y="8224"/>
                </a:lnTo>
                <a:lnTo>
                  <a:pt x="29154" y="8772"/>
                </a:lnTo>
                <a:lnTo>
                  <a:pt x="30999" y="8772"/>
                </a:lnTo>
                <a:lnTo>
                  <a:pt x="31364" y="8224"/>
                </a:lnTo>
                <a:lnTo>
                  <a:pt x="32104" y="8224"/>
                </a:lnTo>
                <a:lnTo>
                  <a:pt x="32104" y="13376"/>
                </a:lnTo>
                <a:lnTo>
                  <a:pt x="31364" y="13376"/>
                </a:lnTo>
                <a:lnTo>
                  <a:pt x="30999" y="12828"/>
                </a:lnTo>
                <a:lnTo>
                  <a:pt x="29154" y="12828"/>
                </a:lnTo>
                <a:lnTo>
                  <a:pt x="29154" y="14107"/>
                </a:lnTo>
                <a:lnTo>
                  <a:pt x="19571" y="14107"/>
                </a:lnTo>
                <a:lnTo>
                  <a:pt x="19571" y="9877"/>
                </a:lnTo>
                <a:lnTo>
                  <a:pt x="19388" y="9877"/>
                </a:lnTo>
                <a:lnTo>
                  <a:pt x="19005" y="10243"/>
                </a:lnTo>
                <a:lnTo>
                  <a:pt x="18091" y="10243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7:39:36Z</dcterms:created>
  <dc:creator>Alexandr</dc:creator>
  <dc:description/>
  <dc:language>en-US</dc:language>
  <cp:lastModifiedBy>Alexandr</cp:lastModifiedBy>
  <dcterms:modified xsi:type="dcterms:W3CDTF">2010-12-07T17:21:45Z</dcterms:modified>
  <cp:revision>5</cp:revision>
  <dc:subject/>
  <dc:title>Слайд 1</dc:title>
</cp:coreProperties>
</file>