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8BF-2DFC-4CAE-BD88-F2BF28ED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72D-935E-4101-8D10-927D5641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E24-3E40-4962-942B-8F8D9414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C4B-A85F-401C-9481-F0FC206F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C6EB-1924-4D18-92BB-85C03C0D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7827-07EC-4564-A93C-1538F143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7212-286E-4A67-AC11-D7F8F5B2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DD89-8BC7-49A2-A9AE-EAD11DF6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C663-BBB5-4FD6-AB6B-E69B6130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0C1A-71C0-456E-AA6C-46B86B0B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E834-7106-44F3-A877-80BFDCB7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4E1-FCCD-4878-A143-792605E1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71A6-5A62-44DB-A12B-AEC80693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E538-29DF-44A8-B3A0-1FAC71AA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20A0-DECA-4266-AC74-82E91D9B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C46C-C281-4727-B49F-4F56686C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ED4D-7B22-4752-842A-32E7C273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068-1AA8-4546-ACAE-6F22973E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971-D211-4381-A33C-073F6144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340-8033-4ECF-8D03-C2B718C2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17D-3FE5-4CF9-A783-2FDBD677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C1C-D88F-40C6-BB57-2A098548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A82-A6E1-474D-8886-4781FDD6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838-EB4F-4FC0-8410-0914CD75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BDBF-FCA3-454D-8DAC-8C141F4ECC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B5B6-A13F-4C83-B701-477063CBC9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57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Характеристики жидкого состояния вещества.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менение данной темы в медицин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Графический дикта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565360"/>
            <a:ext cx="7554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Физические основы клинического метода измерения давления кров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0000" y="1989000"/>
            <a:ext cx="1943280" cy="165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1052640"/>
            <a:ext cx="2016360" cy="1655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924360" y="4508640"/>
            <a:ext cx="2374920" cy="1368360"/>
            <a:chOff x="3924360" y="4508640"/>
            <a:chExt cx="2374920" cy="1368360"/>
          </a:xfrm>
        </p:grpSpPr>
        <p:sp>
          <p:nvSpPr>
            <p:cNvPr id="128" name=""/>
            <p:cNvSpPr/>
            <p:nvPr/>
          </p:nvSpPr>
          <p:spPr>
            <a:xfrm>
              <a:off x="3924360" y="4508640"/>
              <a:ext cx="1655640" cy="13683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8000" y="4581360"/>
              <a:ext cx="1511280" cy="1114560"/>
            </a:xfrm>
            <a:prstGeom prst="cloudCallout">
              <a:avLst>
                <a:gd name="adj1" fmla="val -74791"/>
                <a:gd name="adj2" fmla="val 14487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58920" y="2133720"/>
            <a:ext cx="7200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ПАСИБО ЗА РАБОТУ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До новых встреч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17640"/>
            <a:ext cx="7164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Тестирование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Как работает сердц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как работает сердце"/>
          <p:cNvPicPr/>
          <p:nvPr/>
        </p:nvPicPr>
        <p:blipFill>
          <a:blip r:embed="rId1"/>
          <a:stretch/>
        </p:blipFill>
        <p:spPr>
          <a:xfrm>
            <a:off x="2268360" y="1484280"/>
            <a:ext cx="4575240" cy="5229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80360" y="4941720"/>
            <a:ext cx="1368360" cy="863640"/>
          </a:xfrm>
          <a:custGeom>
            <a:avLst/>
            <a:gdLst>
              <a:gd name="textAreaLeft" fmla="*/ 55800 w 1368360"/>
              <a:gd name="textAreaRight" fmla="*/ 1312560 w 1368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4218" h="21600">
                <a:moveTo>
                  <a:pt x="0" y="0"/>
                </a:moveTo>
                <a:lnTo>
                  <a:pt x="34218" y="0"/>
                </a:lnTo>
                <a:lnTo>
                  <a:pt x="34218" y="21600"/>
                </a:lnTo>
                <a:lnTo>
                  <a:pt x="0" y="21600"/>
                </a:lnTo>
                <a:close/>
              </a:path>
              <a:path fill="lightenLess" w="34218" h="21600">
                <a:moveTo>
                  <a:pt x="0" y="0"/>
                </a:moveTo>
                <a:lnTo>
                  <a:pt x="34218" y="0"/>
                </a:lnTo>
                <a:lnTo>
                  <a:pt x="32818" y="1400"/>
                </a:lnTo>
                <a:lnTo>
                  <a:pt x="1400" y="1400"/>
                </a:lnTo>
                <a:close/>
              </a:path>
              <a:path fill="darken" w="34218" h="21600">
                <a:moveTo>
                  <a:pt x="34218" y="0"/>
                </a:moveTo>
                <a:lnTo>
                  <a:pt x="34218" y="21600"/>
                </a:lnTo>
                <a:lnTo>
                  <a:pt x="32818" y="20200"/>
                </a:lnTo>
                <a:lnTo>
                  <a:pt x="32818" y="1400"/>
                </a:lnTo>
                <a:close/>
              </a:path>
              <a:path fill="darkenLess" w="34218" h="21600">
                <a:moveTo>
                  <a:pt x="34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18" y="20200"/>
                </a:lnTo>
                <a:close/>
              </a:path>
              <a:path fill="lighten" w="34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18" h="21600">
                <a:moveTo>
                  <a:pt x="10103" y="7301"/>
                </a:moveTo>
                <a:lnTo>
                  <a:pt x="11016" y="7301"/>
                </a:lnTo>
                <a:lnTo>
                  <a:pt x="11399" y="7667"/>
                </a:lnTo>
                <a:lnTo>
                  <a:pt x="20608" y="7667"/>
                </a:lnTo>
                <a:lnTo>
                  <a:pt x="21165" y="8224"/>
                </a:lnTo>
                <a:lnTo>
                  <a:pt x="21165" y="8772"/>
                </a:lnTo>
                <a:lnTo>
                  <a:pt x="23010" y="8772"/>
                </a:lnTo>
                <a:lnTo>
                  <a:pt x="23376" y="8224"/>
                </a:lnTo>
                <a:lnTo>
                  <a:pt x="24115" y="8224"/>
                </a:lnTo>
                <a:lnTo>
                  <a:pt x="24115" y="13376"/>
                </a:lnTo>
                <a:lnTo>
                  <a:pt x="23376" y="13376"/>
                </a:lnTo>
                <a:lnTo>
                  <a:pt x="23010" y="12828"/>
                </a:lnTo>
                <a:lnTo>
                  <a:pt x="21165" y="12828"/>
                </a:lnTo>
                <a:lnTo>
                  <a:pt x="21165" y="14107"/>
                </a:lnTo>
                <a:lnTo>
                  <a:pt x="11582" y="14107"/>
                </a:lnTo>
                <a:lnTo>
                  <a:pt x="11582" y="9877"/>
                </a:lnTo>
                <a:lnTo>
                  <a:pt x="11399" y="9877"/>
                </a:lnTo>
                <a:lnTo>
                  <a:pt x="11016" y="10243"/>
                </a:lnTo>
                <a:lnTo>
                  <a:pt x="10103" y="1024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Приборы для измерения АД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06" name="_s71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7179"/>
            <p:cNvCxnSpPr>
              <a:stCxn id="110" idx="0"/>
              <a:endCxn id="108" idx="2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7178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7174"/>
            <p:cNvSpPr/>
            <p:nvPr/>
          </p:nvSpPr>
          <p:spPr>
            <a:xfrm>
              <a:off x="3337200" y="160020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приборов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ля измерения АД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7175"/>
            <p:cNvSpPr/>
            <p:nvPr/>
          </p:nvSpPr>
          <p:spPr>
            <a:xfrm>
              <a:off x="45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ffcc"/>
                  </a:solidFill>
                  <a:uFillTx/>
                  <a:latin typeface="Arial"/>
                  <a:hlinkClick r:id="rId1" action="ppaction://hlinksldjump"/>
                </a:rPr>
                <a:t>Ручные</a:t>
              </a:r>
              <a:r>
                <a:rPr b="0" lang="en-US" sz="21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7176"/>
            <p:cNvSpPr/>
            <p:nvPr/>
          </p:nvSpPr>
          <p:spPr>
            <a:xfrm>
              <a:off x="333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cc"/>
                  </a:solidFill>
                  <a:uFillTx/>
                  <a:latin typeface="Arial"/>
                  <a:hlinkClick r:id="rId2" action="ppaction://hlinksldjump"/>
                </a:rPr>
                <a:t>Полуавтоматические</a:t>
              </a:r>
              <a:r>
                <a:rPr b="0" lang="en-US" sz="21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7177"/>
            <p:cNvSpPr/>
            <p:nvPr/>
          </p:nvSpPr>
          <p:spPr>
            <a:xfrm>
              <a:off x="621756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ffcc"/>
                  </a:solidFill>
                  <a:uFillTx/>
                  <a:latin typeface="Arial"/>
                  <a:hlinkClick r:id="rId3" action="ppaction://hlinksldjump"/>
                </a:rPr>
                <a:t>Автоматические</a:t>
              </a:r>
              <a:r>
                <a:rPr b="0" lang="en-US" sz="2100" spc="-1" strike="noStrike" u="sng">
                  <a:solidFill>
                    <a:srgbClr val="ffffcc"/>
                  </a:solidFill>
                  <a:uFillTx/>
                  <a:latin typeface="Arial"/>
                  <a:hlinkClick r:id="rId4" action="ppaction://hlinksldjump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ручной тонометр"/>
          <p:cNvPicPr/>
          <p:nvPr/>
        </p:nvPicPr>
        <p:blipFill>
          <a:blip r:embed="rId1"/>
          <a:stretch/>
        </p:blipFill>
        <p:spPr>
          <a:xfrm>
            <a:off x="0" y="0"/>
            <a:ext cx="6130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 rot="5400000">
            <a:off x="4441680" y="2550960"/>
            <a:ext cx="666900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учно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полуавтоматический тонометр"/>
          <p:cNvPicPr/>
          <p:nvPr/>
        </p:nvPicPr>
        <p:blipFill>
          <a:blip r:embed="rId1"/>
          <a:stretch/>
        </p:blipFill>
        <p:spPr>
          <a:xfrm>
            <a:off x="0" y="33480"/>
            <a:ext cx="7596360" cy="686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 rot="5400000">
            <a:off x="4959720" y="2925000"/>
            <a:ext cx="685800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луавтоматически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автоматический тонометр"/>
          <p:cNvPicPr/>
          <p:nvPr/>
        </p:nvPicPr>
        <p:blipFill>
          <a:blip r:embed="rId1"/>
          <a:stretch/>
        </p:blipFill>
        <p:spPr>
          <a:xfrm>
            <a:off x="0" y="33480"/>
            <a:ext cx="65912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 rot="5400000">
            <a:off x="4418280" y="2817000"/>
            <a:ext cx="6858000" cy="122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Автоматически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вила измерение АД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5357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427640" y="6021360"/>
            <a:ext cx="1944720" cy="836640"/>
          </a:xfrm>
          <a:custGeom>
            <a:avLst/>
            <a:gdLst>
              <a:gd name="textAreaLeft" fmla="*/ 54000 w 1944720"/>
              <a:gd name="textAreaRight" fmla="*/ 1890720 w 19447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50196" h="21600">
                <a:moveTo>
                  <a:pt x="0" y="0"/>
                </a:moveTo>
                <a:lnTo>
                  <a:pt x="50196" y="0"/>
                </a:lnTo>
                <a:lnTo>
                  <a:pt x="50196" y="21600"/>
                </a:lnTo>
                <a:lnTo>
                  <a:pt x="0" y="21600"/>
                </a:lnTo>
                <a:close/>
              </a:path>
              <a:path fill="lightenLess" w="50196" h="21600">
                <a:moveTo>
                  <a:pt x="0" y="0"/>
                </a:moveTo>
                <a:lnTo>
                  <a:pt x="50196" y="0"/>
                </a:lnTo>
                <a:lnTo>
                  <a:pt x="48796" y="1400"/>
                </a:lnTo>
                <a:lnTo>
                  <a:pt x="1400" y="1400"/>
                </a:lnTo>
                <a:close/>
              </a:path>
              <a:path fill="darken" w="50196" h="21600">
                <a:moveTo>
                  <a:pt x="50196" y="0"/>
                </a:moveTo>
                <a:lnTo>
                  <a:pt x="50196" y="21600"/>
                </a:lnTo>
                <a:lnTo>
                  <a:pt x="48796" y="20200"/>
                </a:lnTo>
                <a:lnTo>
                  <a:pt x="48796" y="1400"/>
                </a:lnTo>
                <a:close/>
              </a:path>
              <a:path fill="darkenLess" w="50196" h="21600">
                <a:moveTo>
                  <a:pt x="5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96" y="20200"/>
                </a:lnTo>
                <a:close/>
              </a:path>
              <a:path fill="lighten" w="5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196" h="21600">
                <a:moveTo>
                  <a:pt x="18091" y="7301"/>
                </a:moveTo>
                <a:lnTo>
                  <a:pt x="19005" y="7301"/>
                </a:lnTo>
                <a:lnTo>
                  <a:pt x="19388" y="7667"/>
                </a:lnTo>
                <a:lnTo>
                  <a:pt x="28597" y="7667"/>
                </a:lnTo>
                <a:lnTo>
                  <a:pt x="29154" y="8224"/>
                </a:lnTo>
                <a:lnTo>
                  <a:pt x="29154" y="8772"/>
                </a:lnTo>
                <a:lnTo>
                  <a:pt x="30999" y="8772"/>
                </a:lnTo>
                <a:lnTo>
                  <a:pt x="31364" y="8224"/>
                </a:lnTo>
                <a:lnTo>
                  <a:pt x="32104" y="8224"/>
                </a:lnTo>
                <a:lnTo>
                  <a:pt x="32104" y="13376"/>
                </a:lnTo>
                <a:lnTo>
                  <a:pt x="31364" y="13376"/>
                </a:lnTo>
                <a:lnTo>
                  <a:pt x="30999" y="12828"/>
                </a:lnTo>
                <a:lnTo>
                  <a:pt x="29154" y="12828"/>
                </a:lnTo>
                <a:lnTo>
                  <a:pt x="29154" y="14107"/>
                </a:lnTo>
                <a:lnTo>
                  <a:pt x="19571" y="14107"/>
                </a:lnTo>
                <a:lnTo>
                  <a:pt x="19571" y="9877"/>
                </a:lnTo>
                <a:lnTo>
                  <a:pt x="19388" y="9877"/>
                </a:lnTo>
                <a:lnTo>
                  <a:pt x="19005" y="10243"/>
                </a:lnTo>
                <a:lnTo>
                  <a:pt x="18091" y="1024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7:39:36Z</dcterms:created>
  <dc:creator>Alexandr</dc:creator>
  <dc:description/>
  <dc:language>en-US</dc:language>
  <cp:lastModifiedBy>Alexandr</cp:lastModifiedBy>
  <dcterms:modified xsi:type="dcterms:W3CDTF">2010-12-07T17:21:45Z</dcterms:modified>
  <cp:revision>5</cp:revision>
  <dc:subject/>
  <dc:title>Слайд 1</dc:title>
</cp:coreProperties>
</file>