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6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17.png" ContentType="image/png"/>
  <Override PartName="/ppt/media/image14.gif" ContentType="image/gif"/>
  <Override PartName="/ppt/media/image1.png" ContentType="image/png"/>
  <Override PartName="/ppt/media/image21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2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3D9-0431-4B56-A173-B7E7EE98B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5EA-E033-47E4-9829-B6D26EF3EA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9AF-A82D-4808-86BD-FD6C7183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104-B48B-4E8A-B0BA-470AA057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37E-A286-4A7A-947B-E2A3DA25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7CD-08E4-48ED-872B-B4A30236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1FB7-DA99-4744-9156-9AC0AC6D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4114-3711-48A0-952D-9499C055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D25-92EC-4F91-A39C-817161F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F8D5-5D45-4732-91B0-3EFD4BE8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49E1-BF39-4080-B3DA-AB7F96B6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6D86-7664-4666-963A-6D6F7025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CC85-14D6-43FD-BD04-DDF2EE5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BFE-0473-456A-BA25-A48C1600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D6B1-0BCD-4864-AD58-CCB9171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3B4-1E77-4924-8B0C-467AD27F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57D6-C1A7-438F-A44C-36B87530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1D7C-AD41-479C-B0FD-0C66ED9D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C99-EDB8-4431-8732-836AA0E9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E01C-193E-4145-99E5-2C6E2923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587E-4F13-48D7-8BF8-1BF0AAB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4C5D-300E-4EA0-820D-2628516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A030-375F-44C9-B38F-4B95A77B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AB7B-27B7-4D3A-8B4C-CC73007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AF9-A027-43F5-9A34-ADD352ED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184A-2167-411C-9267-0CA07CAB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D8CC-48E9-4B55-BA3E-3C6BB9D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8E515-F7D5-4134-965D-02BF333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C6B0-4BF1-477C-95B1-CC34D83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8162-1897-4B6B-ABD3-A0C2610E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0BCE-8B84-4171-B659-E08D195D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9D8E-D4D3-4488-ACC9-EC704C14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74CE-463E-4223-A756-2966D410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1E781-90FD-4AEC-9A1C-F5E4172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6C99-5574-4369-90AF-52C134FB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550-28F1-4786-94CA-F2A4DF3C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E13D8-89CE-4DA9-AAD7-26481EC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D4DE-6CDB-4CBF-96FA-0F30E78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B0A1-E128-4F9B-B18A-305FD376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5FC3-73C2-493D-9E43-A93A09D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DC55-9E85-442A-B69C-3E5E2F6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07B1-3BAB-4CA3-BF85-8E388DA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9DC0-4111-44BA-BBC8-6ADE360D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0A46-5D7C-4FE2-9154-C4F3A6E1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D336-4866-4629-BBF7-6056EB8E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5B843-180C-4A1A-BAF5-54284683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B78-0695-4B83-B615-40C34E8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54A2-FDAB-468D-A51B-7DFEC06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2441-FF09-462D-9FC2-607EF2F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A821-E252-47DA-ABD2-81BE733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5B10-6E36-4785-A8EC-7394617A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0B10-C597-4C9F-9443-4E514C0C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10FC-BF0F-4259-BA5D-2353E66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44B2-5866-4E5F-A8A2-09CA950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9152-3400-44A7-A282-EE909039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F88F5-90E8-4476-B43B-18C3B51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413D-58F2-4BF4-9C0A-E88A9987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297-DCEE-497E-B3F2-A5EFE0E6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A489D-CBC5-4473-A14E-9163B878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D01-C9CD-40CA-B758-DBA54ED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256-C146-4944-9162-FD2BAA4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5F6-DB9C-47A2-B5C6-134E83A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873-2391-4822-A548-C489D5312631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78C-1A1D-4557-8530-88DC6005672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9E57-E41E-42E2-B86C-7A24DB905942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4F3E-4BD4-4BA3-ACF8-7C28D420B2F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A68-74E3-49F8-809F-CA051A81CD79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F3A-BE04-477E-8790-41577ACC2F6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4573-4C3D-4A69-99F6-6EC0BD3A4DC0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685-D144-4525-8D8A-DBC1996AC8F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4B63-852B-42C8-A4E5-2EA252C088DF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B21-EBFB-4097-B2C1-7B2AE516A55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786800" y="242892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2857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643880" y="52149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sp>
        <p:nvSpPr>
          <p:cNvPr id="232" name="WordArt 9"/>
          <p:cNvSpPr txBox="1"/>
          <p:nvPr/>
        </p:nvSpPr>
        <p:spPr>
          <a:xfrm>
            <a:off x="1619280" y="476280"/>
            <a:ext cx="63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2916360" y="3284640"/>
            <a:ext cx="4535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2232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11" descr="662032"/>
          <p:cNvPicPr/>
          <p:nvPr/>
        </p:nvPicPr>
        <p:blipFill>
          <a:blip r:embed="rId7"/>
          <a:stretch/>
        </p:blipFill>
        <p:spPr>
          <a:xfrm>
            <a:off x="4643280" y="3643200"/>
            <a:ext cx="1924200" cy="2868840"/>
          </a:xfrm>
          <a:prstGeom prst="rect">
            <a:avLst/>
          </a:prstGeom>
          <a:ln w="0">
            <a:noFill/>
          </a:ln>
        </p:spPr>
      </p:pic>
      <p:pic>
        <p:nvPicPr>
          <p:cNvPr id="235" name="Мама Дельфин. МР3.wma" descr=""/>
          <p:cNvPicPr/>
          <p:nvPr/>
        </p:nvPicPr>
        <p:blipFill>
          <a:blip r:embed="rId8"/>
          <a:stretch/>
        </p:blipFill>
        <p:spPr>
          <a:xfrm>
            <a:off x="20509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C0D4-F614-4C5C-80FE-AD1F73B451AB}" type="datetime">
              <a:rPr b="0" lang="ru-RU" sz="1000" spc="-1" strike="noStrike">
                <a:solidFill>
                  <a:srgbClr val="b13f9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3BA3-43AF-44E3-8E6D-6568F9860D7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39" name="Picture 9" descr="52769s"/>
          <p:cNvPicPr/>
          <p:nvPr/>
        </p:nvPicPr>
        <p:blipFill>
          <a:blip r:embed="rId1"/>
          <a:stretch/>
        </p:blipFill>
        <p:spPr>
          <a:xfrm>
            <a:off x="6300720" y="3933720"/>
            <a:ext cx="2460600" cy="24606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0"/>
          <p:cNvSpPr/>
          <p:nvPr/>
        </p:nvSpPr>
        <p:spPr>
          <a:xfrm>
            <a:off x="1187280" y="14508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AllDay"/>
          <p:cNvPicPr/>
          <p:nvPr/>
        </p:nvPicPr>
        <p:blipFill>
          <a:blip r:embed="rId2"/>
          <a:stretch/>
        </p:blipFill>
        <p:spPr>
          <a:xfrm>
            <a:off x="32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15"/>
          <p:cNvPicPr/>
          <p:nvPr/>
        </p:nvPicPr>
        <p:blipFill>
          <a:blip r:embed="rId3"/>
          <a:stretch/>
        </p:blipFill>
        <p:spPr>
          <a:xfrm>
            <a:off x="684360" y="400536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38"/>
          <p:cNvPicPr/>
          <p:nvPr/>
        </p:nvPicPr>
        <p:blipFill>
          <a:blip r:embed="rId4"/>
          <a:stretch/>
        </p:blipFill>
        <p:spPr>
          <a:xfrm>
            <a:off x="6804000" y="98100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AllDay"/>
          <p:cNvPicPr/>
          <p:nvPr/>
        </p:nvPicPr>
        <p:blipFill>
          <a:blip r:embed="rId5"/>
          <a:stretch/>
        </p:blipFill>
        <p:spPr>
          <a:xfrm>
            <a:off x="2627280" y="5300640"/>
            <a:ext cx="2449440" cy="129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4" descr="osen"/>
          <p:cNvPicPr/>
          <p:nvPr/>
        </p:nvPicPr>
        <p:blipFill>
          <a:blip r:embed="rId1"/>
          <a:stretch/>
        </p:blipFill>
        <p:spPr>
          <a:xfrm>
            <a:off x="179280" y="189000"/>
            <a:ext cx="8778960" cy="6480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5"/>
          <p:cNvSpPr txBox="1"/>
          <p:nvPr/>
        </p:nvSpPr>
        <p:spPr>
          <a:xfrm>
            <a:off x="2340000" y="5445000"/>
            <a:ext cx="395280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29 ноября - </a:t>
            </a:r>
            <a:endParaRPr b="1" lang="en-US" sz="1800" spc="1" strike="noStrike">
              <a:ln w="2232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ень Матери России!</a:t>
            </a:r>
            <a:endParaRPr b="1" lang="en-US" sz="1800" spc="1" strike="noStrike">
              <a:ln w="2232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8" name="Татьяна Овсиенко - Татьяна Овсиенко - Школьная Пора.mp3" descr=""/>
          <p:cNvPicPr/>
          <p:nvPr/>
        </p:nvPicPr>
        <p:blipFill>
          <a:blip r:embed="rId2"/>
          <a:stretch/>
        </p:blipFill>
        <p:spPr>
          <a:xfrm>
            <a:off x="7429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76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2539-883D-44C6-A3B1-04DB9BA2AFD4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8D7-4464-4E03-A311-A77A5E1C37D3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79280" y="152388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e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Новый праздник —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— постепенно входит в российские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И это замечательно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сколько бы   хороших, добрых слов мы не говорили нашим мамам, сколько бы поводов для этого ни придумали, лишними они не буду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55045s"/>
          <p:cNvPicPr/>
          <p:nvPr/>
        </p:nvPicPr>
        <p:blipFill>
          <a:blip r:embed="rId1"/>
          <a:stretch/>
        </p:blipFill>
        <p:spPr>
          <a:xfrm>
            <a:off x="7451640" y="2637000"/>
            <a:ext cx="1386000" cy="1385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6236081"/>
          <p:cNvPicPr/>
          <p:nvPr/>
        </p:nvPicPr>
        <p:blipFill>
          <a:blip r:embed="rId2"/>
          <a:stretch/>
        </p:blipFill>
        <p:spPr>
          <a:xfrm>
            <a:off x="7308720" y="907920"/>
            <a:ext cx="1619280" cy="1363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AllDay"/>
          <p:cNvPicPr/>
          <p:nvPr/>
        </p:nvPicPr>
        <p:blipFill>
          <a:blip r:embed="rId3"/>
          <a:stretch/>
        </p:blipFill>
        <p:spPr>
          <a:xfrm>
            <a:off x="2700360" y="5877000"/>
            <a:ext cx="3240000" cy="98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A96-C74B-47BD-82BF-F6B1B1D609CC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1429-BD58-4442-9296-D435FAB7309D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95280" y="128520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реди многочисленных праздников, отмечаемых в нашей стране,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занимает особое место. Это праздник, к которому никто не может остаться равнодуш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этот день хочется сказать слова благодарности все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Матерям,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которые дарят детям любовь, добро, нежность и лас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1"/>
          <p:cNvPicPr/>
          <p:nvPr/>
        </p:nvPicPr>
        <p:blipFill>
          <a:blip r:embed="rId1"/>
          <a:stretch/>
        </p:blipFill>
        <p:spPr>
          <a:xfrm>
            <a:off x="7451640" y="3213000"/>
            <a:ext cx="1265400" cy="1582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AllDay"/>
          <p:cNvPicPr/>
          <p:nvPr/>
        </p:nvPicPr>
        <p:blipFill>
          <a:blip r:embed="rId2"/>
          <a:stretch/>
        </p:blipFill>
        <p:spPr>
          <a:xfrm>
            <a:off x="7380360" y="907920"/>
            <a:ext cx="1430280" cy="115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AllDay"/>
          <p:cNvPicPr/>
          <p:nvPr/>
        </p:nvPicPr>
        <p:blipFill>
          <a:blip r:embed="rId3"/>
          <a:stretch/>
        </p:blipFill>
        <p:spPr>
          <a:xfrm>
            <a:off x="752472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Без сна ночей твоих прошло немало,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абот, тревог за нас не перечесть,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емной поклон тебе, родная мама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а то, что ты на белом свете есть.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WordArt 3"/>
          <p:cNvSpPr txBox="1"/>
          <p:nvPr/>
        </p:nvSpPr>
        <p:spPr>
          <a:xfrm>
            <a:off x="0" y="404640"/>
            <a:ext cx="82296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65" name="Picture 6" descr="people076"/>
          <p:cNvPicPr/>
          <p:nvPr/>
        </p:nvPicPr>
        <p:blipFill>
          <a:blip r:embed="rId1"/>
          <a:stretch/>
        </p:blipFill>
        <p:spPr>
          <a:xfrm>
            <a:off x="6588000" y="4508640"/>
            <a:ext cx="2160720" cy="2023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6236031"/>
          <p:cNvPicPr/>
          <p:nvPr/>
        </p:nvPicPr>
        <p:blipFill>
          <a:blip r:embed="rId2"/>
          <a:stretch/>
        </p:blipFill>
        <p:spPr>
          <a:xfrm>
            <a:off x="3995640" y="4437000"/>
            <a:ext cx="1516320" cy="211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6236026"/>
          <p:cNvPicPr/>
          <p:nvPr/>
        </p:nvPicPr>
        <p:blipFill>
          <a:blip r:embed="rId3"/>
          <a:stretch/>
        </p:blipFill>
        <p:spPr>
          <a:xfrm>
            <a:off x="7854840" y="907920"/>
            <a:ext cx="854280" cy="122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н"/>
          <p:cNvPicPr/>
          <p:nvPr/>
        </p:nvPicPr>
        <p:blipFill>
          <a:blip r:embed="rId4"/>
          <a:stretch/>
        </p:blipFill>
        <p:spPr>
          <a:xfrm>
            <a:off x="324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418-1D82-4EEF-9585-D7FCBE2AB1DB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161-52C7-4D77-A6A3-5CCFC9BCB1E9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68360" y="963360"/>
            <a:ext cx="8496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вам, родны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И пусть каждой из вас почаще говор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теплые слова ваши любимые де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усть на их лицах светится улыб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и радостные искорки сверк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в глазах,  когда вы вмест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1192783528_1192647151_solnyshko3"/>
          <p:cNvPicPr/>
          <p:nvPr/>
        </p:nvPicPr>
        <p:blipFill>
          <a:blip r:embed="rId1"/>
          <a:stretch/>
        </p:blipFill>
        <p:spPr>
          <a:xfrm>
            <a:off x="7453440" y="981000"/>
            <a:ext cx="121428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6236031"/>
          <p:cNvPicPr/>
          <p:nvPr/>
        </p:nvPicPr>
        <p:blipFill>
          <a:blip r:embed="rId2"/>
          <a:stretch/>
        </p:blipFill>
        <p:spPr>
          <a:xfrm>
            <a:off x="250920" y="3429000"/>
            <a:ext cx="154440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2:27:56Z</dcterms:created>
  <dc:creator>Вера</dc:creator>
  <dc:description>http://aida.ucoz.ru</dc:description>
  <dc:language>en-US</dc:language>
  <cp:lastModifiedBy>Пользователь</cp:lastModifiedBy>
  <dcterms:modified xsi:type="dcterms:W3CDTF">2010-11-19T09:51:47Z</dcterms:modified>
  <cp:revision>38</cp:revision>
  <dc:subject/>
  <dc:title>Слайд 1</dc:title>
</cp:coreProperties>
</file>