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9.png" ContentType="image/png"/>
  <Override PartName="/ppt/media/image6.gif" ContentType="image/gif"/>
  <Override PartName="/ppt/media/image12.gif" ContentType="image/gif"/>
  <Override PartName="/ppt/media/image24.jpeg" ContentType="image/jpeg"/>
  <Override PartName="/ppt/media/image7.gif" ContentType="image/gif"/>
  <Override PartName="/ppt/media/image5.jpeg" ContentType="image/jpeg"/>
  <Override PartName="/ppt/media/image11.gif" ContentType="image/gif"/>
  <Override PartName="/ppt/media/image13.gif" ContentType="image/gif"/>
  <Override PartName="/ppt/media/image8.gif" ContentType="image/gif"/>
  <Override PartName="/ppt/media/image18.jpeg" ContentType="image/jpeg"/>
  <Override PartName="/ppt/media/image25.gif" ContentType="image/gif"/>
  <Override PartName="/ppt/media/image19.png" ContentType="image/png"/>
  <Override PartName="/ppt/media/image16.gif" ContentType="image/gif"/>
  <Override PartName="/ppt/media/image15.gif" ContentType="image/gif"/>
  <Override PartName="/ppt/media/image20.png" ContentType="image/png"/>
  <Override PartName="/ppt/media/image2.jpeg" ContentType="image/jpeg"/>
  <Override PartName="/ppt/media/image17.png" ContentType="image/png"/>
  <Override PartName="/ppt/media/image14.gif" ContentType="image/gif"/>
  <Override PartName="/ppt/media/image1.png" ContentType="image/png"/>
  <Override PartName="/ppt/media/image21.gif" ContentType="image/gif"/>
  <Override PartName="/ppt/media/image3.png" ContentType="image/png"/>
  <Override PartName="/ppt/media/image23.gif" ContentType="image/gif"/>
  <Override PartName="/ppt/media/image4.jpeg" ContentType="image/jpeg"/>
  <Override PartName="/ppt/media/image22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C838-5806-4E66-AC92-B4C31FEB0A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9F72-66A3-4210-89C5-3C4222B7C4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D9C-3891-4288-9F75-C25E2682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DF2-843B-4270-B591-C09768B3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26F-E30E-495E-87CE-BFBE6FB8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069-FD8B-43FF-8192-8703B1B7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7E3A-D049-4183-86EA-57B62192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CE2C-036A-4726-A285-03ED9404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FD56-AA13-4E2A-8768-E36C7BB4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3884-7692-4B85-837E-9A558816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803C-0C3B-4DD3-9A96-58A1E4F6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49A0-3AD6-484C-8996-BC76C49B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67E2-F990-49E7-A118-5D75D1A0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B36-6A37-4F4E-A113-7E82F53C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FD3C-44A6-438C-AEB9-CA93C1B2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EFEC-03E5-4DC3-AF13-E893DDB9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048C-8765-4D4E-A109-ED22E789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29C0-A2BD-4BFE-A849-56ED637B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EBAB-F05F-46E9-B63F-034C969C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8EABD-79E7-4C23-A45B-B5B037A5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6D7FE-A5BD-4680-8DBA-26B22720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22E23-3A61-49D3-BED3-73754D9C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00AEB-A77C-483D-8B00-A6B65FED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32764-D991-4887-98DA-E20F3D7F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AF2-0A92-445A-884D-1B540254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31858-70DF-48DA-8FB6-D215D7F9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8F5E8-59BD-44E7-AB69-2D205A44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0513C-C8F9-4C1A-B550-31BFBA27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44DCA-6441-40DF-B2F2-EAEC290B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A6FA2-3888-4CA6-8D46-AC1FF592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DB32B-689C-49DB-83BE-A263B687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5E653-B7CC-467D-B875-09BAF702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E6741-7B43-4990-BDBE-191B713A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E8271-ECAD-4508-BFAF-D7041A4B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66125-7F0C-419C-A61D-C1C39A55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E227-9096-4965-968E-345FE95A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9F14E-7B00-411B-950E-47A1A18C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A9B25-4377-4113-B370-04B44709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8A310-9DE0-4CE0-AF07-BEDA987D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B14E2-E2A9-49F5-B54B-74581211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047C2-848D-4294-B0AC-DB5528F2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C25DC-A2D5-4C85-A6D1-186B74EA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5080C-60D0-4E1D-B668-43659CBF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0F906-A808-44D5-93A1-2482020A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C171C-9FA5-449D-B8E6-055D5D6F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300F9-5678-4DE6-9A03-6ACFA00F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314-96CA-4EE0-9F4F-8ACC6FE9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5115C-BC77-4AD6-A177-1CB04BD9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C37E4-0406-4C83-AC2F-C8886C26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6A448-35F6-4E46-A388-C06ED3FF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C5BD7-4A11-40B2-B637-136BD38B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C765F-0033-402A-A863-24C455E3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D469D-4A33-4642-9B3D-DA0D3B40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E7C7A-8DBE-47A0-AB6B-7E7A5903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C6A99-F66A-400C-BF51-D52E2DD8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24F36-5A86-4F4A-94CE-62575E0C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6EA7F-1F2D-4AD3-A4C2-393622AE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F2FE-F300-42E9-8CFA-27B66D96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A717D-3F97-4549-BE77-D6EFB702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6DD-BBCA-40BE-BCEC-06F036D6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E559-8586-400E-AA1C-A9E49E8B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095-EA1F-4F9F-9AE4-E018727C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1C4C-9263-4988-B91F-C420468BC813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9EB2-C68C-4F04-B27F-8C2DC3AF757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1E8A-5719-4EFF-A132-50476CCC49B1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2DFF-0990-4E7F-A031-137E3F9A201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5DAA-0A9B-4726-8339-CD092065D37E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5F14-B372-4000-8D07-3436B4E0685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6D06-12EA-424C-8C40-E2020CBF6718}" type="datetime"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B77D-DB58-46E8-B62E-19850FA30F28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9F1B-4B88-4B6B-A5DE-8DBECC7EB6D7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5FB1-2F64-4836-9008-669310C0DD6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2"/>
          <a:stretch/>
        </p:blipFill>
        <p:spPr>
          <a:xfrm>
            <a:off x="7786800" y="2428920"/>
            <a:ext cx="857160" cy="1119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2857680" y="3643200"/>
            <a:ext cx="1023840" cy="1024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072200" y="428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5"/>
          <a:stretch/>
        </p:blipFill>
        <p:spPr>
          <a:xfrm>
            <a:off x="7643880" y="521496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6"/>
          <a:stretch/>
        </p:blipFill>
        <p:spPr>
          <a:xfrm>
            <a:off x="4357800" y="0"/>
            <a:ext cx="690480" cy="690480"/>
          </a:xfrm>
          <a:prstGeom prst="rect">
            <a:avLst/>
          </a:prstGeom>
          <a:ln w="0">
            <a:noFill/>
          </a:ln>
        </p:spPr>
      </p:pic>
      <p:sp>
        <p:nvSpPr>
          <p:cNvPr id="232" name="WordArt 9"/>
          <p:cNvSpPr txBox="1"/>
          <p:nvPr/>
        </p:nvSpPr>
        <p:spPr>
          <a:xfrm>
            <a:off x="1619280" y="476280"/>
            <a:ext cx="63374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 вРосси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233" name="WordArt 10"/>
          <p:cNvSpPr txBox="1"/>
          <p:nvPr/>
        </p:nvSpPr>
        <p:spPr>
          <a:xfrm>
            <a:off x="2916360" y="3284640"/>
            <a:ext cx="45352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ff66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22320">
                <a:solidFill>
                  <a:srgbClr val="ff66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4" name="Picture 11" descr="662032"/>
          <p:cNvPicPr/>
          <p:nvPr/>
        </p:nvPicPr>
        <p:blipFill>
          <a:blip r:embed="rId7"/>
          <a:stretch/>
        </p:blipFill>
        <p:spPr>
          <a:xfrm>
            <a:off x="4643280" y="3643200"/>
            <a:ext cx="1924200" cy="2868840"/>
          </a:xfrm>
          <a:prstGeom prst="rect">
            <a:avLst/>
          </a:prstGeom>
          <a:ln w="0">
            <a:noFill/>
          </a:ln>
        </p:spPr>
      </p:pic>
      <p:pic>
        <p:nvPicPr>
          <p:cNvPr id="235" name="Мама Дельфин. МР3.wma" descr=""/>
          <p:cNvPicPr/>
          <p:nvPr/>
        </p:nvPicPr>
        <p:blipFill>
          <a:blip r:embed="rId8"/>
          <a:stretch/>
        </p:blipFill>
        <p:spPr>
          <a:xfrm>
            <a:off x="20509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3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A734-AAD1-41A3-9075-1E9460C681A9}" type="datetime">
              <a:rPr b="0" lang="ru-RU" sz="1000" spc="-1" strike="noStrike">
                <a:solidFill>
                  <a:srgbClr val="b13f9a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2440-05E1-485F-A470-C94E31204696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8"/>
          <p:cNvSpPr txBox="1"/>
          <p:nvPr/>
        </p:nvSpPr>
        <p:spPr>
          <a:xfrm>
            <a:off x="0" y="549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 вРосси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239" name="Picture 9" descr="52769s"/>
          <p:cNvPicPr/>
          <p:nvPr/>
        </p:nvPicPr>
        <p:blipFill>
          <a:blip r:embed="rId1"/>
          <a:stretch/>
        </p:blipFill>
        <p:spPr>
          <a:xfrm>
            <a:off x="6300720" y="3933720"/>
            <a:ext cx="2460600" cy="24606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0"/>
          <p:cNvSpPr/>
          <p:nvPr/>
        </p:nvSpPr>
        <p:spPr>
          <a:xfrm>
            <a:off x="1187280" y="1450800"/>
            <a:ext cx="662472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Мама — первое слово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Главное слово в каждой судьбе.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Мама жизнь подарила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Мир подарила мне и тебе.</a:t>
            </a:r>
            <a:br>
              <a:rPr sz="4000"/>
            </a:b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AllDay"/>
          <p:cNvPicPr/>
          <p:nvPr/>
        </p:nvPicPr>
        <p:blipFill>
          <a:blip r:embed="rId2"/>
          <a:stretch/>
        </p:blipFill>
        <p:spPr>
          <a:xfrm>
            <a:off x="324000" y="4797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15"/>
          <p:cNvPicPr/>
          <p:nvPr/>
        </p:nvPicPr>
        <p:blipFill>
          <a:blip r:embed="rId3"/>
          <a:stretch/>
        </p:blipFill>
        <p:spPr>
          <a:xfrm>
            <a:off x="684360" y="4005360"/>
            <a:ext cx="790560" cy="657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38"/>
          <p:cNvPicPr/>
          <p:nvPr/>
        </p:nvPicPr>
        <p:blipFill>
          <a:blip r:embed="rId4"/>
          <a:stretch/>
        </p:blipFill>
        <p:spPr>
          <a:xfrm>
            <a:off x="6804000" y="981000"/>
            <a:ext cx="1573200" cy="1573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" descr="AllDay"/>
          <p:cNvPicPr/>
          <p:nvPr/>
        </p:nvPicPr>
        <p:blipFill>
          <a:blip r:embed="rId5"/>
          <a:stretch/>
        </p:blipFill>
        <p:spPr>
          <a:xfrm>
            <a:off x="2627280" y="5300640"/>
            <a:ext cx="2449440" cy="1293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4" descr="osen"/>
          <p:cNvPicPr/>
          <p:nvPr/>
        </p:nvPicPr>
        <p:blipFill>
          <a:blip r:embed="rId1"/>
          <a:stretch/>
        </p:blipFill>
        <p:spPr>
          <a:xfrm>
            <a:off x="179280" y="189000"/>
            <a:ext cx="8778960" cy="64800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5"/>
          <p:cNvSpPr txBox="1"/>
          <p:nvPr/>
        </p:nvSpPr>
        <p:spPr>
          <a:xfrm>
            <a:off x="2340000" y="5445000"/>
            <a:ext cx="395280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2232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29 ноября - </a:t>
            </a:r>
            <a:endParaRPr b="1" lang="en-US" sz="1800" spc="1" strike="noStrike">
              <a:ln w="22320">
                <a:solidFill>
                  <a:srgbClr val="00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День Матери России!</a:t>
            </a:r>
            <a:endParaRPr b="1" lang="en-US" sz="1800" spc="1" strike="noStrike">
              <a:ln w="22320">
                <a:solidFill>
                  <a:srgbClr val="00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48" name="Татьяна Овсиенко - Татьяна Овсиенко - Школьная Пора.mp3" descr=""/>
          <p:cNvPicPr/>
          <p:nvPr/>
        </p:nvPicPr>
        <p:blipFill>
          <a:blip r:embed="rId2"/>
          <a:stretch/>
        </p:blipFill>
        <p:spPr>
          <a:xfrm>
            <a:off x="742968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8762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2E2D-DA79-4E81-A2BF-D7DB1838D751}" type="datetime">
              <a:rPr b="0" lang="ru-RU" sz="1200" spc="-1" strike="noStrike">
                <a:solidFill>
                  <a:srgbClr val="898989"/>
                </a:solidFill>
                <a:latin typeface="Trebuchet M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BD2D-43A9-4AD9-886E-3AA79B66B822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WordArt 4"/>
          <p:cNvSpPr txBox="1"/>
          <p:nvPr/>
        </p:nvSpPr>
        <p:spPr>
          <a:xfrm>
            <a:off x="0" y="549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 вРосси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179280" y="1523880"/>
            <a:ext cx="896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e66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cc0000"/>
                </a:solidFill>
                <a:latin typeface="Monotype Corsiva"/>
              </a:rPr>
              <a:t>Новый праздник —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День Матери</a:t>
            </a:r>
            <a:r>
              <a:rPr b="0" lang="ru-RU" sz="4000" spc="-1" strike="noStrike">
                <a:solidFill>
                  <a:srgbClr val="cc0000"/>
                </a:solidFill>
                <a:latin typeface="Monotype Corsiva"/>
              </a:rPr>
              <a:t> — постепенно входит в российские дом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Monotype Corsiva"/>
              </a:rPr>
              <a:t>                 </a:t>
            </a:r>
            <a:r>
              <a:rPr b="0" lang="ru-RU" sz="4000" spc="-1" strike="noStrike">
                <a:solidFill>
                  <a:srgbClr val="cc0000"/>
                </a:solidFill>
                <a:latin typeface="Monotype Corsiva"/>
              </a:rPr>
              <a:t>И это замечательно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Monotype Corsiva"/>
              </a:rPr>
              <a:t>сколько бы   хороших, добрых слов мы не говорили нашим мамам, сколько бы поводов для этого ни придумали, лишними они не буду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55045s"/>
          <p:cNvPicPr/>
          <p:nvPr/>
        </p:nvPicPr>
        <p:blipFill>
          <a:blip r:embed="rId1"/>
          <a:stretch/>
        </p:blipFill>
        <p:spPr>
          <a:xfrm>
            <a:off x="7451640" y="2637000"/>
            <a:ext cx="1386000" cy="1385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6236081"/>
          <p:cNvPicPr/>
          <p:nvPr/>
        </p:nvPicPr>
        <p:blipFill>
          <a:blip r:embed="rId2"/>
          <a:stretch/>
        </p:blipFill>
        <p:spPr>
          <a:xfrm>
            <a:off x="7308720" y="907920"/>
            <a:ext cx="1619280" cy="13636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AllDay"/>
          <p:cNvPicPr/>
          <p:nvPr/>
        </p:nvPicPr>
        <p:blipFill>
          <a:blip r:embed="rId3"/>
          <a:stretch/>
        </p:blipFill>
        <p:spPr>
          <a:xfrm>
            <a:off x="2700360" y="5877000"/>
            <a:ext cx="3240000" cy="981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EB06-A9D0-4029-BEBA-F693F00643E2}" type="datetime">
              <a:rPr b="0" lang="ru-RU" sz="1200" spc="-1" strike="noStrike">
                <a:solidFill>
                  <a:srgbClr val="898989"/>
                </a:solidFill>
                <a:latin typeface="Trebuchet M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831E-B8D1-44E1-B5EF-B911FFB642FF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WordArt 4"/>
          <p:cNvSpPr txBox="1"/>
          <p:nvPr/>
        </p:nvSpPr>
        <p:spPr>
          <a:xfrm>
            <a:off x="0" y="549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 вРосси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395280" y="1285200"/>
            <a:ext cx="81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реди многочисленных праздников, отмечаемых в нашей стране, 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День Матери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занимает особое место. Это праздник, к которому никто не может остаться равнодушны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 этот день хочется сказать слова благодарности всем 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Матерям,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которые дарят детям любовь, добро, нежность и ласк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1"/>
          <p:cNvPicPr/>
          <p:nvPr/>
        </p:nvPicPr>
        <p:blipFill>
          <a:blip r:embed="rId1"/>
          <a:stretch/>
        </p:blipFill>
        <p:spPr>
          <a:xfrm>
            <a:off x="7451640" y="3213000"/>
            <a:ext cx="1265400" cy="1582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AllDay"/>
          <p:cNvPicPr/>
          <p:nvPr/>
        </p:nvPicPr>
        <p:blipFill>
          <a:blip r:embed="rId2"/>
          <a:stretch/>
        </p:blipFill>
        <p:spPr>
          <a:xfrm>
            <a:off x="7380360" y="907920"/>
            <a:ext cx="1430280" cy="1155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AllDay"/>
          <p:cNvPicPr/>
          <p:nvPr/>
        </p:nvPicPr>
        <p:blipFill>
          <a:blip r:embed="rId3"/>
          <a:stretch/>
        </p:blipFill>
        <p:spPr>
          <a:xfrm>
            <a:off x="7524720" y="5229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4200" spc="-1" strike="noStrike">
                <a:solidFill>
                  <a:srgbClr val="0000ff"/>
                </a:solidFill>
                <a:latin typeface="Monotype Corsiva"/>
              </a:rPr>
              <a:t>Без сна ночей твоих прошло немало,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Monotype Corsiva"/>
              </a:rPr>
              <a:t>Забот, тревог за нас не перечесть,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Monotype Corsiva"/>
              </a:rPr>
              <a:t>Земной поклон тебе, родная мама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Monotype Corsiva"/>
              </a:rPr>
              <a:t>За то, что ты на белом свете есть.</a:t>
            </a: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WordArt 3"/>
          <p:cNvSpPr txBox="1"/>
          <p:nvPr/>
        </p:nvSpPr>
        <p:spPr>
          <a:xfrm>
            <a:off x="0" y="404640"/>
            <a:ext cx="822960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 вРосси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265" name="Picture 6" descr="people076"/>
          <p:cNvPicPr/>
          <p:nvPr/>
        </p:nvPicPr>
        <p:blipFill>
          <a:blip r:embed="rId1"/>
          <a:stretch/>
        </p:blipFill>
        <p:spPr>
          <a:xfrm>
            <a:off x="6588000" y="4508640"/>
            <a:ext cx="2160720" cy="2023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6236031"/>
          <p:cNvPicPr/>
          <p:nvPr/>
        </p:nvPicPr>
        <p:blipFill>
          <a:blip r:embed="rId2"/>
          <a:stretch/>
        </p:blipFill>
        <p:spPr>
          <a:xfrm>
            <a:off x="3995640" y="4437000"/>
            <a:ext cx="1516320" cy="2116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6236026"/>
          <p:cNvPicPr/>
          <p:nvPr/>
        </p:nvPicPr>
        <p:blipFill>
          <a:blip r:embed="rId3"/>
          <a:stretch/>
        </p:blipFill>
        <p:spPr>
          <a:xfrm>
            <a:off x="7854840" y="907920"/>
            <a:ext cx="854280" cy="1225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н"/>
          <p:cNvPicPr/>
          <p:nvPr/>
        </p:nvPicPr>
        <p:blipFill>
          <a:blip r:embed="rId4"/>
          <a:stretch/>
        </p:blipFill>
        <p:spPr>
          <a:xfrm>
            <a:off x="324000" y="4508640"/>
            <a:ext cx="30258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513F-6B27-4F98-BB44-EEEBFF580797}" type="datetime">
              <a:rPr b="0" lang="ru-RU" sz="1200" spc="-1" strike="noStrike">
                <a:solidFill>
                  <a:srgbClr val="898989"/>
                </a:solidFill>
                <a:latin typeface="Trebuchet MS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EA9C-1860-4B39-B796-95EA5A28D844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4"/>
          <p:cNvSpPr txBox="1"/>
          <p:nvPr/>
        </p:nvSpPr>
        <p:spPr>
          <a:xfrm>
            <a:off x="0" y="549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 вРосси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68360" y="963360"/>
            <a:ext cx="849636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Спасибо вам, родные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       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И пусть каждой из вас почаще говоря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        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теплые слова ваши любимые де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усть на их лицах светится улыб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      </a:t>
            </a: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и радостные искорки сверка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в глазах,  когда вы вместе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1192783528_1192647151_solnyshko3"/>
          <p:cNvPicPr/>
          <p:nvPr/>
        </p:nvPicPr>
        <p:blipFill>
          <a:blip r:embed="rId1"/>
          <a:stretch/>
        </p:blipFill>
        <p:spPr>
          <a:xfrm>
            <a:off x="7453440" y="981000"/>
            <a:ext cx="1214280" cy="1224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6236031"/>
          <p:cNvPicPr/>
          <p:nvPr/>
        </p:nvPicPr>
        <p:blipFill>
          <a:blip r:embed="rId2"/>
          <a:stretch/>
        </p:blipFill>
        <p:spPr>
          <a:xfrm>
            <a:off x="250920" y="3429000"/>
            <a:ext cx="1544400" cy="2158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22:27:56Z</dcterms:created>
  <dc:creator>Вера</dc:creator>
  <dc:description>http://aida.ucoz.ru</dc:description>
  <dc:language>en-US</dc:language>
  <cp:lastModifiedBy>Пользователь</cp:lastModifiedBy>
  <dcterms:modified xsi:type="dcterms:W3CDTF">2010-11-19T09:51:47Z</dcterms:modified>
  <cp:revision>38</cp:revision>
  <dc:subject/>
  <dc:title>Слайд 1</dc:title>
</cp:coreProperties>
</file>