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4BC-0AE0-4A84-83A6-A21B1FEC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E08-E581-4674-B460-F32A6692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CC7-29AF-4B2C-9332-A4DBCECF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782-5CDE-4670-9C3A-27CB4AB3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C72-63EB-48EC-9E42-D9211493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311-BC0A-4D29-B754-4CB44FBE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DB27-4A08-441B-9EA1-AB50939C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1CF-E387-434B-A2C4-67854673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36A-5D46-4E3A-BB4B-4C76718A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4D6-10C2-4022-B366-BAA281BE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9B4-8989-4351-B1D9-B44A3B47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EAD-11B7-4231-8DEB-4B5E26DC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1200-FCF5-4690-9C72-28B9B5389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pity.com/cnegranza/Princess-Diana_1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692280"/>
            <a:ext cx="65628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Monotype Corsiva"/>
              </a:rPr>
              <a:t>Famous Brit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000" y="2708280"/>
            <a:ext cx="8002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Elizabeth Chepkasova, 8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Gymnasium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67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St. Petersbur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Diana’s Dea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247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On 31 August 1997 Diana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died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car crash in the Pont de l'Alma road tunnel in Pari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shed-diana-car__1307632a"/>
          <p:cNvPicPr/>
          <p:nvPr/>
        </p:nvPicPr>
        <p:blipFill>
          <a:blip r:embed="rId1"/>
          <a:stretch/>
        </p:blipFill>
        <p:spPr>
          <a:xfrm>
            <a:off x="108000" y="3500280"/>
            <a:ext cx="5264280" cy="308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197531350"/>
          <p:cNvPicPr/>
          <p:nvPr/>
        </p:nvPicPr>
        <p:blipFill>
          <a:blip r:embed="rId2"/>
          <a:stretch/>
        </p:blipFill>
        <p:spPr>
          <a:xfrm>
            <a:off x="4500720" y="2060640"/>
            <a:ext cx="4211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Elton John - Candle In The Wind 1997  (audiopoisk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20100413-diana-post"/>
          <p:cNvPicPr/>
          <p:nvPr/>
        </p:nvPicPr>
        <p:blipFill>
          <a:blip r:embed="rId2"/>
          <a:stretch/>
        </p:blipFill>
        <p:spPr>
          <a:xfrm>
            <a:off x="971640" y="549360"/>
            <a:ext cx="6840360" cy="543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394015588"/>
          <p:cNvPicPr/>
          <p:nvPr/>
        </p:nvPicPr>
        <p:blipFill>
          <a:blip r:embed="rId3"/>
          <a:stretch/>
        </p:blipFill>
        <p:spPr>
          <a:xfrm>
            <a:off x="971640" y="333360"/>
            <a:ext cx="6840360" cy="6299280"/>
          </a:xfrm>
          <a:prstGeom prst="rect">
            <a:avLst/>
          </a:prstGeom>
          <a:ln w="0">
            <a:noFill/>
          </a:ln>
        </p:spPr>
      </p:pic>
      <p:pic>
        <p:nvPicPr>
          <p:cNvPr id="91" name="Elton John - Candle In The Wind  (audiopoisk.com).mp3" descr=""/>
          <p:cNvPicPr/>
          <p:nvPr/>
        </p:nvPicPr>
        <p:blipFill>
          <a:blip r:embed="rId4"/>
          <a:stretch/>
        </p:blipFill>
        <p:spPr>
          <a:xfrm>
            <a:off x="860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62728001_1281840933_30"/>
          <p:cNvPicPr/>
          <p:nvPr/>
        </p:nvPicPr>
        <p:blipFill>
          <a:blip r:embed="rId1"/>
          <a:stretch/>
        </p:blipFill>
        <p:spPr>
          <a:xfrm>
            <a:off x="2124000" y="200160"/>
            <a:ext cx="4714920" cy="6657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www.starer.ru/images/princess-diana/mario-testino-photoshoot-at-kensington-palace/39.jpg"/>
          <p:cNvPicPr/>
          <p:nvPr/>
        </p:nvPicPr>
        <p:blipFill>
          <a:blip r:embed="rId2"/>
          <a:stretch/>
        </p:blipFill>
        <p:spPr>
          <a:xfrm>
            <a:off x="2050920" y="189000"/>
            <a:ext cx="482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The Harrods Mem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559262"/>
          <p:cNvPicPr/>
          <p:nvPr/>
        </p:nvPicPr>
        <p:blipFill>
          <a:blip r:embed="rId1"/>
          <a:stretch/>
        </p:blipFill>
        <p:spPr>
          <a:xfrm>
            <a:off x="1187280" y="1413000"/>
            <a:ext cx="6667560" cy="5000400"/>
          </a:xfrm>
          <a:prstGeom prst="rect">
            <a:avLst/>
          </a:prstGeom>
          <a:ln w="0">
            <a:noFill/>
          </a:ln>
        </p:spPr>
      </p:pic>
      <p:pic>
        <p:nvPicPr>
          <p:cNvPr id="96" name="Elton John - Candle In The Wind 1997  (audiopoisk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5218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E:\Diana\Princess-Diana-princess-diana-218372_1024_768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Sources of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http://www.dianaprincessofwalesmemorialfund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http://voices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http://www.youtube.com/watch?feature=player_detailpage&amp;v=cttog6XfY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http://www.hellomagazi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http://www.biography.com/people/princess-diana-92737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Diana, Princess of Wales</a:t>
            </a: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124009_Diana4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987640" y="1700280"/>
            <a:ext cx="31654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The childhoo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80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Diana was born on 1 July 1961, in Sandringham, Norfo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k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She was the fourth of five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582e0ba93d491c9e8f5953e060b1014dd40f9d95050448"/>
          <p:cNvPicPr/>
          <p:nvPr/>
        </p:nvPicPr>
        <p:blipFill>
          <a:blip r:embed="rId1"/>
          <a:stretch/>
        </p:blipFill>
        <p:spPr>
          <a:xfrm>
            <a:off x="5651640" y="2133720"/>
            <a:ext cx="2982600" cy="417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%D0%B4%D0%B8%D0%B0%D0%BD%D0%B0-%D0%B2-%D0%B4%D0%B5%D1%82%D1%81%D1%82%D0%B2%D0%B5"/>
          <p:cNvPicPr/>
          <p:nvPr/>
        </p:nvPicPr>
        <p:blipFill>
          <a:blip r:embed="rId2"/>
          <a:stretch/>
        </p:blipFill>
        <p:spPr>
          <a:xfrm>
            <a:off x="2556000" y="2637000"/>
            <a:ext cx="2838240" cy="4024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Малышка Диана"/>
          <p:cNvPicPr/>
          <p:nvPr/>
        </p:nvPicPr>
        <p:blipFill>
          <a:blip r:embed="rId3"/>
          <a:stretch/>
        </p:blipFill>
        <p:spPr>
          <a:xfrm>
            <a:off x="324000" y="3645000"/>
            <a:ext cx="1698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In 1968, Diana was sent to Riddlesworth Hall, an all-girls boarding schoo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In 1977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Diana went to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finishing schoo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t the Institute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 in Rougemont, Switzerland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newdi4140601_398x450"/>
          <p:cNvPicPr/>
          <p:nvPr/>
        </p:nvPicPr>
        <p:blipFill>
          <a:blip r:embed="rId1"/>
          <a:stretch/>
        </p:blipFill>
        <p:spPr>
          <a:xfrm>
            <a:off x="900000" y="2637000"/>
            <a:ext cx="3411720" cy="38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untitl5"/>
          <p:cNvPicPr/>
          <p:nvPr/>
        </p:nvPicPr>
        <p:blipFill>
          <a:blip r:embed="rId2"/>
          <a:stretch/>
        </p:blipFill>
        <p:spPr>
          <a:xfrm>
            <a:off x="6012000" y="2349360"/>
            <a:ext cx="234000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The wed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064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Twenty-year-old Diana became Princess of Wales when she married the Princ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of Wales on 29 July 1981 at St. Paul's Cathedra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1981-Princess-Diana-Wedding-73399860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39640" y="3357720"/>
            <a:ext cx="4572000" cy="289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SER\Desktop\Diana\dianawedding7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867280" y="2133720"/>
            <a:ext cx="2733840" cy="4395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971640" y="220500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fairytale wedding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a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The marri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4176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1 June 198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nce Willi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5 September 19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nce Harr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7" descr="f9a02f"/>
          <p:cNvPicPr/>
          <p:nvPr/>
        </p:nvPicPr>
        <p:blipFill>
          <a:blip r:embed="rId1"/>
          <a:stretch/>
        </p:blipFill>
        <p:spPr>
          <a:xfrm>
            <a:off x="4211640" y="1773360"/>
            <a:ext cx="47322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The divor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338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The divorce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was finalised on 28 August 1996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Diana received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a lump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sum settlemen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of around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£17 mill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://cdn.dipity.com/uploads/events/c3fc01b1a4f3438b4141df474bd3cd44_1M.png">
            <a:hlinkClick r:id="rId1"/>
          </p:cNvPr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076720" y="1484280"/>
            <a:ext cx="3740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Dodi Al Fay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13744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 19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6 Diana met Dodi Al Fay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fter the divorce Diana started dating Dod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fayad-dodi-al"/>
          <p:cNvPicPr/>
          <p:nvPr/>
        </p:nvPicPr>
        <p:blipFill>
          <a:blip r:embed="rId1"/>
          <a:stretch/>
        </p:blipFill>
        <p:spPr>
          <a:xfrm>
            <a:off x="395280" y="2637000"/>
            <a:ext cx="4572000" cy="3693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iana"/>
          <p:cNvPicPr/>
          <p:nvPr/>
        </p:nvPicPr>
        <p:blipFill>
          <a:blip r:embed="rId2"/>
          <a:stretch/>
        </p:blipFill>
        <p:spPr>
          <a:xfrm>
            <a:off x="4932360" y="2276640"/>
            <a:ext cx="367200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Charity 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"I would like to be a queen in the hearts of the people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he worst illness of our time is that so many people have to suffer from never being lov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diana_50_37"/>
          <p:cNvPicPr/>
          <p:nvPr/>
        </p:nvPicPr>
        <p:blipFill>
          <a:blip r:embed="rId1"/>
          <a:stretch/>
        </p:blipFill>
        <p:spPr>
          <a:xfrm>
            <a:off x="684360" y="3141720"/>
            <a:ext cx="4811400" cy="3181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Princess%20Diana%20image%2016"/>
          <p:cNvPicPr/>
          <p:nvPr/>
        </p:nvPicPr>
        <p:blipFill>
          <a:blip r:embed="rId2"/>
          <a:stretch/>
        </p:blipFill>
        <p:spPr>
          <a:xfrm>
            <a:off x="6012000" y="2565360"/>
            <a:ext cx="26571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7:38:41Z</dcterms:created>
  <dc:creator>Комп</dc:creator>
  <dc:description/>
  <dc:language>en-US</dc:language>
  <cp:lastModifiedBy>USER</cp:lastModifiedBy>
  <dcterms:modified xsi:type="dcterms:W3CDTF">2013-03-06T18:41:12Z</dcterms:modified>
  <cp:revision>25</cp:revision>
  <dc:subject/>
  <dc:title>Diana, Princess of Wales </dc:title>
</cp:coreProperties>
</file>