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C75-068B-4302-8F77-519CC766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8DD-BD55-4568-86BB-853FA39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D1F-8E85-4DF5-B4F8-0EB3AD8B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EB1-3491-44BE-8A4D-0ABAAF22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1A6-EAF6-45F2-9318-E2BD689A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0CB-47DE-4E1A-8640-AE94FA5C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D75-DB81-4BE5-A172-92AC233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1F1-1572-4659-B305-52F7B83B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A02-7464-4149-B61E-86F4D4B1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7E0-A295-4F7C-96F6-CD2BC0E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95F-531C-432D-B088-CD31FB1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3F4-EFCE-4223-98BD-D4A8925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8B4-D73B-4CA6-953E-A3EDD6010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pity.com/cnegranza/Princess-Diana_1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5628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Famous Brit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000" y="2708280"/>
            <a:ext cx="8002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Elizabeth Chepkasova, 8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Gymnasium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67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St. Petersbur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Diana’s Dea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n 31 August 1997 Diana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ied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car crash in the Pont de l'Alma road tunnel in Pari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shed-diana-car__1307632a"/>
          <p:cNvPicPr/>
          <p:nvPr/>
        </p:nvPicPr>
        <p:blipFill>
          <a:blip r:embed="rId1"/>
          <a:stretch/>
        </p:blipFill>
        <p:spPr>
          <a:xfrm>
            <a:off x="108000" y="3500280"/>
            <a:ext cx="5264280" cy="30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97531350"/>
          <p:cNvPicPr/>
          <p:nvPr/>
        </p:nvPicPr>
        <p:blipFill>
          <a:blip r:embed="rId2"/>
          <a:stretch/>
        </p:blipFill>
        <p:spPr>
          <a:xfrm>
            <a:off x="4500720" y="2060640"/>
            <a:ext cx="421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lton John - Candle In The Wind 1997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20100413-diana-post"/>
          <p:cNvPicPr/>
          <p:nvPr/>
        </p:nvPicPr>
        <p:blipFill>
          <a:blip r:embed="rId2"/>
          <a:stretch/>
        </p:blipFill>
        <p:spPr>
          <a:xfrm>
            <a:off x="971640" y="549360"/>
            <a:ext cx="6840360" cy="54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394015588"/>
          <p:cNvPicPr/>
          <p:nvPr/>
        </p:nvPicPr>
        <p:blipFill>
          <a:blip r:embed="rId3"/>
          <a:stretch/>
        </p:blipFill>
        <p:spPr>
          <a:xfrm>
            <a:off x="971640" y="333360"/>
            <a:ext cx="6840360" cy="6299280"/>
          </a:xfrm>
          <a:prstGeom prst="rect">
            <a:avLst/>
          </a:prstGeom>
          <a:ln w="0">
            <a:noFill/>
          </a:ln>
        </p:spPr>
      </p:pic>
      <p:pic>
        <p:nvPicPr>
          <p:cNvPr id="91" name="Elton John - Candle In The Wind  (audiopoisk.com).mp3" descr=""/>
          <p:cNvPicPr/>
          <p:nvPr/>
        </p:nvPicPr>
        <p:blipFill>
          <a:blip r:embed="rId4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62728001_1281840933_30"/>
          <p:cNvPicPr/>
          <p:nvPr/>
        </p:nvPicPr>
        <p:blipFill>
          <a:blip r:embed="rId1"/>
          <a:stretch/>
        </p:blipFill>
        <p:spPr>
          <a:xfrm>
            <a:off x="2124000" y="200160"/>
            <a:ext cx="4714920" cy="665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www.starer.ru/images/princess-diana/mario-testino-photoshoot-at-kensington-palace/39.jpg"/>
          <p:cNvPicPr/>
          <p:nvPr/>
        </p:nvPicPr>
        <p:blipFill>
          <a:blip r:embed="rId2"/>
          <a:stretch/>
        </p:blipFill>
        <p:spPr>
          <a:xfrm>
            <a:off x="2050920" y="189000"/>
            <a:ext cx="482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e Harrods Mem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559262"/>
          <p:cNvPicPr/>
          <p:nvPr/>
        </p:nvPicPr>
        <p:blipFill>
          <a:blip r:embed="rId1"/>
          <a:stretch/>
        </p:blipFill>
        <p:spPr>
          <a:xfrm>
            <a:off x="1187280" y="1413000"/>
            <a:ext cx="6667560" cy="5000400"/>
          </a:xfrm>
          <a:prstGeom prst="rect">
            <a:avLst/>
          </a:prstGeom>
          <a:ln w="0">
            <a:noFill/>
          </a:ln>
        </p:spPr>
      </p:pic>
      <p:pic>
        <p:nvPicPr>
          <p:cNvPr id="96" name="Elton John - Candle In The Wind 1997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5218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E:\Diana\Princess-Diana-princess-diana-218372_1024_768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dianaprincessofwalesmemorialfun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voices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youtube.com/watch?feature=player_detailpage&amp;v=cttog6Xf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hellomagaz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http://www.biography.com/people/princess-diana-9273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Diana, Princess of Wales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24009_Diana4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987640" y="1700280"/>
            <a:ext cx="31654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childh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Diana was born on 1 July 1961, in Sandringham, Norf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k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She was the fourth of five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582e0ba93d491c9e8f5953e060b1014dd40f9d95050448"/>
          <p:cNvPicPr/>
          <p:nvPr/>
        </p:nvPicPr>
        <p:blipFill>
          <a:blip r:embed="rId1"/>
          <a:stretch/>
        </p:blipFill>
        <p:spPr>
          <a:xfrm>
            <a:off x="5651640" y="2133720"/>
            <a:ext cx="298260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%D0%B4%D0%B8%D0%B0%D0%BD%D0%B0-%D0%B2-%D0%B4%D0%B5%D1%82%D1%81%D1%82%D0%B2%D0%B5"/>
          <p:cNvPicPr/>
          <p:nvPr/>
        </p:nvPicPr>
        <p:blipFill>
          <a:blip r:embed="rId2"/>
          <a:stretch/>
        </p:blipFill>
        <p:spPr>
          <a:xfrm>
            <a:off x="2556000" y="2637000"/>
            <a:ext cx="2838240" cy="40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Малышка Диана"/>
          <p:cNvPicPr/>
          <p:nvPr/>
        </p:nvPicPr>
        <p:blipFill>
          <a:blip r:embed="rId3"/>
          <a:stretch/>
        </p:blipFill>
        <p:spPr>
          <a:xfrm>
            <a:off x="324000" y="3645000"/>
            <a:ext cx="169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In 1968, Diana was sent to Riddlesworth Hall, an all-girls boarding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In 1977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iana went to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finishing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t the Institute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in Rougemont, Switzerlan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newdi4140601_398x450"/>
          <p:cNvPicPr/>
          <p:nvPr/>
        </p:nvPicPr>
        <p:blipFill>
          <a:blip r:embed="rId1"/>
          <a:stretch/>
        </p:blipFill>
        <p:spPr>
          <a:xfrm>
            <a:off x="900000" y="2637000"/>
            <a:ext cx="3411720" cy="38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untitl5"/>
          <p:cNvPicPr/>
          <p:nvPr/>
        </p:nvPicPr>
        <p:blipFill>
          <a:blip r:embed="rId2"/>
          <a:stretch/>
        </p:blipFill>
        <p:spPr>
          <a:xfrm>
            <a:off x="6012000" y="2349360"/>
            <a:ext cx="23400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wed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Twenty-year-old Diana became Princess of Wales when she married the Princ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f Wales on 29 July 1981 at St. Paul's Cathedra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981-Princess-Diana-Wedding-73399860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39640" y="3357720"/>
            <a:ext cx="4572000" cy="28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Diana\dianawedding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867280" y="2133720"/>
            <a:ext cx="2733840" cy="4395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971640" y="22050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fairytale weddin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a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marri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417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1 June 198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ce Will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5 September 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ce Har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f9a02f"/>
          <p:cNvPicPr/>
          <p:nvPr/>
        </p:nvPicPr>
        <p:blipFill>
          <a:blip r:embed="rId1"/>
          <a:stretch/>
        </p:blipFill>
        <p:spPr>
          <a:xfrm>
            <a:off x="4211640" y="1773360"/>
            <a:ext cx="47322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divo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38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The divorc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was finalised on 28 August 199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Diana receive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a lump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sum settleme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f aroun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£17 mill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://cdn.dipity.com/uploads/events/c3fc01b1a4f3438b4141df474bd3cd44_1M.png">
            <a:hlinkClick r:id="rId1"/>
          </p:cNvPr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076720" y="1484280"/>
            <a:ext cx="374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Dodi Al Fay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37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19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 Diana met Dodi Al Fa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ter the divorce Diana started dating Dod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ayad-dodi-al"/>
          <p:cNvPicPr/>
          <p:nvPr/>
        </p:nvPicPr>
        <p:blipFill>
          <a:blip r:embed="rId1"/>
          <a:stretch/>
        </p:blipFill>
        <p:spPr>
          <a:xfrm>
            <a:off x="395280" y="2637000"/>
            <a:ext cx="4572000" cy="369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iana"/>
          <p:cNvPicPr/>
          <p:nvPr/>
        </p:nvPicPr>
        <p:blipFill>
          <a:blip r:embed="rId2"/>
          <a:stretch/>
        </p:blipFill>
        <p:spPr>
          <a:xfrm>
            <a:off x="4932360" y="2276640"/>
            <a:ext cx="367200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harity 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"I would like to be a queen in the hearts of the peopl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he worst illness of our time is that so many people have to suffer from never being lov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iana_50_37"/>
          <p:cNvPicPr/>
          <p:nvPr/>
        </p:nvPicPr>
        <p:blipFill>
          <a:blip r:embed="rId1"/>
          <a:stretch/>
        </p:blipFill>
        <p:spPr>
          <a:xfrm>
            <a:off x="684360" y="3141720"/>
            <a:ext cx="481140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rincess%20Diana%20image%2016"/>
          <p:cNvPicPr/>
          <p:nvPr/>
        </p:nvPicPr>
        <p:blipFill>
          <a:blip r:embed="rId2"/>
          <a:stretch/>
        </p:blipFill>
        <p:spPr>
          <a:xfrm>
            <a:off x="6012000" y="2565360"/>
            <a:ext cx="2657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7:38:41Z</dcterms:created>
  <dc:creator>Комп</dc:creator>
  <dc:description/>
  <dc:language>en-US</dc:language>
  <cp:lastModifiedBy>USER</cp:lastModifiedBy>
  <dcterms:modified xsi:type="dcterms:W3CDTF">2013-03-06T18:41:12Z</dcterms:modified>
  <cp:revision>25</cp:revision>
  <dc:subject/>
  <dc:title>Diana, Princess of Wales </dc:title>
</cp:coreProperties>
</file>