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8.wmf" ContentType="image/x-wmf"/>
  <Override PartName="/ppt/media/image2.jpeg" ContentType="image/jpeg"/>
  <Override PartName="/ppt/media/image3.wmf" ContentType="image/x-wmf"/>
  <Override PartName="/ppt/media/image12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7B0-D705-44AF-9A7B-B1B22CA2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13E-2C8B-4A8D-8C42-5147C03F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2B9-17E5-4CB0-AB93-9CF3068F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909-BC1E-4C0B-A261-8E5D7F80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9CB-6998-4104-A533-440A9558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8D0-F568-4701-AD00-D48488C4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68F-4A3E-47C0-80BD-146AAEA0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3ED-20AF-489D-9DE9-419D0EEC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134-D447-4FF3-BC72-BB14A8B5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858-8218-4122-886C-A6B68C17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BC8-79F5-4F4B-84F9-311A19B8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4FB-C981-4871-83E0-7E25C37F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E5F5-E833-4829-AC88-7D3C2CA4AB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ГЭ по информа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87138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Личностны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труднения обусловлены особенностями восприятия учеником ситуации экзамена, его субъективными реакциями и состояния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целью обеспечения объективного контроля качества образова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оду будут решаться следующие задач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ршенствование нормативно-правовой базы, в первую очередь, с точки зрения защиты прав детей и повышения ответственности взрослых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ршенствование контрольных измерительных материалов (далее - КИМ) на основании предложений профсообщества, предметных комиссий субъектов Федераци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ршенствование технологических решений (повышение информационной безопасности, в первую очередь, в пунктах проведения экзамена (далее - ППЭ), автоматизация всех элементов технологии, технология проведение ЕГЭ за пределами Российской Федерации, в труднодоступных и отдаленных местностях (ТОМ) и для участников ЕГЭ с ограниченными возможностями здоровья, полный переход на распечатку свидетельств в регионах и др.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ответственности субъектов Федерации за обеспечение и соблюдение процедуры ЕГЭ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ение участия и ответственности вузов на всех этапах проведения ЕГЭ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ширение общественного наблюдения за ходом проведения ЕГЭ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рехода к "штатному" режиму проведения ЕГЭ подготовлены предложения по разработке следующих нормативных правовых актов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оложения о формах и порядке проведения государственной (итоговой) аттестации обучающихся, освоивших образовательные программы среднего (полного) общего образовани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Положения о проведении единого государственного экзамен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Положения о проведении государственной (итоговой) аттестации выпускников специальных учебно-воспитательных учреждений для детей и подростков с девиантным поведением закрытого типа и учреждений, исполняющих наказание в виде лишения свобод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Положения о проведении государственной (итоговой) аттестации выпускников с ограниченными возможностями здоровь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Порядка проведения государственной (итоговой) аттестации обучающихся, освоивших образовательные программы основного общего образовани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Порядка выдачи свидетельства о результатах ЕГЭ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Формы справки об обучении в общеобразовательном учреждени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Порядка приема граждан в государственные образовательные учреждения среднего профессионального образовани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 Порядка приема граждан в государственные и муниципальные образовательные учреждения высшего профессионального образовани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 Порядка формирования, ведения и обеспечения взаимодействия федеральных баз данных и баз данных субъектов Российской Федерации об участниках единого государственного экзамена и о результатах единого государственного экзамен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 Перечня направлений подготовки (специальностей) среднего профессионального и высшего профессионального образования, по которым при приеме могут проводиться дополнительные испытания творческой и (или) профессиональной направленност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 Перечня вступительных испытаний в вузы с учетом профиля подготовк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 Перечня вступительных испытаний в ссузы с учетом профиля подготов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ешения указанных задач для проведения ЕГЭ в "штатном" режиме потребуется решить вопросы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я нормативных правовых оснований, накладывающих ограничения на перечень элементов содержания, контролируемых в КИМ. До настоящего времени КИМ формировались на основе обязательного минимума содержания среднего (полного) общего и основного общего образования (приложения к приказам Минобразования Росс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 1236 от 19 мая 1998 г., № 56 от 30 июня 1999 г.) и федерального компонента государственного образовательного стандарта основного общего и среднего (полного) общего образования (приказ Минобразования России № 1069 от 5 марта 2004 года.). На основании указанных документов разрабатывались перечни контролируемых элементов содержания (кодификаторы), которые ежегодно после широкого обсуждения и доработки утверждались Рособрнадзором. В штатном режиме целесообразно утверждать указанные кодификаторы на уровне Минобрнауки Росси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и Е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5280" y="259920"/>
            <a:ext cx="74278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 – 4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1785960" y="2643120"/>
          <a:ext cx="4643280" cy="39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2643120"/>
                    <a:ext cx="464328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50920" y="836640"/>
          <a:ext cx="8713800" cy="1655640"/>
        </p:xfrm>
        <a:graphic>
          <a:graphicData uri="http://schemas.openxmlformats.org/drawingml/2006/table">
            <a:tbl>
              <a:tblPr/>
              <a:tblGrid>
                <a:gridCol w="1244520"/>
                <a:gridCol w="2860560"/>
                <a:gridCol w="460872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регио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итуриентский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ая аттестация, абитуриентский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ая аттестация, абитуриентский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60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54000" y="549360"/>
            <a:ext cx="9090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85680" y="765000"/>
            <a:ext cx="9058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85680" y="743040"/>
            <a:ext cx="89726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-84240" y="836640"/>
            <a:ext cx="94204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 эксперимента по введению единого государственного экзамена (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диный государственный экзамен как составляющая часть создающейся в настоящее время общероссийской системы оценки качества образования. Основные задачи, решаемые в ходе эксперимента по введению ЕГЭ в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ышение доступности профессионального образования. Расширение возможностей поступления в высшие учебные заведения вне зависимости от места проживания и материальны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Формирование системы объективной оценки общеобразовательной подготовки выпускников, обеспечение равных условий при поступлении в вузы и ссу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блема обеспечения преемственности между общим и профессиональным образова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здание условий для повышения эквивалентности государственных документов о получении среднего (полного)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ение государственного контроля качества общего образования на основе независимой, объективной оценки уровня общеобразовательной подготовки выпуск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50920" y="-243000"/>
            <a:ext cx="835344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ист обязан обладать способностью первоклассного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математ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 абстракции и логическому мышлению в сочетании с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эдис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ским талантом сооружать всё, что угодно из нуля и единицы, он должен соединять в себе аккуратность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бухгалт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 проницательностью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разведч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, фантазию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ав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детективных роман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трезвой практичностью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бизнесм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, а кроме того иметь вкус к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коллект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у труду, быть лояльным к организатору работ и так дале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П.Ершов «О человеческом и эстетиче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акторах программ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752480" y="304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Times New Roman"/>
              </a:rPr>
              <a:t>«Информатика и ИК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3"/>
          <p:cNvGraphicFramePr/>
          <p:nvPr/>
        </p:nvGraphicFramePr>
        <p:xfrm>
          <a:off x="609480" y="1219320"/>
          <a:ext cx="92203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92203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17400" y="1487160"/>
            <a:ext cx="805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ОССИЙСКОЙ ФЕДЕРАЦИИ ПРИКАЗ   от 9 марта 2004 г. N 13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ОБ УТВЕРЖДЕНИИ ФЕДЕРАЛЬНОГО  БАЗИСНОГО УЧЕБНОГО ПЛАНА  И ПРИМЕРНЫХ УЧЕБНЫХ ПЛАНОВ ДЛЯ ОБРАЗОВАТЕЛЬНЫХ УЧРЕЖДЕНИЙРОССИЙСКОЙ ФЕДЕРАЦИИ, РЕАЛИЗУЮЩИХ ПРОГРАММЫ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умент опубликован: Вестник образования №8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1143000" y="152280"/>
          <a:ext cx="6908760" cy="650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280"/>
                    <a:ext cx="6908760" cy="650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1295280" y="0"/>
          <a:ext cx="6807240" cy="864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6807240" cy="86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3"/>
          <p:cNvGraphicFramePr/>
          <p:nvPr/>
        </p:nvGraphicFramePr>
        <p:xfrm>
          <a:off x="1295280" y="3124080"/>
          <a:ext cx="5645160" cy="551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124080"/>
                    <a:ext cx="56451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11 класса, изучающий предмет на базовом уровне должен иметь к концу 11 класса минимум – 175 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рофильном уровне  -  393 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.................……имеет – 70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базового уровня по предмету ему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не хватает 60%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ого врем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профильного уровня по предмету ему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не хватает 82%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ого врем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Знания и умения выпуск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2565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уровень – 50 %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ый уровень – 37,5 %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ий уровень – 12,5 %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-108000" y="404640"/>
          <a:ext cx="8964720" cy="58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404640"/>
                    <a:ext cx="896472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9"/>
          <p:cNvSpPr/>
          <p:nvPr/>
        </p:nvSpPr>
        <p:spPr>
          <a:xfrm>
            <a:off x="3236760" y="34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рмативно-правовые основы проведения ЕГ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Российской Федерации «Об образовании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ожение о государственной (итоговой) аттестации выпускнико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классов общеобразовательных учреждений Российской Федерации. Письмо № 03-51-17ин/13-03 от 04.02.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бразовательный стандарт по предмету: Обязательный минимум содержания основного общего образования по предмету. Обязательный минимум содержания среднего (полного) общего образования по предмету. Требования к уровню подготовки выпускников общеобразовательной (полной) школы. Федеральный компонент государственного стандарта обще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"Об организации эксперимента по введению единого государственного экзамена". Постановление Правительства Российской Федерации от 16 февраля 2001 г. № 119". Приказ Минобразования России от 16 марта 2001 г/ № 1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"Об участии образовательных учреждений среднего профессионального образования в эксперименте по введению единого государственного экзамена" Постановление Правительства Российской Федерации от 5 апреля г. № 222". Приказ Минобразования России от 22 апреля 2002 г. № 15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"Об утверждении Положения о проведении единого государственного экзамена" Приказ Минобразования России от 9 апреля 2002 г. № 13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"Об утверждении формы свидетельства о результатах единого государственного экзамена". Приказ Минобразования России от 31 марта 2003 г. № 128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 утверждении порядка приема в государственные образовательные учреждения высшего профессионального образования (высшие учебные заведения) Российской Федерации, учрежденные федеральными органами исполнительной власти. Приказ Минобразования России от 14.01.2003 № 5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б утверждении порядка приема в государственные и муниципальные образовательные учреждения среднего профессионального образования (средние специальные учебные заведения) Российской Федерации. Приказ Минобразования России от 09.12.2002 № 430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10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комендации по разработке положения о государственной экзаменационной комиссии субъекта Российской Федерации. Письмо Рособрнадзора от 29.11.2006  № 01-830/08-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1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комендации по формированию и организации работы предметных комиссий (подкомиссий) государственной экзаменационной комиссии субъекта Российской Федерации. Письмо Рособрнадзора от 27.12.2006  №  01-865/08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1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комендации по разработке положения о конфликтной комиссии субъекта Российской Федерации. Письмо Рособрнадзора от  27.12.2006  №  01-866/08-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13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ответственности лиц, привлекаемых к работам  по проведению единого  государственного экзамена в субъектах Российской Федерации. Письмо Рособрнадзора от 27.04.2004 № 03-51-69ин/36-03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1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струкция для предметной комиссии по проверке бланков ответов № 2 в 2006 – 2007 г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9780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енняя и внешняя оц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4572000" y="2100240"/>
          <a:ext cx="4176720" cy="31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00240"/>
                    <a:ext cx="417672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10"/>
          <p:cNvGraphicFramePr/>
          <p:nvPr/>
        </p:nvGraphicFramePr>
        <p:xfrm>
          <a:off x="179280" y="2060640"/>
          <a:ext cx="4248360" cy="333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060640"/>
                    <a:ext cx="42483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ая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-88920" y="1844640"/>
          <a:ext cx="9298080" cy="34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1844640"/>
                    <a:ext cx="929808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Содержание  экзам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Информация и её кодирование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Алгоритмизация и программирование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Основы логики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Моделирование и компьютерный эксперимент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Программные средства информационных и коммуникационных технологий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хнология обработки графической и звуковой информации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хнология обработки информации в электронных таблицах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хнология хранения, поиска и сортировки информации в базах данных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лекоммуникационные технологии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Знания и умения выпуск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2565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уровень – 50 %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ый уровень – 37,5 %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ий уровень – 12,5 %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Уровни проверки зна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уровне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воспроизведения зн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ерез несложные задания в одно-два действия проверяется фундаментальный теоретический матери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цы измерения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ы код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 счис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е алгоритма, его свойств, способов запис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алгоритмические констр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элементы программ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элементы математической лог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типы информационных моде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онятия, используемые в информационных и коммуникационных технолог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на проверку сформированности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умений применять полученные знания в стандартной ситу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веден во все три части экзаменационной работы и нацелен на проверку следующих ум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считывать информационный объём со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перевод из одной системы счисления в другу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арифметические действия в двоичной, восьмеричной и шестнадцатеричной системах счис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стандартные алгоритмические конструкции при программиро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льно исполнять алгоритмы, записанные на естественных и алгоритмических языках, в том числе в виде блок-схем и на языках программ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ть и преобразовывать логические выра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ть для логической функции таблицу истинности и логическую сх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ть результат работы известного программного обеспе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ировать запросы к базам данных и поисковым систе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 на проверку сформированности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умений применять полученные знания в новой ситуаци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ходящий во вторую и третью часть работы, проверяет следующие комплексные ум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ть сложные логические высказы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 текст программы с точки зрения соответствия записанного алгоритма поставленной задаче и изменять его в соответствии с зада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овывать сложный алгоритм с использованием современных систем программ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Система оценивания и типичные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часть – 20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шибки распознавания исключе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часть – 8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возможны ошибки из-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знавания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облюдения требований к форма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я нестандартных букв и циф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Оцен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балл за каждое верное задание 1 и 2 ч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28 тестовых баллов из 40 (7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часть – 4 задания (сканируются без распознава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Выводы с учетом итогов ЕГЭ 2005-2007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 имеет профильный характер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щать внимание прежде всего на темы, включенные в программы для поступающих в вузы: алгоритмизацию и программ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большого количества ошибок – слабая математическая подготовка 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стат"/>
          <p:cNvPicPr/>
          <p:nvPr/>
        </p:nvPicPr>
        <p:blipFill>
          <a:blip r:embed="rId1"/>
          <a:stretch/>
        </p:blipFill>
        <p:spPr>
          <a:xfrm>
            <a:off x="141120" y="392040"/>
            <a:ext cx="8964720" cy="613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стат1"/>
          <p:cNvPicPr/>
          <p:nvPr/>
        </p:nvPicPr>
        <p:blipFill>
          <a:blip r:embed="rId2"/>
          <a:stretch/>
        </p:blipFill>
        <p:spPr>
          <a:xfrm>
            <a:off x="0" y="133200"/>
            <a:ext cx="94582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Выводы с учетом итогов ЕГЭ 2005-2007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елять повышенное внимание тем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Основы логики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хнология обработки графической и звуковой информации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хнология обработки информации в электронных таблицах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хнология хранения, поиска и сортировки информации в базах данных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лекоммуникационные технологии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Выводы с учетом итогов ЕГЭ 2005-2007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7632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8/2009 учебный год запланировать специальную переходную программу обучения в 11 классе, чтобы учащиеся могли сдать обновленный экзамен 2009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68360" y="620640"/>
          <a:ext cx="8426520" cy="6053040"/>
        </p:xfrm>
        <a:graphic>
          <a:graphicData uri="http://schemas.openxmlformats.org/drawingml/2006/table">
            <a:tbl>
              <a:tblPr/>
              <a:tblGrid>
                <a:gridCol w="3265560"/>
                <a:gridCol w="1298520"/>
                <a:gridCol w="2154240"/>
                <a:gridCol w="1708200"/>
              </a:tblGrid>
              <a:tr h="314280"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b10101"/>
                          </a:solidFill>
                          <a:latin typeface="Times New Roman"/>
                          <a:ea typeface="Times New Roman"/>
                        </a:rPr>
                        <a:t>ПРОФ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b10101"/>
                          </a:solidFill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10101"/>
                          </a:solidFill>
                          <a:latin typeface="Times New Roman"/>
                          <a:ea typeface="Times New Roman"/>
                        </a:rPr>
                        <a:t>Компоненты образовательного станд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6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о-матема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аса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 – 5 час..(элек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16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о-техн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аса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 – 5 час. (элек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эконом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 – 4 час. (элек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ально-техн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 – 4 час. (элек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с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 – 4 час. (элек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о-хим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6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93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о-географ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6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90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гуманита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3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4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93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о-педаг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4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93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арно-техн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4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5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5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76"/>
          <p:cNvSpPr/>
          <p:nvPr/>
        </p:nvSpPr>
        <p:spPr>
          <a:xfrm>
            <a:off x="468360" y="189000"/>
            <a:ext cx="8405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Часы, отводимые на изучение «Информатики и ИКТ» в 10-11 клас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Примерное тематическое планирование элективного курса «Подготовка к ЕГЭ по информати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Лекционный материал. Основные подходы к разработке контрольно-измерительных материалов ЕГЭ по информатике (8(12)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задачи, решаемые в ходе эксперимента по введению ЕГЭ в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нципы отбора содержания контрольных измерительных материалов (КИМ) по информат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ипы заданий. Распределение заданий экзаменационной работы по уровням усвоения учебного содержания кур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Тематические блоки и тренинг по заданиям и вариантам (10(24)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матический блок «Информация и ее кодировани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матические блоки «Алгоритмизация и программирование» и «Технология программирова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матический блок «Моделирование и компьютерный эксперимен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матический блок «Основные устройства информационных и коммуникационных технологий» и «Программные средства информационных и коммуникационных технологий 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матический блок «Основы логи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матический блок «Технология обработки текстовой, графической и звуковой информации», «Технология обработки информации в электронных таблицах», «Технология хранения, поиска и сортировки информации в базах данны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ренинг по вариа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Пример распределения часов при организации элективного кур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035600"/>
        </p:xfrm>
        <a:graphic>
          <a:graphicData uri="http://schemas.openxmlformats.org/drawingml/2006/table">
            <a:tbl>
              <a:tblPr/>
              <a:tblGrid>
                <a:gridCol w="1811160"/>
                <a:gridCol w="1366920"/>
                <a:gridCol w="2016360"/>
                <a:gridCol w="3035160"/>
              </a:tblGrid>
              <a:tr h="889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 в год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олжительность курса, ч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д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/нед., 1-е полугод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/нед., четверть (или 9 недель любого полугодия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 в год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олжительность курса, ч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д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/нед., 1-е полугод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/нед., любая четвер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РАВНИТЕЛЬНЫЙ АНАЛИЗ ТРАДИЦИОННОГО ЭКЗАМЕНА И ЕГЭ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97000"/>
          <a:ext cx="8229600" cy="5502240"/>
        </p:xfrm>
        <a:graphic>
          <a:graphicData uri="http://schemas.openxmlformats.org/drawingml/2006/table">
            <a:tbl>
              <a:tblPr/>
              <a:tblGrid>
                <a:gridCol w="2098800"/>
                <a:gridCol w="2592360"/>
                <a:gridCol w="3538440"/>
              </a:tblGrid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ительные особен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диционный экзам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ый государственный экзам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оценивается?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жны не просто фактические знания, а умение их преподнест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ются фактические знания и умение рассуждать, решать, а также умение удерживаться в рамках задания, понимать формулировку, организованность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влияет на оценку?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 влияние оказывают субъективные факторы: контакт с экзаменатором, общее впечатление и т.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максимально объективн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исправить собственную ошибку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стном экзамене легче заметить ошибку за счет обратной связи от экзаменатора и можно ее исправить во время рассказа или при ответе на вопрос экзаменатора, на письменном — при проверке собственной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заметить и исправить ошибки при проверк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оценивает?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омые ученику люд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заметить и исправить ошибки при проверк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РАВНИТЕЛЬНЫЙ АНАЛИЗ ТРАДИЦИОННОГО ЭКЗАМЕНА И ЕГЭ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76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можно узнать результаты экзамена?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стном экзамене — практически сразу, на письменном — в течение нескольких дн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нескольких дн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ы заране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ы заранее, но в очень общем вид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экзамен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должен продемонстрировать владение определенным фрагментом учебного материала (определенной темой, вопросом и т.д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 охватывает практически весь объем учебного материал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происходит фиксация результатов?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исьменном экзамене — на том же листе, на котором выполняются задания. На устном — на черновик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выполнения задания необходимо перенести на специальный бланк регистрации ответо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деятельности во время экзамен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фицированна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а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Arial"/>
              </a:rPr>
              <a:t>Трудност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цессуальны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гнитивны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чностны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Процессуальны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 трудности, связанные с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фикой фиксирования результат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привычной ролью взрослого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итериями оценивания ответ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незнанием своих прав и обязаннос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Когнитивны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 трудности, связанные с особенностями переработки информации, со спецификой работы с тестовыми зад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781360"/>
          <a:ext cx="8229600" cy="3881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диционное обуч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ыки, необходимые для сдачи ЕГ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ность изложения, умение выстраивать взаимосвязи в рамках отдельной тем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выделять существенные стороны в каждом вопросе и отделять их от второстепенных, умение оперировать фактами и положениями, вырванными из общего контекс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0:55:55Z</dcterms:created>
  <dc:creator>папа</dc:creator>
  <dc:description/>
  <dc:language>en-US</dc:language>
  <cp:lastModifiedBy>Admin</cp:lastModifiedBy>
  <dcterms:modified xsi:type="dcterms:W3CDTF">2009-02-03T06:07:06Z</dcterms:modified>
  <cp:revision>67</cp:revision>
  <dc:subject/>
  <dc:title>Слайд 1</dc:title>
</cp:coreProperties>
</file>