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2D5-9EEF-43B0-B7E8-CB90AF1E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422-697D-48FA-86A3-4DE1B945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B03-72D3-4C45-9248-A4A3D96E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DA4-C162-4EBF-B845-2C1DB7C9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8C03-9A71-46B4-87A8-EC31F252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1E21-D084-4EA5-ADF4-109840D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4D10-BC13-4DFD-B5D3-DFA91C3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40D-4097-44A4-8942-F15A1A7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52A3-92EE-4CAF-91C5-66EF4138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A722-8E5F-488A-AC10-E35EBF4E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F68B-28E5-4D97-98CC-B003BA1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E62-17FB-49DC-851B-CB6D687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9AF4-D7B3-4A5B-982D-CF5BE95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C566-BD9C-4E2F-9DF0-5FC943A9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4F7-8F8C-4509-BA76-AC25F940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761-A0B0-4A10-9EB4-AE31D230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BD6-490E-44DC-80E2-89BBD491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85C5-3E8A-40F5-AB86-ED92A604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9E08-2085-4C54-BB8F-BAEBF38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E3771-E55C-4E44-962E-A15F1B1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CB08-97D3-4A42-B856-7E46B18D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234B-D48B-4AF8-A00C-4B6DCDFC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EA-1AC3-41AD-A3DC-E6E22F6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39CC-29FB-4235-8B94-F1593452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6C72-09A5-4EA7-99C0-B1FC907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80EF-CB11-4591-82B5-15825DD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19B3-F1BA-4FCB-8328-CC9D1C5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FC03-CA0A-4975-9B04-2BF4594D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107E-4574-40A2-968C-FC8B8A7A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81837-3C5E-4A7A-85A5-D974DB1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84A5-ABAC-4B95-9063-4BF1C9BE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2AA6-A521-4968-8D28-FA9A01B7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D932-18E4-4469-91D1-3D82B6F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38D-6C6F-4232-9BC0-E3CBA4F4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8E7F-9C49-4175-9EAF-8FE699FC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42B9-BB8B-483E-887C-9E53AF8F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90F1-9C7C-4DED-A9B5-383ACAD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1C3A4-B15C-47F2-81EF-F8E9367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9ACC-4B0D-4CC0-9F5B-F0C2BEE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9431F-A2D6-45BD-B2C5-73C7360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5205F-5401-4B1E-8674-7CBA801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40BB-5F64-4EDC-B336-714176B8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DBF1-52CC-48B9-BE71-93B68BBA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830-CD01-4DAC-90A9-86C8372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C18-5831-4481-9677-A6F12DE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5D0-BBA8-4B39-B14A-182AF1A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6B0-8380-4347-A3FC-516C38E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A9F-C455-4415-952B-45CFCB9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155-1BCF-4D5C-AE02-5CBA67E6C9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5811-1B4F-4E8D-934B-EB1DD8D0EEA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06F-AB5C-4347-A95C-6AE761DC2AF5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32E-35DC-4582-993A-D6D0B311C0C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1779480" y="493560"/>
            <a:ext cx="5511960" cy="2341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3286080" y="2857680"/>
            <a:ext cx="2333520" cy="2259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4"/>
          <a:stretch/>
        </p:blipFill>
        <p:spPr>
          <a:xfrm>
            <a:off x="1000080" y="4143240"/>
            <a:ext cx="1838520" cy="1657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5"/>
          <a:stretch/>
        </p:blipFill>
        <p:spPr>
          <a:xfrm>
            <a:off x="6286680" y="3857760"/>
            <a:ext cx="183816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8042400" cy="20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500040" y="2928960"/>
            <a:ext cx="8001000" cy="12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571680" y="4429080"/>
            <a:ext cx="7929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785880" y="714240"/>
            <a:ext cx="7575480" cy="1857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785880" y="2714760"/>
            <a:ext cx="7643880" cy="174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4"/>
          <a:stretch/>
        </p:blipFill>
        <p:spPr>
          <a:xfrm>
            <a:off x="1500120" y="4643280"/>
            <a:ext cx="561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7500960" cy="1643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642960" y="3500280"/>
            <a:ext cx="7761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          </a:t>
            </a: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Электрическая сх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647720" y="2357280"/>
            <a:ext cx="58485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600" y="785880"/>
            <a:ext cx="786780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Что напутал ученик? Расставьте условные обозначения по местам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2143080" y="1655640"/>
            <a:ext cx="4714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Перед вами схемы электрических цепей с дефектами.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Найдите и исправьте ошибки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714240" y="714240"/>
            <a:ext cx="38833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857240" y="714240"/>
            <a:ext cx="46436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2286000" y="500040"/>
            <a:ext cx="46116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219240" y="2163600"/>
            <a:ext cx="875340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7168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nstantia"/>
              </a:rPr>
              <a:t>§ 3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nstantia"/>
              </a:rPr>
              <a:t>Упражнение 13, задачи №2, 3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Какому из изображенных электроскопов сообщили больший заряд? Меньший заряд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1428840" y="3571920"/>
            <a:ext cx="54198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Одинаковые ли силы действуют на равные по величине заряды тел А и В со стороны поля заряженного шар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857160" y="3456000"/>
            <a:ext cx="70056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4286160"/>
            <a:ext cx="811512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Модель положительного иона гел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71680" y="214200"/>
            <a:ext cx="7718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428720"/>
            <a:ext cx="818352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Допишите названия источников тока, используя имеющиеся буквы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680" y="571680"/>
            <a:ext cx="810864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86240" y="928800"/>
            <a:ext cx="3500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Назови устройство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85880" y="1447560"/>
            <a:ext cx="3224520" cy="4206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495c"/>
                </a:solidFill>
                <a:latin typeface="Constantia"/>
              </a:rPr>
              <a:t>Что за источник тока изображен на слайде? Покажите подобные источники тока на демонстрационном столе. Назовите составные части данного источника ток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71680" y="785880"/>
            <a:ext cx="43336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2"/>
          <a:stretch/>
        </p:blipFill>
        <p:spPr>
          <a:xfrm>
            <a:off x="133200" y="706320"/>
            <a:ext cx="8560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85e9"/>
                </a:solidFill>
                <a:latin typeface="Calibri"/>
              </a:rPr>
              <a:t>Условные обозначения в схемах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71680" y="2286000"/>
            <a:ext cx="8034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42960" y="714240"/>
            <a:ext cx="7877160" cy="1928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642960" y="3214800"/>
            <a:ext cx="78184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59:13Z</dcterms:created>
  <dc:creator>МАМА</dc:creator>
  <dc:description/>
  <dc:language>en-US</dc:language>
  <cp:lastModifiedBy>User</cp:lastModifiedBy>
  <dcterms:modified xsi:type="dcterms:W3CDTF">2009-06-09T13:42:44Z</dcterms:modified>
  <cp:revision>17</cp:revision>
  <dc:subject/>
  <dc:title>Путешествие по стране Электрония</dc:title>
</cp:coreProperties>
</file>