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9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04E-F6E4-4046-A472-6E4E0690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5047-C3DD-409A-91E5-0FB92406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3D9D-0AE2-490C-823F-4EC69487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1C0B-F17D-4481-A0A9-B54D78E4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6D60-EC77-45FC-9A2C-EFC2C1E9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D84C-FC3D-468F-B22B-0DE139E6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AB6E-3BD1-408F-AA23-D0C034CD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1104-6C47-431A-B3B2-4E203426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DE57-AB6E-4CF8-A696-5CA357BE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280A-5AB6-415D-A34F-D80876DC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2782-04C1-4B94-B387-8E5954B0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3FEA-9190-4917-8ACE-79CC68A7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06B9-FA9D-434D-BD0F-4D16802B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25E0-72CF-4B40-B476-95867421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8BB9-1661-4AA0-BEEF-7B075FC8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1F9D-15B1-449E-8576-0217ADE6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210E-4A77-409D-83AC-3089CE81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4FBC1-101D-4B9A-A06A-C8E98A57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554E2-6495-4A59-9760-87A10C48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0C736-1F57-42D6-BD3C-5632B08B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02ACE-1CEA-4E63-8B44-A3D3F7E9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D6236-1D33-458F-97CD-BA6F361B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3CB-3DC3-4CB2-BD33-C44364FB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97002-25C0-452D-9411-97A5F588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8D276-BDB2-4CAB-8FD6-C268681B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28FD2-AE80-4622-9387-FF3EED5E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ACD41-5ED0-4857-A380-C78BE030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5D5CE-6485-409D-AF7C-E9D2291A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7EA4E-DBF5-41A1-99D0-D81428AB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C9A3F-B46C-4710-88E5-50B6AEC6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618CD-2C49-4AC8-91ED-C6EF6F76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C460A-887E-4D27-8224-AAD6EDF0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39FD9-A20C-42AA-A814-B12D87D9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B948-9BCD-47E4-88FE-A0B4D11C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FAD96-7E2F-450B-B63F-BD51A96A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3E0BB-3159-4888-9805-09F9A4AE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405BB-5CEE-4855-8B83-232A4E6E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B8D74-3D8F-449B-ADC1-9B670BF5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6DFBA-EF85-4E4B-A86D-3D7146F6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EF0A4-82F3-417D-BC73-BBB2F479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D9A1C-3809-4D7C-A0FD-3F844DFB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E34FE-901A-4CAF-81BE-63DE4371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CDAA8-4BE9-4A9B-96C7-9B503D101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D67A-24F2-4E5D-AC69-6A2602CD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8E84-3B05-49EA-8FC8-B4003CCF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A731-5E33-4CC7-BE28-24D97E2A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BD92-901F-42E6-8D6E-88E58FC8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7D63-6FCA-44EA-9F4F-705B2DAF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076C-B35D-4EAD-B93D-E4FED27F9C9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F990-A8DB-4036-AEC0-FB1C3D038E54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120D-C0E3-475D-A24D-865CF7C13E48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17F7-D8C6-436B-9D2A-510C5B0A956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1779480" y="493560"/>
            <a:ext cx="5511960" cy="2341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3"/>
          <a:stretch/>
        </p:blipFill>
        <p:spPr>
          <a:xfrm>
            <a:off x="3286080" y="2857680"/>
            <a:ext cx="2333520" cy="2259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4"/>
          <a:stretch/>
        </p:blipFill>
        <p:spPr>
          <a:xfrm>
            <a:off x="1000080" y="4143240"/>
            <a:ext cx="1838520" cy="1657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5"/>
          <a:stretch/>
        </p:blipFill>
        <p:spPr>
          <a:xfrm>
            <a:off x="6286680" y="3857760"/>
            <a:ext cx="183816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500040" y="642960"/>
            <a:ext cx="8042400" cy="2043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3"/>
          <a:stretch/>
        </p:blipFill>
        <p:spPr>
          <a:xfrm>
            <a:off x="500040" y="2928960"/>
            <a:ext cx="8001000" cy="1285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4"/>
          <a:stretch/>
        </p:blipFill>
        <p:spPr>
          <a:xfrm>
            <a:off x="571680" y="4429080"/>
            <a:ext cx="7929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785880" y="714240"/>
            <a:ext cx="7575480" cy="1857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3"/>
          <a:stretch/>
        </p:blipFill>
        <p:spPr>
          <a:xfrm>
            <a:off x="785880" y="2714760"/>
            <a:ext cx="7643880" cy="1749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4"/>
          <a:stretch/>
        </p:blipFill>
        <p:spPr>
          <a:xfrm>
            <a:off x="1500120" y="4643280"/>
            <a:ext cx="5613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714240" y="1214280"/>
            <a:ext cx="7500960" cy="1643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3"/>
          <a:stretch/>
        </p:blipFill>
        <p:spPr>
          <a:xfrm>
            <a:off x="642960" y="3500280"/>
            <a:ext cx="77612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885e9"/>
                </a:solidFill>
                <a:latin typeface="Calibri"/>
              </a:rPr>
              <a:t>          </a:t>
            </a:r>
            <a:r>
              <a:rPr b="0" lang="en-US" sz="5000" spc="-1" strike="noStrike">
                <a:solidFill>
                  <a:srgbClr val="4885e9"/>
                </a:solidFill>
                <a:latin typeface="Calibri"/>
              </a:rPr>
              <a:t>Электрическая схем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1647720" y="2357280"/>
            <a:ext cx="584856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42600" y="785880"/>
            <a:ext cx="786780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Что напутал ученик? Расставьте условные обозначения по местам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tretch/>
        </p:blipFill>
        <p:spPr>
          <a:xfrm>
            <a:off x="2143080" y="1655640"/>
            <a:ext cx="471492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Перед вами схемы электрических цепей с дефектами. 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Найдите и исправьте ошибки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714240" y="714240"/>
            <a:ext cx="38833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1857240" y="714240"/>
            <a:ext cx="464364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2286000" y="500040"/>
            <a:ext cx="46116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2"/>
          <a:stretch/>
        </p:blipFill>
        <p:spPr>
          <a:xfrm>
            <a:off x="219240" y="2163600"/>
            <a:ext cx="875340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57168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       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Домашнее задание: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onstantia"/>
              </a:rPr>
              <a:t>§ 33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onstantia"/>
              </a:rPr>
              <a:t>Упражнение 13, задачи №2, 3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885e9"/>
                </a:solidFill>
                <a:latin typeface="Calibri"/>
              </a:rPr>
              <a:t>Какому из изображенных электроскопов сообщили больший заряд? Меньший заряд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2"/>
          <a:stretch/>
        </p:blipFill>
        <p:spPr>
          <a:xfrm>
            <a:off x="1428840" y="3571920"/>
            <a:ext cx="54198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885e9"/>
                </a:solidFill>
                <a:latin typeface="Calibri"/>
              </a:rPr>
              <a:t>Одинаковые ли силы действуют на равные по величине заряды тел А и В со стороны поля заряженного шара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857160" y="3456000"/>
            <a:ext cx="70056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680" y="4286160"/>
            <a:ext cx="81151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885e9"/>
                </a:solidFill>
                <a:latin typeface="Calibri"/>
              </a:rPr>
              <a:t>Модель положительного иона гел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571680" y="214200"/>
            <a:ext cx="77184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428720"/>
            <a:ext cx="8183520" cy="160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885e9"/>
                </a:solidFill>
                <a:latin typeface="Calibri"/>
              </a:rPr>
              <a:t>Допишите названия источников тока, используя имеющиеся буквы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571680" y="571680"/>
            <a:ext cx="810864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286240" y="928800"/>
            <a:ext cx="350064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Назови устройство.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285880" y="1447560"/>
            <a:ext cx="3224520" cy="4206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3495c"/>
                </a:solidFill>
                <a:latin typeface="Constantia"/>
              </a:rPr>
              <a:t>Что за источник тока изображен на слайде? Покажите подобные источники тока на демонстрационном столе. Назовите составные части данного источника ток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571680" y="785880"/>
            <a:ext cx="433368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2"/>
          <a:stretch/>
        </p:blipFill>
        <p:spPr>
          <a:xfrm>
            <a:off x="133200" y="706320"/>
            <a:ext cx="8560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85e9"/>
                </a:solidFill>
                <a:latin typeface="Calibri"/>
              </a:rPr>
              <a:t>Условные обозначения в схемах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2"/>
          <a:stretch/>
        </p:blipFill>
        <p:spPr>
          <a:xfrm>
            <a:off x="571680" y="2286000"/>
            <a:ext cx="80341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642960" y="714240"/>
            <a:ext cx="7877160" cy="1928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3"/>
          <a:stretch/>
        </p:blipFill>
        <p:spPr>
          <a:xfrm>
            <a:off x="642960" y="3214800"/>
            <a:ext cx="781848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5:59:13Z</dcterms:created>
  <dc:creator>МАМА</dc:creator>
  <dc:description/>
  <dc:language>en-US</dc:language>
  <cp:lastModifiedBy>User</cp:lastModifiedBy>
  <dcterms:modified xsi:type="dcterms:W3CDTF">2009-06-09T13:42:44Z</dcterms:modified>
  <cp:revision>17</cp:revision>
  <dc:subject/>
  <dc:title>Путешествие по стране Электрония</dc:title>
</cp:coreProperties>
</file>