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6202-1D98-494D-8ADF-B1B35B5BE2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137-5B37-44AC-8806-C5E7CB490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0BB-8AEC-4587-BDE6-CD6C5F91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A6F8-0E0C-4D1C-AB0F-782B1A0C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2FE-85BB-422A-997D-93395C9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1B0-F392-464F-9E7D-C0A578CF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462-C2D4-4207-B6C1-EAAFC50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CBA-77C4-44F3-8CF8-2616652F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483-FA88-4F86-86E4-40B66DC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531-FD24-4651-AE50-351FAEE8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4C3-0FC7-457B-B565-2AF49BA1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B96-5FDF-4BEF-B4AA-C626F17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35F-3859-43FF-A08C-01EA250E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3B8-C415-4476-9775-0868EE8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FEA0-9188-40D5-845A-F7F2ECB7B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Рисунок1 копия.gif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420840" y="3114720"/>
            <a:ext cx="8089920" cy="282240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3" descr=""/>
          <p:cNvPicPr/>
          <p:nvPr/>
        </p:nvPicPr>
        <p:blipFill>
          <a:blip r:embed="rId3"/>
          <a:stretch/>
        </p:blipFill>
        <p:spPr>
          <a:xfrm>
            <a:off x="360360" y="378000"/>
            <a:ext cx="8594640" cy="22795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8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8"/>
          <p:cNvPicPr/>
          <p:nvPr/>
        </p:nvPicPr>
        <p:blipFill>
          <a:blip r:embed="rId2"/>
          <a:stretch/>
        </p:blipFill>
        <p:spPr>
          <a:xfrm>
            <a:off x="250920" y="2421000"/>
            <a:ext cx="4897440" cy="2909880"/>
          </a:xfrm>
          <a:prstGeom prst="rect">
            <a:avLst/>
          </a:prstGeom>
          <a:ln w="9360">
            <a:solidFill>
              <a:srgbClr val="6633cc"/>
            </a:solidFill>
            <a:miter/>
          </a:ln>
        </p:spPr>
      </p:pic>
      <p:pic>
        <p:nvPicPr>
          <p:cNvPr id="53" name="Rectangle 26" descr=""/>
          <p:cNvPicPr/>
          <p:nvPr/>
        </p:nvPicPr>
        <p:blipFill>
          <a:blip r:embed="rId3"/>
          <a:stretch/>
        </p:blipFill>
        <p:spPr>
          <a:xfrm>
            <a:off x="-6480" y="208080"/>
            <a:ext cx="91569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fon"/>
          <p:cNvPicPr/>
          <p:nvPr/>
        </p:nvPicPr>
        <p:blipFill>
          <a:blip r:embed="rId4"/>
          <a:stretch/>
        </p:blipFill>
        <p:spPr>
          <a:xfrm>
            <a:off x="304920" y="1219320"/>
            <a:ext cx="1639800" cy="1841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29"/>
          <p:cNvSpPr txBox="1"/>
          <p:nvPr/>
        </p:nvSpPr>
        <p:spPr>
          <a:xfrm>
            <a:off x="5429160" y="1773360"/>
            <a:ext cx="317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Муниципальное бюджетно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общеобразовательно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7996" dir="7023035" blurRad="0" rotWithShape="0">
                    <a:srgbClr val="000000">
                      <a:alpha val="35000"/>
                    </a:srgbClr>
                  </a:outerShdw>
                </a:effectLst>
                <a:latin typeface="Monotype Corsiva"/>
              </a:rPr>
              <a:t>учреждени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37996" dir="7023035" blurRad="0" rotWithShape="0">
                  <a:srgbClr val="000000">
                    <a:alpha val="35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6" name="Rectangle 30" descr=""/>
          <p:cNvPicPr/>
          <p:nvPr/>
        </p:nvPicPr>
        <p:blipFill>
          <a:blip r:embed="rId5"/>
          <a:stretch/>
        </p:blipFill>
        <p:spPr>
          <a:xfrm>
            <a:off x="3633840" y="3139920"/>
            <a:ext cx="5589360" cy="2170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1"/>
          <p:cNvSpPr/>
          <p:nvPr/>
        </p:nvSpPr>
        <p:spPr>
          <a:xfrm>
            <a:off x="684360" y="5589720"/>
            <a:ext cx="7704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Bookman Old Style"/>
              </a:rPr>
              <a:t>Адрес школы: 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671640, Республика Бур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Курумканский район село Курумкан ул. Ленина,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Bookman Old Style"/>
              </a:rPr>
              <a:t>E-mail: 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Kurumkan2@mail.ru.www.kurumkan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sosh2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do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Bookman Old Style"/>
              </a:rPr>
              <a:t>am</a:t>
            </a:r>
            <a:r>
              <a:rPr b="0" lang="ru-RU" sz="1800" spc="-1" strike="noStrike">
                <a:solidFill>
                  <a:srgbClr val="3333cc"/>
                </a:solidFill>
                <a:latin typeface="Bookman Old Styl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8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2"/>
          <a:stretch/>
        </p:blipFill>
        <p:spPr>
          <a:xfrm>
            <a:off x="2389320" y="231840"/>
            <a:ext cx="3902040" cy="93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748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ФИО: Дашиев Евгений Вале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Дата рождения: 01.02.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Образование: высшее, БГ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специалист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и спо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Год вступления в должность: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alibri"/>
              </a:rPr>
              <a:t>Трудовой стаж: 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alibri"/>
              </a:rPr>
              <a:t>Педагогический стаж: 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:\дашиев\ДЕВ\2.jpg"/>
          <p:cNvPicPr/>
          <p:nvPr/>
        </p:nvPicPr>
        <p:blipFill>
          <a:blip r:embed="rId3"/>
          <a:stretch/>
        </p:blipFill>
        <p:spPr>
          <a:xfrm>
            <a:off x="5357880" y="1785960"/>
            <a:ext cx="3282840" cy="32148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2" descr=""/>
          <p:cNvPicPr/>
          <p:nvPr/>
        </p:nvPicPr>
        <p:blipFill>
          <a:blip r:embed="rId2"/>
          <a:stretch/>
        </p:blipFill>
        <p:spPr>
          <a:xfrm>
            <a:off x="208080" y="347760"/>
            <a:ext cx="8448480" cy="88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85840" y="192852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я не боюсь совершенства: достичь его невозмож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я всегда готов встать рядом или впер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протянуть руку помощи малому или слаб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дставить плечи под груз тревог или заб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обернуться к отставш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дотянуться до меч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перепрыгнуть через усталость или бо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дняться после неу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alibri"/>
              </a:rPr>
              <a:t>бороться с собственной те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Calibri"/>
              </a:rPr>
              <a:t>повторить весь комплекс опять и сначала до ПОБЕД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3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2"/>
          <p:cNvSpPr/>
          <p:nvPr/>
        </p:nvSpPr>
        <p:spPr>
          <a:xfrm>
            <a:off x="3898800" y="2790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1468440" y="255600"/>
            <a:ext cx="6207120" cy="615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325440" y="10526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Экологи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88000" y="15573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Творчество 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346840" y="19890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Ясность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643280" y="148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в этом триединство и сила человека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995640" y="1125360"/>
            <a:ext cx="433440" cy="1368720"/>
          </a:xfrm>
          <a:custGeom>
            <a:avLst/>
            <a:gdLst>
              <a:gd name="textAreaLeft" fmla="*/ 0 w 433440"/>
              <a:gd name="textAreaRight" fmla="*/ 156600 w 4334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9" descr=""/>
          <p:cNvPicPr/>
          <p:nvPr/>
        </p:nvPicPr>
        <p:blipFill>
          <a:blip r:embed="rId3"/>
          <a:stretch/>
        </p:blipFill>
        <p:spPr>
          <a:xfrm>
            <a:off x="963720" y="2414520"/>
            <a:ext cx="7431120" cy="614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542880" y="30686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9900"/>
                </a:solidFill>
                <a:uFillTx/>
                <a:latin typeface="Calibri"/>
              </a:rPr>
              <a:t>Равноду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780000" y="3141720"/>
            <a:ext cx="47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«Да я в ладье! Меня разлив не трогае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Но как мне жить, когда народ мой тон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                                                                 </a:t>
            </a:r>
            <a:r>
              <a:rPr b="1" lang="ru-RU" sz="1400" spc="-1" strike="noStrike">
                <a:solidFill>
                  <a:srgbClr val="0099ff"/>
                </a:solidFill>
                <a:latin typeface="Calibri"/>
              </a:rPr>
              <a:t>Са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12" descr=""/>
          <p:cNvPicPr/>
          <p:nvPr/>
        </p:nvPicPr>
        <p:blipFill>
          <a:blip r:embed="rId4"/>
          <a:stretch/>
        </p:blipFill>
        <p:spPr>
          <a:xfrm>
            <a:off x="317520" y="3859200"/>
            <a:ext cx="8618400" cy="6159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3"/>
          <p:cNvSpPr/>
          <p:nvPr/>
        </p:nvSpPr>
        <p:spPr>
          <a:xfrm>
            <a:off x="1258920" y="4653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поверь в своего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понимай и принимай его таким, какой он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0099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Calibri"/>
              </a:rPr>
              <a:t>уважай ученика и будь требователен к н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искренне  радуйся  его удачам и огорчайся ошиб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1468440" y="255600"/>
            <a:ext cx="620712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user\Desktop\дашиев\грамоты ДЕВ\грамота 001.jpg"/>
          <p:cNvPicPr/>
          <p:nvPr/>
        </p:nvPicPr>
        <p:blipFill>
          <a:blip r:embed="rId3"/>
          <a:stretch/>
        </p:blipFill>
        <p:spPr>
          <a:xfrm>
            <a:off x="579600" y="1052640"/>
            <a:ext cx="1768320" cy="2447640"/>
          </a:xfrm>
          <a:prstGeom prst="rect">
            <a:avLst/>
          </a:prstGeom>
          <a:ln w="9360">
            <a:solidFill>
              <a:srgbClr val="5cf543"/>
            </a:solidFill>
            <a:miter/>
          </a:ln>
        </p:spPr>
      </p:pic>
      <p:pic>
        <p:nvPicPr>
          <p:cNvPr id="81" name="Picture 4" descr="C:\Users\user\Desktop\дашиев\грамоты ДЕВ\грамоты (2).jpg"/>
          <p:cNvPicPr/>
          <p:nvPr/>
        </p:nvPicPr>
        <p:blipFill>
          <a:blip r:embed="rId4"/>
          <a:stretch/>
        </p:blipFill>
        <p:spPr>
          <a:xfrm>
            <a:off x="4788000" y="1052640"/>
            <a:ext cx="1790640" cy="2447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2" name="Picture 5" descr="C:\Users\user\Desktop\дашиев\грамоты ДЕВ\грамоты (3).jpg"/>
          <p:cNvPicPr/>
          <p:nvPr/>
        </p:nvPicPr>
        <p:blipFill>
          <a:blip r:embed="rId5"/>
          <a:stretch/>
        </p:blipFill>
        <p:spPr>
          <a:xfrm>
            <a:off x="2700360" y="3933720"/>
            <a:ext cx="1738440" cy="2433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3" name="Picture 10" descr="C:\Users\user\Desktop\дашиев\грамоты ДЕВ\грамоты (7).jpg"/>
          <p:cNvPicPr/>
          <p:nvPr/>
        </p:nvPicPr>
        <p:blipFill>
          <a:blip r:embed="rId6"/>
          <a:stretch/>
        </p:blipFill>
        <p:spPr>
          <a:xfrm>
            <a:off x="6948360" y="3860640"/>
            <a:ext cx="1662120" cy="2346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4" name="Picture 5" descr="C:\Users\user\Desktop\дашиев\грамоты ДЕВ\грамоты (4).jpg"/>
          <p:cNvPicPr/>
          <p:nvPr/>
        </p:nvPicPr>
        <p:blipFill>
          <a:blip r:embed="rId7"/>
          <a:stretch/>
        </p:blipFill>
        <p:spPr>
          <a:xfrm>
            <a:off x="2620800" y="1000080"/>
            <a:ext cx="1884600" cy="26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user\Desktop\дашиев\грамоты ДЕВ\грамоты (6).jpg"/>
          <p:cNvPicPr/>
          <p:nvPr/>
        </p:nvPicPr>
        <p:blipFill>
          <a:blip r:embed="rId8"/>
          <a:stretch/>
        </p:blipFill>
        <p:spPr>
          <a:xfrm>
            <a:off x="7093080" y="1052640"/>
            <a:ext cx="1609560" cy="234288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86" name="Picture 12" descr="C:\Users\user\Desktop\дашиев\грамоты ДЕВ\грамоты (9).jpg"/>
          <p:cNvPicPr/>
          <p:nvPr/>
        </p:nvPicPr>
        <p:blipFill>
          <a:blip r:embed="rId9"/>
          <a:stretch/>
        </p:blipFill>
        <p:spPr>
          <a:xfrm>
            <a:off x="4859280" y="3933720"/>
            <a:ext cx="1657440" cy="2386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87" name="Picture 11" descr="C:\Users\user\Desktop\дашиев\грамоты ДЕВ\грамоты (8).jpg"/>
          <p:cNvPicPr/>
          <p:nvPr/>
        </p:nvPicPr>
        <p:blipFill>
          <a:blip r:embed="rId10"/>
          <a:stretch/>
        </p:blipFill>
        <p:spPr>
          <a:xfrm>
            <a:off x="611280" y="3933720"/>
            <a:ext cx="1682640" cy="24256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3" descr="Рисунок1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450720" y="255600"/>
            <a:ext cx="8242560" cy="61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C:\Users\user\Desktop\дашиев\дашиев1.jpg"/>
          <p:cNvPicPr/>
          <p:nvPr/>
        </p:nvPicPr>
        <p:blipFill>
          <a:blip r:embed="rId3"/>
          <a:stretch/>
        </p:blipFill>
        <p:spPr>
          <a:xfrm>
            <a:off x="4643280" y="981000"/>
            <a:ext cx="2257560" cy="326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user\Desktop\дашиев\грамоты ДЕВ\грамоты (5).jpg"/>
          <p:cNvPicPr/>
          <p:nvPr/>
        </p:nvPicPr>
        <p:blipFill>
          <a:blip r:embed="rId4"/>
          <a:stretch/>
        </p:blipFill>
        <p:spPr>
          <a:xfrm>
            <a:off x="611280" y="836640"/>
            <a:ext cx="2309760" cy="326556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pic>
        <p:nvPicPr>
          <p:cNvPr id="92" name="Picture 3" descr="C:\Users\user\Desktop\дашиев\дашиев 5.jpg"/>
          <p:cNvPicPr/>
          <p:nvPr/>
        </p:nvPicPr>
        <p:blipFill>
          <a:blip r:embed="rId5"/>
          <a:stretch/>
        </p:blipFill>
        <p:spPr>
          <a:xfrm>
            <a:off x="6227640" y="3141720"/>
            <a:ext cx="2470320" cy="34909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93" name="Picture 16" descr="C:\Users\user\Desktop\дашиев\дашиев8.jpg"/>
          <p:cNvPicPr/>
          <p:nvPr/>
        </p:nvPicPr>
        <p:blipFill>
          <a:blip r:embed="rId6"/>
          <a:stretch/>
        </p:blipFill>
        <p:spPr>
          <a:xfrm>
            <a:off x="2411280" y="2924280"/>
            <a:ext cx="2490840" cy="36846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2:47:16Z</dcterms:created>
  <dc:creator>Darima</dc:creator>
  <dc:description/>
  <dc:language>en-US</dc:language>
  <cp:lastModifiedBy>user</cp:lastModifiedBy>
  <dcterms:modified xsi:type="dcterms:W3CDTF">2013-03-26T04:25:30Z</dcterms:modified>
  <cp:revision>120</cp:revision>
  <dc:subject/>
  <dc:title>Слайд 1</dc:title>
</cp:coreProperties>
</file>