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F511-B9A8-4BEF-9AFB-76DFA74B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6E39-C1BE-45F6-8E8C-F13CB9A0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8E74-538F-4981-B4D4-9BDE46B9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1BC2-39F0-4657-AC6A-F110163AF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E163-D1D3-486D-BC4A-A7B05D32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CE67-82B1-4D03-9BBD-65781CCC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0A43-2475-42F8-BA62-215C427D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2F62-BB99-4051-A93D-967861CA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E664-B947-4A3D-A845-4F99E6D3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D408-723D-45D8-8067-C1A0B53D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6E27-AB87-4192-9522-785C319F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50DD-648B-4D71-A81C-735E23B2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0DA0-D494-46D7-8011-8DBB6D4D1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ест по творчеству Н.В.Гогол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35053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БОУ «Макуловская СОШ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рхнеуслонского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спублики Татар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лкина Татья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Смысл названия произведения «Мёртвые души» заключается в том,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Автор объявил «мёртвыми душами» крепостников и чинов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Автор подробно описал аферу Чичикова с умершими крестья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Автор не раскрывает в произведении смысла наз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. Для чего Чичиков скупал «мёртвые души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ля того, чтобы считаться богатым помещи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ля того, чтобы выгодно жениться, назваться владельцем тысяч ду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ля того, чтобы заложить их в опекунский совет в качестве жив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ыли другие прич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. Все части «Мёртвых душ» связаны с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25146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бразом автора-повествова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бщим сюже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бщими геро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утешествующим геро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. Каких героев Гоголь намеревался провести через жизненные испытания к возрождению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Чичикова и Мани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анилова и Ноздрё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оздрёва и Плю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люшкина и Чичи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Чичикова и Собакеви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. Жизнеописание какого помещика дал Гогол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лю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обакевич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анил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робоч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оздрё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. О ком в «Мёртвых душах» сказано: «Прореха на человечестве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оздрё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робоч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обаке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апитан Копей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люшк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. Кто описан в следующем отрывке: «Господин скинул с себя картуз и размотал с шеи шерстяную, радужных цветов косынку, какую женатым приготовляет своими руками супруга, снабжая приличными наставлениями, как закутываться, а холостым, наверное не могу сказать, кто делает. Бог их знает , я никогда не носил таких косынок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327672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Зять Ноздрё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оздрё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Чи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анил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. У кого из помещиков был в поместье «храм уединенного размышления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 Собакеви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 Плю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 Ноздрё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 Манил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. О ком из героев сказано: «… люди так себе, ни то, ни сё, ни в городе Богдан, ни в селе Селифан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Чичи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Губернат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анил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люшк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. Укажите, к каким помещикам заезжал Чичиков (в той последовательности, что и в произведении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робочка, Манилов, Собакевич, Плюшкин, Ноздрё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анилов, Собакевич, Плюшкин, Коробочка, Ноздрё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робочка, Собакевич, Ноздрёв, Манилов, Плюш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анилов, Коробочка, Ноздрёв, Собакевич, Плюш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Какое из приведённых литературных произведений не принадлежит Н.В.Гогол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«Шинел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«Но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«Записки сумасшедшег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«Пересолил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. В чьём кабинете «всегда лежала какая-то книжка, заложенная закладкою на четырнадцатой странице, которую он постоянно читал уже два года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Чичик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обакевич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люшк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анил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робоч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. Чичиков, покинув Манилова, изменил маршрут потому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спугался пре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лучил более выгодное пред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елифан, напившись, пропустил повор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ешил осмотреть окрес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ыл приглашён Коробоч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1. Родители Чичикова бы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ещ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рестья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емеслен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воря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азночинц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2. На кого «жизнь при начале взглянула… как-то кисло-неприятно… ни друга, ни товарища в детстве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 Копей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 Плю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 Чичи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 Ноздрё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 Манил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3. Каковы были наставления отца Чичико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сем угожд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мнить своё мес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еречь и копить копей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Жить в своё удоволь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икому не довер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4. Кто рассказал «Повесть о капитане Копейкине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Чи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оздрё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чтмейс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едседатель казённой пал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Губернат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. В «Повести о капитане Копейкине» Гог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бобщил сатирическое изображение чиновничества и оправдал активность на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казал отличие столичных чиновников от губернск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казал будущее главного героя Чичи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равнил судьбу защитника родины Копейкина с судьбой чинов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. Какое значение имело появление Ноздрёва на губернаторском бал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оздрёв рассказал о цели приезда Чичикова в город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N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, чем вызвал переполо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оздрёв извинился перед Чичиковым за нанесённое ему оскорб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оздрёв, явившись на бал, разрушил планы Чичикова о женить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оздрёв изменил своё намерение и предложил Чичикову купить у него крестьян (мёртвых душ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7. Какую роль играет мотив дороги, проходящий через всё произведение «Мёртвые души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пособствует усилению эмоциональности и динамичности поэ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казывает необъятные просторы Родины и красоту русской при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Является связующим звеном между помещиками во время путешествия Чичи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8. Зачем Чичиков дрессировал мышь в детств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Хотел развеселить своих товарищей по училищ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ыл очень любознательным и пытливым ребён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Хотел потом подороже её прод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Хотел продемонстрировать свои умения учителю би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Какой из приведённых эпиграфов относится к комедии Н.В.Гоголя «Ревизор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И жить торопится, и чувствовать спеши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Береги честь смолод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На зеркало неча пенять, коли рожа кри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5) -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6) -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7) -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8) -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9) -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0) -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1) -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2) -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3) -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4) -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5)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6)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7)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8) -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пользованная лит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хайлова И.М. Литература. Тесты. 9-11 классы.  М.: «Дрофа»,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 Алиева Л. Ю. Литература. Тесты. Контрольные вопросы. 9 класс. М.: «Издат-Школа»,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Кому принадлежит идея «Ревизора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ого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Жуковск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ушк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годин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Шевырёв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В большинстве художественных произведений принято деление героев на положительных и отрицательных. Назовите положительного героя в комедии «Ревизор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Хлестаков Иван Андр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си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ме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ет ни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Что объединяет Хлестакова и городниче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Желание казаться значительным лиц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трах тюрь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оязнь сплет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Любовь к развлечен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С помощью какого средства уездные чиновники хотели «ублажить» столичного «ревизора» Хлестако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Ле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зят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ведение порядка в дел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годливое обхо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 Определите жанр «Мёртвых душ» (авторское определе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ом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ве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оман-эпопе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э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оман-хрон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 В «Мёртвых душах» главная те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Жизнь помещ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Жизнь чинов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Жизнь крестья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толичная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Жизнь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4-02T15:51:1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