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EFB-7B8D-4894-B2CB-3BAC3637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59F-E067-4975-81DC-41E3A8BC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61C-4DF0-48D5-B06A-AA526BD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804-DEA3-44B4-B1E4-323CC545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8EF-E2E7-4595-BFF0-D7833D9F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A2A-CC7A-4267-BF7F-3A15D07C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5E1-1430-4D48-ACD1-34914AC5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442-6775-4A4B-997C-301D8EAB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A3B-6B04-416F-A300-E1E88E2B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FC6-9FB3-46B9-8A5E-217499A3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8F8-267F-46A8-8B6B-4660C98F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542-3275-41CD-8CAD-75C9596D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6B9B-6E96-4D48-9730-0F51137B4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ст по творчеству Н.В.Гогол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«Макуло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рхнеуслон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на Татья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Смысл названия произведения «Мёртвые души» заключается в том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втор объявил «мёртвыми душами» крепостников и чинов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втор подробно описал аферу Чичикова с умершими крестья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втор не раскрывает в произведении смысла наз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 Для чего Чичиков скупал «мёртвые душ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ля того, чтобы считаться богатым помещ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ля того, чтобы выгодно жениться, назваться владельцем тысяч ду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ля того, чтобы заложить их в опекунский совет в качестве жи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и другие пр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. Все части «Мёртвых душ» связаны 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разом автора-повеств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щим сюже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щими геро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утешествующим геро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Каких героев Гоголь намеревался провести через жизненные испытания к возрождению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а и Мани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а и Ноздрё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здрёва и Плю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люшкина и Чич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а и Собакев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. Жизнеописание какого помещика дал Гого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лю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бакеви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об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здрё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 О ком в «Мёртвых душах» сказано: «Прореха на человечеств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здрё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обо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бак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апитан Копей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люшк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 Кто описан в следующем отрывке: «Господин скинул с себя картуз и размотал с шеи шерстяную, радужных цветов косынку, какую женатым приготовляет своими руками супруга, снабжая приличными наставлениями, как закутываться, а холостым, наверное не могу сказать, кто делает. Бог их знает , я никогда не носил таких косынок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ять Ноздрё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здрё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 У кого из помещиков был в поместье «храм уединенного размышления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Собакев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Плю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Ноздрё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Мани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 О ком из героев сказано: «… люди так себе, ни то, ни сё, ни в городе Богдан, ни в селе Селифан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уберна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люшк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. Укажите, к каким помещикам заезжал Чичиков (в той последовательности, что и в произведени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обочка, Манилов, Собакевич, Плюшкин, Ноздр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, Собакевич, Плюшкин, Коробочка, Ноздр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обочка, Собакевич, Ноздрёв, Манилов, Плю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, Коробочка, Ноздрёв, Собакевич, Плю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Какое из приведённых литературных произведений не принадлежит Н.В.Гогол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Шин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Но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Записки сумасшедше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Пересоли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. В чьём кабинете «всегда лежала какая-то книжка, заложенная закладкою на четырнадцатой странице, которую он постоянно читал уже два год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бакеви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люшк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об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. Чичиков, покинув Манилова, изменил маршрут потому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угался пре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лучил более выгодное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елифан, напившись, пропустил пов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шил осмотреть окр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 приглашён Коробо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. Родители Чичикова бы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ещ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месле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вор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зночин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. На кого «жизнь при начале взглянула… как-то кисло-неприятно… ни друга, ни товарища в детств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Копей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Плю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Чич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Ноздрё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Мани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. Каковы были наставления отца Чичик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сем угож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мнить своё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еречь и копить копей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ть в своё удоволь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икому не довер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. Кто рассказал «Повесть о капитане Копейкин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здр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чтмейс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дседатель казённой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уберна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. В «Повести о капитане Копейкине»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общил сатирическое изображение чиновничества и оправдал активность на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казал отличие столичных чиновников от губерн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казал будущее главного героя Чич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равнил судьбу защитника родины Копейкина с судьбой чинов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. Какое значение имело появление Ноздрёва на губернаторском бал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здрёв рассказал о цели приезда Чичикова в город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N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, чем вызвал перепол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здрёв извинился перед Чичиковым за нанесённое ему оскорб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здрёв, явившись на бал, разрушил планы Чичикова о женить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здрёв изменил своё намерение и предложил Чичикову купить у него крестьян (мёртвых душ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. Какую роль играет мотив дороги, проходящий через всё произведение «Мёртвые душ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пособствует усилению эмоциональности и динамичности поэ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казывает необъятные просторы Родины и красоту русск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Является связующим звеном между помещиками во время путешествия Чич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. Зачем Чичиков дрессировал мышь в детст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отел развеселить своих товарищей по училищ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 очень любознательным и пытливым ребё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отел потом подороже её про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отел продемонстрировать свои умения учителю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Какой из приведённых эпиграфов относится к комедии Н.В.Гоголя «Ревиз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 жить торопится, и чувствовать спеш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ереги честь смолод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а зеркало неча пенять, коли рожа кри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5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6)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7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8)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9)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1)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2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3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4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5)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6)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7)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8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хайлова И.М. Литература. Тесты. 9-11 классы.  М.: «Дрофа»,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 Алиева Л. Ю. Литература. Тесты. Контрольные вопросы. 9 класс. М.: «Издат-Школа»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Кому принадлежит идея «Ревизора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го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уковс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ушк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год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евырёв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В большинстве художественных произведений принято деление героев на положительных и отрицательных. Назовите положительного героя в комедии «Ревизо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лестаков Иван Андр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м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т ни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Что объединяет Хлестакова и городни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елание казаться значительным ли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ах тюрь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язнь спле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юбовь к развлеч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С помощью какого средства уездные чиновники хотели «ублажить» столичного «ревизора» Хлестак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зя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ведение порядка в д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годливое обх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Определите жанр «Мёртвых душ» (авторское определ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ом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в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оман-эпопе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э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оман-хро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В «Мёртвых душах» главная 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знь помещ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знь чинов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знь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оли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знь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02T15:51:1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