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9B8-B355-4DB7-A09F-BA156B81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139-FCFD-4C93-8CE0-AEDF47B0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2AB-27FF-4442-AABF-2B4D62D9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216-719D-4A05-8913-6CDD4D5E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63C4-D45A-4243-BA59-670D0228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19FC-7AEB-436E-A8DF-DE2BFBBA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521D-53AB-4FE0-AD59-682182E0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9502-0B7A-4158-B7A2-9FF0E18A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454A-E494-4934-A43E-245959A6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9AC8-B280-4D1B-A26E-49C381E1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6363-540D-4A84-B664-B4D62AA7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F4D-F175-4FE3-BC92-385023D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35DC-DA54-4272-A38D-88EF1911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92FB-AC68-41E8-9D2B-A8202539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E4D1-5C4B-40C2-9EEE-C4C02876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E45C-C3F0-433B-BDD4-08D6566F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01BF-32EE-4A23-8DF2-AECA1577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F08-D3BC-481D-A5FF-2220A331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202-DAAE-438B-B649-09CFC989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D0F-EB83-4FE2-9B3D-07701E99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821-8C29-4C4A-B3ED-3BF9F6C8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DCD-EFCF-492C-A4E6-857989C8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3AF-4F62-445A-8036-1DE08CB7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C8D-4A68-4843-88DD-94C90211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2C35-1324-4658-9ABE-FF41B9C942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5E54-71CD-4F95-9228-232AD4325DE4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5" descr=""/>
          <p:cNvPicPr/>
          <p:nvPr/>
        </p:nvPicPr>
        <p:blipFill>
          <a:blip r:embed="rId1"/>
          <a:stretch/>
        </p:blipFill>
        <p:spPr>
          <a:xfrm>
            <a:off x="1974960" y="231840"/>
            <a:ext cx="6870600" cy="14637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ект для учащихс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Имя на географической карте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зработчики Бурцева Кристина, Сонина Вик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9 ф/м клас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: Хаванцева Елена Александровн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2" descr="C:\doc\Логотип лицей\Логотп.JPG"/>
          <p:cNvPicPr/>
          <p:nvPr/>
        </p:nvPicPr>
        <p:blipFill>
          <a:blip r:embed="rId2"/>
          <a:stretch/>
        </p:blipFill>
        <p:spPr>
          <a:xfrm>
            <a:off x="-23760" y="762120"/>
            <a:ext cx="2889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91320" y="456840"/>
            <a:ext cx="3047760" cy="6172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Хребет Черского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сположен на Северо-востоке Сибири, но не является хребтом в обычном понимании этого слова, а представляет собой протяжённую на 1500 км горную систему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 4" descr="Хребет_Черского"/>
          <p:cNvPicPr/>
          <p:nvPr/>
        </p:nvPicPr>
        <p:blipFill>
          <a:blip r:embed="rId1"/>
          <a:stretch/>
        </p:blipFill>
        <p:spPr>
          <a:xfrm>
            <a:off x="228600" y="152280"/>
            <a:ext cx="5175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800600" y="228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ицами горной системы служат Яно-Оймяконское нагорье на юго-западе и Момо-Селенняхская рифтовая впадина на северо-востоке. Простирается по территории Якутии и Магаданской обла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3352680"/>
            <a:ext cx="350496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Верхоянский, Черский и Колымский хребт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4" descr="Верхоянский, Черский и Колымский хребты"/>
          <p:cNvPicPr/>
          <p:nvPr/>
        </p:nvPicPr>
        <p:blipFill>
          <a:blip r:embed="rId1"/>
          <a:stretch/>
        </p:blipFill>
        <p:spPr>
          <a:xfrm>
            <a:off x="152280" y="304920"/>
            <a:ext cx="4572000" cy="2933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хребет3"/>
          <p:cNvPicPr/>
          <p:nvPr/>
        </p:nvPicPr>
        <p:blipFill>
          <a:blip r:embed="rId2"/>
          <a:stretch/>
        </p:blipFill>
        <p:spPr>
          <a:xfrm>
            <a:off x="4800600" y="3733920"/>
            <a:ext cx="43434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3123720"/>
            <a:ext cx="4495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лимат суровый, резко континентальный. Зимой наблюдается температурная инверсия. Лето короткое и прохладное, с частыми заморозками и снегопадам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24280" y="228600"/>
            <a:ext cx="42674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река Кюеллях-мустах, авгус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5" descr="хребет"/>
          <p:cNvPicPr/>
          <p:nvPr/>
        </p:nvPicPr>
        <p:blipFill>
          <a:blip r:embed="rId1"/>
          <a:stretch/>
        </p:blipFill>
        <p:spPr>
          <a:xfrm>
            <a:off x="228600" y="152280"/>
            <a:ext cx="4191120" cy="2773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река кюеллях-мустах, август"/>
          <p:cNvPicPr/>
          <p:nvPr/>
        </p:nvPicPr>
        <p:blipFill>
          <a:blip r:embed="rId2"/>
          <a:stretch/>
        </p:blipFill>
        <p:spPr>
          <a:xfrm>
            <a:off x="5181480" y="1295280"/>
            <a:ext cx="34768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560" y="3505320"/>
            <a:ext cx="46479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ки питаются за счёт таяния снега и летних дождей. Свыше 60 % годового стока приходится на лето, зимний сток — не более 5 % годового. Зимой часты наледи, а небольшие реки промерзают до дн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05520" y="4568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Озеро Сердце у подножия пика Черско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4" descr="хребет2"/>
          <p:cNvPicPr/>
          <p:nvPr/>
        </p:nvPicPr>
        <p:blipFill>
          <a:blip r:embed="rId1"/>
          <a:stretch/>
        </p:blipFill>
        <p:spPr>
          <a:xfrm>
            <a:off x="152280" y="152280"/>
            <a:ext cx="4800600" cy="3191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Озеро Сердце у подножия пика Черского"/>
          <p:cNvPicPr/>
          <p:nvPr/>
        </p:nvPicPr>
        <p:blipFill>
          <a:blip r:embed="rId2"/>
          <a:stretch/>
        </p:blipFill>
        <p:spPr>
          <a:xfrm>
            <a:off x="5715000" y="1752480"/>
            <a:ext cx="3295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952520" y="1523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Черский Иван Дементьевич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(1845 - 1892) - известный исследователь Сибири, геолог и палеонтолог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4" descr="черский1"/>
          <p:cNvPicPr/>
          <p:nvPr/>
        </p:nvPicPr>
        <p:blipFill>
          <a:blip r:embed="rId1"/>
          <a:stretch/>
        </p:blipFill>
        <p:spPr>
          <a:xfrm>
            <a:off x="457200" y="838080"/>
            <a:ext cx="4176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5T15:43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