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A74-0E77-4B82-9D68-FADF0C49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814-8CE1-4FCD-A430-629780F6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6E7-4A98-4C5D-ACE8-34A684E3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6FB-6789-4C99-8199-E6E8830C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159E-51B4-4D6E-A054-84842E6E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C125-CF95-4361-8828-B84F1B13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D8C6-EDC6-45BA-B476-C42B85D2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B6E6-D09F-4166-A47C-D53CF14F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F988-BC57-4329-9277-37358952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EE7A-F69E-4865-99CC-B9F207B1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0CA3-079A-490D-B14A-30FB6E28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4BF-7A16-4863-8E53-6783914A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9F8A-7088-40CC-B66F-A0385E71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6EE2-69E7-47A7-BACE-C5377DD8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E440-CFC2-4B9F-BBB1-7DBF712E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4BED-E4FB-40C8-9D24-A1BE9E41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A328-790E-4EF5-9E26-2BB381CD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9D5-BD26-4C9D-8A76-D64F0E43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019F-C92E-4157-92B5-91E9DF1A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615-BCAC-4B14-907D-5A7F17E9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2FD-A9CC-4F63-A2A8-16A17D6E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3DA-150E-4053-BE3B-88A74600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780-2353-4524-9C5B-49D68419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464-E770-4C54-972F-EFBED25C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3D82-B285-4613-AC56-EAE66DCBA9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BBB3-5544-40CD-994E-6297ADCDF858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Прямоугольник 5" descr=""/>
          <p:cNvPicPr/>
          <p:nvPr/>
        </p:nvPicPr>
        <p:blipFill>
          <a:blip r:embed="rId1"/>
          <a:stretch/>
        </p:blipFill>
        <p:spPr>
          <a:xfrm>
            <a:off x="1974960" y="231840"/>
            <a:ext cx="6870600" cy="14637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ект для учащихс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Имя на географической карте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зработчики Бурцева Кристина, Сонина Вик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 ф/м клас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: Хаванцева Елена Александровн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Picture 2" descr="C:\doc\Логотип лицей\Логотп.JPG"/>
          <p:cNvPicPr/>
          <p:nvPr/>
        </p:nvPicPr>
        <p:blipFill>
          <a:blip r:embed="rId2"/>
          <a:stretch/>
        </p:blipFill>
        <p:spPr>
          <a:xfrm>
            <a:off x="-23760" y="762120"/>
            <a:ext cx="2889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91320" y="456840"/>
            <a:ext cx="3047760" cy="6172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Хребет Черского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сположен на Северо-востоке Сибири, но не является хребтом в обычном понимании этого слова, а представляет собой протяжённую на 1500 км горную систему.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Picture 4" descr="Хребет_Черского"/>
          <p:cNvPicPr/>
          <p:nvPr/>
        </p:nvPicPr>
        <p:blipFill>
          <a:blip r:embed="rId1"/>
          <a:stretch/>
        </p:blipFill>
        <p:spPr>
          <a:xfrm>
            <a:off x="228600" y="152280"/>
            <a:ext cx="51753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800600" y="228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раницами горной системы служат Яно-Оймяконское нагорье на юго-западе и Момо-Селенняхская рифтовая впадина на северо-востоке. Простирается по территории Якутии и Магаданской обла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3352680"/>
            <a:ext cx="350496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Верхоянский, Черский и Колымский хребт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Picture 4" descr="Верхоянский, Черский и Колымский хребты"/>
          <p:cNvPicPr/>
          <p:nvPr/>
        </p:nvPicPr>
        <p:blipFill>
          <a:blip r:embed="rId1"/>
          <a:stretch/>
        </p:blipFill>
        <p:spPr>
          <a:xfrm>
            <a:off x="152280" y="304920"/>
            <a:ext cx="4572000" cy="2933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хребет3"/>
          <p:cNvPicPr/>
          <p:nvPr/>
        </p:nvPicPr>
        <p:blipFill>
          <a:blip r:embed="rId2"/>
          <a:stretch/>
        </p:blipFill>
        <p:spPr>
          <a:xfrm>
            <a:off x="4800600" y="3733920"/>
            <a:ext cx="43434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3123720"/>
            <a:ext cx="4495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лимат суровый, резко континентальный. Зимой наблюдается температурная инверсия. Лето короткое и прохладное, с частыми заморозками и снегопадами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24280" y="228600"/>
            <a:ext cx="426744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река Кюеллях-мустах, авгус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Picture 5" descr="хребет"/>
          <p:cNvPicPr/>
          <p:nvPr/>
        </p:nvPicPr>
        <p:blipFill>
          <a:blip r:embed="rId1"/>
          <a:stretch/>
        </p:blipFill>
        <p:spPr>
          <a:xfrm>
            <a:off x="228600" y="152280"/>
            <a:ext cx="4191120" cy="2773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река кюеллях-мустах, август"/>
          <p:cNvPicPr/>
          <p:nvPr/>
        </p:nvPicPr>
        <p:blipFill>
          <a:blip r:embed="rId2"/>
          <a:stretch/>
        </p:blipFill>
        <p:spPr>
          <a:xfrm>
            <a:off x="5181480" y="1295280"/>
            <a:ext cx="347688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560" y="3505320"/>
            <a:ext cx="46479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ки питаются за счёт таяния снега и летних дождей. Свыше 60 % годового стока приходится на лето, зимний сток — не более 5 % годового. Зимой часты наледи, а небольшие реки промерзают до дн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105520" y="456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Озеро Сердце у подножия пика Черско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4" descr="хребет2"/>
          <p:cNvPicPr/>
          <p:nvPr/>
        </p:nvPicPr>
        <p:blipFill>
          <a:blip r:embed="rId1"/>
          <a:stretch/>
        </p:blipFill>
        <p:spPr>
          <a:xfrm>
            <a:off x="152280" y="152280"/>
            <a:ext cx="4800600" cy="3191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Озеро Сердце у подножия пика Черского"/>
          <p:cNvPicPr/>
          <p:nvPr/>
        </p:nvPicPr>
        <p:blipFill>
          <a:blip r:embed="rId2"/>
          <a:stretch/>
        </p:blipFill>
        <p:spPr>
          <a:xfrm>
            <a:off x="5715000" y="1752480"/>
            <a:ext cx="3295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952520" y="15238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Черский Иван Дементьевич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(1845 - 1892) - известный исследователь Сибири, геолог и палеонтолог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4" descr="черский1"/>
          <p:cNvPicPr/>
          <p:nvPr/>
        </p:nvPicPr>
        <p:blipFill>
          <a:blip r:embed="rId1"/>
          <a:stretch/>
        </p:blipFill>
        <p:spPr>
          <a:xfrm>
            <a:off x="457200" y="838080"/>
            <a:ext cx="4176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25T15:43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