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9.gif" ContentType="image/gif"/>
  <Override PartName="/ppt/media/image8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7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12.gif" ContentType="image/gif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91B-8D96-4122-95B8-9D821F28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642-96CE-4518-BF4E-A23D9CC6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448-0BFD-498D-85A8-A8EF8043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B83-A342-40A2-BE05-12CD1677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1443-40E4-4C32-9E7C-9FBCDE93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5E09-0961-4CCE-8FA7-8412F6EE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53CD-0C58-4A8D-9FDD-92B32EAE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9E18-4D98-4C59-BA02-DBA465AE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C81F-33A9-4DAA-8293-424EF10D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C1E3-6106-4C9C-9509-ADD5BAAB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0821-0762-424B-A582-BC8CAF4F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781-F7AA-48E4-B986-9AC9F4E7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38D3-0C20-4905-A48F-D4E75283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26E3-56E8-409A-A70B-F8947FB0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81B1-8EEF-4FBA-8978-D89F8A06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2E39-9D2B-448E-905F-B0B5756A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7D0D-D7E5-4F7E-935F-7874C080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57D-E59F-44A9-8C36-1044A9A5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F52-29C0-4B2C-B55F-082AF49B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A31-69C7-43AC-8059-72905BC4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8EB-EA0A-4FFB-9794-B0733F50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AEA-ED68-423B-B1AE-5A210685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967-C35B-4F96-B2D8-8244367F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4A0-602F-4F7A-B91A-3A0D4F30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2CA1-D4F5-4B98-915E-ADD9B661C1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452B-1F8F-4BF9-BE54-A690F7C909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1.gif"/><Relationship Id="rId16" Type="http://schemas.openxmlformats.org/officeDocument/2006/relationships/image" Target="../media/image12.gif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audio" Target="file:///tmp/home/.config/libreoffice/4/user/gallery/gold-mp3.ru_alla_pugacheva_-_million_alyh_roz.wav" TargetMode="External"/><Relationship Id="rId12" Type="http://schemas.microsoft.com/office/2007/relationships/media" Target="file:///tmp/home/.config/libreoffice/4/user/gallery/gold-mp3.ru_alla_pugacheva_-_million_alyh_roz.wav" TargetMode="External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Интеллектуальная игра: Открой в себе гени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0000" y="3429000"/>
            <a:ext cx="6408720" cy="1427040"/>
          </a:xfrm>
          <a:prstGeom prst="rect">
            <a:avLst/>
          </a:prstGeom>
          <a:solidFill>
            <a:srgbClr val="00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 учитель начальных классов Волчихинской средней школы №1 Лакотина Нина Васи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Дополни им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fabca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шечка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щей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ец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силиса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ис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ме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шечка Хавроше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щей Бессмер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тец Иван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силиса Премуд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 с Паль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ист Ясный со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мей Горы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Продолжи пословицу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fabca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 человека кормит, а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писано пером, не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 платье снову, а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 человека кормит, а лень пор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писано пером, не вырубишь топ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 платье снову, а честь смол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узыкальная пауз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71400">
            <a:off x="6084360" y="765000"/>
            <a:ext cx="1795680" cy="160344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42920" y="4797360"/>
            <a:ext cx="936720" cy="863640"/>
          </a:xfrm>
          <a:prstGeom prst="star5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549360"/>
            <a:ext cx="1224000" cy="1079280"/>
          </a:xfrm>
          <a:prstGeom prst="star5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9975200">
            <a:off x="6283440" y="3414240"/>
            <a:ext cx="1731960" cy="1656000"/>
          </a:xfrm>
          <a:prstGeom prst="star5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975200">
            <a:off x="779040" y="1011240"/>
            <a:ext cx="1587600" cy="151128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975200">
            <a:off x="3566880" y="4804920"/>
            <a:ext cx="1873080" cy="1736640"/>
          </a:xfrm>
          <a:prstGeom prst="star5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3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52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5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2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3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4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06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15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3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136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8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9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3500"/>
                            </p:stCondLst>
                            <p:childTnLst>
                              <p:par>
                                <p:cTn id="15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160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3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95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15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25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35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40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Окружающий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ми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c36c0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го цвета хамеле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 трава которую и слепые знаю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х зверей называют «шатунами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Составь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задачу , используя данные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c36c0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а сова уничтожает за лето 1000 мы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кушка за 1 час может съесть 100 гусе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уганный страус может развивать скорость до 100 км/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Закончи высказывание: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c36c0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й большой океан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й большой матери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е высокие гор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е глубокое озер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ая крупная пустын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ая высокая гора на Земл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х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мала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й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верест(Джомолунг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усский язык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: переведи с русского на русск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с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овн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ниты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Космос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лнце –это звезда или план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метеор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называется прибор с помощью которого наблюдают за звёзд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атемати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ши число 30 при помощи шести двоек, используя только с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нуль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иши число нуль при помощи трёх пятёрок, используя знаки действия и ско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колько детей в семье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емье семь братьев и у каждого по одной сестре. Сколько детей в сем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колько раз цветёт кувшинка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вшинка живёт 21 год. Впервые она зацветает в возрасте 7 лет. Сколько раз может цвести кувшинка за свой в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пасибо за работу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пехов в освоении новых знан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21432000">
            <a:off x="1550880" y="547560"/>
            <a:ext cx="6048360" cy="6193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 rot="19900200">
            <a:off x="2627280" y="1699920"/>
            <a:ext cx="2243160" cy="4105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851280" y="1628640"/>
            <a:ext cx="2243160" cy="4105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 rot="19400400">
            <a:off x="3131640" y="162828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rcRect l="0" t="0" r="0" b="24594"/>
          <a:stretch/>
        </p:blipFill>
        <p:spPr>
          <a:xfrm rot="1872000">
            <a:off x="5580000" y="2852640"/>
            <a:ext cx="2243160" cy="3095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rcRect l="0" t="0" r="0" b="24594"/>
          <a:stretch/>
        </p:blipFill>
        <p:spPr>
          <a:xfrm flipH="1" rot="19077000">
            <a:off x="1907280" y="3284280"/>
            <a:ext cx="2089440" cy="309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rcRect l="6444" t="0" r="0" b="51023"/>
          <a:stretch/>
        </p:blipFill>
        <p:spPr>
          <a:xfrm rot="478200">
            <a:off x="3132000" y="378936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rcRect l="6444" t="0" r="0" b="51023"/>
          <a:stretch/>
        </p:blipFill>
        <p:spPr>
          <a:xfrm rot="20004000">
            <a:off x="4572000" y="299700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rcRect l="0" t="0" r="0" b="35111"/>
          <a:stretch/>
        </p:blipFill>
        <p:spPr>
          <a:xfrm rot="1306200">
            <a:off x="4284360" y="3357720"/>
            <a:ext cx="2343240" cy="2663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9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ст-пал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овни-с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-л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о-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ниты-щё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Загадки-шутк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цветы, а вянут. Не ладони, а ими хлопают. Не бельё, а их развешивают доверчивые и любопы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ё толкут в ступе или носят в решете те, кто занимается бесполезным делом, её набирают в рот , когда молчат, её нельзя разлить неразлучных др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проглатывают, упорно не желая о чём-либо говорить, он хорошо подвешен у человека, который говорит бойко, легко, его держат за зубами когда не хотят говорить лиш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Назови сравнения с животным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40000" y="1628280"/>
            <a:ext cx="6400800" cy="44960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вивается, как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т,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лбит,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щит,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ажается, как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оровый,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етел,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вивается, как у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т, как с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лбит, как дя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щит, как с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ажается, как лев (тиг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доровый,  как б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етел, как корш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Языковые загадк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гласных в словах: СЕМЬЯ, СОР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ких словах по сто соглас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м кончаются ДЕНЬ и НО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стоит посередине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ком глаголе сто отрица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тремя местоимениями можно сказать, что руки чист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Литературное чте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55640" y="1699920"/>
            <a:ext cx="6357960" cy="4454280"/>
          </a:xfrm>
          <a:prstGeom prst="rect">
            <a:avLst/>
          </a:prstGeom>
          <a:solidFill>
            <a:srgbClr val="fabca4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знай кто прислал телеграм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пила самовар, приглашаю к ч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ехать не могу, от меня сбежали брю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пи мне азбуку, пойду у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Ответь на вопросы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solidFill>
            <a:srgbClr val="fabca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ем был папа Кар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овут девочку с голубыми волос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слово составлял Кай из льдин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1:34:39Z</dcterms:created>
  <dc:creator>User</dc:creator>
  <dc:description/>
  <dc:language>en-US</dc:language>
  <cp:lastModifiedBy>User</cp:lastModifiedBy>
  <dcterms:modified xsi:type="dcterms:W3CDTF">2011-10-03T14:05:58Z</dcterms:modified>
  <cp:revision>11</cp:revision>
  <dc:subject/>
  <dc:title>Слайд 1</dc:title>
</cp:coreProperties>
</file>