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4B8-EF46-4E8E-A1D3-1C0F0DAD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2BE-7F24-4F5C-9E39-6C2D0EF4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FE1-7652-402D-8B05-B265DEF6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C6B-5658-4EA4-BE94-CF894FCC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83BF-3E9D-45C6-825D-5A4FB1CA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A2CC-2C24-40C8-936E-4F2D25B6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1A7-185C-4D5D-9DDA-C6E56AF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9728-16BA-430F-A35B-022325C1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0A9-98A0-4E6F-8DE7-D56E90B5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C04E-CE5C-4F8F-BD42-D7FEC885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BBD3-451F-428E-A917-455B2B67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55B-5B7C-4A7A-A46B-51E3EB7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550F-E15A-4CA9-87C4-AAE0C236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0784-991C-4BA0-848B-81C2CC6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7FB6-E825-49B0-8098-8390581A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E5F2-9F20-431B-9404-05572960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6EBE-D18B-4C66-B146-89A3FC1E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376-4EF2-4731-B1B7-056004BA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9EE-8F90-43A5-ABCE-BD735E9F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0A5-223F-4357-ABF4-514D343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F152-C155-4D31-9B32-25D047F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CB9-E039-498A-B5AB-2386382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2DC-2E2A-4AD3-8ECF-4A07C3F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FB5-8C17-44BD-8475-A651CF86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4412-AC2D-419E-ADF5-381660AD3C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7CF-E62D-4E9A-8E72-2B1130B7A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audio" Target="file:///tmp/home/.config/libreoffice/4/user/gallery/gold-mp3.ru_alla_pugacheva_-_million_alyh_roz.wav" TargetMode="External"/><Relationship Id="rId12" Type="http://schemas.microsoft.com/office/2007/relationships/media" Target="file:///tmp/home/.config/libreoffice/4/user/gallery/gold-mp3.ru_alla_pugacheva_-_million_alyh_roz.wav" TargetMode="External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нтеллектуальная игра: Открой в себе ге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8720" cy="1427040"/>
          </a:xfrm>
          <a:prstGeom prst="rect">
            <a:avLst/>
          </a:prstGeom>
          <a:solidFill>
            <a:srgbClr val="00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Волчихинской средней школы №1 Лакотина Нина Васи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Дополни им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шечка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ще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ец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илис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шечка Хаврош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ще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ец Ива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са Премуд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с П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ист Ясный с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мей Горы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должи пословиц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человека кормит, а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писано пером, не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платье снову, а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человека кормит, а лень пор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писано пером, не вырубишь топ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платье снову, а честь смол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узыкальная пауз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Окружающий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ми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го цвета хамеле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трава которую и слепые знаю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х зверей называют «шатунам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Составь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задачу , используя данны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сова уничтожает за лето 1000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ушка за 1 час может съесть 100 гусе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уганный страус может развивать скорость до 100 км/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Закончи высказывание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океа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матери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е высокие гор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е глубокое озе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крупная пустын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высокая гора на Зем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мал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верест(Джомолунг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переведи с русского на русс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в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нит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осмос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–это звезда или план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мете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прибор с помощью которого наблюдают за звёз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ма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 число 30 при помощи шести двоек, используя только с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у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 число нуль при помощи трёх пятёрок, используя знаки действия и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детей в семь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емье семь братьев и у каждого по одной сестре. Сколько детей в сем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раз цветёт кувшинк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вшинка живёт 21 год. Впервые она зацветает в возрасте 7 лет. Сколько раз может цвести кувшинка за свой 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пасибо за работу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хов в освоении новых зна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т-пал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вни-с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-л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-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ниты-щё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гадки-шут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цветы, а вянут. Не ладони, а ими хлопают. Не бельё, а их развешивают доверчивые и любопы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ё толкут в ступе или носят в решете те, кто занимается бесполезным делом, её набирают в рот , когда молчат, её нельзя разлить неразлучны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проглатывают, упорно не желая о чём-либо говорить, он хорошо подвешен у человека, который говорит бойко, легко, его держат за зубами когда не хотят говорить лиш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азови сравнения с животным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ивается, как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б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щ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жается, как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ый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етел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ивается, как 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т, как с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бит, как дя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щит, как 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жается, как лев (тиг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ый,  как б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етел, как корш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Языковые загад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гласных в словах: СЕМЬЯ, СО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их словах по сто соглас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кончаются ДЕНЬ и НО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стоит посередин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ом глаголе сто отрица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тремя местоимениями можно сказать, что руки чист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Литературное чт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55640" y="1699920"/>
            <a:ext cx="6357960" cy="44542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знай кто прислал телеграм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пила самовар, приглашаю к 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хать не могу, от меня сбежали брю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пи мне азбуку, пойду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тветь на вопросы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 был папа Кар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овут девочку с голубыми волос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лово составлял Кай из льди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1:34:39Z</dcterms:created>
  <dc:creator>User</dc:creator>
  <dc:description/>
  <dc:language>en-US</dc:language>
  <cp:lastModifiedBy>User</cp:lastModifiedBy>
  <dcterms:modified xsi:type="dcterms:W3CDTF">2011-10-03T14:05:58Z</dcterms:modified>
  <cp:revision>11</cp:revision>
  <dc:subject/>
  <dc:title>Слайд 1</dc:title>
</cp:coreProperties>
</file>