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125-B2BD-4929-9118-E458E053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191-20F2-4D75-BD27-142D99D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1FE-9AFE-4CDE-B702-1002A4F6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888-D456-4A62-80E0-3E0B0B07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20D-BE20-4C57-9159-F4556EA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5D6-39E0-4F32-9560-B812284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C9F-0FE8-4915-9599-9BEDCE65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A7B-F705-4223-94A3-9498B6C0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F48-6567-499E-A34E-E1FFBBB5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767-9BDC-461D-BCCC-0647DD8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118-FEB6-46BC-85CE-16BA5AF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410-AC63-4E3C-BC02-3B24710D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33A-4AE3-4011-BA48-EDFF35FF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066680"/>
            <a:ext cx="8534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  ИСТОРИИ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ВИТ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БИРАТЕЛЬНОЙ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ИСТЕМЫ   РОССИ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19320" y="68580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вой  в истории государства Конституции РСФСР 1918 г. политические права предоставлялись только трудя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0178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62520" y="2438280"/>
            <a:ext cx="48006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бирательного права были лиш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, использующие наемный тру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ца, живущие на нетрудовые д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 торговцы; служащие церкв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ы и служащие бывшей пол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алиш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3352680"/>
            <a:ext cx="4648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рховная власть принадлеж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межутках между съез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 заседаниями ВЦ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352680"/>
            <a:ext cx="43434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российскому съезду Со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Ц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К (совету народных комиссаров) - правитель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5410080"/>
            <a:ext cx="9907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4495680"/>
            <a:ext cx="45720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3867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4648320"/>
            <a:ext cx="624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образованием СССР съезд Советов принял новую Конституцию СССР в 1924г., сохранившей основные принципы прежней Конститу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73152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62520" y="1447920"/>
            <a:ext cx="47242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Конституции 1936г. впервые выделяется глава «Избирательная систе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сены изменения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переход от многоступенчатых выборов к прямым и отмена ограничения классового характера. Голосование стало тайным и голоса избирателей равными. Голосовать имел право гражданин, достигший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711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228600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ирательная система по Конституции СССР 1977г. не претерпела особых изме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3467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233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52880" y="7621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форма советской избирательной системы началась в период перестройки, связанная с именем Генерального секретаря ЦК КПСС М.С.Горба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276720"/>
            <a:ext cx="80010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декабря 1988г. принят закон СССР «О выборах народных депутатов ССС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 выдвижения принадлежало трудовым коллективам, общественным организ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выдвигаемых кандидатов не ограничив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о беспрепятственной аги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14479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428920" cy="3276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2680" y="45720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распадом СССР начинается новый этап в развитии избирательной системы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048120"/>
            <a:ext cx="5639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декабря 1993 года принята новая Конституц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лялись основы рыночной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ая политическ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ведение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лены основные принципы избирательного права: всеобщее, равное, тайное, прямое, свобо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2162160" cy="309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81280" y="159840"/>
            <a:ext cx="4402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 информационный век знания приобретают особую ценность. Только образованный, эрудированный человек может найти достойное место в жизни и уверенно смотреть в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553080" y="1828800"/>
            <a:ext cx="2210040" cy="5382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28600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9320" y="3657600"/>
            <a:ext cx="44956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им образом, избирательная система России на всех этапах развивалась в соответствии с теми событиями, которые происходили в стране, отражая противоречия текущего мо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в новейшей истории России появилась возможность проведения демократических выб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80880"/>
            <a:ext cx="693396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ярской д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аря в 1613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ов земского и городского самоуправления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2590920"/>
            <a:ext cx="363852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2247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8380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ой думы в 1906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905120"/>
            <a:ext cx="6629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имели избирательных прав в Ду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нщ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щие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ие нерусские наро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3600" y="1371600"/>
            <a:ext cx="283536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0" y="4343400"/>
            <a:ext cx="14508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9320" y="1371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7102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и созданы кур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левладельческая (устанавливался земельный налог (от 100 до 650 десятин земли) или имущественный ценз (не менее 15 тыс.руб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ская (имущественный цен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стьянская (имущественный ценз отсутство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навливалась сложная четырёхстепенная система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3962520"/>
            <a:ext cx="4267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ий с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лостной съ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ездный съ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бернское избирательн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962520"/>
            <a:ext cx="2438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двор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олномо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олномоч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лены Гос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19112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57200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952880"/>
            <a:ext cx="281952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5410080"/>
            <a:ext cx="8380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426708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6483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1055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26708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46483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105520"/>
            <a:ext cx="0" cy="228600"/>
          </a:xfrm>
          <a:prstGeom prst="line">
            <a:avLst/>
          </a:prstGeom>
          <a:ln w="28440">
            <a:solidFill>
              <a:srgbClr val="0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762120"/>
            <a:ext cx="68580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действовала 72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 27 апреля по 8 июля 1906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– адвокат С.А. Муромцев. Рассматривались вопросы: аграрный, об отмене смертной казни, о гражданском равноправии, ликвидация помещичьего землевладения, преобразование России в парламентскую республ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щена указом император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19320" y="1295280"/>
            <a:ext cx="701028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действовала 102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 20 февраля – 2 июня 1907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– кадет Ф.А. Головин. Рассматривались вопросы: аграрный, продовольственный, роспись бюджета на 1907 г., набор новобранцев, отмена указа о военно-полевых 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ущена по указу императора Никол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2055960" cy="3124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320040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457200"/>
            <a:ext cx="70102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проработала пять лет (с 1 ноября 1907г. – 9 июня 1912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дателями последовательно были: Н.А. Хомяков, А.И. Гучков и М.В. Родзянко. Дума утвердила 2200 законопроектов, направленные на усиление администрации, полиции, увеличение ассигнований на строительство тюрем; приняла аграрные мероприятия П.А. Столыпина. Ежегодно утверждала бюджеты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ущена в ввиду истечения полномо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00200" y="3962520"/>
            <a:ext cx="5848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3880" y="685800"/>
            <a:ext cx="64008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работала с 15 ноября 1912г. по 25 февраля 1917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датель – В.М. Родзянко. Обсуждала законопроекты, рассматривала и утверждала росписи доходов и расходов, обсуждала запросы членов о незаконных действиях вла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4496040" cy="313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95280" y="762120"/>
            <a:ext cx="6934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отречения Никол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917г.  власть перешла в руки Временного прав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провозглашается республикой 1 сентября 1917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Дума прекратила свои засе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редительное собрание было распущено большев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1338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07-11-29T15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