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15E-BC87-4403-B3E6-433392F3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106-228D-4A2D-AF84-31E6F4D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B40-3B34-4D77-B2F0-55C51D53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BE0-05BD-4593-AF0B-C2FE142B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BB8-5D7F-4195-B19F-81E657F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707-6956-4425-9324-C76081CD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B6F-BD13-40D6-93B0-108A4E32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AAED-FB01-4C93-B4EB-EA5DB66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AAC-7C5A-4AB3-954F-DE4A0EC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639-2468-4784-A6F3-203F2A8B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64D-24BA-4F0F-9021-93409FB0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F6A-27DB-42A7-9B57-1D752C9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58B9-713A-4FF1-A056-F470049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07F-0B2B-4F92-9157-149B5953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B75E-0739-4A89-AEA3-108DB6B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4CEB-6738-49AA-B109-EB83D560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C0BC-25A7-4ABF-8EAE-D00FD3D6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457-9E7C-4889-8A78-53FAC81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EE4-01DB-4F5C-98FE-18EDEB2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B47-D7EB-4528-A923-D35D52C7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0AD-1477-4802-AEC4-A86FB38E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AA2-F0F4-45B1-A8D8-CCD53C5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928-728A-41EC-AEBA-D8D26B0F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D7D-FCBD-4199-9D00-9AAC3C14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D43E-C2A8-48AB-B8E6-890A5D5164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7D4-104B-4014-841F-104386089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nternetsoft.16mb.com/images/2012/01/web-browsers-5.002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nternetsoft.16mb.com/images/2012/01/web-browsers-5.003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nternetsoft.16mb.com/images/2012/01/web-browsers-6.001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19280" y="1341000"/>
            <a:ext cx="360036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</a:t>
            </a:r>
            <a:br>
              <a:rPr sz="5400"/>
            </a:b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4723920"/>
            <a:ext cx="803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0" y="4365720"/>
            <a:ext cx="4572000" cy="21564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4a1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508720" y="4149720"/>
            <a:ext cx="3635280" cy="21600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da7c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732720" y="3933720"/>
            <a:ext cx="2411280" cy="21600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fef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 1997 году в Интернете насчитывалось уже около 10 млн. компьют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чале 2000-х годов в мире было всего 250 миллионов пользователей интер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чале 2011 года число пользователей сети Интернет превысило 2 миллиарда человек (всё население планеты - 7 млрд.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2012 году число интернет-пользователей превысило 2.4 мл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92"/>
          <p:cNvPicPr/>
          <p:nvPr/>
        </p:nvPicPr>
        <p:blipFill>
          <a:blip r:embed="rId1"/>
          <a:stretch/>
        </p:blipFill>
        <p:spPr>
          <a:xfrm>
            <a:off x="0" y="4292640"/>
            <a:ext cx="4932360" cy="25653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http://internetsoft.16mb.com/images/2012/01/web-browsers-5.002-500x43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32360" cy="436572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http://i.imgur.com/TishJ.jpg"/>
          <p:cNvPicPr/>
          <p:nvPr/>
        </p:nvPicPr>
        <p:blipFill>
          <a:blip r:embed="rId4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92"/>
          <p:cNvPicPr/>
          <p:nvPr/>
        </p:nvPicPr>
        <p:blipFill>
          <a:blip r:embed="rId1"/>
          <a:stretch/>
        </p:blipFill>
        <p:spPr>
          <a:xfrm>
            <a:off x="4284720" y="378936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://internetsoft.16mb.com/images/2012/01/web-browsers-5.003-500x43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76600"/>
            <a:ext cx="4762440" cy="4181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http://i.imgur.com/Qo5HY.jpg"/>
          <p:cNvPicPr/>
          <p:nvPr/>
        </p:nvPicPr>
        <p:blipFill>
          <a:blip r:embed="rId4"/>
          <a:stretch/>
        </p:blipFill>
        <p:spPr>
          <a:xfrm>
            <a:off x="4067280" y="0"/>
            <a:ext cx="507672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92"/>
          <p:cNvPicPr/>
          <p:nvPr/>
        </p:nvPicPr>
        <p:blipFill>
          <a:blip r:embed="rId1"/>
          <a:stretch/>
        </p:blipFill>
        <p:spPr>
          <a:xfrm>
            <a:off x="0" y="4149720"/>
            <a:ext cx="4284720" cy="2708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http://i.imgur.com/clwaR.jpg"/>
          <p:cNvPicPr/>
          <p:nvPr/>
        </p:nvPicPr>
        <p:blipFill>
          <a:blip r:embed="rId2"/>
          <a:stretch/>
        </p:blipFill>
        <p:spPr>
          <a:xfrm>
            <a:off x="0" y="0"/>
            <a:ext cx="5003640" cy="4149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http://internetsoft.16mb.com/images/2012/01/web-browsers-6.001-500x43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 одну минуту в интерн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 различных сайтах регистрируются более 70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качивается более 13000 приложений на IPh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вязываются по скайпу более 370 000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обавляется более 320 новых аккаунтов в Твиттер и выпускается более 98000 твиттов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социальной сети Facebook 277 тысяч пользователей посещают 6 млн. страниц, обновляется более 695000 статус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олее 2 млн. запросов обрабатывается на Goo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 одну минуту в интерн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требляется 639800 Гб т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ервис YouTube показывает 1,3 млн. видеозаписей, на него добавляется более 600 видео продолжительностью более 30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Amazon совершает продажи на сумму в $8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0 пользователей становятся жертвами взлома аккау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тправляется более 204 млн. эл. писем! Из них 150 млн. - с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Социальные и культурные </a:t>
            </a:r>
            <a:br>
              <a:rPr sz="4000"/>
            </a:br>
            <a:r>
              <a:rPr b="1" i="1" lang="ru-RU" sz="40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грани Интер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994958_2"/>
          <p:cNvPicPr/>
          <p:nvPr/>
        </p:nvPicPr>
        <p:blipFill>
          <a:blip r:embed="rId1"/>
          <a:stretch/>
        </p:blipFill>
        <p:spPr>
          <a:xfrm>
            <a:off x="4716360" y="1687680"/>
            <a:ext cx="4427640" cy="3708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rId2" action="ppaction://hlinksldjump"/>
          </p:cNvPr>
          <p:cNvSpPr/>
          <p:nvPr/>
        </p:nvSpPr>
        <p:spPr>
          <a:xfrm>
            <a:off x="395280" y="191628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со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rId3" action="ppaction://hlinksldjump"/>
          </p:cNvPr>
          <p:cNvSpPr/>
          <p:nvPr/>
        </p:nvSpPr>
        <p:spPr>
          <a:xfrm>
            <a:off x="382680" y="2852640"/>
            <a:ext cx="4392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завис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rId4" action="ppaction://hlinksldjump"/>
          </p:cNvPr>
          <p:cNvSpPr/>
          <p:nvPr/>
        </p:nvSpPr>
        <p:spPr>
          <a:xfrm>
            <a:off x="396720" y="376092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рол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>
            <a:hlinkClick r:id="rId5" action="ppaction://hlinksldjump"/>
          </p:cNvPr>
          <p:cNvSpPr/>
          <p:nvPr/>
        </p:nvSpPr>
        <p:spPr>
          <a:xfrm>
            <a:off x="396720" y="469584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иберпа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>
            <a:hlinkClick r:id="rId6" action="ppaction://hlinksldjump"/>
          </p:cNvPr>
          <p:cNvSpPr/>
          <p:nvPr/>
        </p:nvSpPr>
        <p:spPr>
          <a:xfrm>
            <a:off x="395280" y="566100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етевой жар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>
            <a:hlinkClick r:id="" action="ppaction://hlinkshowjump?jump=endshow"/>
          </p:cNvPr>
          <p:cNvSpPr/>
          <p:nvPr/>
        </p:nvSpPr>
        <p:spPr>
          <a:xfrm>
            <a:off x="5940360" y="5632560"/>
            <a:ext cx="20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7451640" y="6093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997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-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44144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- группы людей, имеющих общие интересы и общающихся преимущественно через Интер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2924280"/>
            <a:ext cx="7921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1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 предоставляет широчайшие технические возможности для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роме того, в Интернет сравнительно легко найти людей со схожими интересами и взглядами на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добавок, общение в сети начать психологически проще, чем при личной встреч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Интернет-завис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44144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пределение интернет-зависимости звучит так: «Это навязчивое желание войти в Интернет, находясь в оффлайне, и неспособность выйти из Интернет, будучи онл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1280" y="3141720"/>
            <a:ext cx="543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spcBef>
                <a:spcPts val="1500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16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 данным различных исследований, интернет-зависимыми сегодня являются около 10 % пользователей во всё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500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оссийские психиатры считают, что сейчас в стране таковых 4—6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451640" y="6093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normal_17993469"/>
          <p:cNvPicPr/>
          <p:nvPr/>
        </p:nvPicPr>
        <p:blipFill>
          <a:blip r:embed="rId1"/>
          <a:stretch/>
        </p:blipFill>
        <p:spPr>
          <a:xfrm>
            <a:off x="5148360" y="2738520"/>
            <a:ext cx="38750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Трол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сихологическое и социальное явление, подмеченное в Интернет в 1990-х годах и мешающее нормальному общению в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троллями (англ. troll) во Всемирной сети называют людей, которые намеренно публикуют провокационные статьи и сообщения (в форумах, в группах новостей Usenet, в вики-проектах), призванные вызвать конфликты между участниками. Сами подобные статьи и сообщения также иногда называют троллями. Процесс написания таких сообщений и называется троллингом. В настоящее время любой популярный форум,                 группа новостей и вики-проект сталкивается с троллин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308720" y="5877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92"/>
          <p:cNvPicPr/>
          <p:nvPr/>
        </p:nvPicPr>
        <p:blipFill>
          <a:blip r:embed="rId1"/>
          <a:stretch/>
        </p:blipFill>
        <p:spPr>
          <a:xfrm>
            <a:off x="4427640" y="3371760"/>
            <a:ext cx="4716360" cy="34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редставляет собой международную компьютерную «сеть сетей», действующую на основе сотрудничества и соединяющую друг с другом самых разных пользователей, в том числе государственные организации,        учебные заведения,                      библиотеки, корпорации,             больницы, частных лиц                               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Киберпа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555560"/>
            <a:ext cx="850752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Ещё в середине 1980-х годов сформировался особый поджанр научной фантастики, фокусирующийся на компьютерах, высоких технологиях и проблемах, возникающих в обществе в связи с губительным применением плодов технического прогресса. Сюжетом произведений этого жанра часто становится борьба хакеров с могущественными корпорациями. Жанр получил широкое распространение в литературе, кинематографе, альтернативной музыке, графических произведениях и в компьютерных игр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ам термин «киберпанк» придуман и введён в употребление писателем Брюсом Бетке, который в 1983 году опубликовал одноимённый рассказ. Меньшее распространение имеют такие ответвления жанра, как кибертрэш и нанопан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236000" y="5950080"/>
            <a:ext cx="151272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111"/>
          <p:cNvPicPr/>
          <p:nvPr/>
        </p:nvPicPr>
        <p:blipFill>
          <a:blip r:embed="rId1"/>
          <a:stretch/>
        </p:blipFill>
        <p:spPr>
          <a:xfrm>
            <a:off x="5724360" y="1557360"/>
            <a:ext cx="3062520" cy="2808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Сетевой жар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трибутом Интернет-культуры является использование «смайликов», акронимов (абривиатур) английских выражений,              специальных слов и словосо-четаний, имеющих особое значение, отличное от привыч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5940360" y="5084640"/>
            <a:ext cx="244800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6588000" y="5661000"/>
            <a:ext cx="1224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554120"/>
            <a:ext cx="8569440" cy="511488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4 — (for — для) например, «4U» — (for you) «для теб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BB — (bye-bye) до свидания!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FAQ — (frequently asked questions) часто задаваемые вопросы (подразумевается список «вопрос—ответ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GG — смех (гы гы г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L — (good luck) удачи!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МХО  — (in my humble opinion) по моему скромному мнению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OMG — (oh, my God) «о господи!» — выражает удивление, раздра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pls, plz — (please) — сокращение от пожалуйста, получившее широкое распространение сначала в чатах, а затем и вне 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Thnx!, иногда tnx, thx (THX),10x, ty — (thanks, thank you) спасиб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x.o.x.o. — целую, обнима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" action="ppaction://hlinkshowjump?jump=nextslide"/>
          </p:cNvPr>
          <p:cNvSpPr/>
          <p:nvPr/>
        </p:nvSpPr>
        <p:spPr>
          <a:xfrm>
            <a:off x="7236000" y="6165720"/>
            <a:ext cx="1512720" cy="57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524720" y="645336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вата́р, Авата́рка, Авата́ра, Ава́тка, А́вик, А́ва, А́вчик, Авато́р (avatar — олицетворение), Юзерпи́к (user — пользователь, picture — изображение) — картинка, которую пользователь выбирает в качестве своего олицетворения. В основном используется в веб-форумах, бл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йпи́, Айпи́шник — IP-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пам (англ. spam) — рассылка коммерческой и иной рекламы или иных видов сообщений (информации) лицам, не выражавшим желания их получ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н, банан (ban) — используется в веб-форумах, чатах или онлайн-играх. Запрет для пользователя отправлять сообщения. «Забанить, наложить бан» ввести запрет для пользователя что либо делать (писать новые сообщения или просматривать и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рсик, Васик — язык программирования Бей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то́н, Ба́ттон (button) — кнопка. «Прессовать батоны» (press button), «жать/давить/топтать батоны» — работать за клавиатурой, работать мыш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6732720" y="5950080"/>
            <a:ext cx="1439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7020000" y="616572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к — ноутб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эка́пить — (backup), создавать резервные (страховочные) ко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углить — искать в Интернете (произошло от названия Goog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ипова́ть — использовать архиватор, компрессирующий данные в формат z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шак, осел — Браузер Internet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рякнуть, крэкнуть — взломать програ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амер — ( lamer — хромой) неумелый пользователь ЭВМ с завышенн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инух, линь — операционная система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ОЛ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— (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lol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— «Laugh[ing] out loud») —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ромко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хохотать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ак правило, используется для выражения комплимента к чувству юмора у собеседника. Нередко используется в спорах, как выражение неуважения к аргументам оппонента. Для усиления эффекта, серединная буква «о» нередко мультиплицируется, например, «лооооооол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6875640" y="6021360"/>
            <a:ext cx="151416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7164360" y="630864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есага — сообщение (в чате, форуме, IM)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озги́ — ОЗУ.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реза́ть — записывать на CD-R-д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гнели́с — браузер Mozilla Firef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абж, Субж — (subj., сокращение от subject) тема разговора, обычно на форуме; то, что указанно в поле темы сооб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Флуд — (flood «наводнение»), иногда флад, многократное повторение одинаковых или практически одинаковых сообщ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Фотожаба (от названия Adobe Photoshop) поддельная фотография, сделанная с помощью монтажа или наложения графических эфф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Ча́йник — малоопытный пользователь, человек, который не умеет целесообразно пользоваться персональным компьютером в нужном для него объё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Шаровары — shareware, условно-бесплатное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192"/>
          <p:cNvPicPr/>
          <p:nvPr/>
        </p:nvPicPr>
        <p:blipFill>
          <a:blip r:embed="rId1"/>
          <a:stretch/>
        </p:blipFill>
        <p:spPr>
          <a:xfrm>
            <a:off x="4017960" y="3068640"/>
            <a:ext cx="5126040" cy="37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пользованные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nivasposad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ru.wikipedi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connect.rin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pvsm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3dnews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bda-exper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//bizhit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Конец 60-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 1957 году Министерство обороны США посчитало, что на случай войны Америке нужна надёжная система передачи 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гентство по перспективным оборонным научно-исследовательским разработкам США(DARPA) предложило разработать для этого компьютерную с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азработка такой сети была поручена Калифорнийскому университету в Лос-Анджелесе, Стэнфордскому исследовательскому центру, Университету Юты и Университету штата Калифорния в Санта-Барбаре. Второго сентября </a:t>
            </a:r>
            <a:r>
              <a:rPr b="1" i="1" lang="en-US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69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года между ними состоялся первый успешный сеанс обмена информацией по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Конец 60-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146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ак возникла первая с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оторая была наз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3573360"/>
            <a:ext cx="83534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ARPANET</a:t>
            </a:r>
            <a:r>
              <a:rPr b="1" i="1" lang="ru-RU" sz="8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(Advanc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Projects Agency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nternet12"/>
          <p:cNvPicPr/>
          <p:nvPr/>
        </p:nvPicPr>
        <p:blipFill>
          <a:blip r:embed="rId1"/>
          <a:stretch/>
        </p:blipFill>
        <p:spPr>
          <a:xfrm>
            <a:off x="6372360" y="3141720"/>
            <a:ext cx="2447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9 октября 1969 года в 21:00 между двумя узлами сети ARPANET, находящимися на расстоянии в 640 км, провели сеанс связи. Чарли Клайн пытался выполнить удалённое подключение из Лос-Анджелеса к компьютеру в Стэнфорде. Успешную передачу каждого введённого символа его коллега Билл Дювалль из Стэнфорда подтверждал по 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первый раз удалось отправить всего три символа «LOG», после чего сеть перестала функционировать. LOG должно было быть словом LOGIN(команда входа в систему). В рабочее состояние систему вернули уже к 22:30, и следующая попытка оказалась успешной. Именно эту дату можно считать днём рождения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71 год - разработана первая программа для отправки электронной почты по сети, которая сразу стала очень популя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73 год - к сети подключены через трансатлантический телефонный кабель первые иностранные организации из Великобритании и Норвегии, сеть стала междуна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8 год - изобретён протокол Internet Relay Chat (IRC), благодаря чему в Интернете стало возможно общение в реальном времени (ча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 января 1983 года  - сеть ARPANET перешла на протокол TCP/IP, который успешно применяется до сих пор. Именно в 1983 году термин «Интернет» закрепился за сетью ARP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4 год - разработана система доменных имён (англ. Domain Name System, D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4 год - у сети ARPANET появился серьёзный соперник – межуниверситетская сеть NSFNet (сокр. от англ. National Science Foundation Network), организованную Национальным научным фондом США (NSF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040">
              <a:lnSpc>
                <a:spcPct val="80000"/>
              </a:lnSpc>
              <a:spcBef>
                <a:spcPts val="1800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9 год - в Европе, в стенах Европейского совета по ядерным исследованиям родилась концепция Всемирной паутины. Её предложил знаменитый британский учёный Тим Бернерс-Ли, он же в течение двух лет разработал протокол HTTP, язык HTML и идентификаторы U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1800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0 год - сеть ARPANET прекратила своё существование, полностью проиграв конкуренцию NSFN</a:t>
            </a:r>
            <a:r>
              <a:rPr b="1" i="1" lang="en-U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ET</a:t>
            </a: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В том же году было зафиксировано первое подключение к Интернету по телефонн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1 год - Всемирная паутина стала общедоступна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5 год - Всемирная паутина стала основным поставщиком информации в Интернете, был образован Консорциум всемирной пау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 1996 года Всемирная паутина почти полностью подменяет собой понятие «Интерн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1990-е годы Интернет объединил в себе большинство существовавших тогда с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 1997 году в Интернете насчитывалось уже около 10 млн компьютеров, было зарегистрировано более 1 млн доменных имён. Интернет стал очень популярным средством для обмена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03:26Z</dcterms:created>
  <dc:creator>user</dc:creator>
  <dc:description/>
  <dc:language>en-US</dc:language>
  <cp:lastModifiedBy>Admin</cp:lastModifiedBy>
  <dcterms:modified xsi:type="dcterms:W3CDTF">2013-03-26T09:06:41Z</dcterms:modified>
  <cp:revision>73</cp:revision>
  <dc:subject/>
  <dc:title>Слайд 1</dc:title>
</cp:coreProperties>
</file>