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D60-2854-438E-A50D-9D0CB619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3C7-C31E-4E84-8760-DEBDCF02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071-F2A2-4C92-A97D-5D298100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BBC-B239-47E8-A71D-8597EDE5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66F6-9EAE-48D4-84AA-D1FA1614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9684-98C3-4C20-A3D5-2FACFB41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F6CC-0E76-487A-BE21-DAF35F87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A36D-42CA-4FCF-980B-0BDCB672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32E6-F95C-4D17-8202-9C0353C6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02EC-9A61-4897-ABB5-DB4FD7AD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A2FE-F53C-4547-8BB7-3543316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552-3288-4E65-8F08-4872AD21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3270-B4EE-4A4A-A6F0-325EF0DB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D90E-81A7-4DC6-8E00-31D3CB9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4222-C2F1-4741-9D44-320ACBD7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C2A4-A358-4AAB-90BC-59696001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5872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2756-22F8-496C-A990-99D53050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8BE-BD38-468E-AC7C-6E5E599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407-F357-4CCC-8209-E1FD2AC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44C-038C-4537-89DD-88ECAF50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99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346-2A09-4E18-9DB0-E811E858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AE2-3334-4D36-962A-FD66DB81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5872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58C-12EC-482C-9EF3-2AA99D26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5872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747-35AE-4688-A8C3-1991DD15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A6CA-D1BA-4504-8A1F-16F722820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FD68-F8C6-409B-9A7B-84BA015D55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nternetsoft.16mb.com/images/2012/01/web-browsers-5.002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nternetsoft.16mb.com/images/2012/01/web-browsers-5.003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nternetsoft.16mb.com/images/2012/01/web-browsers-6.001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19280" y="1341000"/>
            <a:ext cx="360036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</a:t>
            </a:r>
            <a:br>
              <a:rPr sz="5400"/>
            </a:br>
            <a:r>
              <a:rPr b="1" i="1" lang="ru-RU" sz="5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4723920"/>
            <a:ext cx="8034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0" y="4365720"/>
            <a:ext cx="4572000" cy="215640"/>
          </a:xfrm>
          <a:prstGeom prst="rect">
            <a:avLst/>
          </a:prstGeom>
          <a:gradFill rotWithShape="0">
            <a:gsLst>
              <a:gs pos="0">
                <a:srgbClr val="fef8dd"/>
              </a:gs>
              <a:gs pos="100000">
                <a:srgbClr val="4a1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508720" y="4149720"/>
            <a:ext cx="3635280" cy="216000"/>
          </a:xfrm>
          <a:prstGeom prst="rect">
            <a:avLst/>
          </a:prstGeom>
          <a:gradFill rotWithShape="0">
            <a:gsLst>
              <a:gs pos="0">
                <a:srgbClr val="fef8dd"/>
              </a:gs>
              <a:gs pos="100000">
                <a:srgbClr val="da7c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732720" y="3933720"/>
            <a:ext cx="2411280" cy="216000"/>
          </a:xfrm>
          <a:prstGeom prst="rect">
            <a:avLst/>
          </a:prstGeom>
          <a:gradFill rotWithShape="0">
            <a:gsLst>
              <a:gs pos="0">
                <a:srgbClr val="fef8dd"/>
              </a:gs>
              <a:gs pos="100000">
                <a:srgbClr val="fef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 1997 году в Интернете насчитывалось уже около 10 млн. компьют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начале 2000-х годов в мире было всего 250 миллионов пользователей интерн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начале 2011 года число пользователей сети Интернет превысило 2 миллиарда человек (всё население планеты - 7 млрд. че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2012 году число интернет-пользователей превысило 2.4 мл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3280" y="189000"/>
            <a:ext cx="41403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3200"/>
            </a:b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92"/>
          <p:cNvPicPr/>
          <p:nvPr/>
        </p:nvPicPr>
        <p:blipFill>
          <a:blip r:embed="rId1"/>
          <a:stretch/>
        </p:blipFill>
        <p:spPr>
          <a:xfrm>
            <a:off x="0" y="4292640"/>
            <a:ext cx="4932360" cy="25653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http://internetsoft.16mb.com/images/2012/01/web-browsers-5.002-500x43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32360" cy="4365720"/>
          </a:xfrm>
          <a:prstGeom prst="rect">
            <a:avLst/>
          </a:prstGeom>
          <a:ln w="0">
            <a:noFill/>
          </a:ln>
        </p:spPr>
      </p:pic>
      <p:pic>
        <p:nvPicPr>
          <p:cNvPr id="111" name="Содержимое 3" descr="http://i.imgur.com/TishJ.jpg"/>
          <p:cNvPicPr/>
          <p:nvPr/>
        </p:nvPicPr>
        <p:blipFill>
          <a:blip r:embed="rId4"/>
          <a:stretch/>
        </p:blipFill>
        <p:spPr>
          <a:xfrm>
            <a:off x="4427640" y="2924280"/>
            <a:ext cx="471636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41403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3200"/>
            </a:b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192"/>
          <p:cNvPicPr/>
          <p:nvPr/>
        </p:nvPicPr>
        <p:blipFill>
          <a:blip r:embed="rId1"/>
          <a:stretch/>
        </p:blipFill>
        <p:spPr>
          <a:xfrm>
            <a:off x="4284720" y="3789360"/>
            <a:ext cx="4859280" cy="3068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http://internetsoft.16mb.com/images/2012/01/web-browsers-5.003-500x43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676600"/>
            <a:ext cx="4762440" cy="41814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9" descr="http://i.imgur.com/Qo5HY.jpg"/>
          <p:cNvPicPr/>
          <p:nvPr/>
        </p:nvPicPr>
        <p:blipFill>
          <a:blip r:embed="rId4"/>
          <a:stretch/>
        </p:blipFill>
        <p:spPr>
          <a:xfrm>
            <a:off x="4067280" y="0"/>
            <a:ext cx="5076720" cy="3860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3280" y="189000"/>
            <a:ext cx="41403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3200"/>
            </a:br>
            <a:r>
              <a:rPr b="1" i="1" lang="ru-RU" sz="3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192"/>
          <p:cNvPicPr/>
          <p:nvPr/>
        </p:nvPicPr>
        <p:blipFill>
          <a:blip r:embed="rId1"/>
          <a:stretch/>
        </p:blipFill>
        <p:spPr>
          <a:xfrm>
            <a:off x="0" y="4149720"/>
            <a:ext cx="4284720" cy="27082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http://i.imgur.com/clwaR.jpg"/>
          <p:cNvPicPr/>
          <p:nvPr/>
        </p:nvPicPr>
        <p:blipFill>
          <a:blip r:embed="rId2"/>
          <a:stretch/>
        </p:blipFill>
        <p:spPr>
          <a:xfrm>
            <a:off x="0" y="0"/>
            <a:ext cx="5003640" cy="41497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http://internetsoft.16mb.com/images/2012/01/web-browsers-6.001-500x43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а одну минуту в интерн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а различных сайтах регистрируются более 70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качивается более 13000 приложений на IPh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вязываются по скайпу более 370 000 челов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Добавляется более 320 новых аккаунтов в Твиттер и выпускается более 98000 твиттов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социальной сети Facebook 277 тысяч пользователей посещают 6 млн. страниц, обновляется более 695000 статус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олее 2 млн. запросов обрабатывается на Goo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 в цифрах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2011-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а одну минуту в интерн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требляется 639800 Гб т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ервис YouTube показывает 1,3 млн. видеозаписей, на него добавляется более 600 видео продолжительностью более 30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Amazon совершает продажи на сумму в $83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20 пользователей становятся жертвами взлома аккау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тправляется более 204 млн. эл. писем! Из них 150 млн. - с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Социальные и культурные </a:t>
            </a:r>
            <a:br>
              <a:rPr sz="4000"/>
            </a:br>
            <a:r>
              <a:rPr b="1" i="1" lang="ru-RU" sz="40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грани Интер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2994958_2"/>
          <p:cNvPicPr/>
          <p:nvPr/>
        </p:nvPicPr>
        <p:blipFill>
          <a:blip r:embed="rId1"/>
          <a:stretch/>
        </p:blipFill>
        <p:spPr>
          <a:xfrm>
            <a:off x="4716360" y="1687680"/>
            <a:ext cx="4427640" cy="37083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>
            <a:hlinkClick r:id="rId2" action="ppaction://hlinksldjump"/>
          </p:cNvPr>
          <p:cNvSpPr/>
          <p:nvPr/>
        </p:nvSpPr>
        <p:spPr>
          <a:xfrm>
            <a:off x="395280" y="191628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-со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>
            <a:hlinkClick r:id="rId3" action="ppaction://hlinksldjump"/>
          </p:cNvPr>
          <p:cNvSpPr/>
          <p:nvPr/>
        </p:nvSpPr>
        <p:spPr>
          <a:xfrm>
            <a:off x="382680" y="2852640"/>
            <a:ext cx="4392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-завис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>
            <a:hlinkClick r:id="rId4" action="ppaction://hlinksldjump"/>
          </p:cNvPr>
          <p:cNvSpPr/>
          <p:nvPr/>
        </p:nvSpPr>
        <p:spPr>
          <a:xfrm>
            <a:off x="396720" y="376092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Тролл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>
            <a:hlinkClick r:id="rId5" action="ppaction://hlinksldjump"/>
          </p:cNvPr>
          <p:cNvSpPr/>
          <p:nvPr/>
        </p:nvSpPr>
        <p:spPr>
          <a:xfrm>
            <a:off x="396720" y="469584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иберпа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>
            <a:hlinkClick r:id="rId6" action="ppaction://hlinksldjump"/>
          </p:cNvPr>
          <p:cNvSpPr/>
          <p:nvPr/>
        </p:nvSpPr>
        <p:spPr>
          <a:xfrm>
            <a:off x="395280" y="5661000"/>
            <a:ext cx="439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етевой жар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3">
            <a:hlinkClick r:id="" action="ppaction://hlinkshowjump?jump=endshow"/>
          </p:cNvPr>
          <p:cNvSpPr/>
          <p:nvPr/>
        </p:nvSpPr>
        <p:spPr>
          <a:xfrm>
            <a:off x="5940360" y="5632560"/>
            <a:ext cx="20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7451640" y="609300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997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-со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441440"/>
            <a:ext cx="8507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- группы людей, имеющих общие интересы и общающихся преимущественно через Интер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11280" y="2924280"/>
            <a:ext cx="7921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spcBef>
                <a:spcPts val="1749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16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 предоставляет широчайшие технические возможности для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spcBef>
                <a:spcPts val="1749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роме того, в Интернет сравнительно легко найти людей со схожими интересами и взглядами на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spcBef>
                <a:spcPts val="1749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добавок, общение в сети начать психологически проще, чем при личной встреч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Интернет-зависи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441440"/>
            <a:ext cx="8507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пределение интернет-зависимости звучит так: «Это навязчивое желание войти в Интернет, находясь в оффлайне, и неспособность выйти из Интернет, будучи онла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1280" y="3141720"/>
            <a:ext cx="5435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spcBef>
                <a:spcPts val="1500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16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о данным различных исследований, интернет-зависимыми сегодня являются около 10 % пользователей во всё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00000"/>
              </a:lnSpc>
              <a:spcBef>
                <a:spcPts val="1500"/>
              </a:spcBef>
              <a:buClr>
                <a:srgbClr val="4a1600"/>
              </a:buClr>
              <a:buSzPct val="120000"/>
              <a:buFont typeface="Webdings" charset="2"/>
              <a:buChar char="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оссийские психиатры считают, что сейчас в стране таковых 4—6 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451640" y="609300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normal_17993469"/>
          <p:cNvPicPr/>
          <p:nvPr/>
        </p:nvPicPr>
        <p:blipFill>
          <a:blip r:embed="rId1"/>
          <a:stretch/>
        </p:blipFill>
        <p:spPr>
          <a:xfrm>
            <a:off x="5148360" y="2738520"/>
            <a:ext cx="38750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Трол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0716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сихологическое и социальное явление, подмеченное в Интернет в 1990-х годах и мешающее нормальному общению в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нтернет-троллями (англ. troll) во Всемирной сети называют людей, которые намеренно публикуют провокационные статьи и сообщения (в форумах, в группах новостей Usenet, в вики-проектах), призванные вызвать конфликты между участниками. Сами подобные статьи и сообщения также иногда называют троллями. Процесс написания таких сообщений и называется троллингом. В настоящее время любой популярный форум,                 группа новостей и вики-проект сталкивается с троллин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7308720" y="5877000"/>
            <a:ext cx="151308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92"/>
          <p:cNvPicPr/>
          <p:nvPr/>
        </p:nvPicPr>
        <p:blipFill>
          <a:blip r:embed="rId1"/>
          <a:stretch/>
        </p:blipFill>
        <p:spPr>
          <a:xfrm>
            <a:off x="4427640" y="3371760"/>
            <a:ext cx="4716360" cy="3486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нтерн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редставляет собой международную компьютерную «сеть сетей», действующую на основе сотрудничества и соединяющую друг с другом самых разных пользователей, в том числе государственные организации,        учебные заведения,                      библиотеки, корпорации,             больницы, частных лиц                               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Киберпа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555560"/>
            <a:ext cx="850752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Ещё в середине 1980-х годов сформировался особый поджанр научной фантастики, фокусирующийся на компьютерах, высоких технологиях и проблемах, возникающих в обществе в связи с губительным применением плодов технического прогресса. Сюжетом произведений этого жанра часто становится борьба хакеров с могущественными корпорациями. Жанр получил широкое распространение в литературе, кинематографе, альтернативной музыке, графических произведениях и в компьютерных игр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ам термин «киберпанк» придуман и введён в употребление писателем Брюсом Бетке, который в 1983 году опубликовал одноимённый рассказ. Меньшее распространение имеют такие ответвления жанра, как кибертрэш и нанопан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7236000" y="5950080"/>
            <a:ext cx="151272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111"/>
          <p:cNvPicPr/>
          <p:nvPr/>
        </p:nvPicPr>
        <p:blipFill>
          <a:blip r:embed="rId1"/>
          <a:stretch/>
        </p:blipFill>
        <p:spPr>
          <a:xfrm>
            <a:off x="5724360" y="1557360"/>
            <a:ext cx="3062520" cy="2808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Сетевой жарг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трибутом Интернет-культуры является использование «смайликов», акронимов (абривиатур) английских выражений,              специальных слов и словосо-четаний, имеющих особое значение, отличное от привыч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2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5940360" y="5084640"/>
            <a:ext cx="244800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6588000" y="5661000"/>
            <a:ext cx="1224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554120"/>
            <a:ext cx="8569440" cy="511488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4 — (for — для) например, «4U» — (for you) «для теб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BB — (bye-bye) до свидания!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FAQ — (frequently asked questions) часто задаваемые вопросы (подразумевается список «вопрос—ответ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GGG — смех (гы гы г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GL — (good luck) удачи!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МХО  — (in my humble opinion) по моему скромному мнению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OMG — (oh, my God) «о господи!» — выражает удивление, раздраж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pls, plz — (please) — сокращение от пожалуйста, получившее широкое распространение сначала в чатах, а затем и вне 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Thnx!, иногда tnx, thx (THX),10x, ty — (thanks, thank you) спасиб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x.o.x.o. — целую, обнима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" action="ppaction://hlinkshowjump?jump=nextslide"/>
          </p:cNvPr>
          <p:cNvSpPr/>
          <p:nvPr/>
        </p:nvSpPr>
        <p:spPr>
          <a:xfrm>
            <a:off x="7236000" y="6165720"/>
            <a:ext cx="1512720" cy="57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524720" y="6453360"/>
            <a:ext cx="1008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440920" cy="504180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вата́р, Авата́рка, Авата́ра, Ава́тка, А́вик, А́ва, А́вчик, Авато́р (avatar — олицетворение), Юзерпи́к (user — пользователь, picture — изображение) — картинка, которую пользователь выбирает в качестве своего олицетворения. В основном используется в веб-форумах, бл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йпи́, Айпи́шник — IP-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пам (англ. spam) — рассылка коммерческой и иной рекламы или иных видов сообщений (информации) лицам, не выражавшим желания их получ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ан, банан (ban) — используется в веб-форумах, чатах или онлайн-играх. Запрет для пользователя отправлять сообщения. «Забанить, наложить бан» ввести запрет для пользователя что либо делать (писать новые сообщения или просматривать и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арсик, Васик — язык программирования Бей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ато́н, Ба́ттон (button) — кнопка. «Прессовать батоны» (press button), «жать/давить/топтать батоны» — работать за клавиатурой, работать мыш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6732720" y="5950080"/>
            <a:ext cx="143964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7020000" y="6165720"/>
            <a:ext cx="1008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440920" cy="504180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ук — ноутб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Бэка́пить — (backup), создавать резервные (страховочные) ко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Гуглить — искать в Интернете (произошло от названия Goog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ипова́ть — использовать архиватор, компрессирующий данные в формат z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Ишак, осел — Браузер Internet Explo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рякнуть, крэкнуть — взломать програ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Ламер — ( lamer — хромой) неумелый пользователь ЭВМ с завышенной самооц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Линух, линь — операционная система 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ЛОЛ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— (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lol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— «Laugh[ing] out loud») —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громко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хохотать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.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ак правило, используется для выражения комплимента к чувству юмора у собеседника. Нередко используется в спорах, как выражение неуважения к аргументам оппонента. Для усиления эффекта, серединная буква «о» нередко мультиплицируется, например, «лооооооол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" action="ppaction://hlinkshowjump?jump=nextslide"/>
          </p:cNvPr>
          <p:cNvSpPr/>
          <p:nvPr/>
        </p:nvSpPr>
        <p:spPr>
          <a:xfrm>
            <a:off x="6875640" y="6021360"/>
            <a:ext cx="1514160" cy="57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df0b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9890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7164360" y="6308640"/>
            <a:ext cx="1008000" cy="0"/>
          </a:xfrm>
          <a:prstGeom prst="line">
            <a:avLst/>
          </a:prstGeom>
          <a:ln w="139680">
            <a:solidFill>
              <a:srgbClr val="ff99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92360" y="997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a7c0d"/>
                </a:solidFill>
                <a:latin typeface="Times New Roman"/>
                <a:ea typeface="Times New Roman"/>
              </a:rPr>
              <a:t>Примеры жарго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440920" cy="5041800"/>
          </a:xfrm>
          <a:prstGeom prst="rect">
            <a:avLst/>
          </a:prstGeom>
          <a:solidFill>
            <a:srgbClr val="fffdf3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есага — сообщение (в чате, форуме, IM)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Мозги́ — ОЗУ.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Нареза́ть — записывать на CD-R-д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гнели́с — браузер Mozilla Firef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абж, Субж — (subj., сокращение от subject) тема разговора, обычно на форуме; то, что указанно в поле темы сооб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Флуд — (flood «наводнение»), иногда флад, многократное повторение одинаковых или практически одинаковых сообще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Фотожаба (от названия Adobe Photoshop) поддельная фотография, сделанная с помощью монтажа или наложения графических эфф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Ча́йник — малоопытный пользователь, человек, который не умеет целесообразно пользоваться персональным компьютером в нужном для него объё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Шаровары — shareware, условно-бесплатное</a:t>
            </a:r>
            <a:r>
              <a:rPr b="1" i="1" lang="en-US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192"/>
          <p:cNvPicPr/>
          <p:nvPr/>
        </p:nvPicPr>
        <p:blipFill>
          <a:blip r:embed="rId1"/>
          <a:stretch/>
        </p:blipFill>
        <p:spPr>
          <a:xfrm>
            <a:off x="4017960" y="3068640"/>
            <a:ext cx="5126040" cy="37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пользованные </a:t>
            </a:r>
            <a:br>
              <a:rPr sz="4400"/>
            </a:b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www.nivasposad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ru.wikipedia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connect.rin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www.pvsm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www.3dnews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://bda-exper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:</a:t>
            </a:r>
            <a:r>
              <a:rPr b="1" i="1" lang="en-US" sz="36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//bizhit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Конец 60-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 1957 году Министерство обороны США посчитало, что на случай войны Америке нужна надёжная система передачи 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 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гентство по перспективным оборонным научно-исследовательским разработкам США(DARPA) предложило разработать для этого компьютерную с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азработка такой сети была поручена Калифорнийскому университету в Лос-Анджелесе, Стэнфордскому исследовательскому центру, Университету Юты и Университету штата Калифорния в Санта-Барбаре. Второго сентября </a:t>
            </a:r>
            <a:r>
              <a:rPr b="1" i="1" lang="en-US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69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года между ними состоялся первый успешный сеанс обмена информацией по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Конец 60-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146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Так возникла первая се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оторая была назв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24000" y="3573360"/>
            <a:ext cx="835344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72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ARPANET</a:t>
            </a:r>
            <a:r>
              <a:rPr b="1" i="1" lang="ru-RU" sz="8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(Advanc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Projects Agency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nternet12"/>
          <p:cNvPicPr/>
          <p:nvPr/>
        </p:nvPicPr>
        <p:blipFill>
          <a:blip r:embed="rId1"/>
          <a:stretch/>
        </p:blipFill>
        <p:spPr>
          <a:xfrm>
            <a:off x="6372360" y="3141720"/>
            <a:ext cx="2447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 spd="med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5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5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5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29 октября 1969 года в 21:00 между двумя узлами сети ARPANET, находящимися на расстоянии в 640 км, провели сеанс связи. Чарли Клайн пытался выполнить удалённое подключение из Лос-Анджелеса к компьютеру в Стэнфорде. Успешную передачу каждого введённого символа его коллега Билл Дювалль из Стэнфорда подтверждал по телеф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первый раз удалось отправить всего три символа «LOG», после чего сеть перестала функционировать. LOG должно было быть словом LOGIN(команда входа в систему). В рабочее состояние систему вернули уже к 22:30, и следующая попытка оказалась успешной. Именно эту дату можно считать днём рождения Интер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71 год - разработана первая программа для отправки электронной почты по сети, которая сразу стала очень популя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73 год - к сети подключены через трансатлантический телефонный кабель первые иностранные организации из Великобритании и Норвегии, сеть стала междуна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8 год - изобретён протокол Internet Relay Chat (IRC), благодаря чему в Интернете стало возможно общение в реальном времени (ча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 января 1983 года  - сеть ARPANET перешла на протокол TCP/IP, который успешно применяется до сих пор. Именно в 1983 году термин «Интернет» закрепился за сетью ARP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4 год - разработана система доменных имён (англ. Domain Name System, D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4 год - у сети ARPANET появился серьёзный соперник – межуниверситетская сеть NSFNet (сокр. от англ. National Science Foundation Network), организованную Национальным научным фондом США (NSF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040">
              <a:lnSpc>
                <a:spcPct val="80000"/>
              </a:lnSpc>
              <a:spcBef>
                <a:spcPts val="1800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89 год - в Европе, в стенах Европейского совета по ядерным исследованиям родилась концепция Всемирной паутины. Её предложил знаменитый британский учёный Тим Бернерс-Ли, он же в течение двух лет разработал протокол HTTP, язык HTML и идентификаторы U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1800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90 год - сеть ARPANET прекратила своё существование, полностью проиграв конкуренцию NSFN</a:t>
            </a:r>
            <a:r>
              <a:rPr b="1" i="1" lang="en-US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ET</a:t>
            </a:r>
            <a:r>
              <a:rPr b="1" i="1" lang="ru-RU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. В том же году было зафиксировано первое подключение к Интернету по телефонно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7300"/>
                </a:solidFill>
                <a:latin typeface="Times New Roman"/>
                <a:ea typeface="Times New Roman"/>
              </a:rPr>
              <a:t>История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91 год - Всемирная паутина стала общедоступна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1995 год - Всемирная паутина стала основным поставщиком информации в Интернете, был образован Консорциум всемирной пау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 1996 года Всемирная паутина почти полностью подменяет собой понятие «Интерн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 1990-е годы Интернет объединил в себе большинство существовавших тогда с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157320">
              <a:lnSpc>
                <a:spcPct val="80000"/>
              </a:lnSpc>
              <a:spcBef>
                <a:spcPts val="1049"/>
              </a:spcBef>
              <a:buClr>
                <a:srgbClr val="4a1600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К 1997 году в Интернете насчитывалось уже около 10 млн компьютеров, было зарегистрировано более 1 млн доменных имён. Интернет стал очень популярным средством для обмена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6:03:26Z</dcterms:created>
  <dc:creator>user</dc:creator>
  <dc:description/>
  <dc:language>en-US</dc:language>
  <cp:lastModifiedBy>Admin</cp:lastModifiedBy>
  <dcterms:modified xsi:type="dcterms:W3CDTF">2013-03-26T09:06:41Z</dcterms:modified>
  <cp:revision>73</cp:revision>
  <dc:subject/>
  <dc:title>Слайд 1</dc:title>
</cp:coreProperties>
</file>