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1BE-354B-4637-B6B3-A980FD59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41A-83FE-42CD-8F70-A2EE780C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FA9-730B-40C4-B17D-7DA358F4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70C-0D67-48C7-9D72-94D6C097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909E-7734-473C-A122-C3DA9FB9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82BE-DD62-41C4-8871-883DE167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305F-2F37-4A4A-8CD1-60CBACE3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EC83-0720-47DC-9848-66606189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DBD3-34E6-4705-BAAD-C40A539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F364-3185-4493-BD40-A048827B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C357-332F-4E8E-B67F-FA4E602E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EFC-EFFF-4A00-8DEF-BF659150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6A4C-3FA7-41CB-BA14-25C578B9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C0B1-C395-4488-8D06-F9AC3ED9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6C37-4CA6-4C7A-A4B4-50A7BDBA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E011-CAAF-4848-8691-6927DC52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4E6D-6B97-4E61-894C-C97FD194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8EF-0D02-47ED-A23B-F8F0A440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213-DDAF-40A7-B7EE-D499AAA4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7A7-1927-4BF0-85EB-01937312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62D-2BD7-44FD-AED2-409F4529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9A3-87C4-4E48-BDE7-2D668CD6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68A-CD38-4EDE-BA3A-A8193B68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A02-ADEE-44AB-871F-CA46CC57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86EC-7092-4EA2-8821-89F153B30414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2705-A1E1-4B18-91EF-243D8561B3BA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cebf0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hands" descr=""/>
          <p:cNvPicPr/>
          <p:nvPr/>
        </p:nvPicPr>
        <p:blipFill>
          <a:blip r:embed="rId1"/>
          <a:stretch/>
        </p:blipFill>
        <p:spPr>
          <a:xfrm>
            <a:off x="0" y="1295280"/>
            <a:ext cx="372420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86200" y="2133720"/>
            <a:ext cx="487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20000"/>
                </a:solidFill>
                <a:latin typeface="Century Gothic"/>
              </a:rPr>
              <a:t>Ответственное родительство: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20000"/>
                </a:solidFill>
                <a:latin typeface="Century Gothic"/>
              </a:rPr>
              <a:t>шаг за шагом к 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20000"/>
                </a:solidFill>
                <a:latin typeface="Century Gothic"/>
              </a:rPr>
              <a:t>здоровой благополучной семье.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4343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Если мы не проявим к детям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интереса,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его проявят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другие –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улица, телевизор, соседи,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друзь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31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40524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981080"/>
            <a:ext cx="317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Сыновья стараются увидеть в своих отцах ответ на вопрос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76720"/>
            <a:ext cx="862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что  значит быть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мальчиком, мужчиной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и отцом.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14" name="17" descr=""/>
          <p:cNvPicPr/>
          <p:nvPr/>
        </p:nvPicPr>
        <p:blipFill>
          <a:blip r:embed="rId2"/>
          <a:stretch/>
        </p:blipFill>
        <p:spPr>
          <a:xfrm>
            <a:off x="4495680" y="304920"/>
            <a:ext cx="360864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5" descr=""/>
          <p:cNvPicPr/>
          <p:nvPr/>
        </p:nvPicPr>
        <p:blipFill>
          <a:blip r:embed="rId2"/>
          <a:stretch/>
        </p:blipFill>
        <p:spPr>
          <a:xfrm>
            <a:off x="1752480" y="-63360"/>
            <a:ext cx="53085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6751440" cy="4718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9080" y="1030320"/>
            <a:ext cx="176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Стать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отцом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совсем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легко.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87160" y="5019840"/>
            <a:ext cx="475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Быть отцом,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напротив, трудно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    В. Буш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4648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Воспитание есть своего рода рождение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Г. Лихтенбер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неп.отц.%20сем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393048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299880"/>
            <a:ext cx="6480360" cy="424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Для воспитания ребенка требуется более проникновенное мышление, более глубокая мудрость, чем для управления государством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У. Ченнин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706920" cy="439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32000" y="1989000"/>
            <a:ext cx="3265560" cy="4248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В воспитании мужского пола нужно пускать в ход смелые принципы, в воспитании женского – осторожные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Ф. Шлейермахе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22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4495680" cy="4237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Познанье выше имени и званья,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И выше свойств врожденных  - воспитанье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Фирдоус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335240" y="1557360"/>
            <a:ext cx="7557840" cy="5113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Из всех плодов наилучшие приносит хорошее воспитание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Козьма Прутко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4498920" cy="6131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Нет на земле гимна торжественнее, чем лепет детских уст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В. Гюго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08520" y="380880"/>
            <a:ext cx="4335480" cy="6264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82440" y="2084400"/>
            <a:ext cx="488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Все отцы хотят, чтобы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их сыновья осуществили 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то, что не удалось им самим.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                                И. Гете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532720" cy="5014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Жизнь коротка, но человек вновь переживает ее в своих детях.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                                                                         </a:t>
            </a:r>
            <a:r>
              <a:rPr b="1" lang="en-US" sz="1800" spc="-1" strike="noStrike">
                <a:solidFill>
                  <a:srgbClr val="333333"/>
                </a:solidFill>
                <a:latin typeface="Chianti BdIt Win95BT"/>
              </a:rPr>
              <a:t>А. Франс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9080" y="1976400"/>
            <a:ext cx="7269120" cy="4087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Нет чувств, таких как дружба и любовь, сильнее, чем у родителей к детям.</a:t>
            </a:r>
            <a:br>
              <a:rPr sz="2400"/>
            </a:br>
            <a:r>
              <a:rPr b="1" lang="en-US" sz="2000" spc="-1" strike="noStrike">
                <a:solidFill>
                  <a:srgbClr val="333333"/>
                </a:solidFill>
                <a:latin typeface="Chianti BdIt Win95BT"/>
              </a:rPr>
              <a:t>                                                                                           </a:t>
            </a:r>
            <a:r>
              <a:rPr b="1" lang="en-US" sz="1600" spc="-1" strike="noStrike">
                <a:solidFill>
                  <a:srgbClr val="333333"/>
                </a:solidFill>
                <a:latin typeface="Chianti BdIt Win95BT"/>
              </a:rPr>
              <a:t>Г. Бичер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1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322880" cy="644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98560" y="925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99072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Мудр тот отец, который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Знает своего ребенка.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      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У. Шекспир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4267080"/>
            <a:ext cx="74674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c"/>
                </a:solidFill>
                <a:latin typeface="Chianti BdIt Win95BT"/>
              </a:rPr>
              <a:t>Тот является отцом, кто воспитывает, а не тот, кто рождает.            </a:t>
            </a:r>
            <a:r>
              <a:rPr b="0" lang="ru-RU" sz="2800" spc="-1" strike="noStrike">
                <a:solidFill>
                  <a:srgbClr val="00264c"/>
                </a:solidFill>
                <a:latin typeface="Chianti BdIt Win95BT"/>
              </a:rPr>
              <a:t>       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c"/>
                </a:solidFill>
                <a:latin typeface="Chianti BdIt Win95BT"/>
              </a:rPr>
              <a:t>                             </a:t>
            </a:r>
            <a:r>
              <a:rPr b="0" lang="ru-RU" sz="2400" spc="-1" strike="noStrike">
                <a:solidFill>
                  <a:srgbClr val="00264c"/>
                </a:solidFill>
                <a:latin typeface="Chianti BdIt Win95BT"/>
              </a:rPr>
              <a:t>Менандр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c"/>
                </a:solidFill>
                <a:latin typeface="Chianti BdIt Win95BT"/>
              </a:rPr>
              <a:t>                                                                               </a:t>
            </a:r>
            <a:endParaRPr b="0" lang="en-US" sz="40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40" name="T181" descr=""/>
          <p:cNvPicPr/>
          <p:nvPr/>
        </p:nvPicPr>
        <p:blipFill>
          <a:blip r:embed="rId2"/>
          <a:stretch/>
        </p:blipFill>
        <p:spPr>
          <a:xfrm>
            <a:off x="2133720" y="3808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22860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33520"/>
            <a:ext cx="428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…</a:t>
            </a: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Когда появился Вовка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мои представления о 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том, что является важным изменились, словно по взмаху волшебной палочки. Он – потрясающий человек. Он так преобразил мою душу и настолько открыл мне глаза, что я даже не представлял, что такое возможно. Время наполнилось новым содержанием и приобрело новые формы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2880" y="26352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Из дневника отца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44" name="18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97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447920"/>
            <a:ext cx="548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…</a:t>
            </a: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Как понять и как объяснить,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что это обыкновенная бабская дурь, что время проходит, что на одного обиженного и озлобленного сына на этой Земле будет больше. Ну не пожилось нам с тобой, а сын-то причем тут, зачем настраивать и прятать его? Кому от этого станет лучше? И это все ради мести?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46" name="21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867040" cy="6629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2400" y="38088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Из дневника отца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97880" y="38088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Из дневника отца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05200" y="914400"/>
            <a:ext cx="4206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…</a:t>
            </a: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Самое приятное на свете –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это, когда дети обнимают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тебя перед тем, как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ложиться спать. Тогда все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кажется надежным и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прекрасным. Я надеюсь,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что так будет еще долго.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Если они тянутся к такому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общению, значит из тебя,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вероятно, получился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хороший  родитель. Мне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хочется, чтобы в будущем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мои дети всегда приходили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ко мне, когда им что-нибудь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понадобится. Будь это любовь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или просто краюха хлеба,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это уже не имеет значения…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50" name="17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43005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489480" y="64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080" y="15228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Century Gothic"/>
              </a:rPr>
              <a:t>Из дневника отца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706320"/>
            <a:ext cx="489744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Century Gothic"/>
              </a:rPr>
              <a:t>…</a:t>
            </a: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Многие мужчины стремятся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уклониться от своей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ответственности за воспитание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ребенка, ссылаясь на нечто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более важное.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Я тоже не был исключением,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когда у меня родился сын.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Моя важная работа не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позволяла мне отсутствовать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на ней даже несколько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дней – полагал я. Но если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посмотреть на жизнь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в целом – то это нонсенс.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На любую должность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существуют заместители –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но только не на роль Отца.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Вопрос в том, чему ты отдаешь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предпочтение…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54" name="купание%20123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7972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505320" y="914400"/>
            <a:ext cx="5029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Allegro BT"/>
              </a:rPr>
              <a:t>…</a:t>
            </a:r>
            <a:r>
              <a:rPr b="1" lang="en-US" sz="2000" spc="-1" strike="noStrike">
                <a:solidFill>
                  <a:srgbClr val="00264c"/>
                </a:solidFill>
                <a:latin typeface="Century Gothic"/>
              </a:rPr>
              <a:t>Расстояние между этими снимками составляет пять тысяч сто восемнадцать дней. Миллионы вздохов. Световые годы секунд. По прошествии этого времени я все еще помню запах ее родничка, этот аромат теплой простокваши. Или неописуемый аромат самой сущности жизни. Мы все время обнимались. Она дарила мне тысячу поцелуев каждый день…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56" name="23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82880" cy="2289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9480" y="304920"/>
            <a:ext cx="29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Allegro BT"/>
              </a:rPr>
              <a:t>Из дневника отца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58" name="24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312408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62520" y="152280"/>
            <a:ext cx="502920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64c"/>
                </a:solidFill>
                <a:latin typeface="Allegro BT"/>
              </a:rPr>
              <a:t>…</a:t>
            </a:r>
            <a:r>
              <a:rPr b="0" i="1" lang="en-US" sz="2000" spc="-1" strike="noStrike">
                <a:solidFill>
                  <a:srgbClr val="00264c"/>
                </a:solidFill>
                <a:latin typeface="Allegro BT"/>
              </a:rPr>
              <a:t>Теперь она уже давненько меня не обнимала. Шестнадцатилетних дочерей не обнимают. Иногда она, словно одаривая необъяснимой милостью, порывисто обнимает меня, и я остаюсь стоять смущенный, как первоклассник. Расстояние растет.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64c"/>
                </a:solidFill>
                <a:latin typeface="Allegro BT"/>
              </a:rPr>
              <a:t>Расстояние должно расти. Я провожаю ее на вокзале. Она впервые самостоятельно едет в город. Она маленькая и у нее слишком тяжелая сумка. Она проходит через перрон. Я думаю, что она должна остановиться, обернуться, чтобы послать мне воздушный поцелуй или сделать что-то в этом роде. Нет. Она проходит вперед. Выпрямляется. Она идет прямо навстречу своей жизни. И поворачивается ко мне спиной.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64c"/>
                </a:solidFill>
                <a:latin typeface="Allegro BT"/>
              </a:rPr>
              <a:t>Все происходит, как и должно</a:t>
            </a:r>
            <a:r>
              <a:rPr b="0" i="1" lang="en-US" sz="2000" spc="-1" strike="noStrike">
                <a:solidFill>
                  <a:srgbClr val="00264c"/>
                </a:solidFill>
                <a:latin typeface="Allegro BT"/>
              </a:rPr>
              <a:t>»…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60" name="23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3187800" cy="2532240"/>
          </a:xfrm>
          <a:prstGeom prst="rect">
            <a:avLst/>
          </a:prstGeom>
          <a:ln w="0">
            <a:noFill/>
          </a:ln>
        </p:spPr>
      </p:pic>
      <p:pic>
        <p:nvPicPr>
          <p:cNvPr id="161" name="24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6687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905120"/>
            <a:ext cx="43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Наш мир выглядел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бы по-другому,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если бы решения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принимались мужчинами,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которые много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занимаются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своими детьми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97" name="006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3871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41360" y="239760"/>
            <a:ext cx="8245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Allegro BT"/>
              </a:rPr>
              <a:t>Из дневника отца…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64c"/>
                </a:solidFill>
                <a:latin typeface="Allegro BT"/>
              </a:rPr>
              <a:t>Вот и прошел еще один день, устал до чертиков. Дела, дела, замотался совсем. Опять пришел поздно, мои мужики, как всегда, уже спят. Мои пацаны -  Антошка и Сашка -  как же я вас люблю. Как мне жаль, что ваша жизнь проходит мимо меня. Ухожу вы еще спите, пришел – уже спите. Как же я виноват перед Вами. Не знаю, что делать с этим чувством вины, оно меня просто уничтожает. Чувствуешь безысходность, даже отчаяние. Не знаю, что делать. Ведь работаю на ваше будущее. Хочу, чтобы мои дети ни в чем не нуждались, получили достойное образование. Чтобы, когда женились не мыкались по квартирам как мы с женой. Горько, только, что не вижу вас, растете без меня – выходных нет уже третий месяц. Ничего, вот придет лето, обязательно выберемся на неделю на природу, возьмем палатки, удочки. И будем целыми днями вместе, рыбачить, играть и жена будет рада, она тоже устает одна. Обязательно выберемся, обещаю. Спите спокойно. Папа крепко вас любит. Пойду как обычно поцелую вас потихоньку, чтобы не разбудить. Завтра снова тяжелый день…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36640" y="293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5" descr=""/>
          <p:cNvPicPr/>
          <p:nvPr/>
        </p:nvPicPr>
        <p:blipFill>
          <a:blip r:embed="rId2"/>
          <a:stretch/>
        </p:blipFill>
        <p:spPr>
          <a:xfrm>
            <a:off x="2971800" y="838080"/>
            <a:ext cx="5943600" cy="4768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523880"/>
            <a:ext cx="274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Первый закон воспитания: оно должно побуждать волю к деятельности.</a:t>
            </a:r>
            <a:br>
              <a:rPr sz="2800"/>
            </a:b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Захария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5042160" cy="3725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Не лишайте своих детей радости общения с вами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Не лишайте этой радости себя!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Не «теряйте» своих детей, когда они маленькие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Потому что вновь обрести их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Когда они повзрослеют, очень не легко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А порой просто невозможно, поверьте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564000" y="1052640"/>
            <a:ext cx="3587760" cy="54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8360" y="192240"/>
            <a:ext cx="804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Chianti BdIt Win95BT"/>
              </a:rPr>
              <a:t>Один  отец  значит  больше  чем   сто  учителей.</a:t>
            </a: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                                                                                          </a:t>
            </a:r>
            <a:r>
              <a:rPr b="1" lang="en-US" sz="1600" spc="-1" strike="noStrike">
                <a:solidFill>
                  <a:srgbClr val="00264c"/>
                </a:solidFill>
                <a:latin typeface="Chianti BdIt Win95BT"/>
              </a:rPr>
              <a:t>Д. Герберт</a:t>
            </a:r>
            <a:endParaRPr b="0" lang="en-US" sz="16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465800" cy="6165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8520" y="1143000"/>
            <a:ext cx="371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Человеческим делает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нас отец и мать,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человечным – делает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нас воспитание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                       К. Вебер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95640" y="2111400"/>
            <a:ext cx="6746760" cy="4486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55760" y="27000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амое великое , самое важное и самое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зное во всем воспитании правило?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Не выигрывать нужно время, нужно тратить его.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Жан Жак Руссо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Ни один мужчина не может стать хорошим отцом, пока он не научится понимать отца</a:t>
            </a:r>
            <a:br>
              <a:rPr sz="28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Т. Уайлдер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" name="13" descr=""/>
          <p:cNvPicPr/>
          <p:nvPr/>
        </p:nvPicPr>
        <p:blipFill>
          <a:blip r:embed="rId2"/>
          <a:stretch/>
        </p:blipFill>
        <p:spPr>
          <a:xfrm>
            <a:off x="2000160" y="1905120"/>
            <a:ext cx="5141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03:58:32Z</dcterms:created>
  <dc:creator>Natalii</dc:creator>
  <dc:description/>
  <dc:language>en-US</dc:language>
  <cp:lastModifiedBy>Alex</cp:lastModifiedBy>
  <dcterms:modified xsi:type="dcterms:W3CDTF">2006-04-07T02:31:03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270000000000010243100207f6000400038000</vt:lpwstr>
  </property>
</Properties>
</file>