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F02-7975-48E0-8B5E-71157912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1EF-5E4C-4F92-88FC-016CF92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206-AAE6-4757-B05C-5CDED361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714-458F-4D64-8E81-A5E7705F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9CC7-7F6F-4DEA-ACDD-092E3AC4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323E-40BF-47EF-B024-5C7BB32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499-EFBC-4912-85D5-1B7FD33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10D-C839-4ECF-9BB6-BA864182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C8A-1DF2-481E-9177-73F7575E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F23E-8F92-4F2A-BC86-B12DD61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8EC-B1C5-4342-9459-A99BD44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2A0-7916-4E2C-B449-33FA1481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A317-D752-45FA-8F8A-E31520E0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BB3-6E87-4224-9E4F-451957D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B339-56A8-46C2-83B6-58950E9E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5EBA-443C-4940-8045-3F0A9311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2715-11C4-4CD6-A8CD-B4A3119C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621-DA3D-4A8E-8131-6C729145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484-BB5A-472C-93E9-B19CAB87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F62-0599-45E8-898D-30AEBD5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D60-E0DD-45E3-BC02-41ED1E29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0B3-B50F-43E5-90B0-F22E511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042-3130-4F50-94B5-BAA2BFC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35A-A934-4920-9149-115395E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8DF-FDF8-4DCE-B312-BEFE460C21E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BEC-15D6-47F8-834E-7440C5E4E50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0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hands" descr=""/>
          <p:cNvPicPr/>
          <p:nvPr/>
        </p:nvPicPr>
        <p:blipFill>
          <a:blip r:embed="rId1"/>
          <a:stretch/>
        </p:blipFill>
        <p:spPr>
          <a:xfrm>
            <a:off x="0" y="1295280"/>
            <a:ext cx="37242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86200" y="2133720"/>
            <a:ext cx="487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Ответственное родительство: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шаг за шагом к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20000"/>
                </a:solidFill>
                <a:latin typeface="Century Gothic"/>
              </a:rPr>
              <a:t>здоровой благополучной семье.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4343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Если мы не проявим к детя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нтереса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его проявят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ругие –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улица, телевизор, соседи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рузь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31" descr=""/>
          <p:cNvPicPr/>
          <p:nvPr/>
        </p:nvPicPr>
        <p:blipFill>
          <a:blip r:embed="rId2"/>
          <a:stretch/>
        </p:blipFill>
        <p:spPr>
          <a:xfrm>
            <a:off x="5029200" y="762120"/>
            <a:ext cx="34052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981080"/>
            <a:ext cx="3173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ыновья стараются увидеть в своих отцах ответ на вопрос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76720"/>
            <a:ext cx="862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что  значит быть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мальчиком, мужчиной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 отцом.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4" name="17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360864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5" descr=""/>
          <p:cNvPicPr/>
          <p:nvPr/>
        </p:nvPicPr>
        <p:blipFill>
          <a:blip r:embed="rId2"/>
          <a:stretch/>
        </p:blipFill>
        <p:spPr>
          <a:xfrm>
            <a:off x="1752480" y="-63360"/>
            <a:ext cx="53085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6751440" cy="471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9080" y="1030320"/>
            <a:ext cx="176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тать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отцо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совсем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легко.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87160" y="5019840"/>
            <a:ext cx="475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Быть отцом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апротив, трудно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В. Буш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4648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оспитание есть своего рода рождени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Г. Лихтенбер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неп.отц.%20сем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93048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99880"/>
            <a:ext cx="6480360" cy="424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Для воспитания ребенка требуется более проникновенное мышление, более глубокая мудрость, чем для управления государством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У. Ченнинг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706920" cy="439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32000" y="1989000"/>
            <a:ext cx="3265560" cy="4248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В воспитании мужского пола нужно пускать в ход смелые принципы, в воспитании женского – осторожные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Ф. Шлейермахе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2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4495680" cy="4237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Познанье выше имени и званья, 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 выше свойств врожденных  - воспитань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Фирдоус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35240" y="1557360"/>
            <a:ext cx="7557840" cy="5113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Из всех плодов наилучшие приносит хорошее воспитание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Козьма Прутко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4498920" cy="6131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09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ет на земле гимна торжественнее, чем лепет детских уст.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         В. Гюго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08520" y="380880"/>
            <a:ext cx="4335480" cy="626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82440" y="2084400"/>
            <a:ext cx="488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Все отцы хотят, чтобы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их сыновья осуществили 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то, что не удалось им самим.</a:t>
            </a:r>
            <a:br>
              <a:rPr sz="2800"/>
            </a:b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                                И. Гете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532720" cy="50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Жизнь коротка, но человек вновь переживает ее в своих детях.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                                                                         </a:t>
            </a:r>
            <a:r>
              <a:rPr b="1" lang="en-US" sz="1800" spc="-1" strike="noStrike">
                <a:solidFill>
                  <a:srgbClr val="333333"/>
                </a:solidFill>
                <a:latin typeface="Chianti BdIt Win95BT"/>
              </a:rPr>
              <a:t>А. Франс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9080" y="1976400"/>
            <a:ext cx="7269120" cy="4087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Нет чувств, таких как дружба и любовь, сильнее, чем у родителей к детям.</a:t>
            </a:r>
            <a:br>
              <a:rPr sz="2400"/>
            </a:br>
            <a:r>
              <a:rPr b="1" lang="en-US" sz="2000" spc="-1" strike="noStrike">
                <a:solidFill>
                  <a:srgbClr val="333333"/>
                </a:solidFill>
                <a:latin typeface="Chianti BdIt Win95BT"/>
              </a:rPr>
              <a:t>                                                                                           </a:t>
            </a:r>
            <a:r>
              <a:rPr b="1" lang="en-US" sz="1600" spc="-1" strike="noStrike">
                <a:solidFill>
                  <a:srgbClr val="333333"/>
                </a:solidFill>
                <a:latin typeface="Chianti BdIt Win95BT"/>
              </a:rPr>
              <a:t>Г. Бичер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1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22880" cy="644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98560" y="925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Мудр тот отец, который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Знает своего ребенка.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    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hianti BdIt Win95BT"/>
              </a:rPr>
              <a:t>У. Шекспир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4267080"/>
            <a:ext cx="74674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Тот является отцом, кто воспитывает, а не тот, кто рождает.            </a:t>
            </a:r>
            <a:r>
              <a:rPr b="0" lang="ru-RU" sz="2800" spc="-1" strike="noStrike">
                <a:solidFill>
                  <a:srgbClr val="00264c"/>
                </a:solidFill>
                <a:latin typeface="Chianti BdIt Win95BT"/>
              </a:rPr>
              <a:t>       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                             </a:t>
            </a:r>
            <a:r>
              <a:rPr b="0" lang="ru-RU" sz="2400" spc="-1" strike="noStrike">
                <a:solidFill>
                  <a:srgbClr val="00264c"/>
                </a:solidFill>
                <a:latin typeface="Chianti BdIt Win95BT"/>
              </a:rPr>
              <a:t>Менандр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64c"/>
                </a:solidFill>
                <a:latin typeface="Chianti BdIt Win95BT"/>
              </a:rPr>
              <a:t>                                                                               </a:t>
            </a:r>
            <a:endParaRPr b="0" lang="en-US" sz="4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0" name="T181" descr=""/>
          <p:cNvPicPr/>
          <p:nvPr/>
        </p:nvPicPr>
        <p:blipFill>
          <a:blip r:embed="rId2"/>
          <a:stretch/>
        </p:blipFill>
        <p:spPr>
          <a:xfrm>
            <a:off x="2133720" y="380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228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33520"/>
            <a:ext cx="428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Когда появился Вовка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мои представления о 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том, что является важным изменились, словно по взмаху волшебной палочки. Он – потрясающий человек. Он так преобразил мою душу и настолько открыл мне глаза, что я даже не представлял, что такое возможно. Время наполнилось новым содержанием и приобрело новые формы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2880" y="26352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4" name="18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97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447920"/>
            <a:ext cx="548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Как понять и как объяснить,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что это обыкновенная бабская дурь, что время проходит, что на одного обиженного и озлобленного сына на этой Земле будет больше. Ну не пожилось нам с тобой, а сын-то причем тут, зачем настраивать и прятать его? Кому от этого станет лучше? И это все ради мести?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46" name="21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867040" cy="6629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2400" y="3808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97880" y="3808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0" y="914400"/>
            <a:ext cx="4206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…</a:t>
            </a: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Самое приятное на свете –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это, когда дети обнимают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тебя перед тем, как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ложиться спать. Тогда все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кажется надежным и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прекрасным. Я надеюсь,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что так будет еще долго.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Если они тянутся к такому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общению, значит из тебя,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вероятно, получился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хороший  родитель. Мне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хочется, чтобы в будущем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мои дети всегда приходили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ко мне, когда им что-нибудь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понадобится. Будь это любовь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или просто краюха хлеба,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64c"/>
                </a:solidFill>
                <a:latin typeface="Century Gothic"/>
              </a:rPr>
              <a:t>это уже не имеет значения…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0" name="17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3005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89480" y="64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080" y="152280"/>
            <a:ext cx="32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Century Gothic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706320"/>
            <a:ext cx="489744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Century Gothic"/>
              </a:rPr>
              <a:t>…</a:t>
            </a: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Многие мужчины стремятся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уклониться от своей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ответственности за воспитание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ребенка, ссылаясь на нечто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более важное.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Я тоже не был исключением,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когда у меня родился сын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Моя важная работа не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озволяла мне отсутствовать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а ней даже несколько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дней – полагал я. Но если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осмотреть на жизнь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в целом – то это нонсенс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а любую должность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существуют заместители –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но только не на роль Отца.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Вопрос в том, чему ты отдаешь 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предпочтение…</a:t>
            </a:r>
            <a:endParaRPr b="0" lang="en-US" sz="2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4" name="купание%20123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7972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505320" y="914400"/>
            <a:ext cx="5029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Allegro BT"/>
              </a:rPr>
              <a:t>…</a:t>
            </a:r>
            <a:r>
              <a:rPr b="1" lang="en-US" sz="2000" spc="-1" strike="noStrike">
                <a:solidFill>
                  <a:srgbClr val="00264c"/>
                </a:solidFill>
                <a:latin typeface="Century Gothic"/>
              </a:rPr>
              <a:t>Расстояние между этими снимками составляет пять тысяч сто восемнадцать дней. Миллионы вздохов. Световые годы секунд. По прошествии этого времени я все еще помню запах ее родничка, этот аромат теплой простокваши. Или неописуемый аромат самой сущности жизни. Мы все время обнимались. Она дарила мне тысячу поцелуев каждый день…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6" name="23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82880" cy="2289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304920"/>
            <a:ext cx="29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64c"/>
                </a:solidFill>
                <a:latin typeface="Allegro BT"/>
              </a:rPr>
              <a:t>Из дневника отца…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58" name="24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31240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62520" y="152280"/>
            <a:ext cx="502920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…</a:t>
            </a: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Теперь она уже давненько меня не обнимала. Шестнадцатилетних дочерей не обнимают. Иногда она, словно одаривая необъяснимой милостью, порывисто обнимает меня, и я остаюсь стоять смущенный, как первоклассник. Расстояние растет.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Расстояние должно расти. Я провожаю ее на вокзале. Она впервые самостоятельно едет в город. Она маленькая и у нее слишком тяжелая сумка. Она проходит через перрон. Я думаю, что она должна остановиться, обернуться, чтобы послать мне воздушный поцелуй или сделать что-то в этом роде. Нет. Она проходит вперед. Выпрямляется. Она идет прямо навстречу своей жизни. И поворачивается ко мне спиной. 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64c"/>
                </a:solidFill>
                <a:latin typeface="Allegro BT"/>
              </a:rPr>
              <a:t>Все происходит, как и должно</a:t>
            </a:r>
            <a:r>
              <a:rPr b="0" i="1" lang="en-US" sz="2000" spc="-1" strike="noStrike">
                <a:solidFill>
                  <a:srgbClr val="00264c"/>
                </a:solidFill>
                <a:latin typeface="Allegro BT"/>
              </a:rPr>
              <a:t>»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60" name="23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187800" cy="2532240"/>
          </a:xfrm>
          <a:prstGeom prst="rect">
            <a:avLst/>
          </a:prstGeom>
          <a:ln w="0">
            <a:noFill/>
          </a:ln>
        </p:spPr>
      </p:pic>
      <p:pic>
        <p:nvPicPr>
          <p:cNvPr id="161" name="24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6687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905120"/>
            <a:ext cx="43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ш мир выглядел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бы по-другому,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если бы решения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принимались мужчинами,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которые много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занимаются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своими детьми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97" name="006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871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41360" y="239760"/>
            <a:ext cx="8245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Allegro BT"/>
              </a:rPr>
              <a:t>Из дневника отца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64c"/>
                </a:solidFill>
                <a:latin typeface="Allegro BT"/>
              </a:rPr>
              <a:t>Вот и прошел еще один день, устал до чертиков. Дела, дела, замотался совсем. Опять пришел поздно, мои мужики, как всегда, уже спят. Мои пацаны -  Антошка и Сашка -  как же я вас люблю. Как мне жаль, что ваша жизнь проходит мимо меня. Ухожу вы еще спите, пришел – уже спите. Как же я виноват перед Вами. Не знаю, что делать с этим чувством вины, оно меня просто уничтожает. Чувствуешь безысходность, даже отчаяние. Не знаю, что делать. Ведь работаю на ваше будущее. Хочу, чтобы мои дети ни в чем не нуждались, получили достойное образование. Чтобы, когда женились не мыкались по квартирам как мы с женой. Горько, только, что не вижу вас, растете без меня – выходных нет уже третий месяц. Ничего, вот придет лето, обязательно выберемся на неделю на природу, возьмем палатки, удочки. И будем целыми днями вместе, рыбачить, играть и жена будет рада, она тоже устает одна. Обязательно выберемся, обещаю. Спите спокойно. Папа крепко вас любит. Пойду как обычно поцелую вас потихоньку, чтобы не разбудить. Завтра снова тяжелый день…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36640" y="293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5" descr=""/>
          <p:cNvPicPr/>
          <p:nvPr/>
        </p:nvPicPr>
        <p:blipFill>
          <a:blip r:embed="rId2"/>
          <a:stretch/>
        </p:blipFill>
        <p:spPr>
          <a:xfrm>
            <a:off x="2971800" y="838080"/>
            <a:ext cx="5943600" cy="476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523880"/>
            <a:ext cx="2743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Первый закон воспитания: оно должно побуждать волю к деятельности.</a:t>
            </a:r>
            <a:br>
              <a:rPr sz="2800"/>
            </a:b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264c"/>
                </a:solidFill>
                <a:latin typeface="Times New Roman"/>
              </a:rPr>
              <a:t>Захария</a:t>
            </a:r>
            <a:endParaRPr b="0" lang="en-US" sz="20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8280" y="304920"/>
            <a:ext cx="5042160" cy="3725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лишайте своих детей радости общения с вами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лишайте этой радости себя!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Не «теряйте» своих детей, когда они маленькие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Потому что вновь обрести их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Когда они повзрослеют, очень не легко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А порой просто невозможно, поверьте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564000" y="1052640"/>
            <a:ext cx="3587760" cy="54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8360" y="192240"/>
            <a:ext cx="804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Chianti BdIt Win95BT"/>
              </a:rPr>
              <a:t>Один  отец  значит  больше  чем   сто  учителей.</a:t>
            </a: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264c"/>
                </a:solidFill>
                <a:latin typeface="Chianti BdIt Win95BT"/>
              </a:rPr>
              <a:t>                                                                                          </a:t>
            </a:r>
            <a:r>
              <a:rPr b="1" lang="en-US" sz="1600" spc="-1" strike="noStrike">
                <a:solidFill>
                  <a:srgbClr val="00264c"/>
                </a:solidFill>
                <a:latin typeface="Chianti BdIt Win95BT"/>
              </a:rPr>
              <a:t>Д. Герберт</a:t>
            </a:r>
            <a:endParaRPr b="0" lang="en-US" sz="16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465800" cy="616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8520" y="1143000"/>
            <a:ext cx="371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Человеческим делает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с отец и мать,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человечным – делает 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нас воспитание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               К. Вебер</a:t>
            </a:r>
            <a:endParaRPr b="0" lang="en-US" sz="28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95640" y="2111400"/>
            <a:ext cx="6746760" cy="4486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55760" y="27000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амое великое , самое важное и самое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лезное во всем воспитании правило?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Не выигрывать нужно время, нужно тратить его.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Жан Жак Руссо</a:t>
            </a:r>
            <a:endParaRPr b="0" lang="en-US" sz="2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Ни один мужчина не может стать хорошим отцом, пока он не научится понимать отца</a:t>
            </a:r>
            <a:br>
              <a:rPr sz="28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                                                                   Т. Уайлдер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9" name="13" descr=""/>
          <p:cNvPicPr/>
          <p:nvPr/>
        </p:nvPicPr>
        <p:blipFill>
          <a:blip r:embed="rId2"/>
          <a:stretch/>
        </p:blipFill>
        <p:spPr>
          <a:xfrm>
            <a:off x="2000160" y="1905120"/>
            <a:ext cx="514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3:58:32Z</dcterms:created>
  <dc:creator>Natalii</dc:creator>
  <dc:description/>
  <dc:language>en-US</dc:language>
  <cp:lastModifiedBy>Alex</cp:lastModifiedBy>
  <dcterms:modified xsi:type="dcterms:W3CDTF">2006-04-07T02:31:03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270000000000010243100207f6000400038000</vt:lpwstr>
  </property>
</Properties>
</file>