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camera.wav" ContentType="audio/x-wav"/>
  <Override PartName="/ppt/media/image22.png" ContentType="image/png"/>
  <Override PartName="/ppt/media/image29.png" ContentType="image/png"/>
  <Override PartName="/ppt/media/chimes.wav" ContentType="audio/x-wav"/>
  <Override PartName="/ppt/media/image16.png" ContentType="image/png"/>
  <Override PartName="/ppt/media/click.wav" ContentType="audio/x-wav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3D9B-64E5-4425-B59E-D7D56DE9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85A3-BD25-4F3D-B271-BF52C6F5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20ED-3367-4B9E-86D1-A35159B1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9CD1-F845-4F3A-917F-F2540674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0A23-4748-4D21-8D7E-730235EE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A7E5-F779-4563-B24B-F59BCA2F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F6E6-E5AA-464E-A927-3D55601C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F2DB-8307-473A-97CD-8AE616E8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33A2-8A54-4F10-9632-CF3617C6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AA01-5020-4792-98F5-7905AE89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63A9-6250-403B-AE69-4E0F7314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4D85-52B1-49A8-99C8-1E256942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7A90-7C59-4366-9983-A3CBEFDDC6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slide" Target="slide2.xml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image" Target="../media/image3.png"/><Relationship Id="rId9" Type="http://schemas.openxmlformats.org/officeDocument/2006/relationships/slide" Target="slide6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" Target="slide3.xml"/><Relationship Id="rId13" Type="http://schemas.openxmlformats.org/officeDocument/2006/relationships/slide" Target="slide7.xml"/><Relationship Id="rId14" Type="http://schemas.openxmlformats.org/officeDocument/2006/relationships/slide" Target="slide7.xml"/><Relationship Id="rId15" Type="http://schemas.openxmlformats.org/officeDocument/2006/relationships/slide" Target="slide8.xml"/><Relationship Id="rId16" Type="http://schemas.openxmlformats.org/officeDocument/2006/relationships/slide" Target="slide8.xml"/><Relationship Id="rId17" Type="http://schemas.openxmlformats.org/officeDocument/2006/relationships/slide" Target="slide9.xml"/><Relationship Id="rId18" Type="http://schemas.openxmlformats.org/officeDocument/2006/relationships/slide" Target="slide9.xml"/><Relationship Id="rId19" Type="http://schemas.openxmlformats.org/officeDocument/2006/relationships/slide" Target="slide10.xml"/><Relationship Id="rId20" Type="http://schemas.openxmlformats.org/officeDocument/2006/relationships/slide" Target="slide11.xml"/><Relationship Id="rId21" Type="http://schemas.openxmlformats.org/officeDocument/2006/relationships/slide" Target="slide10.xml"/><Relationship Id="rId22" Type="http://schemas.openxmlformats.org/officeDocument/2006/relationships/slide" Target="slide11.xml"/><Relationship Id="rId23" Type="http://schemas.openxmlformats.org/officeDocument/2006/relationships/slide" Target="slide3.xml"/><Relationship Id="rId24" Type="http://schemas.openxmlformats.org/officeDocument/2006/relationships/image" Target="../media/image4.png"/><Relationship Id="rId25" Type="http://schemas.openxmlformats.org/officeDocument/2006/relationships/slide" Target="slide4.xml"/><Relationship Id="rId26" Type="http://schemas.openxmlformats.org/officeDocument/2006/relationships/image" Target="../media/image5.png"/><Relationship Id="rId27" Type="http://schemas.openxmlformats.org/officeDocument/2006/relationships/slide" Target="slide5.xml"/><Relationship Id="rId28" Type="http://schemas.openxmlformats.org/officeDocument/2006/relationships/image" Target="../media/image6.png"/><Relationship Id="rId29" Type="http://schemas.openxmlformats.org/officeDocument/2006/relationships/slide" Target="slide7.xml"/><Relationship Id="rId30" Type="http://schemas.openxmlformats.org/officeDocument/2006/relationships/image" Target="../media/image7.png"/><Relationship Id="rId31" Type="http://schemas.openxmlformats.org/officeDocument/2006/relationships/slide" Target="slide8.xml"/><Relationship Id="rId32" Type="http://schemas.openxmlformats.org/officeDocument/2006/relationships/image" Target="../media/image8.png"/><Relationship Id="rId33" Type="http://schemas.openxmlformats.org/officeDocument/2006/relationships/slide" Target="slide9.xml"/><Relationship Id="rId34" Type="http://schemas.openxmlformats.org/officeDocument/2006/relationships/image" Target="../media/image9.png"/><Relationship Id="rId35" Type="http://schemas.openxmlformats.org/officeDocument/2006/relationships/slide" Target="slide10.xml"/><Relationship Id="rId36" Type="http://schemas.openxmlformats.org/officeDocument/2006/relationships/image" Target="../media/image10.png"/><Relationship Id="rId37" Type="http://schemas.openxmlformats.org/officeDocument/2006/relationships/slide" Target="slide11.xml"/><Relationship Id="rId38" Type="http://schemas.openxmlformats.org/officeDocument/2006/relationships/image" Target="../media/image11.png"/><Relationship Id="rId39" Type="http://schemas.openxmlformats.org/officeDocument/2006/relationships/slide" Target="slide6.xml"/><Relationship Id="rId40" Type="http://schemas.openxmlformats.org/officeDocument/2006/relationships/image" Target="../media/image12.png"/><Relationship Id="rId41" Type="http://schemas.openxmlformats.org/officeDocument/2006/relationships/image" Target="../media/image13.png"/><Relationship Id="rId42" Type="http://schemas.openxmlformats.org/officeDocument/2006/relationships/slide" Target="slide1.xml"/><Relationship Id="rId4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" Target="slide2.xml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" Target="slide2.xml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6.png"/><Relationship Id="rId5" Type="http://schemas.openxmlformats.org/officeDocument/2006/relationships/slide" Target="slide2.xml"/><Relationship Id="rId6" Type="http://schemas.openxmlformats.org/officeDocument/2006/relationships/audio" Target="../media/camera.wav"/><Relationship Id="rId7" Type="http://schemas.openxmlformats.org/officeDocument/2006/relationships/audio" Target="../media/chimes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slide" Target="slide2.xml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2.png"/><Relationship Id="rId7" Type="http://schemas.openxmlformats.org/officeDocument/2006/relationships/slide" Target="slide2.xml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24.png"/><Relationship Id="rId8" Type="http://schemas.openxmlformats.org/officeDocument/2006/relationships/slide" Target="slide2.xml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9.png"/><Relationship Id="rId9" Type="http://schemas.openxmlformats.org/officeDocument/2006/relationships/slide" Target="slide2.xml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letter03"/>
          <p:cNvPicPr/>
          <p:nvPr/>
        </p:nvPicPr>
        <p:blipFill>
          <a:blip r:embed="rId1"/>
          <a:stretch/>
        </p:blipFill>
        <p:spPr>
          <a:xfrm>
            <a:off x="358920" y="304920"/>
            <a:ext cx="8785080" cy="65530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8"/>
          <p:cNvSpPr/>
          <p:nvPr/>
        </p:nvSpPr>
        <p:spPr>
          <a:xfrm>
            <a:off x="2411280" y="907920"/>
            <a:ext cx="4392720" cy="3384720"/>
          </a:xfrm>
          <a:prstGeom prst="rect">
            <a:avLst/>
          </a:prstGeom>
          <a:gradFill rotWithShape="0">
            <a:gsLst>
              <a:gs pos="0">
                <a:srgbClr val="ccff33">
                  <a:alpha val="99215"/>
                </a:srgbClr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АК ПИСАТЬ ЦИФ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139680 w 9144000"/>
              <a:gd name="textAreaRight" fmla="*/ 9004320 w 9144000"/>
              <a:gd name="textAreaTop" fmla="*/ 104760 h 6858000"/>
              <a:gd name="textAreaBottom" fmla="*/ 675324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lnTo>
                  <a:pt x="0" y="0"/>
                </a:lnTo>
                <a:close/>
                <a:moveTo>
                  <a:pt x="330" y="330"/>
                </a:moveTo>
                <a:lnTo>
                  <a:pt x="330" y="21270"/>
                </a:lnTo>
                <a:lnTo>
                  <a:pt x="28470" y="21270"/>
                </a:lnTo>
                <a:lnTo>
                  <a:pt x="28470" y="330"/>
                </a:lnTo>
                <a:lnTo>
                  <a:pt x="330" y="33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6">
            <a:hlinkClick r:id="" action="ppaction://hlinkshowjump?jump=lastslide"/>
          </p:cNvPr>
          <p:cNvSpPr/>
          <p:nvPr/>
        </p:nvSpPr>
        <p:spPr>
          <a:xfrm>
            <a:off x="824400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18923" y="10800"/>
                </a:moveTo>
                <a:lnTo>
                  <a:pt x="8418" y="17806"/>
                </a:lnTo>
                <a:lnTo>
                  <a:pt x="8418" y="3794"/>
                </a:lnTo>
                <a:close/>
              </a:path>
              <a:path fill="darken" w="30848" h="21600">
                <a:moveTo>
                  <a:pt x="20768" y="3794"/>
                </a:moveTo>
                <a:lnTo>
                  <a:pt x="20768" y="17806"/>
                </a:lnTo>
                <a:lnTo>
                  <a:pt x="22431" y="17806"/>
                </a:lnTo>
                <a:lnTo>
                  <a:pt x="22431" y="3794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8">
            <a:hlinkClick r:id="rId2" action="ppaction://hlinksldjump"/>
          </p:cNvPr>
          <p:cNvSpPr/>
          <p:nvPr/>
        </p:nvSpPr>
        <p:spPr>
          <a:xfrm>
            <a:off x="5867280" y="6165720"/>
            <a:ext cx="2160720" cy="505080"/>
          </a:xfrm>
          <a:custGeom>
            <a:avLst/>
            <a:gdLst>
              <a:gd name="textAreaLeft" fmla="*/ 32400 w 2160720"/>
              <a:gd name="textAreaRight" fmla="*/ 2128320 w 2160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2354" h="21600">
                <a:moveTo>
                  <a:pt x="0" y="0"/>
                </a:moveTo>
                <a:lnTo>
                  <a:pt x="92354" y="0"/>
                </a:lnTo>
                <a:lnTo>
                  <a:pt x="92354" y="21600"/>
                </a:lnTo>
                <a:lnTo>
                  <a:pt x="0" y="21600"/>
                </a:lnTo>
                <a:close/>
              </a:path>
              <a:path fill="lightenLess" w="92354" h="21600">
                <a:moveTo>
                  <a:pt x="0" y="0"/>
                </a:moveTo>
                <a:lnTo>
                  <a:pt x="92354" y="0"/>
                </a:lnTo>
                <a:lnTo>
                  <a:pt x="90954" y="1400"/>
                </a:lnTo>
                <a:lnTo>
                  <a:pt x="1400" y="1400"/>
                </a:lnTo>
                <a:close/>
              </a:path>
              <a:path fill="darken" w="92354" h="21600">
                <a:moveTo>
                  <a:pt x="92354" y="0"/>
                </a:moveTo>
                <a:lnTo>
                  <a:pt x="92354" y="21600"/>
                </a:lnTo>
                <a:lnTo>
                  <a:pt x="90954" y="20200"/>
                </a:lnTo>
                <a:lnTo>
                  <a:pt x="90954" y="1400"/>
                </a:lnTo>
                <a:close/>
              </a:path>
              <a:path fill="darkenLess" w="92354" h="21600">
                <a:moveTo>
                  <a:pt x="92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954" y="20200"/>
                </a:lnTo>
                <a:close/>
              </a:path>
              <a:path fill="lighten" w="92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коменд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9">
            <a:hlinkClick r:id="" action="ppaction://hlinkshowjump?jump=nextslide"/>
          </p:cNvPr>
          <p:cNvSpPr/>
          <p:nvPr/>
        </p:nvSpPr>
        <p:spPr>
          <a:xfrm>
            <a:off x="250920" y="6093000"/>
            <a:ext cx="718920" cy="50472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760" h="21600">
                <a:moveTo>
                  <a:pt x="0" y="0"/>
                </a:moveTo>
                <a:lnTo>
                  <a:pt x="30760" y="0"/>
                </a:lnTo>
                <a:lnTo>
                  <a:pt x="30760" y="21600"/>
                </a:lnTo>
                <a:lnTo>
                  <a:pt x="0" y="21600"/>
                </a:lnTo>
                <a:close/>
              </a:path>
              <a:path fill="lightenLess" w="30760" h="21600">
                <a:moveTo>
                  <a:pt x="0" y="0"/>
                </a:moveTo>
                <a:lnTo>
                  <a:pt x="30760" y="0"/>
                </a:lnTo>
                <a:lnTo>
                  <a:pt x="29360" y="1400"/>
                </a:lnTo>
                <a:lnTo>
                  <a:pt x="1400" y="1400"/>
                </a:lnTo>
                <a:close/>
              </a:path>
              <a:path fill="darken" w="30760" h="21600">
                <a:moveTo>
                  <a:pt x="30760" y="0"/>
                </a:moveTo>
                <a:lnTo>
                  <a:pt x="30760" y="21600"/>
                </a:lnTo>
                <a:lnTo>
                  <a:pt x="29360" y="20200"/>
                </a:lnTo>
                <a:lnTo>
                  <a:pt x="29360" y="1400"/>
                </a:lnTo>
                <a:close/>
              </a:path>
              <a:path fill="darkenLess" w="30760" h="21600">
                <a:moveTo>
                  <a:pt x="30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60" y="20200"/>
                </a:lnTo>
                <a:close/>
              </a:path>
              <a:path fill="lighten" w="30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60" h="21600">
                <a:moveTo>
                  <a:pt x="8374" y="3794"/>
                </a:moveTo>
                <a:lnTo>
                  <a:pt x="22387" y="10800"/>
                </a:lnTo>
                <a:lnTo>
                  <a:pt x="837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7" descr=""/>
          <p:cNvPicPr/>
          <p:nvPr/>
        </p:nvPicPr>
        <p:blipFill>
          <a:blip r:embed="rId1"/>
          <a:stretch/>
        </p:blipFill>
        <p:spPr>
          <a:xfrm>
            <a:off x="4067280" y="1413000"/>
            <a:ext cx="4610160" cy="45529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28"/>
          <p:cNvSpPr/>
          <p:nvPr/>
        </p:nvSpPr>
        <p:spPr>
          <a:xfrm rot="1869600">
            <a:off x="6372000" y="2060640"/>
            <a:ext cx="911160" cy="771480"/>
          </a:xfrm>
          <a:custGeom>
            <a:avLst/>
            <a:gdLst>
              <a:gd name="textAreaLeft" fmla="*/ 342720 w 911160"/>
              <a:gd name="textAreaRight" fmla="*/ 568440 w 911160"/>
              <a:gd name="textAreaTop" fmla="*/ 290160 h 771480"/>
              <a:gd name="textAreaBottom" fmla="*/ 481320 h 771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9"/>
          <p:cNvSpPr/>
          <p:nvPr/>
        </p:nvSpPr>
        <p:spPr>
          <a:xfrm>
            <a:off x="900000" y="404640"/>
            <a:ext cx="1513080" cy="15843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1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1063440" cy="1023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"/>
          <p:cNvPicPr/>
          <p:nvPr/>
        </p:nvPicPr>
        <p:blipFill>
          <a:blip r:embed="rId3"/>
          <a:stretch/>
        </p:blipFill>
        <p:spPr>
          <a:xfrm>
            <a:off x="1332000" y="2133720"/>
            <a:ext cx="1063440" cy="1023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3" descr=""/>
          <p:cNvPicPr/>
          <p:nvPr/>
        </p:nvPicPr>
        <p:blipFill>
          <a:blip r:embed="rId4"/>
          <a:stretch/>
        </p:blipFill>
        <p:spPr>
          <a:xfrm>
            <a:off x="2916360" y="2997360"/>
            <a:ext cx="1063440" cy="1023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4" descr=""/>
          <p:cNvPicPr/>
          <p:nvPr/>
        </p:nvPicPr>
        <p:blipFill>
          <a:blip r:embed="rId5"/>
          <a:stretch/>
        </p:blipFill>
        <p:spPr>
          <a:xfrm>
            <a:off x="3059280" y="5084640"/>
            <a:ext cx="1063440" cy="1024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5" descr=""/>
          <p:cNvPicPr/>
          <p:nvPr/>
        </p:nvPicPr>
        <p:blipFill>
          <a:blip r:embed="rId6"/>
          <a:stretch/>
        </p:blipFill>
        <p:spPr>
          <a:xfrm>
            <a:off x="395280" y="4076640"/>
            <a:ext cx="1063800" cy="1023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6" descr=""/>
          <p:cNvPicPr/>
          <p:nvPr/>
        </p:nvPicPr>
        <p:blipFill>
          <a:blip r:embed="rId7"/>
          <a:stretch/>
        </p:blipFill>
        <p:spPr>
          <a:xfrm>
            <a:off x="1908000" y="3068640"/>
            <a:ext cx="1063800" cy="1023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7" descr=""/>
          <p:cNvPicPr/>
          <p:nvPr/>
        </p:nvPicPr>
        <p:blipFill>
          <a:blip r:embed="rId8"/>
          <a:stretch/>
        </p:blipFill>
        <p:spPr>
          <a:xfrm>
            <a:off x="1476360" y="4076640"/>
            <a:ext cx="1063800" cy="1023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8" descr=""/>
          <p:cNvPicPr/>
          <p:nvPr/>
        </p:nvPicPr>
        <p:blipFill>
          <a:blip r:embed="rId9"/>
          <a:stretch/>
        </p:blipFill>
        <p:spPr>
          <a:xfrm>
            <a:off x="2124000" y="5084640"/>
            <a:ext cx="1063800" cy="10242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39">
            <a:hlinkClick r:id="rId10" action="ppaction://hlinksldjump"/>
          </p:cNvPr>
          <p:cNvSpPr/>
          <p:nvPr/>
        </p:nvSpPr>
        <p:spPr>
          <a:xfrm>
            <a:off x="8317080" y="6093000"/>
            <a:ext cx="645840" cy="549000"/>
          </a:xfrm>
          <a:custGeom>
            <a:avLst/>
            <a:gdLst>
              <a:gd name="textAreaLeft" fmla="*/ 35280 w 645840"/>
              <a:gd name="textAreaRight" fmla="*/ 610560 w 64584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5408" h="21600">
                <a:moveTo>
                  <a:pt x="0" y="0"/>
                </a:moveTo>
                <a:lnTo>
                  <a:pt x="25408" y="0"/>
                </a:lnTo>
                <a:lnTo>
                  <a:pt x="25408" y="21600"/>
                </a:lnTo>
                <a:lnTo>
                  <a:pt x="0" y="21600"/>
                </a:lnTo>
                <a:close/>
              </a:path>
              <a:path fill="lightenLess" w="25408" h="21600">
                <a:moveTo>
                  <a:pt x="0" y="0"/>
                </a:moveTo>
                <a:lnTo>
                  <a:pt x="25408" y="0"/>
                </a:lnTo>
                <a:lnTo>
                  <a:pt x="24008" y="1400"/>
                </a:lnTo>
                <a:lnTo>
                  <a:pt x="1400" y="1400"/>
                </a:lnTo>
                <a:close/>
              </a:path>
              <a:path fill="darken" w="25408" h="21600">
                <a:moveTo>
                  <a:pt x="25408" y="0"/>
                </a:moveTo>
                <a:lnTo>
                  <a:pt x="25408" y="21600"/>
                </a:lnTo>
                <a:lnTo>
                  <a:pt x="24008" y="20200"/>
                </a:lnTo>
                <a:lnTo>
                  <a:pt x="24008" y="1400"/>
                </a:lnTo>
                <a:close/>
              </a:path>
              <a:path fill="darkenLess" w="25408" h="21600">
                <a:moveTo>
                  <a:pt x="25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8" y="20200"/>
                </a:lnTo>
                <a:close/>
              </a:path>
              <a:path fill="lighten" w="25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8" h="21600">
                <a:moveTo>
                  <a:pt x="12704" y="3837"/>
                </a:moveTo>
                <a:lnTo>
                  <a:pt x="15280" y="6448"/>
                </a:ln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lnTo>
                  <a:pt x="19667" y="10800"/>
                </a:lnTo>
                <a:lnTo>
                  <a:pt x="18013" y="10800"/>
                </a:lnTo>
                <a:lnTo>
                  <a:pt x="18013" y="17989"/>
                </a:lnTo>
                <a:lnTo>
                  <a:pt x="7395" y="17989"/>
                </a:lnTo>
                <a:lnTo>
                  <a:pt x="7395" y="10800"/>
                </a:lnTo>
                <a:lnTo>
                  <a:pt x="5741" y="10800"/>
                </a:lnTo>
                <a:close/>
              </a:path>
              <a:path fill="darkenLess" w="25408" h="21600">
                <a:moveTo>
                  <a:pt x="15280" y="6448"/>
                </a:move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close/>
              </a:path>
              <a:path fill="darkenLess" w="25408" h="21600">
                <a:moveTo>
                  <a:pt x="11781" y="14299"/>
                </a:moveTo>
                <a:lnTo>
                  <a:pt x="13626" y="14299"/>
                </a:lnTo>
                <a:lnTo>
                  <a:pt x="13626" y="17989"/>
                </a:lnTo>
                <a:lnTo>
                  <a:pt x="18013" y="17989"/>
                </a:lnTo>
                <a:lnTo>
                  <a:pt x="18013" y="10800"/>
                </a:lnTo>
                <a:lnTo>
                  <a:pt x="7395" y="10800"/>
                </a:lnTo>
                <a:lnTo>
                  <a:pt x="7395" y="17989"/>
                </a:lnTo>
                <a:lnTo>
                  <a:pt x="11781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Motion origin="layout" path="M -1.11111E-006 -1.09827E-006 L 0.0132 -0.02844 L 0.02622 -0.05017 L 0.05417 -0.06774 L 0.06892 -0.07422 L 0.09028 -0.06774 L 0.11146 -0.05248 L 0.12795 -0.02844 L 0.13611 -0.00647 L 0.13767 0.01757 L 0.13941 0.03491 L 0.13611 0.05249 L 0.13281 0.07214 L 0.12622 0.09827 L 0.11476 0.11561 L 0.09844 0.13318 L 0.07552 0.14636 L 0.05747 0.14844 L 0.04271 0.14844 L 0.02952 0.14844 L 0.01146 0.14844 L -0.00816 0.15283 L -0.02621 0.16809 L -0.04097 0.18335 L -0.05573 0.2074 L -0.07048 0.25318 L -0.07535 0.29041 L -0.07535 0.31653 L -0.06719 0.35145 L -0.05729 0.37341 L -0.04253 0.39306 L -0.02118 0.41711 C -0.00035 0.42405 -0.00451 0.43168 -1.11111E-006 0.41919 L 0.02136 0.42358 L 0.04271 0.40601 L 0.06892 0.38636 L 0.07708 0.3711 L 0.09028 0.34497 L 0.10174 0.31006 L 0.1066 0.27723 L 0.1066 0.24879 L 0.1033 0.22266 L 0.09184 0.19653 L 0.08195 0.17896 L 0.06719 0.16162 L 0.04931 0.14636 L 0.03125 0.13757 L 0.01146 0.11561 L 0.0033 0.09387 L -0.00642 0.07214 L -0.00642 0.05457 L -0.00486 0.01526 E">
                                      <p:cBhvr>
                                        <p:cTn id="272" dur="5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7" descr=""/>
          <p:cNvPicPr/>
          <p:nvPr/>
        </p:nvPicPr>
        <p:blipFill>
          <a:blip r:embed="rId1"/>
          <a:stretch/>
        </p:blipFill>
        <p:spPr>
          <a:xfrm>
            <a:off x="3924360" y="1413000"/>
            <a:ext cx="4790880" cy="460044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8"/>
          <p:cNvSpPr/>
          <p:nvPr/>
        </p:nvSpPr>
        <p:spPr>
          <a:xfrm rot="20722200">
            <a:off x="7596000" y="2349000"/>
            <a:ext cx="911160" cy="771840"/>
          </a:xfrm>
          <a:custGeom>
            <a:avLst/>
            <a:gdLst>
              <a:gd name="textAreaLeft" fmla="*/ 342720 w 911160"/>
              <a:gd name="textAreaRight" fmla="*/ 568440 w 911160"/>
              <a:gd name="textAreaTop" fmla="*/ 290520 h 771840"/>
              <a:gd name="textAreaBottom" fmla="*/ 481320 h 771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"/>
          <p:cNvSpPr/>
          <p:nvPr/>
        </p:nvSpPr>
        <p:spPr>
          <a:xfrm>
            <a:off x="900000" y="404640"/>
            <a:ext cx="1513080" cy="15843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3" descr=""/>
          <p:cNvPicPr/>
          <p:nvPr/>
        </p:nvPicPr>
        <p:blipFill>
          <a:blip r:embed="rId2"/>
          <a:stretch/>
        </p:blipFill>
        <p:spPr>
          <a:xfrm>
            <a:off x="250920" y="3068640"/>
            <a:ext cx="817560" cy="1224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4" descr=""/>
          <p:cNvPicPr/>
          <p:nvPr/>
        </p:nvPicPr>
        <p:blipFill>
          <a:blip r:embed="rId3"/>
          <a:stretch/>
        </p:blipFill>
        <p:spPr>
          <a:xfrm>
            <a:off x="1979640" y="2133720"/>
            <a:ext cx="819000" cy="1224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5" descr=""/>
          <p:cNvPicPr/>
          <p:nvPr/>
        </p:nvPicPr>
        <p:blipFill>
          <a:blip r:embed="rId4"/>
          <a:stretch/>
        </p:blipFill>
        <p:spPr>
          <a:xfrm>
            <a:off x="1116000" y="2708280"/>
            <a:ext cx="819000" cy="1224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6" descr=""/>
          <p:cNvPicPr/>
          <p:nvPr/>
        </p:nvPicPr>
        <p:blipFill>
          <a:blip r:embed="rId5"/>
          <a:stretch/>
        </p:blipFill>
        <p:spPr>
          <a:xfrm>
            <a:off x="2916360" y="3213000"/>
            <a:ext cx="819000" cy="1224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7" descr=""/>
          <p:cNvPicPr/>
          <p:nvPr/>
        </p:nvPicPr>
        <p:blipFill>
          <a:blip r:embed="rId6"/>
          <a:stretch/>
        </p:blipFill>
        <p:spPr>
          <a:xfrm>
            <a:off x="468360" y="4581360"/>
            <a:ext cx="817560" cy="1224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8" descr=""/>
          <p:cNvPicPr/>
          <p:nvPr/>
        </p:nvPicPr>
        <p:blipFill>
          <a:blip r:embed="rId7"/>
          <a:stretch/>
        </p:blipFill>
        <p:spPr>
          <a:xfrm>
            <a:off x="2124000" y="3645000"/>
            <a:ext cx="819360" cy="1224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9" descr=""/>
          <p:cNvPicPr/>
          <p:nvPr/>
        </p:nvPicPr>
        <p:blipFill>
          <a:blip r:embed="rId8"/>
          <a:stretch/>
        </p:blipFill>
        <p:spPr>
          <a:xfrm>
            <a:off x="1332000" y="4149720"/>
            <a:ext cx="819000" cy="1224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0" descr=""/>
          <p:cNvPicPr/>
          <p:nvPr/>
        </p:nvPicPr>
        <p:blipFill>
          <a:blip r:embed="rId9"/>
          <a:stretch/>
        </p:blipFill>
        <p:spPr>
          <a:xfrm>
            <a:off x="2916360" y="1700280"/>
            <a:ext cx="819000" cy="1224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2" descr=""/>
          <p:cNvPicPr/>
          <p:nvPr/>
        </p:nvPicPr>
        <p:blipFill>
          <a:blip r:embed="rId10"/>
          <a:stretch/>
        </p:blipFill>
        <p:spPr>
          <a:xfrm>
            <a:off x="2700360" y="4797360"/>
            <a:ext cx="903240" cy="135108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33"/>
          <p:cNvSpPr/>
          <p:nvPr/>
        </p:nvSpPr>
        <p:spPr>
          <a:xfrm>
            <a:off x="8317080" y="6093000"/>
            <a:ext cx="645840" cy="549000"/>
          </a:xfrm>
          <a:custGeom>
            <a:avLst/>
            <a:gdLst>
              <a:gd name="textAreaLeft" fmla="*/ 35280 w 645840"/>
              <a:gd name="textAreaRight" fmla="*/ 610560 w 64584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5408" h="21600">
                <a:moveTo>
                  <a:pt x="0" y="0"/>
                </a:moveTo>
                <a:lnTo>
                  <a:pt x="25408" y="0"/>
                </a:lnTo>
                <a:lnTo>
                  <a:pt x="25408" y="21600"/>
                </a:lnTo>
                <a:lnTo>
                  <a:pt x="0" y="21600"/>
                </a:lnTo>
                <a:close/>
              </a:path>
              <a:path fill="lightenLess" w="25408" h="21600">
                <a:moveTo>
                  <a:pt x="0" y="0"/>
                </a:moveTo>
                <a:lnTo>
                  <a:pt x="25408" y="0"/>
                </a:lnTo>
                <a:lnTo>
                  <a:pt x="24008" y="1400"/>
                </a:lnTo>
                <a:lnTo>
                  <a:pt x="1400" y="1400"/>
                </a:lnTo>
                <a:close/>
              </a:path>
              <a:path fill="darken" w="25408" h="21600">
                <a:moveTo>
                  <a:pt x="25408" y="0"/>
                </a:moveTo>
                <a:lnTo>
                  <a:pt x="25408" y="21600"/>
                </a:lnTo>
                <a:lnTo>
                  <a:pt x="24008" y="20200"/>
                </a:lnTo>
                <a:lnTo>
                  <a:pt x="24008" y="1400"/>
                </a:lnTo>
                <a:close/>
              </a:path>
              <a:path fill="darkenLess" w="25408" h="21600">
                <a:moveTo>
                  <a:pt x="25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8" y="20200"/>
                </a:lnTo>
                <a:close/>
              </a:path>
              <a:path fill="lighten" w="25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8" h="21600">
                <a:moveTo>
                  <a:pt x="12704" y="3837"/>
                </a:moveTo>
                <a:lnTo>
                  <a:pt x="15280" y="6448"/>
                </a:ln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lnTo>
                  <a:pt x="19667" y="10800"/>
                </a:lnTo>
                <a:lnTo>
                  <a:pt x="18013" y="10800"/>
                </a:lnTo>
                <a:lnTo>
                  <a:pt x="18013" y="17989"/>
                </a:lnTo>
                <a:lnTo>
                  <a:pt x="7395" y="17989"/>
                </a:lnTo>
                <a:lnTo>
                  <a:pt x="7395" y="10800"/>
                </a:lnTo>
                <a:lnTo>
                  <a:pt x="5741" y="10800"/>
                </a:lnTo>
                <a:close/>
              </a:path>
              <a:path fill="darkenLess" w="25408" h="21600">
                <a:moveTo>
                  <a:pt x="15280" y="6448"/>
                </a:move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close/>
              </a:path>
              <a:path fill="darkenLess" w="25408" h="21600">
                <a:moveTo>
                  <a:pt x="11781" y="14299"/>
                </a:moveTo>
                <a:lnTo>
                  <a:pt x="13626" y="14299"/>
                </a:lnTo>
                <a:lnTo>
                  <a:pt x="13626" y="17989"/>
                </a:lnTo>
                <a:lnTo>
                  <a:pt x="18013" y="17989"/>
                </a:lnTo>
                <a:lnTo>
                  <a:pt x="18013" y="10800"/>
                </a:lnTo>
                <a:lnTo>
                  <a:pt x="7395" y="10800"/>
                </a:lnTo>
                <a:lnTo>
                  <a:pt x="7395" y="17989"/>
                </a:lnTo>
                <a:lnTo>
                  <a:pt x="11781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80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Motion origin="layout" path="M 1.38889E-006 3.75723E-006 L -0.0066 -0.02405 L -0.01979 -0.05896 L -0.02952 -0.07862 L -0.04931 -0.0918 L -0.06233 -0.10058 L -0.07708 -0.10497 L -0.0967 -0.10497 L -0.1099 -0.10497 L -0.13941 -0.08301 L -0.16719 -0.05249 L -0.19028 -0.00671 L -0.2 0.03491 L -0.20504 0.09595 L -0.19844 0.13526 L -0.18698 0.16809 L -0.16233 0.20069 L -0.14097 0.21595 L -0.11806 0.22474 L -0.09844 0.22034 L -0.06892 0.20508 L -0.04601 0.18335 L -0.03125 0.1593 L -0.0132 0.11768 L -0.00174 0.07838 L 0.00486 0.02173 L 1.38889E-006 3.75723E-006 Z">
                                      <p:cBhvr>
                                        <p:cTn id="303" dur="5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Motion origin="layout" path="M 3.88889E-006 3.2948E-006 L 0.00329 0.05456 L -0.0033 0.11352 L -0.00816 0.1593 L -0.02448 0.22913 L -0.04914 0.28601 L -0.07379 0.3274 L -0.1033 0.35583 L -0.13108 0.37109 L -0.14757 0.37318 L -0.17535 0.3667 L -0.19184 0.35352 L -0.20816 0.33179 E">
                                      <p:cBhvr>
                                        <p:cTn id="306" dur="5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8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3492360" y="1341360"/>
            <a:ext cx="5075280" cy="465768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9"/>
          <p:cNvSpPr/>
          <p:nvPr/>
        </p:nvSpPr>
        <p:spPr>
          <a:xfrm rot="20743800">
            <a:off x="6876720" y="1557000"/>
            <a:ext cx="879480" cy="746280"/>
          </a:xfrm>
          <a:custGeom>
            <a:avLst/>
            <a:gdLst>
              <a:gd name="textAreaLeft" fmla="*/ 330840 w 879480"/>
              <a:gd name="textAreaRight" fmla="*/ 548640 w 879480"/>
              <a:gd name="textAreaTop" fmla="*/ 280800 h 746280"/>
              <a:gd name="textAreaBottom" fmla="*/ 465480 h 74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8317080" y="6093000"/>
            <a:ext cx="645840" cy="549000"/>
          </a:xfrm>
          <a:custGeom>
            <a:avLst/>
            <a:gdLst>
              <a:gd name="textAreaLeft" fmla="*/ 35280 w 645840"/>
              <a:gd name="textAreaRight" fmla="*/ 610560 w 64584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5408" h="21600">
                <a:moveTo>
                  <a:pt x="0" y="0"/>
                </a:moveTo>
                <a:lnTo>
                  <a:pt x="25408" y="0"/>
                </a:lnTo>
                <a:lnTo>
                  <a:pt x="25408" y="21600"/>
                </a:lnTo>
                <a:lnTo>
                  <a:pt x="0" y="21600"/>
                </a:lnTo>
                <a:close/>
              </a:path>
              <a:path fill="lightenLess" w="25408" h="21600">
                <a:moveTo>
                  <a:pt x="0" y="0"/>
                </a:moveTo>
                <a:lnTo>
                  <a:pt x="25408" y="0"/>
                </a:lnTo>
                <a:lnTo>
                  <a:pt x="24008" y="1400"/>
                </a:lnTo>
                <a:lnTo>
                  <a:pt x="1400" y="1400"/>
                </a:lnTo>
                <a:close/>
              </a:path>
              <a:path fill="darken" w="25408" h="21600">
                <a:moveTo>
                  <a:pt x="25408" y="0"/>
                </a:moveTo>
                <a:lnTo>
                  <a:pt x="25408" y="21600"/>
                </a:lnTo>
                <a:lnTo>
                  <a:pt x="24008" y="20200"/>
                </a:lnTo>
                <a:lnTo>
                  <a:pt x="24008" y="1400"/>
                </a:lnTo>
                <a:close/>
              </a:path>
              <a:path fill="darkenLess" w="25408" h="21600">
                <a:moveTo>
                  <a:pt x="25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8" y="20200"/>
                </a:lnTo>
                <a:close/>
              </a:path>
              <a:path fill="lighten" w="25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8" h="21600">
                <a:moveTo>
                  <a:pt x="12704" y="3837"/>
                </a:moveTo>
                <a:lnTo>
                  <a:pt x="15280" y="6448"/>
                </a:ln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lnTo>
                  <a:pt x="19667" y="10800"/>
                </a:lnTo>
                <a:lnTo>
                  <a:pt x="18013" y="10800"/>
                </a:lnTo>
                <a:lnTo>
                  <a:pt x="18013" y="17989"/>
                </a:lnTo>
                <a:lnTo>
                  <a:pt x="7395" y="17989"/>
                </a:lnTo>
                <a:lnTo>
                  <a:pt x="7395" y="10800"/>
                </a:lnTo>
                <a:lnTo>
                  <a:pt x="5741" y="10800"/>
                </a:lnTo>
                <a:close/>
              </a:path>
              <a:path fill="darkenLess" w="25408" h="21600">
                <a:moveTo>
                  <a:pt x="15280" y="6448"/>
                </a:move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close/>
              </a:path>
              <a:path fill="darkenLess" w="25408" h="21600">
                <a:moveTo>
                  <a:pt x="11781" y="14299"/>
                </a:moveTo>
                <a:lnTo>
                  <a:pt x="13626" y="14299"/>
                </a:lnTo>
                <a:lnTo>
                  <a:pt x="13626" y="17989"/>
                </a:lnTo>
                <a:lnTo>
                  <a:pt x="18013" y="17989"/>
                </a:lnTo>
                <a:lnTo>
                  <a:pt x="18013" y="10800"/>
                </a:lnTo>
                <a:lnTo>
                  <a:pt x="7395" y="10800"/>
                </a:lnTo>
                <a:lnTo>
                  <a:pt x="7395" y="17989"/>
                </a:lnTo>
                <a:lnTo>
                  <a:pt x="11781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755640" y="476280"/>
            <a:ext cx="1512720" cy="15843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755640" y="476280"/>
            <a:ext cx="1512720" cy="15843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14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Motion origin="layout" path="M -2.22222E-006 -1.44509E-006 C -0.01024 0.0007 -0.02048 0.00162 -0.03403 0.01272 C -0.04757 0.02359 -0.06545 0.03838 -0.08107 0.06567 C -0.09687 0.09272 -0.11649 0.13526 -0.1283 0.17596 C -0.13993 0.21642 -0.14809 0.26937 -0.15104 0.3096 C -0.15382 0.3496 -0.15139 0.38867 -0.14618 0.4178 C -0.14097 0.44671 -0.13107 0.46798 -0.12014 0.48347 C -0.10937 0.49896 -0.09705 0.51283 -0.08107 0.51098 C -0.0651 0.50913 -0.04253 0.4948 -0.02413 0.47283 C -0.00573 0.45064 0.01389 0.42636 0.02934 0.37965 C 0.04479 0.33295 0.06268 0.24093 0.06841 0.19283 C 0.07413 0.14497 0.07257 0.1237 0.06337 0.09133 C 0.05434 0.05873 0.03368 0.02821 0.0132 -0.00208 E">
                                      <p:cBhvr>
                                        <p:cTn id="322" dur="5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4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29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3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3"/>
          <p:cNvSpPr/>
          <p:nvPr/>
        </p:nvSpPr>
        <p:spPr>
          <a:xfrm>
            <a:off x="8358120" y="5929200"/>
            <a:ext cx="577800" cy="576360"/>
          </a:xfrm>
          <a:custGeom>
            <a:avLst/>
            <a:gdLst>
              <a:gd name="textAreaLeft" fmla="*/ 37080 w 577800"/>
              <a:gd name="textAreaRight" fmla="*/ 540720 w 5778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10827" y="3837"/>
                </a:moveTo>
                <a:lnTo>
                  <a:pt x="13403" y="6448"/>
                </a:lnTo>
                <a:lnTo>
                  <a:pt x="13403" y="4707"/>
                </a:lnTo>
                <a:lnTo>
                  <a:pt x="15179" y="4707"/>
                </a:lnTo>
                <a:lnTo>
                  <a:pt x="15179" y="8224"/>
                </a:lnTo>
                <a:lnTo>
                  <a:pt x="17790" y="10800"/>
                </a:lnTo>
                <a:lnTo>
                  <a:pt x="16136" y="10800"/>
                </a:lnTo>
                <a:lnTo>
                  <a:pt x="16136" y="17989"/>
                </a:lnTo>
                <a:lnTo>
                  <a:pt x="5518" y="17989"/>
                </a:lnTo>
                <a:lnTo>
                  <a:pt x="5518" y="10800"/>
                </a:lnTo>
                <a:lnTo>
                  <a:pt x="3864" y="10800"/>
                </a:lnTo>
                <a:close/>
              </a:path>
              <a:path fill="darkenLess" w="21654" h="21600">
                <a:moveTo>
                  <a:pt x="13403" y="6448"/>
                </a:moveTo>
                <a:lnTo>
                  <a:pt x="13403" y="4707"/>
                </a:lnTo>
                <a:lnTo>
                  <a:pt x="15179" y="4707"/>
                </a:lnTo>
                <a:lnTo>
                  <a:pt x="15179" y="8224"/>
                </a:lnTo>
                <a:close/>
              </a:path>
              <a:path fill="darkenLess" w="21654" h="21600">
                <a:moveTo>
                  <a:pt x="9904" y="14299"/>
                </a:moveTo>
                <a:lnTo>
                  <a:pt x="11750" y="14299"/>
                </a:lnTo>
                <a:lnTo>
                  <a:pt x="11750" y="17989"/>
                </a:lnTo>
                <a:lnTo>
                  <a:pt x="16136" y="17989"/>
                </a:lnTo>
                <a:lnTo>
                  <a:pt x="16136" y="10800"/>
                </a:lnTo>
                <a:lnTo>
                  <a:pt x="5518" y="10800"/>
                </a:lnTo>
                <a:lnTo>
                  <a:pt x="5518" y="17989"/>
                </a:lnTo>
                <a:lnTo>
                  <a:pt x="9904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5" descr=""/>
          <p:cNvPicPr/>
          <p:nvPr/>
        </p:nvPicPr>
        <p:blipFill>
          <a:blip r:embed="rId1"/>
          <a:stretch/>
        </p:blipFill>
        <p:spPr>
          <a:xfrm>
            <a:off x="447840" y="109440"/>
            <a:ext cx="785160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Ссыл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i53.ltalk.ru/19/32/23219/42/1053242/letter03.jpeg - фон «Цифры»1-го слай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kraski.yandex.ru/new.xml - фон 2-го слайда (раздел «Фоны»), самолет (раздел «Транспорт») и все фигурки животных (раздел «Животные»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i1.mindmix.ru/15/84/18415/34/207334/0.jpeg- солныш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8317080" y="6093000"/>
            <a:ext cx="645840" cy="576000"/>
          </a:xfrm>
          <a:custGeom>
            <a:avLst/>
            <a:gdLst>
              <a:gd name="textAreaLeft" fmla="*/ 37080 w 645840"/>
              <a:gd name="textAreaRight" fmla="*/ 608760 w 6458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17" h="21600">
                <a:moveTo>
                  <a:pt x="0" y="0"/>
                </a:moveTo>
                <a:lnTo>
                  <a:pt x="24217" y="0"/>
                </a:lnTo>
                <a:lnTo>
                  <a:pt x="24217" y="21600"/>
                </a:lnTo>
                <a:lnTo>
                  <a:pt x="0" y="21600"/>
                </a:lnTo>
                <a:close/>
              </a:path>
              <a:path fill="lightenLess" w="24217" h="21600">
                <a:moveTo>
                  <a:pt x="0" y="0"/>
                </a:moveTo>
                <a:lnTo>
                  <a:pt x="24217" y="0"/>
                </a:lnTo>
                <a:lnTo>
                  <a:pt x="22817" y="1400"/>
                </a:lnTo>
                <a:lnTo>
                  <a:pt x="1400" y="1400"/>
                </a:lnTo>
                <a:close/>
              </a:path>
              <a:path fill="darken" w="24217" h="21600">
                <a:moveTo>
                  <a:pt x="24217" y="0"/>
                </a:moveTo>
                <a:lnTo>
                  <a:pt x="24217" y="21600"/>
                </a:lnTo>
                <a:lnTo>
                  <a:pt x="22817" y="20200"/>
                </a:lnTo>
                <a:lnTo>
                  <a:pt x="22817" y="1400"/>
                </a:lnTo>
                <a:close/>
              </a:path>
              <a:path fill="darkenLess" w="24217" h="21600">
                <a:moveTo>
                  <a:pt x="242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17" y="20200"/>
                </a:lnTo>
                <a:close/>
              </a:path>
              <a:path fill="lighten" w="242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17" h="21600">
                <a:moveTo>
                  <a:pt x="12109" y="3837"/>
                </a:moveTo>
                <a:lnTo>
                  <a:pt x="14685" y="6448"/>
                </a:lnTo>
                <a:lnTo>
                  <a:pt x="14685" y="4707"/>
                </a:lnTo>
                <a:lnTo>
                  <a:pt x="16461" y="4707"/>
                </a:lnTo>
                <a:lnTo>
                  <a:pt x="16461" y="8224"/>
                </a:lnTo>
                <a:lnTo>
                  <a:pt x="19072" y="10800"/>
                </a:lnTo>
                <a:lnTo>
                  <a:pt x="17418" y="10800"/>
                </a:lnTo>
                <a:lnTo>
                  <a:pt x="17418" y="17989"/>
                </a:lnTo>
                <a:lnTo>
                  <a:pt x="6799" y="17989"/>
                </a:lnTo>
                <a:lnTo>
                  <a:pt x="6799" y="10800"/>
                </a:lnTo>
                <a:lnTo>
                  <a:pt x="5146" y="10800"/>
                </a:lnTo>
                <a:close/>
              </a:path>
              <a:path fill="darkenLess" w="24217" h="21600">
                <a:moveTo>
                  <a:pt x="14685" y="6448"/>
                </a:moveTo>
                <a:lnTo>
                  <a:pt x="14685" y="4707"/>
                </a:lnTo>
                <a:lnTo>
                  <a:pt x="16461" y="4707"/>
                </a:lnTo>
                <a:lnTo>
                  <a:pt x="16461" y="8224"/>
                </a:lnTo>
                <a:close/>
              </a:path>
              <a:path fill="darkenLess" w="24217" h="21600">
                <a:moveTo>
                  <a:pt x="11186" y="14299"/>
                </a:moveTo>
                <a:lnTo>
                  <a:pt x="13031" y="14299"/>
                </a:lnTo>
                <a:lnTo>
                  <a:pt x="13031" y="17989"/>
                </a:lnTo>
                <a:lnTo>
                  <a:pt x="17418" y="17989"/>
                </a:lnTo>
                <a:lnTo>
                  <a:pt x="17418" y="10800"/>
                </a:lnTo>
                <a:lnTo>
                  <a:pt x="6799" y="10800"/>
                </a:lnTo>
                <a:lnTo>
                  <a:pt x="6799" y="17989"/>
                </a:lnTo>
                <a:lnTo>
                  <a:pt x="11186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>
            <a:hlinkClick r:id="" action="ppaction://hlinkshowjump?jump=firstslide"/>
          </p:cNvPr>
          <p:cNvSpPr/>
          <p:nvPr/>
        </p:nvSpPr>
        <p:spPr>
          <a:xfrm>
            <a:off x="7451640" y="6093000"/>
            <a:ext cx="649440" cy="576000"/>
          </a:xfrm>
          <a:custGeom>
            <a:avLst/>
            <a:gdLst>
              <a:gd name="textAreaLeft" fmla="*/ 37080 w 649440"/>
              <a:gd name="textAreaRight" fmla="*/ 612360 w 6494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352" h="21600">
                <a:moveTo>
                  <a:pt x="0" y="0"/>
                </a:moveTo>
                <a:lnTo>
                  <a:pt x="24352" y="0"/>
                </a:lnTo>
                <a:lnTo>
                  <a:pt x="24352" y="21600"/>
                </a:lnTo>
                <a:lnTo>
                  <a:pt x="0" y="21600"/>
                </a:lnTo>
                <a:close/>
              </a:path>
              <a:path fill="lightenLess" w="24352" h="21600">
                <a:moveTo>
                  <a:pt x="0" y="0"/>
                </a:moveTo>
                <a:lnTo>
                  <a:pt x="24352" y="0"/>
                </a:lnTo>
                <a:lnTo>
                  <a:pt x="22952" y="1400"/>
                </a:lnTo>
                <a:lnTo>
                  <a:pt x="1400" y="1400"/>
                </a:lnTo>
                <a:close/>
              </a:path>
              <a:path fill="darken" w="24352" h="21600">
                <a:moveTo>
                  <a:pt x="24352" y="0"/>
                </a:moveTo>
                <a:lnTo>
                  <a:pt x="24352" y="21600"/>
                </a:lnTo>
                <a:lnTo>
                  <a:pt x="22952" y="20200"/>
                </a:lnTo>
                <a:lnTo>
                  <a:pt x="22952" y="1400"/>
                </a:lnTo>
                <a:close/>
              </a:path>
              <a:path fill="darkenLess" w="24352" h="21600">
                <a:moveTo>
                  <a:pt x="24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52" y="20200"/>
                </a:lnTo>
                <a:close/>
              </a:path>
              <a:path fill="lighten" w="24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52" h="21600">
                <a:moveTo>
                  <a:pt x="8677" y="10800"/>
                </a:moveTo>
                <a:lnTo>
                  <a:pt x="19183" y="3794"/>
                </a:lnTo>
                <a:lnTo>
                  <a:pt x="19183" y="17806"/>
                </a:lnTo>
                <a:close/>
              </a:path>
              <a:path fill="darken" w="24352" h="21600">
                <a:moveTo>
                  <a:pt x="5170" y="3794"/>
                </a:moveTo>
                <a:lnTo>
                  <a:pt x="6832" y="3794"/>
                </a:lnTo>
                <a:lnTo>
                  <a:pt x="6832" y="17806"/>
                </a:lnTo>
                <a:lnTo>
                  <a:pt x="517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rcRect l="0" t="3662" r="0" b="47529"/>
          <a:stretch/>
        </p:blipFill>
        <p:spPr>
          <a:xfrm>
            <a:off x="0" y="0"/>
            <a:ext cx="9144000" cy="25653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>
            <a:hlinkClick r:id="rId2" action="ppaction://hlinksldjump"/>
          </p:cNvPr>
          <p:cNvSpPr/>
          <p:nvPr/>
        </p:nvSpPr>
        <p:spPr>
          <a:xfrm>
            <a:off x="5651640" y="4724280"/>
            <a:ext cx="1152360" cy="12970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>
            <a:hlinkClick r:id="rId3" action="ppaction://hlinksldjump"/>
          </p:cNvPr>
          <p:cNvSpPr/>
          <p:nvPr/>
        </p:nvSpPr>
        <p:spPr>
          <a:xfrm>
            <a:off x="7451640" y="4724280"/>
            <a:ext cx="1150920" cy="12970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>
            <a:hlinkClick r:id="rId4" action="ppaction://hlinksldjump"/>
          </p:cNvPr>
          <p:cNvSpPr/>
          <p:nvPr/>
        </p:nvSpPr>
        <p:spPr>
          <a:xfrm>
            <a:off x="1979640" y="4724280"/>
            <a:ext cx="1152360" cy="12956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>
            <a:hlinkClick r:id="rId5" action="ppaction://hlinksldjump"/>
          </p:cNvPr>
          <p:cNvSpPr/>
          <p:nvPr/>
        </p:nvSpPr>
        <p:spPr>
          <a:xfrm>
            <a:off x="3851280" y="4724280"/>
            <a:ext cx="1152360" cy="12970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>
            <a:hlinkClick r:id="rId6" action="ppaction://hlinksldjump"/>
          </p:cNvPr>
          <p:cNvSpPr/>
          <p:nvPr/>
        </p:nvSpPr>
        <p:spPr>
          <a:xfrm>
            <a:off x="250920" y="4724280"/>
            <a:ext cx="1152360" cy="12970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ubTriangle">
            <a:hlinkClick r:id="rId7" action="ppaction://hlinksldjump"/>
          </p:cNvPr>
          <p:cNvSpPr/>
          <p:nvPr/>
        </p:nvSpPr>
        <p:spPr>
          <a:xfrm rot="14908800">
            <a:off x="163800" y="3840480"/>
            <a:ext cx="1020600" cy="1349280"/>
          </a:xfrm>
          <a:custGeom>
            <a:avLst/>
            <a:gdLst>
              <a:gd name="textAreaLeft" fmla="*/ 338040 w 1020600"/>
              <a:gd name="textAreaRight" fmla="*/ 776520 w 1020600"/>
              <a:gd name="textAreaTop" fmla="*/ 492120 h 1349280"/>
              <a:gd name="textAreaBottom" fmla="*/ 1071720 h 1349280"/>
            </a:gdLst>
            <a:ahLst/>
            <a:rect l="textAreaLeft" t="textAreaTop" r="textAreaRight" b="textAreaBottom"/>
            <a:pathLst>
              <a:path w="21600" h="21600">
                <a:moveTo>
                  <a:pt x="11262" y="0"/>
                </a:moveTo>
                <a:lnTo>
                  <a:pt x="0" y="21600"/>
                </a:lnTo>
                <a:lnTo>
                  <a:pt x="21600" y="15758"/>
                </a:lnTo>
                <a:lnTo>
                  <a:pt x="11262" y="0"/>
                </a:lnTo>
                <a:close/>
              </a:path>
            </a:pathLst>
          </a:custGeom>
          <a:solidFill>
            <a:srgbClr val="ccffcc"/>
          </a:solidFill>
          <a:ln w="507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0000000000000"/>
          <p:cNvPicPr/>
          <p:nvPr/>
        </p:nvPicPr>
        <p:blipFill>
          <a:blip r:embed="rId8"/>
          <a:stretch/>
        </p:blipFill>
        <p:spPr>
          <a:xfrm>
            <a:off x="0" y="189000"/>
            <a:ext cx="1008000" cy="887400"/>
          </a:xfrm>
          <a:prstGeom prst="rect">
            <a:avLst/>
          </a:prstGeom>
          <a:ln w="0">
            <a:noFill/>
          </a:ln>
        </p:spPr>
      </p:pic>
      <p:sp>
        <p:nvSpPr>
          <p:cNvPr id="55" name="PubTriangle">
            <a:hlinkClick r:id="rId9" action="ppaction://hlinksldjump"/>
          </p:cNvPr>
          <p:cNvSpPr/>
          <p:nvPr/>
        </p:nvSpPr>
        <p:spPr>
          <a:xfrm rot="14908800">
            <a:off x="7400160" y="3912480"/>
            <a:ext cx="1020960" cy="1349280"/>
          </a:xfrm>
          <a:custGeom>
            <a:avLst/>
            <a:gdLst>
              <a:gd name="textAreaLeft" fmla="*/ 338040 w 1020960"/>
              <a:gd name="textAreaRight" fmla="*/ 776880 w 1020960"/>
              <a:gd name="textAreaTop" fmla="*/ 492120 h 1349280"/>
              <a:gd name="textAreaBottom" fmla="*/ 1071720 h 1349280"/>
            </a:gdLst>
            <a:ahLst/>
            <a:rect l="textAreaLeft" t="textAreaTop" r="textAreaRight" b="textAreaBottom"/>
            <a:pathLst>
              <a:path w="21600" h="21600">
                <a:moveTo>
                  <a:pt x="11262" y="0"/>
                </a:moveTo>
                <a:lnTo>
                  <a:pt x="0" y="21600"/>
                </a:lnTo>
                <a:lnTo>
                  <a:pt x="21600" y="15758"/>
                </a:lnTo>
                <a:lnTo>
                  <a:pt x="11262" y="0"/>
                </a:lnTo>
                <a:close/>
              </a:path>
            </a:pathLst>
          </a:custGeom>
          <a:solidFill>
            <a:srgbClr val="ffcc99"/>
          </a:solidFill>
          <a:ln w="507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ubTriangle">
            <a:hlinkClick r:id="rId10" action="ppaction://hlinksldjump"/>
          </p:cNvPr>
          <p:cNvSpPr/>
          <p:nvPr/>
        </p:nvSpPr>
        <p:spPr>
          <a:xfrm rot="14908800">
            <a:off x="3799440" y="3912120"/>
            <a:ext cx="1020960" cy="1349640"/>
          </a:xfrm>
          <a:custGeom>
            <a:avLst/>
            <a:gdLst>
              <a:gd name="textAreaLeft" fmla="*/ 338040 w 1020960"/>
              <a:gd name="textAreaRight" fmla="*/ 776880 w 1020960"/>
              <a:gd name="textAreaTop" fmla="*/ 492120 h 1349640"/>
              <a:gd name="textAreaBottom" fmla="*/ 1072080 h 1349640"/>
            </a:gdLst>
            <a:ahLst/>
            <a:rect l="textAreaLeft" t="textAreaTop" r="textAreaRight" b="textAreaBottom"/>
            <a:pathLst>
              <a:path w="21600" h="21600">
                <a:moveTo>
                  <a:pt x="11262" y="0"/>
                </a:moveTo>
                <a:lnTo>
                  <a:pt x="0" y="21600"/>
                </a:lnTo>
                <a:lnTo>
                  <a:pt x="21600" y="15758"/>
                </a:lnTo>
                <a:lnTo>
                  <a:pt x="11262" y="0"/>
                </a:lnTo>
                <a:close/>
              </a:path>
            </a:pathLst>
          </a:custGeom>
          <a:solidFill>
            <a:srgbClr val="ffccff"/>
          </a:solidFill>
          <a:ln w="507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ubTriangle">
            <a:hlinkClick r:id="rId11" action="ppaction://hlinksldjump"/>
          </p:cNvPr>
          <p:cNvSpPr/>
          <p:nvPr/>
        </p:nvSpPr>
        <p:spPr>
          <a:xfrm rot="14908800">
            <a:off x="5599800" y="3912480"/>
            <a:ext cx="1020960" cy="1349280"/>
          </a:xfrm>
          <a:custGeom>
            <a:avLst/>
            <a:gdLst>
              <a:gd name="textAreaLeft" fmla="*/ 338040 w 1020960"/>
              <a:gd name="textAreaRight" fmla="*/ 776880 w 1020960"/>
              <a:gd name="textAreaTop" fmla="*/ 492120 h 1349280"/>
              <a:gd name="textAreaBottom" fmla="*/ 1071720 h 1349280"/>
            </a:gdLst>
            <a:ahLst/>
            <a:rect l="textAreaLeft" t="textAreaTop" r="textAreaRight" b="textAreaBottom"/>
            <a:pathLst>
              <a:path w="21600" h="21600">
                <a:moveTo>
                  <a:pt x="11262" y="0"/>
                </a:moveTo>
                <a:lnTo>
                  <a:pt x="0" y="21600"/>
                </a:lnTo>
                <a:lnTo>
                  <a:pt x="21600" y="15758"/>
                </a:lnTo>
                <a:lnTo>
                  <a:pt x="11262" y="0"/>
                </a:lnTo>
                <a:close/>
              </a:path>
            </a:pathLst>
          </a:custGeom>
          <a:solidFill>
            <a:srgbClr val="ccffff"/>
          </a:solidFill>
          <a:ln w="507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ubTriangle">
            <a:hlinkClick r:id="rId12" action="ppaction://hlinksldjump"/>
          </p:cNvPr>
          <p:cNvSpPr/>
          <p:nvPr/>
        </p:nvSpPr>
        <p:spPr>
          <a:xfrm rot="14908800">
            <a:off x="1927800" y="3912480"/>
            <a:ext cx="1020960" cy="1349280"/>
          </a:xfrm>
          <a:custGeom>
            <a:avLst/>
            <a:gdLst>
              <a:gd name="textAreaLeft" fmla="*/ 338040 w 1020960"/>
              <a:gd name="textAreaRight" fmla="*/ 776880 w 1020960"/>
              <a:gd name="textAreaTop" fmla="*/ 492120 h 1349280"/>
              <a:gd name="textAreaBottom" fmla="*/ 1071720 h 1349280"/>
            </a:gdLst>
            <a:ahLst/>
            <a:rect l="textAreaLeft" t="textAreaTop" r="textAreaRight" b="textAreaBottom"/>
            <a:pathLst>
              <a:path w="21600" h="21600">
                <a:moveTo>
                  <a:pt x="11262" y="0"/>
                </a:moveTo>
                <a:lnTo>
                  <a:pt x="0" y="21600"/>
                </a:lnTo>
                <a:lnTo>
                  <a:pt x="21600" y="15758"/>
                </a:lnTo>
                <a:lnTo>
                  <a:pt x="11262" y="0"/>
                </a:lnTo>
                <a:close/>
              </a:path>
            </a:pathLst>
          </a:custGeom>
          <a:solidFill>
            <a:srgbClr val="ffff99"/>
          </a:solidFill>
          <a:ln w="507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1">
            <a:hlinkClick r:id="rId13" action="ppaction://hlinksldjump"/>
          </p:cNvPr>
          <p:cNvSpPr/>
          <p:nvPr/>
        </p:nvSpPr>
        <p:spPr>
          <a:xfrm>
            <a:off x="250920" y="2349360"/>
            <a:ext cx="1152360" cy="12970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ubTriangle">
            <a:hlinkClick r:id="rId14" action="ppaction://hlinksldjump"/>
          </p:cNvPr>
          <p:cNvSpPr/>
          <p:nvPr/>
        </p:nvSpPr>
        <p:spPr>
          <a:xfrm rot="14908800">
            <a:off x="163800" y="1535400"/>
            <a:ext cx="1020600" cy="1349280"/>
          </a:xfrm>
          <a:custGeom>
            <a:avLst/>
            <a:gdLst>
              <a:gd name="textAreaLeft" fmla="*/ 338040 w 1020600"/>
              <a:gd name="textAreaRight" fmla="*/ 776520 w 1020600"/>
              <a:gd name="textAreaTop" fmla="*/ 492120 h 1349280"/>
              <a:gd name="textAreaBottom" fmla="*/ 1071720 h 1349280"/>
            </a:gdLst>
            <a:ahLst/>
            <a:rect l="textAreaLeft" t="textAreaTop" r="textAreaRight" b="textAreaBottom"/>
            <a:pathLst>
              <a:path w="21600" h="21600">
                <a:moveTo>
                  <a:pt x="11262" y="0"/>
                </a:moveTo>
                <a:lnTo>
                  <a:pt x="0" y="21600"/>
                </a:lnTo>
                <a:lnTo>
                  <a:pt x="21600" y="15758"/>
                </a:lnTo>
                <a:lnTo>
                  <a:pt x="11262" y="0"/>
                </a:lnTo>
                <a:close/>
              </a:path>
            </a:pathLst>
          </a:custGeom>
          <a:solidFill>
            <a:srgbClr val="ccecff"/>
          </a:solidFill>
          <a:ln w="507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6">
            <a:hlinkClick r:id="rId15" action="ppaction://hlinksldjump"/>
          </p:cNvPr>
          <p:cNvSpPr/>
          <p:nvPr/>
        </p:nvSpPr>
        <p:spPr>
          <a:xfrm>
            <a:off x="1979640" y="2349360"/>
            <a:ext cx="1152360" cy="12970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ubTriangle">
            <a:hlinkClick r:id="rId16" action="ppaction://hlinksldjump"/>
          </p:cNvPr>
          <p:cNvSpPr/>
          <p:nvPr/>
        </p:nvSpPr>
        <p:spPr>
          <a:xfrm rot="14908800">
            <a:off x="1927440" y="1535400"/>
            <a:ext cx="1020600" cy="1349280"/>
          </a:xfrm>
          <a:custGeom>
            <a:avLst/>
            <a:gdLst>
              <a:gd name="textAreaLeft" fmla="*/ 338040 w 1020600"/>
              <a:gd name="textAreaRight" fmla="*/ 776520 w 1020600"/>
              <a:gd name="textAreaTop" fmla="*/ 492120 h 1349280"/>
              <a:gd name="textAreaBottom" fmla="*/ 1071720 h 1349280"/>
            </a:gdLst>
            <a:ahLst/>
            <a:rect l="textAreaLeft" t="textAreaTop" r="textAreaRight" b="textAreaBottom"/>
            <a:pathLst>
              <a:path w="21600" h="21600">
                <a:moveTo>
                  <a:pt x="11262" y="0"/>
                </a:moveTo>
                <a:lnTo>
                  <a:pt x="0" y="21600"/>
                </a:lnTo>
                <a:lnTo>
                  <a:pt x="21600" y="15758"/>
                </a:lnTo>
                <a:lnTo>
                  <a:pt x="11262" y="0"/>
                </a:lnTo>
                <a:close/>
              </a:path>
            </a:pathLst>
          </a:custGeom>
          <a:solidFill>
            <a:srgbClr val="ffccff"/>
          </a:solidFill>
          <a:ln w="507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1">
            <a:hlinkClick r:id="rId17" action="ppaction://hlinksldjump"/>
          </p:cNvPr>
          <p:cNvSpPr/>
          <p:nvPr/>
        </p:nvSpPr>
        <p:spPr>
          <a:xfrm>
            <a:off x="3851280" y="2349360"/>
            <a:ext cx="1152360" cy="12970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ubTriangle">
            <a:hlinkClick r:id="rId18" action="ppaction://hlinksldjump"/>
          </p:cNvPr>
          <p:cNvSpPr/>
          <p:nvPr/>
        </p:nvSpPr>
        <p:spPr>
          <a:xfrm rot="14908800">
            <a:off x="3799440" y="1535400"/>
            <a:ext cx="1020600" cy="1349640"/>
          </a:xfrm>
          <a:custGeom>
            <a:avLst/>
            <a:gdLst>
              <a:gd name="textAreaLeft" fmla="*/ 338040 w 1020600"/>
              <a:gd name="textAreaRight" fmla="*/ 776520 w 1020600"/>
              <a:gd name="textAreaTop" fmla="*/ 492120 h 1349640"/>
              <a:gd name="textAreaBottom" fmla="*/ 1072080 h 1349640"/>
            </a:gdLst>
            <a:ahLst/>
            <a:rect l="textAreaLeft" t="textAreaTop" r="textAreaRight" b="textAreaBottom"/>
            <a:pathLst>
              <a:path w="21600" h="21600">
                <a:moveTo>
                  <a:pt x="11262" y="0"/>
                </a:moveTo>
                <a:lnTo>
                  <a:pt x="0" y="21600"/>
                </a:lnTo>
                <a:lnTo>
                  <a:pt x="21600" y="15758"/>
                </a:lnTo>
                <a:lnTo>
                  <a:pt x="11262" y="0"/>
                </a:lnTo>
                <a:close/>
              </a:path>
            </a:pathLst>
          </a:custGeom>
          <a:solidFill>
            <a:srgbClr val="ffff99"/>
          </a:solidFill>
          <a:ln w="507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4">
            <a:hlinkClick r:id="rId19" action="ppaction://hlinksldjump"/>
          </p:cNvPr>
          <p:cNvSpPr/>
          <p:nvPr/>
        </p:nvSpPr>
        <p:spPr>
          <a:xfrm>
            <a:off x="5651640" y="2349360"/>
            <a:ext cx="1152360" cy="12970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5">
            <a:hlinkClick r:id="rId20" action="ppaction://hlinksldjump"/>
          </p:cNvPr>
          <p:cNvSpPr/>
          <p:nvPr/>
        </p:nvSpPr>
        <p:spPr>
          <a:xfrm>
            <a:off x="7451640" y="2349360"/>
            <a:ext cx="1152720" cy="12970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ubTriangle">
            <a:hlinkClick r:id="rId21" action="ppaction://hlinksldjump"/>
          </p:cNvPr>
          <p:cNvSpPr/>
          <p:nvPr/>
        </p:nvSpPr>
        <p:spPr>
          <a:xfrm rot="14908800">
            <a:off x="5599440" y="1535400"/>
            <a:ext cx="1020600" cy="1349280"/>
          </a:xfrm>
          <a:custGeom>
            <a:avLst/>
            <a:gdLst>
              <a:gd name="textAreaLeft" fmla="*/ 338040 w 1020600"/>
              <a:gd name="textAreaRight" fmla="*/ 776520 w 1020600"/>
              <a:gd name="textAreaTop" fmla="*/ 492120 h 1349280"/>
              <a:gd name="textAreaBottom" fmla="*/ 1071720 h 1349280"/>
            </a:gdLst>
            <a:ahLst/>
            <a:rect l="textAreaLeft" t="textAreaTop" r="textAreaRight" b="textAreaBottom"/>
            <a:pathLst>
              <a:path w="21600" h="21600">
                <a:moveTo>
                  <a:pt x="11262" y="0"/>
                </a:moveTo>
                <a:lnTo>
                  <a:pt x="0" y="21600"/>
                </a:lnTo>
                <a:lnTo>
                  <a:pt x="21600" y="15758"/>
                </a:lnTo>
                <a:lnTo>
                  <a:pt x="11262" y="0"/>
                </a:lnTo>
                <a:close/>
              </a:path>
            </a:pathLst>
          </a:custGeom>
          <a:solidFill>
            <a:srgbClr val="ffcc99"/>
          </a:solidFill>
          <a:ln w="507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ubTriangle">
            <a:hlinkClick r:id="rId22" action="ppaction://hlinksldjump"/>
          </p:cNvPr>
          <p:cNvSpPr/>
          <p:nvPr/>
        </p:nvSpPr>
        <p:spPr>
          <a:xfrm rot="14908800">
            <a:off x="7399800" y="1535400"/>
            <a:ext cx="1020600" cy="1349280"/>
          </a:xfrm>
          <a:custGeom>
            <a:avLst/>
            <a:gdLst>
              <a:gd name="textAreaLeft" fmla="*/ 338040 w 1020600"/>
              <a:gd name="textAreaRight" fmla="*/ 776520 w 1020600"/>
              <a:gd name="textAreaTop" fmla="*/ 492120 h 1349280"/>
              <a:gd name="textAreaBottom" fmla="*/ 1071720 h 1349280"/>
            </a:gdLst>
            <a:ahLst/>
            <a:rect l="textAreaLeft" t="textAreaTop" r="textAreaRight" b="textAreaBottom"/>
            <a:pathLst>
              <a:path w="21600" h="21600">
                <a:moveTo>
                  <a:pt x="11262" y="0"/>
                </a:moveTo>
                <a:lnTo>
                  <a:pt x="0" y="21600"/>
                </a:lnTo>
                <a:lnTo>
                  <a:pt x="21600" y="15758"/>
                </a:lnTo>
                <a:lnTo>
                  <a:pt x="11262" y="0"/>
                </a:lnTo>
                <a:close/>
              </a:path>
            </a:pathLst>
          </a:custGeom>
          <a:solidFill>
            <a:srgbClr val="cc99ff"/>
          </a:solidFill>
          <a:ln w="507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8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2268360" y="4076640"/>
            <a:ext cx="655920" cy="793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9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3924360" y="4149720"/>
            <a:ext cx="792000" cy="687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0" descr="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5867280" y="4149720"/>
            <a:ext cx="652680" cy="693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1" descr="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395280" y="1773360"/>
            <a:ext cx="716040" cy="720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2" descr="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2268360" y="1700280"/>
            <a:ext cx="459000" cy="720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3" descr="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4067280" y="1773360"/>
            <a:ext cx="664920" cy="623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4" descr="">
            <a:hlinkClick r:id="rId35" action="ppaction://hlinksldjump"/>
          </p:cNvPr>
          <p:cNvPicPr/>
          <p:nvPr/>
        </p:nvPicPr>
        <p:blipFill>
          <a:blip r:embed="rId36"/>
          <a:stretch/>
        </p:blipFill>
        <p:spPr>
          <a:xfrm>
            <a:off x="5867280" y="1844640"/>
            <a:ext cx="649440" cy="625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5" descr="">
            <a:hlinkClick r:id="rId37" action="ppaction://hlinksldjump"/>
          </p:cNvPr>
          <p:cNvPicPr/>
          <p:nvPr/>
        </p:nvPicPr>
        <p:blipFill>
          <a:blip r:embed="rId38"/>
          <a:stretch/>
        </p:blipFill>
        <p:spPr>
          <a:xfrm>
            <a:off x="7740720" y="1700280"/>
            <a:ext cx="519120" cy="774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6" descr="">
            <a:hlinkClick r:id="rId39" action="ppaction://hlinksldjump"/>
          </p:cNvPr>
          <p:cNvPicPr/>
          <p:nvPr/>
        </p:nvPicPr>
        <p:blipFill>
          <a:blip r:embed="rId40"/>
          <a:stretch/>
        </p:blipFill>
        <p:spPr>
          <a:xfrm>
            <a:off x="7740720" y="4149720"/>
            <a:ext cx="606240" cy="720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8" descr=""/>
          <p:cNvPicPr/>
          <p:nvPr/>
        </p:nvPicPr>
        <p:blipFill>
          <a:blip r:embed="rId41"/>
          <a:stretch/>
        </p:blipFill>
        <p:spPr>
          <a:xfrm>
            <a:off x="4211640" y="692280"/>
            <a:ext cx="574560" cy="3283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49">
            <a:hlinkClick r:id="rId42" action="ppaction://hlinksldjump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7493"/>
                </a:moveTo>
                <a:lnTo>
                  <a:pt x="10397" y="7493"/>
                </a:lnTo>
                <a:lnTo>
                  <a:pt x="10397" y="12828"/>
                </a:lnTo>
                <a:cubicBezTo>
                  <a:pt x="10397" y="13751"/>
                  <a:pt x="11197" y="14482"/>
                  <a:pt x="12233" y="14482"/>
                </a:cubicBezTo>
                <a:lnTo>
                  <a:pt x="13896" y="14482"/>
                </a:lnTo>
                <a:cubicBezTo>
                  <a:pt x="14931" y="14482"/>
                  <a:pt x="15732" y="13751"/>
                  <a:pt x="15732" y="12828"/>
                </a:cubicBezTo>
                <a:lnTo>
                  <a:pt x="15732" y="7493"/>
                </a:lnTo>
                <a:lnTo>
                  <a:pt x="13896" y="7493"/>
                </a:lnTo>
                <a:lnTo>
                  <a:pt x="17403" y="3985"/>
                </a:lnTo>
                <a:lnTo>
                  <a:pt x="21076" y="7493"/>
                </a:lnTo>
                <a:lnTo>
                  <a:pt x="19240" y="7493"/>
                </a:lnTo>
                <a:lnTo>
                  <a:pt x="19240" y="12828"/>
                </a:lnTo>
                <a:cubicBezTo>
                  <a:pt x="19240" y="15596"/>
                  <a:pt x="16663" y="18155"/>
                  <a:pt x="13896" y="18155"/>
                </a:cubicBezTo>
                <a:lnTo>
                  <a:pt x="12233" y="18155"/>
                </a:lnTo>
                <a:cubicBezTo>
                  <a:pt x="9465" y="18155"/>
                  <a:pt x="6889" y="15596"/>
                  <a:pt x="6889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2" descr=""/>
          <p:cNvPicPr/>
          <p:nvPr/>
        </p:nvPicPr>
        <p:blipFill>
          <a:blip r:embed="rId1"/>
          <a:stretch/>
        </p:blipFill>
        <p:spPr>
          <a:xfrm>
            <a:off x="3780000" y="1413000"/>
            <a:ext cx="4848120" cy="459108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13"/>
          <p:cNvSpPr/>
          <p:nvPr/>
        </p:nvSpPr>
        <p:spPr>
          <a:xfrm rot="21429600">
            <a:off x="5795640" y="3212640"/>
            <a:ext cx="911160" cy="771480"/>
          </a:xfrm>
          <a:custGeom>
            <a:avLst/>
            <a:gdLst>
              <a:gd name="textAreaLeft" fmla="*/ 342720 w 911160"/>
              <a:gd name="textAreaRight" fmla="*/ 568440 w 911160"/>
              <a:gd name="textAreaTop" fmla="*/ 290160 h 771480"/>
              <a:gd name="textAreaBottom" fmla="*/ 481320 h 771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900000" y="404640"/>
            <a:ext cx="1513080" cy="15843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7" descr=""/>
          <p:cNvPicPr/>
          <p:nvPr/>
        </p:nvPicPr>
        <p:blipFill>
          <a:blip r:embed="rId2"/>
          <a:stretch/>
        </p:blipFill>
        <p:spPr>
          <a:xfrm>
            <a:off x="539640" y="2924280"/>
            <a:ext cx="2684520" cy="324144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8">
            <a:hlinkClick r:id="rId3" action="ppaction://hlinksldjump"/>
          </p:cNvPr>
          <p:cNvSpPr/>
          <p:nvPr/>
        </p:nvSpPr>
        <p:spPr>
          <a:xfrm>
            <a:off x="8317080" y="6093000"/>
            <a:ext cx="645840" cy="549000"/>
          </a:xfrm>
          <a:custGeom>
            <a:avLst/>
            <a:gdLst>
              <a:gd name="textAreaLeft" fmla="*/ 35280 w 645840"/>
              <a:gd name="textAreaRight" fmla="*/ 610560 w 64584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5408" h="21600">
                <a:moveTo>
                  <a:pt x="0" y="0"/>
                </a:moveTo>
                <a:lnTo>
                  <a:pt x="25408" y="0"/>
                </a:lnTo>
                <a:lnTo>
                  <a:pt x="25408" y="21600"/>
                </a:lnTo>
                <a:lnTo>
                  <a:pt x="0" y="21600"/>
                </a:lnTo>
                <a:close/>
              </a:path>
              <a:path fill="lightenLess" w="25408" h="21600">
                <a:moveTo>
                  <a:pt x="0" y="0"/>
                </a:moveTo>
                <a:lnTo>
                  <a:pt x="25408" y="0"/>
                </a:lnTo>
                <a:lnTo>
                  <a:pt x="24008" y="1400"/>
                </a:lnTo>
                <a:lnTo>
                  <a:pt x="1400" y="1400"/>
                </a:lnTo>
                <a:close/>
              </a:path>
              <a:path fill="darken" w="25408" h="21600">
                <a:moveTo>
                  <a:pt x="25408" y="0"/>
                </a:moveTo>
                <a:lnTo>
                  <a:pt x="25408" y="21600"/>
                </a:lnTo>
                <a:lnTo>
                  <a:pt x="24008" y="20200"/>
                </a:lnTo>
                <a:lnTo>
                  <a:pt x="24008" y="1400"/>
                </a:lnTo>
                <a:close/>
              </a:path>
              <a:path fill="darkenLess" w="25408" h="21600">
                <a:moveTo>
                  <a:pt x="25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8" y="20200"/>
                </a:lnTo>
                <a:close/>
              </a:path>
              <a:path fill="lighten" w="25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8" h="21600">
                <a:moveTo>
                  <a:pt x="12704" y="3837"/>
                </a:moveTo>
                <a:lnTo>
                  <a:pt x="15280" y="6448"/>
                </a:ln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lnTo>
                  <a:pt x="19667" y="10800"/>
                </a:lnTo>
                <a:lnTo>
                  <a:pt x="18013" y="10800"/>
                </a:lnTo>
                <a:lnTo>
                  <a:pt x="18013" y="17989"/>
                </a:lnTo>
                <a:lnTo>
                  <a:pt x="7395" y="17989"/>
                </a:lnTo>
                <a:lnTo>
                  <a:pt x="7395" y="10800"/>
                </a:lnTo>
                <a:lnTo>
                  <a:pt x="5741" y="10800"/>
                </a:lnTo>
                <a:close/>
              </a:path>
              <a:path fill="darkenLess" w="25408" h="21600">
                <a:moveTo>
                  <a:pt x="15280" y="6448"/>
                </a:move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close/>
              </a:path>
              <a:path fill="darkenLess" w="25408" h="21600">
                <a:moveTo>
                  <a:pt x="11781" y="14299"/>
                </a:moveTo>
                <a:lnTo>
                  <a:pt x="13626" y="14299"/>
                </a:lnTo>
                <a:lnTo>
                  <a:pt x="13626" y="17989"/>
                </a:lnTo>
                <a:lnTo>
                  <a:pt x="18013" y="17989"/>
                </a:lnTo>
                <a:lnTo>
                  <a:pt x="18013" y="10800"/>
                </a:lnTo>
                <a:lnTo>
                  <a:pt x="7395" y="10800"/>
                </a:lnTo>
                <a:lnTo>
                  <a:pt x="7395" y="17989"/>
                </a:lnTo>
                <a:lnTo>
                  <a:pt x="11781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00139 L 0.18455 -0.22404 L -0.01042 0.27376 E">
                                      <p:cBhvr>
                                        <p:cTn id="26" dur="5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1" descr=""/>
          <p:cNvPicPr/>
          <p:nvPr/>
        </p:nvPicPr>
        <p:blipFill>
          <a:blip r:embed="rId1"/>
          <a:stretch/>
        </p:blipFill>
        <p:spPr>
          <a:xfrm>
            <a:off x="3995640" y="1413000"/>
            <a:ext cx="4714920" cy="4628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2"/>
          <p:cNvSpPr/>
          <p:nvPr/>
        </p:nvSpPr>
        <p:spPr>
          <a:xfrm>
            <a:off x="6012000" y="2565360"/>
            <a:ext cx="911160" cy="771480"/>
          </a:xfrm>
          <a:custGeom>
            <a:avLst/>
            <a:gdLst>
              <a:gd name="textAreaLeft" fmla="*/ 342720 w 911160"/>
              <a:gd name="textAreaRight" fmla="*/ 568440 w 911160"/>
              <a:gd name="textAreaTop" fmla="*/ 290160 h 771480"/>
              <a:gd name="textAreaBottom" fmla="*/ 481320 h 771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3"/>
          <p:cNvSpPr/>
          <p:nvPr/>
        </p:nvSpPr>
        <p:spPr>
          <a:xfrm>
            <a:off x="900000" y="404640"/>
            <a:ext cx="1513080" cy="15843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4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2089080" cy="1812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7" descr=""/>
          <p:cNvPicPr/>
          <p:nvPr/>
        </p:nvPicPr>
        <p:blipFill>
          <a:blip r:embed="rId3"/>
          <a:stretch/>
        </p:blipFill>
        <p:spPr>
          <a:xfrm>
            <a:off x="1332000" y="3933720"/>
            <a:ext cx="2301840" cy="199728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38">
            <a:hlinkClick r:id="rId4" action="ppaction://hlinksldjump"/>
          </p:cNvPr>
          <p:cNvSpPr/>
          <p:nvPr/>
        </p:nvSpPr>
        <p:spPr>
          <a:xfrm>
            <a:off x="8317080" y="6093000"/>
            <a:ext cx="645840" cy="549000"/>
          </a:xfrm>
          <a:custGeom>
            <a:avLst/>
            <a:gdLst>
              <a:gd name="textAreaLeft" fmla="*/ 35280 w 645840"/>
              <a:gd name="textAreaRight" fmla="*/ 610560 w 64584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5408" h="21600">
                <a:moveTo>
                  <a:pt x="0" y="0"/>
                </a:moveTo>
                <a:lnTo>
                  <a:pt x="25408" y="0"/>
                </a:lnTo>
                <a:lnTo>
                  <a:pt x="25408" y="21600"/>
                </a:lnTo>
                <a:lnTo>
                  <a:pt x="0" y="21600"/>
                </a:lnTo>
                <a:close/>
              </a:path>
              <a:path fill="lightenLess" w="25408" h="21600">
                <a:moveTo>
                  <a:pt x="0" y="0"/>
                </a:moveTo>
                <a:lnTo>
                  <a:pt x="25408" y="0"/>
                </a:lnTo>
                <a:lnTo>
                  <a:pt x="24008" y="1400"/>
                </a:lnTo>
                <a:lnTo>
                  <a:pt x="1400" y="1400"/>
                </a:lnTo>
                <a:close/>
              </a:path>
              <a:path fill="darken" w="25408" h="21600">
                <a:moveTo>
                  <a:pt x="25408" y="0"/>
                </a:moveTo>
                <a:lnTo>
                  <a:pt x="25408" y="21600"/>
                </a:lnTo>
                <a:lnTo>
                  <a:pt x="24008" y="20200"/>
                </a:lnTo>
                <a:lnTo>
                  <a:pt x="24008" y="1400"/>
                </a:lnTo>
                <a:close/>
              </a:path>
              <a:path fill="darkenLess" w="25408" h="21600">
                <a:moveTo>
                  <a:pt x="25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8" y="20200"/>
                </a:lnTo>
                <a:close/>
              </a:path>
              <a:path fill="lighten" w="25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8" h="21600">
                <a:moveTo>
                  <a:pt x="12704" y="3837"/>
                </a:moveTo>
                <a:lnTo>
                  <a:pt x="15280" y="6448"/>
                </a:ln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lnTo>
                  <a:pt x="19667" y="10800"/>
                </a:lnTo>
                <a:lnTo>
                  <a:pt x="18013" y="10800"/>
                </a:lnTo>
                <a:lnTo>
                  <a:pt x="18013" y="17989"/>
                </a:lnTo>
                <a:lnTo>
                  <a:pt x="7395" y="17989"/>
                </a:lnTo>
                <a:lnTo>
                  <a:pt x="7395" y="10800"/>
                </a:lnTo>
                <a:lnTo>
                  <a:pt x="5741" y="10800"/>
                </a:lnTo>
                <a:close/>
              </a:path>
              <a:path fill="darkenLess" w="25408" h="21600">
                <a:moveTo>
                  <a:pt x="15280" y="6448"/>
                </a:move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close/>
              </a:path>
              <a:path fill="darkenLess" w="25408" h="21600">
                <a:moveTo>
                  <a:pt x="11781" y="14299"/>
                </a:moveTo>
                <a:lnTo>
                  <a:pt x="13626" y="14299"/>
                </a:lnTo>
                <a:lnTo>
                  <a:pt x="13626" y="17989"/>
                </a:lnTo>
                <a:lnTo>
                  <a:pt x="18013" y="17989"/>
                </a:lnTo>
                <a:lnTo>
                  <a:pt x="18013" y="10800"/>
                </a:lnTo>
                <a:lnTo>
                  <a:pt x="7395" y="10800"/>
                </a:lnTo>
                <a:lnTo>
                  <a:pt x="7395" y="17989"/>
                </a:lnTo>
                <a:lnTo>
                  <a:pt x="11781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Motion origin="layout" path="M -0.00087 -0.03029 L 0.00399 -0.06752 L 0.01215 -0.09596 L 0.02691 -0.11977 L 0.0434 -0.13735 L 0.05816 -0.14613 L 0.07778 -0.15052 L 0.09913 -0.15052 L 0.11545 -0.15052 L 0.13195 -0.14174 L 0.1467 -0.12856 L 0.16146 -0.10682 L 0.17292 -0.08486 L 0.18108 -0.0696 L 0.18438 -0.04347 L 0.18108 -0.01295 L 0.17622 0.01109 L -0.0026 0.34959 L 0.04497 0.31028 L 0.07118 0.29711 L 0.08924 0.29919 L 0.12691 0.34959 L 0.15156 0.33433 L 0.18438 0.29711 E">
                                      <p:cBhvr>
                                        <p:cTn id="57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5"/>
          <p:cNvSpPr/>
          <p:nvPr/>
        </p:nvSpPr>
        <p:spPr>
          <a:xfrm>
            <a:off x="421308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7" descr=""/>
          <p:cNvPicPr/>
          <p:nvPr/>
        </p:nvPicPr>
        <p:blipFill>
          <a:blip r:embed="rId1"/>
          <a:stretch/>
        </p:blipFill>
        <p:spPr>
          <a:xfrm>
            <a:off x="3492360" y="1197000"/>
            <a:ext cx="5146920" cy="47577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8"/>
          <p:cNvSpPr/>
          <p:nvPr/>
        </p:nvSpPr>
        <p:spPr>
          <a:xfrm rot="21046200">
            <a:off x="5437080" y="2205000"/>
            <a:ext cx="911160" cy="771480"/>
          </a:xfrm>
          <a:custGeom>
            <a:avLst/>
            <a:gdLst>
              <a:gd name="textAreaLeft" fmla="*/ 342720 w 911160"/>
              <a:gd name="textAreaRight" fmla="*/ 568440 w 911160"/>
              <a:gd name="textAreaTop" fmla="*/ 290160 h 771480"/>
              <a:gd name="textAreaBottom" fmla="*/ 481320 h 771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9" descr=""/>
          <p:cNvPicPr/>
          <p:nvPr/>
        </p:nvPicPr>
        <p:blipFill>
          <a:blip r:embed="rId2"/>
          <a:stretch/>
        </p:blipFill>
        <p:spPr>
          <a:xfrm>
            <a:off x="324000" y="4581360"/>
            <a:ext cx="1396800" cy="1440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0" descr=""/>
          <p:cNvPicPr/>
          <p:nvPr/>
        </p:nvPicPr>
        <p:blipFill>
          <a:blip r:embed="rId3"/>
          <a:stretch/>
        </p:blipFill>
        <p:spPr>
          <a:xfrm>
            <a:off x="468360" y="2205000"/>
            <a:ext cx="1257120" cy="1295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1" descr=""/>
          <p:cNvPicPr/>
          <p:nvPr/>
        </p:nvPicPr>
        <p:blipFill>
          <a:blip r:embed="rId4"/>
          <a:stretch/>
        </p:blipFill>
        <p:spPr>
          <a:xfrm>
            <a:off x="1908000" y="3284640"/>
            <a:ext cx="1573560" cy="16682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2"/>
          <p:cNvSpPr/>
          <p:nvPr/>
        </p:nvSpPr>
        <p:spPr>
          <a:xfrm>
            <a:off x="900000" y="404640"/>
            <a:ext cx="1513080" cy="15843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3">
            <a:hlinkClick r:id="rId5" action="ppaction://hlinksldjump"/>
          </p:cNvPr>
          <p:cNvSpPr/>
          <p:nvPr/>
        </p:nvSpPr>
        <p:spPr>
          <a:xfrm>
            <a:off x="8317080" y="6093000"/>
            <a:ext cx="645840" cy="549000"/>
          </a:xfrm>
          <a:custGeom>
            <a:avLst/>
            <a:gdLst>
              <a:gd name="textAreaLeft" fmla="*/ 35280 w 645840"/>
              <a:gd name="textAreaRight" fmla="*/ 610560 w 64584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5408" h="21600">
                <a:moveTo>
                  <a:pt x="0" y="0"/>
                </a:moveTo>
                <a:lnTo>
                  <a:pt x="25408" y="0"/>
                </a:lnTo>
                <a:lnTo>
                  <a:pt x="25408" y="21600"/>
                </a:lnTo>
                <a:lnTo>
                  <a:pt x="0" y="21600"/>
                </a:lnTo>
                <a:close/>
              </a:path>
              <a:path fill="lightenLess" w="25408" h="21600">
                <a:moveTo>
                  <a:pt x="0" y="0"/>
                </a:moveTo>
                <a:lnTo>
                  <a:pt x="25408" y="0"/>
                </a:lnTo>
                <a:lnTo>
                  <a:pt x="24008" y="1400"/>
                </a:lnTo>
                <a:lnTo>
                  <a:pt x="1400" y="1400"/>
                </a:lnTo>
                <a:close/>
              </a:path>
              <a:path fill="darken" w="25408" h="21600">
                <a:moveTo>
                  <a:pt x="25408" y="0"/>
                </a:moveTo>
                <a:lnTo>
                  <a:pt x="25408" y="21600"/>
                </a:lnTo>
                <a:lnTo>
                  <a:pt x="24008" y="20200"/>
                </a:lnTo>
                <a:lnTo>
                  <a:pt x="24008" y="1400"/>
                </a:lnTo>
                <a:close/>
              </a:path>
              <a:path fill="darkenLess" w="25408" h="21600">
                <a:moveTo>
                  <a:pt x="25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8" y="20200"/>
                </a:lnTo>
                <a:close/>
              </a:path>
              <a:path fill="lighten" w="25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8" h="21600">
                <a:moveTo>
                  <a:pt x="12704" y="3837"/>
                </a:moveTo>
                <a:lnTo>
                  <a:pt x="15280" y="6448"/>
                </a:ln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lnTo>
                  <a:pt x="19667" y="10800"/>
                </a:lnTo>
                <a:lnTo>
                  <a:pt x="18013" y="10800"/>
                </a:lnTo>
                <a:lnTo>
                  <a:pt x="18013" y="17989"/>
                </a:lnTo>
                <a:lnTo>
                  <a:pt x="7395" y="17989"/>
                </a:lnTo>
                <a:lnTo>
                  <a:pt x="7395" y="10800"/>
                </a:lnTo>
                <a:lnTo>
                  <a:pt x="5741" y="10800"/>
                </a:lnTo>
                <a:close/>
              </a:path>
              <a:path fill="darkenLess" w="25408" h="21600">
                <a:moveTo>
                  <a:pt x="15280" y="6448"/>
                </a:move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close/>
              </a:path>
              <a:path fill="darkenLess" w="25408" h="21600">
                <a:moveTo>
                  <a:pt x="11781" y="14299"/>
                </a:moveTo>
                <a:lnTo>
                  <a:pt x="13626" y="14299"/>
                </a:lnTo>
                <a:lnTo>
                  <a:pt x="13626" y="17989"/>
                </a:lnTo>
                <a:lnTo>
                  <a:pt x="18013" y="17989"/>
                </a:lnTo>
                <a:lnTo>
                  <a:pt x="18013" y="10800"/>
                </a:lnTo>
                <a:lnTo>
                  <a:pt x="7395" y="10800"/>
                </a:lnTo>
                <a:lnTo>
                  <a:pt x="7395" y="17989"/>
                </a:lnTo>
                <a:lnTo>
                  <a:pt x="11781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Motion origin="layout" path="M 0.00902 -0.01411 L 0.04184 -0.06451 L 0.06163 -0.08417 L 0.08281 -0.10151 L 0.10087 -0.11469 L 0.12378 -0.11908 L 0.15017 -0.11908 L 0.17795 -0.11469 L 0.19757 -0.10382 L 0.20902 -0.08625 L 0.21736 -0.06451 L 0.22066 -0.04255 L 0.21892 -0.02081 L 0.20416 0.0141 L 0.19114 0.03815 L 0.17309 0.0578 L 0.15017 0.07976 L 0.11232 0.09711 L 0.14027 0.10589 L 0.16319 0.12115 L 0.18281 0.13872 L 0.20416 0.17133 L 0.21562 0.20624 L 0.22222 0.24346 L 0.21892 0.26959 L 0.21406 0.30242 L 0.19444 0.33503 L 0.18281 0.35468 L 0.16493 0.36786 L 0.14687 0.38104 L 0.12708 0.38751 L 0.10902 0.38751 L 0.08941 0.38751 L 0.06979 0.38104 L 0.05503 0.36786 L 0.03698 0.35029 L 0.01562 0.33063 L -0.0007 0.30682 L -0.01059 0.28046 L -0.01059 0.25225 E">
                                      <p:cBhvr>
                                        <p:cTn id="88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8" descr=""/>
          <p:cNvPicPr/>
          <p:nvPr/>
        </p:nvPicPr>
        <p:blipFill>
          <a:blip r:embed="rId1"/>
          <a:stretch/>
        </p:blipFill>
        <p:spPr>
          <a:xfrm>
            <a:off x="3780000" y="1413000"/>
            <a:ext cx="4819320" cy="459108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19"/>
          <p:cNvSpPr/>
          <p:nvPr/>
        </p:nvSpPr>
        <p:spPr>
          <a:xfrm rot="1047600">
            <a:off x="6372360" y="1555920"/>
            <a:ext cx="911160" cy="771480"/>
          </a:xfrm>
          <a:custGeom>
            <a:avLst/>
            <a:gdLst>
              <a:gd name="textAreaLeft" fmla="*/ 342720 w 911160"/>
              <a:gd name="textAreaRight" fmla="*/ 568440 w 911160"/>
              <a:gd name="textAreaTop" fmla="*/ 290160 h 771480"/>
              <a:gd name="textAreaBottom" fmla="*/ 481320 h 771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1"/>
          <p:cNvSpPr/>
          <p:nvPr/>
        </p:nvSpPr>
        <p:spPr>
          <a:xfrm>
            <a:off x="826920" y="404640"/>
            <a:ext cx="1513080" cy="15843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7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942840" cy="1228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8" descr=""/>
          <p:cNvPicPr/>
          <p:nvPr/>
        </p:nvPicPr>
        <p:blipFill>
          <a:blip r:embed="rId3"/>
          <a:stretch/>
        </p:blipFill>
        <p:spPr>
          <a:xfrm>
            <a:off x="900000" y="3500280"/>
            <a:ext cx="943200" cy="1229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9" descr=""/>
          <p:cNvPicPr/>
          <p:nvPr/>
        </p:nvPicPr>
        <p:blipFill>
          <a:blip r:embed="rId4"/>
          <a:stretch/>
        </p:blipFill>
        <p:spPr>
          <a:xfrm>
            <a:off x="395280" y="4941720"/>
            <a:ext cx="942840" cy="1229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0" descr=""/>
          <p:cNvPicPr/>
          <p:nvPr/>
        </p:nvPicPr>
        <p:blipFill>
          <a:blip r:embed="rId5"/>
          <a:stretch/>
        </p:blipFill>
        <p:spPr>
          <a:xfrm>
            <a:off x="2484360" y="3429000"/>
            <a:ext cx="1209600" cy="143820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31">
            <a:hlinkClick r:id="rId6" action="ppaction://hlinksldjump"/>
          </p:cNvPr>
          <p:cNvSpPr/>
          <p:nvPr/>
        </p:nvSpPr>
        <p:spPr>
          <a:xfrm>
            <a:off x="8317080" y="6093000"/>
            <a:ext cx="645840" cy="549000"/>
          </a:xfrm>
          <a:custGeom>
            <a:avLst/>
            <a:gdLst>
              <a:gd name="textAreaLeft" fmla="*/ 35280 w 645840"/>
              <a:gd name="textAreaRight" fmla="*/ 610560 w 64584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5408" h="21600">
                <a:moveTo>
                  <a:pt x="0" y="0"/>
                </a:moveTo>
                <a:lnTo>
                  <a:pt x="25408" y="0"/>
                </a:lnTo>
                <a:lnTo>
                  <a:pt x="25408" y="21600"/>
                </a:lnTo>
                <a:lnTo>
                  <a:pt x="0" y="21600"/>
                </a:lnTo>
                <a:close/>
              </a:path>
              <a:path fill="lightenLess" w="25408" h="21600">
                <a:moveTo>
                  <a:pt x="0" y="0"/>
                </a:moveTo>
                <a:lnTo>
                  <a:pt x="25408" y="0"/>
                </a:lnTo>
                <a:lnTo>
                  <a:pt x="24008" y="1400"/>
                </a:lnTo>
                <a:lnTo>
                  <a:pt x="1400" y="1400"/>
                </a:lnTo>
                <a:close/>
              </a:path>
              <a:path fill="darken" w="25408" h="21600">
                <a:moveTo>
                  <a:pt x="25408" y="0"/>
                </a:moveTo>
                <a:lnTo>
                  <a:pt x="25408" y="21600"/>
                </a:lnTo>
                <a:lnTo>
                  <a:pt x="24008" y="20200"/>
                </a:lnTo>
                <a:lnTo>
                  <a:pt x="24008" y="1400"/>
                </a:lnTo>
                <a:close/>
              </a:path>
              <a:path fill="darkenLess" w="25408" h="21600">
                <a:moveTo>
                  <a:pt x="25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8" y="20200"/>
                </a:lnTo>
                <a:close/>
              </a:path>
              <a:path fill="lighten" w="25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8" h="21600">
                <a:moveTo>
                  <a:pt x="12704" y="3837"/>
                </a:moveTo>
                <a:lnTo>
                  <a:pt x="15280" y="6448"/>
                </a:ln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lnTo>
                  <a:pt x="19667" y="10800"/>
                </a:lnTo>
                <a:lnTo>
                  <a:pt x="18013" y="10800"/>
                </a:lnTo>
                <a:lnTo>
                  <a:pt x="18013" y="17989"/>
                </a:lnTo>
                <a:lnTo>
                  <a:pt x="7395" y="17989"/>
                </a:lnTo>
                <a:lnTo>
                  <a:pt x="7395" y="10800"/>
                </a:lnTo>
                <a:lnTo>
                  <a:pt x="5741" y="10800"/>
                </a:lnTo>
                <a:close/>
              </a:path>
              <a:path fill="darkenLess" w="25408" h="21600">
                <a:moveTo>
                  <a:pt x="15280" y="6448"/>
                </a:move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close/>
              </a:path>
              <a:path fill="darkenLess" w="25408" h="21600">
                <a:moveTo>
                  <a:pt x="11781" y="14299"/>
                </a:moveTo>
                <a:lnTo>
                  <a:pt x="13626" y="14299"/>
                </a:lnTo>
                <a:lnTo>
                  <a:pt x="13626" y="17989"/>
                </a:lnTo>
                <a:lnTo>
                  <a:pt x="18013" y="17989"/>
                </a:lnTo>
                <a:lnTo>
                  <a:pt x="18013" y="10800"/>
                </a:lnTo>
                <a:lnTo>
                  <a:pt x="7395" y="10800"/>
                </a:lnTo>
                <a:lnTo>
                  <a:pt x="7395" y="17989"/>
                </a:lnTo>
                <a:lnTo>
                  <a:pt x="11781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Motion origin="layout" path="M -1.94444E-006 -5.83815E-006 L -0.1 0.29248 L 0.07223 0.29248 E">
                                      <p:cBhvr>
                                        <p:cTn id="119" dur="5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Motion origin="layout" path="M 0.12865 0.12855 L 0.00087 0.51283 E">
                                      <p:cBhvr>
                                        <p:cTn id="122" dur="5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4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6" descr=""/>
          <p:cNvPicPr/>
          <p:nvPr/>
        </p:nvPicPr>
        <p:blipFill>
          <a:blip r:embed="rId1"/>
          <a:stretch/>
        </p:blipFill>
        <p:spPr>
          <a:xfrm>
            <a:off x="4067280" y="1413000"/>
            <a:ext cx="4611600" cy="46800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17"/>
          <p:cNvSpPr/>
          <p:nvPr/>
        </p:nvSpPr>
        <p:spPr>
          <a:xfrm rot="19861800">
            <a:off x="6443640" y="1483920"/>
            <a:ext cx="911160" cy="771480"/>
          </a:xfrm>
          <a:custGeom>
            <a:avLst/>
            <a:gdLst>
              <a:gd name="textAreaLeft" fmla="*/ 342720 w 911160"/>
              <a:gd name="textAreaRight" fmla="*/ 568440 w 911160"/>
              <a:gd name="textAreaTop" fmla="*/ 290160 h 771480"/>
              <a:gd name="textAreaBottom" fmla="*/ 481320 h 771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8"/>
          <p:cNvSpPr/>
          <p:nvPr/>
        </p:nvSpPr>
        <p:spPr>
          <a:xfrm>
            <a:off x="900000" y="404640"/>
            <a:ext cx="1513080" cy="15843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"/>
          <p:cNvPicPr/>
          <p:nvPr/>
        </p:nvPicPr>
        <p:blipFill>
          <a:blip r:embed="rId2"/>
          <a:stretch/>
        </p:blipFill>
        <p:spPr>
          <a:xfrm>
            <a:off x="1187280" y="2133720"/>
            <a:ext cx="1146240" cy="115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0" descr=""/>
          <p:cNvPicPr/>
          <p:nvPr/>
        </p:nvPicPr>
        <p:blipFill>
          <a:blip r:embed="rId3"/>
          <a:stretch/>
        </p:blipFill>
        <p:spPr>
          <a:xfrm>
            <a:off x="468360" y="4005360"/>
            <a:ext cx="1074600" cy="1082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"/>
          <p:cNvPicPr/>
          <p:nvPr/>
        </p:nvPicPr>
        <p:blipFill>
          <a:blip r:embed="rId4"/>
          <a:stretch/>
        </p:blipFill>
        <p:spPr>
          <a:xfrm>
            <a:off x="971640" y="4941720"/>
            <a:ext cx="1247760" cy="1256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"/>
          <p:cNvPicPr/>
          <p:nvPr/>
        </p:nvPicPr>
        <p:blipFill>
          <a:blip r:embed="rId5"/>
          <a:stretch/>
        </p:blipFill>
        <p:spPr>
          <a:xfrm>
            <a:off x="468360" y="2997360"/>
            <a:ext cx="1146240" cy="1152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3" descr=""/>
          <p:cNvPicPr/>
          <p:nvPr/>
        </p:nvPicPr>
        <p:blipFill>
          <a:blip r:embed="rId6"/>
          <a:stretch/>
        </p:blipFill>
        <p:spPr>
          <a:xfrm>
            <a:off x="2484360" y="3429000"/>
            <a:ext cx="1441440" cy="140508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24">
            <a:hlinkClick r:id="rId7" action="ppaction://hlinksldjump"/>
          </p:cNvPr>
          <p:cNvSpPr/>
          <p:nvPr/>
        </p:nvSpPr>
        <p:spPr>
          <a:xfrm>
            <a:off x="8317080" y="6165720"/>
            <a:ext cx="645840" cy="549360"/>
          </a:xfrm>
          <a:custGeom>
            <a:avLst/>
            <a:gdLst>
              <a:gd name="textAreaLeft" fmla="*/ 35280 w 645840"/>
              <a:gd name="textAreaRight" fmla="*/ 610560 w 6458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391" h="21600">
                <a:moveTo>
                  <a:pt x="0" y="0"/>
                </a:moveTo>
                <a:lnTo>
                  <a:pt x="25391" y="0"/>
                </a:lnTo>
                <a:lnTo>
                  <a:pt x="25391" y="21600"/>
                </a:lnTo>
                <a:lnTo>
                  <a:pt x="0" y="21600"/>
                </a:lnTo>
                <a:close/>
              </a:path>
              <a:path fill="lightenLess" w="25391" h="21600">
                <a:moveTo>
                  <a:pt x="0" y="0"/>
                </a:moveTo>
                <a:lnTo>
                  <a:pt x="25391" y="0"/>
                </a:lnTo>
                <a:lnTo>
                  <a:pt x="23991" y="1400"/>
                </a:lnTo>
                <a:lnTo>
                  <a:pt x="1400" y="1400"/>
                </a:lnTo>
                <a:close/>
              </a:path>
              <a:path fill="darken" w="25391" h="21600">
                <a:moveTo>
                  <a:pt x="25391" y="0"/>
                </a:moveTo>
                <a:lnTo>
                  <a:pt x="25391" y="21600"/>
                </a:lnTo>
                <a:lnTo>
                  <a:pt x="23991" y="20200"/>
                </a:lnTo>
                <a:lnTo>
                  <a:pt x="23991" y="1400"/>
                </a:lnTo>
                <a:close/>
              </a:path>
              <a:path fill="darkenLess" w="25391" h="21600">
                <a:moveTo>
                  <a:pt x="25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91" y="20200"/>
                </a:lnTo>
                <a:close/>
              </a:path>
              <a:path fill="lighten" w="25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91" h="21600">
                <a:moveTo>
                  <a:pt x="12695" y="3837"/>
                </a:moveTo>
                <a:lnTo>
                  <a:pt x="15272" y="6448"/>
                </a:lnTo>
                <a:lnTo>
                  <a:pt x="15272" y="4707"/>
                </a:lnTo>
                <a:lnTo>
                  <a:pt x="17047" y="4707"/>
                </a:lnTo>
                <a:lnTo>
                  <a:pt x="17047" y="8224"/>
                </a:lnTo>
                <a:lnTo>
                  <a:pt x="19658" y="10800"/>
                </a:lnTo>
                <a:lnTo>
                  <a:pt x="18005" y="10800"/>
                </a:lnTo>
                <a:lnTo>
                  <a:pt x="18005" y="17989"/>
                </a:lnTo>
                <a:lnTo>
                  <a:pt x="7386" y="17989"/>
                </a:lnTo>
                <a:lnTo>
                  <a:pt x="7386" y="10800"/>
                </a:lnTo>
                <a:lnTo>
                  <a:pt x="5733" y="10800"/>
                </a:lnTo>
                <a:close/>
              </a:path>
              <a:path fill="darkenLess" w="25391" h="21600">
                <a:moveTo>
                  <a:pt x="15272" y="6448"/>
                </a:moveTo>
                <a:lnTo>
                  <a:pt x="15272" y="4707"/>
                </a:lnTo>
                <a:lnTo>
                  <a:pt x="17047" y="4707"/>
                </a:lnTo>
                <a:lnTo>
                  <a:pt x="17047" y="8224"/>
                </a:lnTo>
                <a:close/>
              </a:path>
              <a:path fill="darkenLess" w="25391" h="21600">
                <a:moveTo>
                  <a:pt x="11773" y="14299"/>
                </a:moveTo>
                <a:lnTo>
                  <a:pt x="13618" y="14299"/>
                </a:lnTo>
                <a:lnTo>
                  <a:pt x="13618" y="17989"/>
                </a:lnTo>
                <a:lnTo>
                  <a:pt x="18005" y="17989"/>
                </a:lnTo>
                <a:lnTo>
                  <a:pt x="18005" y="10800"/>
                </a:lnTo>
                <a:lnTo>
                  <a:pt x="7386" y="10800"/>
                </a:lnTo>
                <a:lnTo>
                  <a:pt x="7386" y="17989"/>
                </a:lnTo>
                <a:lnTo>
                  <a:pt x="11773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Motion origin="layout" path="M -0.00034 0.00671 L -0.06267 0.24023 L -0.03472 0.20532 L -0.00694 0.18566 L 0.03091 0.17688 L 0.05868 0.18335 L 0.0882 0.19861 L 0.10139 0.21618 L 0.11615 0.24023 L 0.12587 0.26867 L 0.13403 0.30358 L 0.13403 0.3385 L 0.13247 0.36902 L 0.12431 0.40832 L 0.11112 0.44324 L 0.09306 0.47815 L 0.07518 0.4978 L 0.04879 0.51746 L 0.02587 0.52832 L 0.00782 0.53272 L -0.01336 0.53272 L -0.04948 0.51746 L -0.07239 0.49133 L -0.08385 0.46081 L -0.09704 0.43237 E">
                                      <p:cBhvr>
                                        <p:cTn id="153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Motion origin="layout" path="M -0.00243 0.00879 L 0.01563 0.02844 L 0.03855 0.0437 L 0.0599 0.05017 L 0.07952 0.05017 L 0.10087 0.03931 L 0.11893 0.02844 L 0.13195 0.00671 E">
                                      <p:cBhvr>
                                        <p:cTn id="166" dur="3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68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4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4667040" cy="46101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5"/>
          <p:cNvSpPr/>
          <p:nvPr/>
        </p:nvSpPr>
        <p:spPr>
          <a:xfrm>
            <a:off x="7812000" y="1846440"/>
            <a:ext cx="911160" cy="771480"/>
          </a:xfrm>
          <a:custGeom>
            <a:avLst/>
            <a:gdLst>
              <a:gd name="textAreaLeft" fmla="*/ 342720 w 911160"/>
              <a:gd name="textAreaRight" fmla="*/ 568440 w 911160"/>
              <a:gd name="textAreaTop" fmla="*/ 290160 h 771480"/>
              <a:gd name="textAreaBottom" fmla="*/ 481320 h 771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900000" y="404640"/>
            <a:ext cx="1513080" cy="15843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7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779400" cy="1224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0" descr=""/>
          <p:cNvPicPr/>
          <p:nvPr/>
        </p:nvPicPr>
        <p:blipFill>
          <a:blip r:embed="rId3"/>
          <a:stretch/>
        </p:blipFill>
        <p:spPr>
          <a:xfrm>
            <a:off x="1187280" y="2492280"/>
            <a:ext cx="779760" cy="1224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1" descr=""/>
          <p:cNvPicPr/>
          <p:nvPr/>
        </p:nvPicPr>
        <p:blipFill>
          <a:blip r:embed="rId4"/>
          <a:stretch/>
        </p:blipFill>
        <p:spPr>
          <a:xfrm>
            <a:off x="2050920" y="3141720"/>
            <a:ext cx="779760" cy="1224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2" descr=""/>
          <p:cNvPicPr/>
          <p:nvPr/>
        </p:nvPicPr>
        <p:blipFill>
          <a:blip r:embed="rId5"/>
          <a:stretch/>
        </p:blipFill>
        <p:spPr>
          <a:xfrm>
            <a:off x="1332000" y="4076640"/>
            <a:ext cx="779400" cy="1224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3" descr=""/>
          <p:cNvPicPr/>
          <p:nvPr/>
        </p:nvPicPr>
        <p:blipFill>
          <a:blip r:embed="rId6"/>
          <a:stretch/>
        </p:blipFill>
        <p:spPr>
          <a:xfrm>
            <a:off x="468360" y="4581360"/>
            <a:ext cx="779400" cy="122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4" descr=""/>
          <p:cNvPicPr/>
          <p:nvPr/>
        </p:nvPicPr>
        <p:blipFill>
          <a:blip r:embed="rId7"/>
          <a:stretch/>
        </p:blipFill>
        <p:spPr>
          <a:xfrm>
            <a:off x="3044880" y="4797360"/>
            <a:ext cx="896760" cy="14731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25">
            <a:hlinkClick r:id="rId8" action="ppaction://hlinksldjump"/>
          </p:cNvPr>
          <p:cNvSpPr/>
          <p:nvPr/>
        </p:nvSpPr>
        <p:spPr>
          <a:xfrm>
            <a:off x="8317080" y="6093000"/>
            <a:ext cx="645840" cy="549000"/>
          </a:xfrm>
          <a:custGeom>
            <a:avLst/>
            <a:gdLst>
              <a:gd name="textAreaLeft" fmla="*/ 35280 w 645840"/>
              <a:gd name="textAreaRight" fmla="*/ 610560 w 64584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5408" h="21600">
                <a:moveTo>
                  <a:pt x="0" y="0"/>
                </a:moveTo>
                <a:lnTo>
                  <a:pt x="25408" y="0"/>
                </a:lnTo>
                <a:lnTo>
                  <a:pt x="25408" y="21600"/>
                </a:lnTo>
                <a:lnTo>
                  <a:pt x="0" y="21600"/>
                </a:lnTo>
                <a:close/>
              </a:path>
              <a:path fill="lightenLess" w="25408" h="21600">
                <a:moveTo>
                  <a:pt x="0" y="0"/>
                </a:moveTo>
                <a:lnTo>
                  <a:pt x="25408" y="0"/>
                </a:lnTo>
                <a:lnTo>
                  <a:pt x="24008" y="1400"/>
                </a:lnTo>
                <a:lnTo>
                  <a:pt x="1400" y="1400"/>
                </a:lnTo>
                <a:close/>
              </a:path>
              <a:path fill="darken" w="25408" h="21600">
                <a:moveTo>
                  <a:pt x="25408" y="0"/>
                </a:moveTo>
                <a:lnTo>
                  <a:pt x="25408" y="21600"/>
                </a:lnTo>
                <a:lnTo>
                  <a:pt x="24008" y="20200"/>
                </a:lnTo>
                <a:lnTo>
                  <a:pt x="24008" y="1400"/>
                </a:lnTo>
                <a:close/>
              </a:path>
              <a:path fill="darkenLess" w="25408" h="21600">
                <a:moveTo>
                  <a:pt x="25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8" y="20200"/>
                </a:lnTo>
                <a:close/>
              </a:path>
              <a:path fill="lighten" w="25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8" h="21600">
                <a:moveTo>
                  <a:pt x="12704" y="3837"/>
                </a:moveTo>
                <a:lnTo>
                  <a:pt x="15280" y="6448"/>
                </a:ln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lnTo>
                  <a:pt x="19667" y="10800"/>
                </a:lnTo>
                <a:lnTo>
                  <a:pt x="18013" y="10800"/>
                </a:lnTo>
                <a:lnTo>
                  <a:pt x="18013" y="17989"/>
                </a:lnTo>
                <a:lnTo>
                  <a:pt x="7395" y="17989"/>
                </a:lnTo>
                <a:lnTo>
                  <a:pt x="7395" y="10800"/>
                </a:lnTo>
                <a:lnTo>
                  <a:pt x="5741" y="10800"/>
                </a:lnTo>
                <a:close/>
              </a:path>
              <a:path fill="darkenLess" w="25408" h="21600">
                <a:moveTo>
                  <a:pt x="15280" y="6448"/>
                </a:move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close/>
              </a:path>
              <a:path fill="darkenLess" w="25408" h="21600">
                <a:moveTo>
                  <a:pt x="11781" y="14299"/>
                </a:moveTo>
                <a:lnTo>
                  <a:pt x="13626" y="14299"/>
                </a:lnTo>
                <a:lnTo>
                  <a:pt x="13626" y="17989"/>
                </a:lnTo>
                <a:lnTo>
                  <a:pt x="18013" y="17989"/>
                </a:lnTo>
                <a:lnTo>
                  <a:pt x="18013" y="10800"/>
                </a:lnTo>
                <a:lnTo>
                  <a:pt x="7395" y="10800"/>
                </a:lnTo>
                <a:lnTo>
                  <a:pt x="7395" y="17989"/>
                </a:lnTo>
                <a:lnTo>
                  <a:pt x="11781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Motion origin="layout" path="M -4.44444E-006 -1.15607E-007 L -0.01302 -0.01965 L -0.02777 -0.03283 L -0.04583 -0.03931 L -0.05885 -0.0437 L -0.07204 -0.0437 L -0.09166 -0.0437 L -0.10816 -0.03491 L -0.12951 -0.01318 L -0.15399 0.01734 L -0.17691 0.06335 L -0.19496 0.11561 L -0.21302 0.19214 L -0.21961 0.27075 L -0.21631 0.3341 L -0.20486 0.38867 L -0.18194 0.42798 L -0.15399 0.44971 L -0.12777 0.4541 L -0.08836 0.44532 L -0.05399 0.42127 L -0.02951 0.38636 L -0.01475 0.34936 L -0.00156 0.30127 L 0.00174 0.28162 L 0.00174 0.24231 L -0.00972 0.19653 L -0.02291 0.17457 L -0.03767 0.15723 L -0.05243 0.13757 L -0.06718 0.13087 L -0.0901 0.12671 L -0.10642 0.12671 L -0.11631 0.12879 L -0.14253 0.14405 L -0.16059 0.15723 L -0.17864 0.17896 L -0.1934 0.20301 L -0.20816 0.24231 L -0.21788 0.27723 E">
                                      <p:cBhvr>
                                        <p:cTn id="197" dur="5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9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6" descr=""/>
          <p:cNvPicPr/>
          <p:nvPr/>
        </p:nvPicPr>
        <p:blipFill>
          <a:blip r:embed="rId1"/>
          <a:stretch/>
        </p:blipFill>
        <p:spPr>
          <a:xfrm>
            <a:off x="3851280" y="1484280"/>
            <a:ext cx="4809960" cy="45244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7"/>
          <p:cNvSpPr/>
          <p:nvPr/>
        </p:nvSpPr>
        <p:spPr>
          <a:xfrm rot="509400">
            <a:off x="5651280" y="2060640"/>
            <a:ext cx="911160" cy="771480"/>
          </a:xfrm>
          <a:custGeom>
            <a:avLst/>
            <a:gdLst>
              <a:gd name="textAreaLeft" fmla="*/ 342720 w 911160"/>
              <a:gd name="textAreaRight" fmla="*/ 568440 w 911160"/>
              <a:gd name="textAreaTop" fmla="*/ 290160 h 771480"/>
              <a:gd name="textAreaBottom" fmla="*/ 481320 h 771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1042920" y="404640"/>
            <a:ext cx="1513080" cy="15843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9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1079280" cy="1041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"/>
          <p:cNvPicPr/>
          <p:nvPr/>
        </p:nvPicPr>
        <p:blipFill>
          <a:blip r:embed="rId3"/>
          <a:stretch/>
        </p:blipFill>
        <p:spPr>
          <a:xfrm>
            <a:off x="1042920" y="2852640"/>
            <a:ext cx="1079640" cy="1041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"/>
          <p:cNvPicPr/>
          <p:nvPr/>
        </p:nvPicPr>
        <p:blipFill>
          <a:blip r:embed="rId4"/>
          <a:stretch/>
        </p:blipFill>
        <p:spPr>
          <a:xfrm>
            <a:off x="1835280" y="3716280"/>
            <a:ext cx="1079280" cy="1041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"/>
          <p:cNvPicPr/>
          <p:nvPr/>
        </p:nvPicPr>
        <p:blipFill>
          <a:blip r:embed="rId5"/>
          <a:stretch/>
        </p:blipFill>
        <p:spPr>
          <a:xfrm>
            <a:off x="900000" y="4508640"/>
            <a:ext cx="1079640" cy="1041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"/>
          <p:cNvPicPr/>
          <p:nvPr/>
        </p:nvPicPr>
        <p:blipFill>
          <a:blip r:embed="rId6"/>
          <a:stretch/>
        </p:blipFill>
        <p:spPr>
          <a:xfrm>
            <a:off x="179280" y="3860640"/>
            <a:ext cx="1079640" cy="1041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4" descr=""/>
          <p:cNvPicPr/>
          <p:nvPr/>
        </p:nvPicPr>
        <p:blipFill>
          <a:blip r:embed="rId7"/>
          <a:stretch/>
        </p:blipFill>
        <p:spPr>
          <a:xfrm>
            <a:off x="1763640" y="5084640"/>
            <a:ext cx="1079640" cy="1041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5" descr=""/>
          <p:cNvPicPr/>
          <p:nvPr/>
        </p:nvPicPr>
        <p:blipFill>
          <a:blip r:embed="rId8"/>
          <a:stretch/>
        </p:blipFill>
        <p:spPr>
          <a:xfrm>
            <a:off x="2484360" y="2133720"/>
            <a:ext cx="1314360" cy="123804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26">
            <a:hlinkClick r:id="rId9" action="ppaction://hlinksldjump"/>
          </p:cNvPr>
          <p:cNvSpPr/>
          <p:nvPr/>
        </p:nvSpPr>
        <p:spPr>
          <a:xfrm>
            <a:off x="8317080" y="6093000"/>
            <a:ext cx="645840" cy="549000"/>
          </a:xfrm>
          <a:custGeom>
            <a:avLst/>
            <a:gdLst>
              <a:gd name="textAreaLeft" fmla="*/ 35280 w 645840"/>
              <a:gd name="textAreaRight" fmla="*/ 610560 w 64584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5408" h="21600">
                <a:moveTo>
                  <a:pt x="0" y="0"/>
                </a:moveTo>
                <a:lnTo>
                  <a:pt x="25408" y="0"/>
                </a:lnTo>
                <a:lnTo>
                  <a:pt x="25408" y="21600"/>
                </a:lnTo>
                <a:lnTo>
                  <a:pt x="0" y="21600"/>
                </a:lnTo>
                <a:close/>
              </a:path>
              <a:path fill="lightenLess" w="25408" h="21600">
                <a:moveTo>
                  <a:pt x="0" y="0"/>
                </a:moveTo>
                <a:lnTo>
                  <a:pt x="25408" y="0"/>
                </a:lnTo>
                <a:lnTo>
                  <a:pt x="24008" y="1400"/>
                </a:lnTo>
                <a:lnTo>
                  <a:pt x="1400" y="1400"/>
                </a:lnTo>
                <a:close/>
              </a:path>
              <a:path fill="darken" w="25408" h="21600">
                <a:moveTo>
                  <a:pt x="25408" y="0"/>
                </a:moveTo>
                <a:lnTo>
                  <a:pt x="25408" y="21600"/>
                </a:lnTo>
                <a:lnTo>
                  <a:pt x="24008" y="20200"/>
                </a:lnTo>
                <a:lnTo>
                  <a:pt x="24008" y="1400"/>
                </a:lnTo>
                <a:close/>
              </a:path>
              <a:path fill="darkenLess" w="25408" h="21600">
                <a:moveTo>
                  <a:pt x="25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8" y="20200"/>
                </a:lnTo>
                <a:close/>
              </a:path>
              <a:path fill="lighten" w="25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8" h="21600">
                <a:moveTo>
                  <a:pt x="12704" y="3837"/>
                </a:moveTo>
                <a:lnTo>
                  <a:pt x="15280" y="6448"/>
                </a:ln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lnTo>
                  <a:pt x="19667" y="10800"/>
                </a:lnTo>
                <a:lnTo>
                  <a:pt x="18013" y="10800"/>
                </a:lnTo>
                <a:lnTo>
                  <a:pt x="18013" y="17989"/>
                </a:lnTo>
                <a:lnTo>
                  <a:pt x="7395" y="17989"/>
                </a:lnTo>
                <a:lnTo>
                  <a:pt x="7395" y="10800"/>
                </a:lnTo>
                <a:lnTo>
                  <a:pt x="5741" y="10800"/>
                </a:lnTo>
                <a:close/>
              </a:path>
              <a:path fill="darkenLess" w="25408" h="21600">
                <a:moveTo>
                  <a:pt x="15280" y="6448"/>
                </a:move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close/>
              </a:path>
              <a:path fill="darkenLess" w="25408" h="21600">
                <a:moveTo>
                  <a:pt x="11781" y="14299"/>
                </a:moveTo>
                <a:lnTo>
                  <a:pt x="13626" y="14299"/>
                </a:lnTo>
                <a:lnTo>
                  <a:pt x="13626" y="17989"/>
                </a:lnTo>
                <a:lnTo>
                  <a:pt x="18013" y="17989"/>
                </a:lnTo>
                <a:lnTo>
                  <a:pt x="18013" y="10800"/>
                </a:lnTo>
                <a:lnTo>
                  <a:pt x="7395" y="10800"/>
                </a:lnTo>
                <a:lnTo>
                  <a:pt x="7395" y="17989"/>
                </a:lnTo>
                <a:lnTo>
                  <a:pt x="11781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05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20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Motion origin="layout" path="M -2.5E-006 -3.2948E-006 L 0.07709 -0.06104 L 0.09827 -0.06335 L 0.11632 -0.05225 L 0.14757 -0.00439 L 0.16719 -0.00878 L 0.21146 -0.06335 L 0.00816 0.44116 E">
                                      <p:cBhvr>
                                        <p:cTn id="228" dur="5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Motion origin="layout" path="M 0.06042 0.18497 L 0.17066 0.18497 E">
                                      <p:cBhvr>
                                        <p:cTn id="241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43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08:47:43Z</dcterms:created>
  <dc:creator>1</dc:creator>
  <dc:description/>
  <dc:language>en-US</dc:language>
  <cp:lastModifiedBy>larisa</cp:lastModifiedBy>
  <dcterms:modified xsi:type="dcterms:W3CDTF">2013-03-26T12:16:35Z</dcterms:modified>
  <cp:revision>195</cp:revision>
  <dc:subject/>
  <dc:title>Слайд 1</dc:title>
</cp:coreProperties>
</file>