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BCA-2DAC-4DA3-8D32-7BB84B6F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CEA-CE10-47D5-A346-548D00F2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CB5-CB15-44A5-AB60-5E6B17BC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C0D-1592-4139-A685-DAE8C21B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452-FC9A-44D8-9FD8-1BDB88E9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21D-BA1F-4C58-AA20-31D6C829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AFB-E7C4-4C61-B72D-FCBA447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F8E-A784-4F6E-8356-779A649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DDE-00D1-44FF-96A9-1B82D71D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A3C-9511-4BE7-AB03-07D6559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3EB-89E1-4F76-A808-0F9F9FA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957-113A-4382-9D70-C6BAAEE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F0F5-3C53-40C9-8F7E-11697653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0629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Как путешествует письм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6928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3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271880" cy="129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804000" y="1989000"/>
            <a:ext cx="1366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403280" y="4149720"/>
            <a:ext cx="129708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059280" y="2852640"/>
            <a:ext cx="1341360" cy="136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384280" cy="333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80000" y="3645000"/>
            <a:ext cx="3095640" cy="234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404640"/>
            <a:ext cx="3095640" cy="27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529080" y="4005360"/>
            <a:ext cx="156060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132000" y="1197000"/>
            <a:ext cx="2016360" cy="12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-295200" y="3716280"/>
            <a:ext cx="318600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2136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135640" cy="224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7921440" cy="2744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427640" cy="3182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7080" cy="329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24000" y="3475080"/>
            <a:ext cx="4824360" cy="338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3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476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127188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003640" y="2421000"/>
            <a:ext cx="127008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368360" cy="1341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804000" y="1989000"/>
            <a:ext cx="1366920" cy="1279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403280" y="4149720"/>
            <a:ext cx="129708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059280" y="2852640"/>
            <a:ext cx="1341360" cy="1368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07:01Z</dcterms:created>
  <dc:creator>Директор</dc:creator>
  <dc:description/>
  <dc:language>en-US</dc:language>
  <cp:lastModifiedBy>Директор</cp:lastModifiedBy>
  <dcterms:modified xsi:type="dcterms:W3CDTF">2008-12-03T07:35:33Z</dcterms:modified>
  <cp:revision>7</cp:revision>
  <dc:subject/>
  <dc:title>Как путешествует письмо?</dc:title>
</cp:coreProperties>
</file>