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68C-0168-45CF-A7AC-6E939D4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24D-C2C2-41D8-8467-8EDAAA2D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03D-6AA8-4F87-8416-46DE1A74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5A6-F0FC-4065-AF00-7D144800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37F-5DF1-4AB9-A74F-815FD92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839-0B24-466F-BE38-9465ECBC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75A-F2A6-4493-96CA-EBB5050F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741-A591-4148-98B8-9773E67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111-7AD3-4AF8-AD55-D072E0F9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BEF-BD5F-4EBA-AA15-DE1F89DB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308-D765-46A7-8D8C-F51ADDA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E9D-DE4C-4D63-BEBB-73A81FE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581-1155-41F7-8CBE-12046B04A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62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Как путешествует письм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69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3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271880" cy="129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804000" y="1989000"/>
            <a:ext cx="1366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403280" y="4149720"/>
            <a:ext cx="129708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059280" y="2852640"/>
            <a:ext cx="1341360" cy="136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384280" cy="333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3645000"/>
            <a:ext cx="3095640" cy="234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3095640" cy="27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29080" y="4005360"/>
            <a:ext cx="156060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132000" y="1197000"/>
            <a:ext cx="2016360" cy="12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-295200" y="3716280"/>
            <a:ext cx="318600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2136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135640" cy="224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7921440" cy="2744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3182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7080" cy="329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24000" y="3475080"/>
            <a:ext cx="4824360" cy="338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3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27188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804000" y="1989000"/>
            <a:ext cx="1366920" cy="1279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403280" y="4149720"/>
            <a:ext cx="129708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059280" y="2852640"/>
            <a:ext cx="1341360" cy="136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07:01Z</dcterms:created>
  <dc:creator>Директор</dc:creator>
  <dc:description/>
  <dc:language>en-US</dc:language>
  <cp:lastModifiedBy>Директор</cp:lastModifiedBy>
  <dcterms:modified xsi:type="dcterms:W3CDTF">2008-12-03T07:35:33Z</dcterms:modified>
  <cp:revision>7</cp:revision>
  <dc:subject/>
  <dc:title>Как путешествует письмо?</dc:title>
</cp:coreProperties>
</file>