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FA6-C996-481C-BD0E-595FD393D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FD2E-BD71-4EEA-A614-CD61E70FB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0A6-FB5B-4075-B75D-0F52D833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EA6-F3FA-4EE8-AD48-A6206034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190-85AC-499B-AC35-A4C9D989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B02-0D71-4292-8E30-4FD1BBA8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3D5-75CD-42A0-B27A-8A78AB1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43A-BFF7-49EC-8C51-6E8B28E6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D40-8867-4528-A582-D572AE1D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C9D-2858-4AE9-87A3-BFABA83A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492-F934-4474-AF24-26EF6EDE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1AB-A5F3-4C36-ADB2-BCA2148E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FC9-2589-4115-BEA8-47E8F34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5D2-5567-4A8C-BB93-E176D1F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D16C-A687-4ECB-94CC-06E2404C9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295280" y="2133720"/>
            <a:ext cx="6553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КАВКАЗ  ПОДО  МНОЮ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7010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Бештау"/>
          <p:cNvPicPr/>
          <p:nvPr/>
        </p:nvPicPr>
        <p:blipFill>
          <a:blip r:embed="rId1"/>
          <a:stretch/>
        </p:blipFill>
        <p:spPr>
          <a:xfrm>
            <a:off x="0" y="533520"/>
            <a:ext cx="5334120" cy="3962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гора Машук"/>
          <p:cNvPicPr/>
          <p:nvPr/>
        </p:nvPicPr>
        <p:blipFill>
          <a:blip r:embed="rId3"/>
          <a:stretch/>
        </p:blipFill>
        <p:spPr>
          <a:xfrm>
            <a:off x="4114800" y="3314880"/>
            <a:ext cx="5029200" cy="354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07440" y="40384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. Беш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79328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Маш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4572000"/>
            <a:ext cx="405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акколит - куполообразная форма залегания магматических горных пород, образующаяся при внедрении магмы между слоями осадочных п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86400" y="1676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 стыке хребтов  Центрального Кавказа с предгорьями образовались лакк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906200" y="304920"/>
            <a:ext cx="3126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ашук"/>
          <p:cNvPicPr/>
          <p:nvPr/>
        </p:nvPicPr>
        <p:blipFill>
          <a:blip r:embed="rId2"/>
          <a:stretch/>
        </p:blipFill>
        <p:spPr>
          <a:xfrm>
            <a:off x="0" y="1143000"/>
            <a:ext cx="586728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место дуэли лермонтова"/>
          <p:cNvPicPr/>
          <p:nvPr/>
        </p:nvPicPr>
        <p:blipFill>
          <a:blip r:embed="rId3"/>
          <a:stretch/>
        </p:blipFill>
        <p:spPr>
          <a:xfrm>
            <a:off x="5600880" y="213372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685800" y="548640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1841 году на склоне горы Машук, близ Пятигорска, во время  дуэли был убит 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4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Эльбрус"/>
          <p:cNvPicPr/>
          <p:nvPr/>
        </p:nvPicPr>
        <p:blipFill>
          <a:blip r:embed="rId1"/>
          <a:stretch/>
        </p:blipFill>
        <p:spPr>
          <a:xfrm>
            <a:off x="4495680" y="329400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73080_45ca89c6"/>
          <p:cNvPicPr/>
          <p:nvPr/>
        </p:nvPicPr>
        <p:blipFill>
          <a:blip r:embed="rId3"/>
          <a:stretch/>
        </p:blipFill>
        <p:spPr>
          <a:xfrm>
            <a:off x="0" y="1371600"/>
            <a:ext cx="4724280" cy="3505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800600" y="1461240"/>
            <a:ext cx="3962520" cy="189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ctr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 какую высоту поднимаются  горные хребты  Большого Кав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чебник стр. 163, рис.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5333040"/>
            <a:ext cx="3809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нести на контурную карту г. Эльбрус (5642 м) и определить её коорди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45760" y="228600"/>
            <a:ext cx="4060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БОТА  С  УЧЕБ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  КОНТУРНОЙ  КА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8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3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424621_939ff6cf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8200" y="380880"/>
            <a:ext cx="3884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ВУГЛАВЫЙ   ЭЛЬБ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413240" y="4341960"/>
            <a:ext cx="41446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 вдалеке перед т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еты голубым тума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а вздымалась над горой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 сонме их гигант двугла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жасною и велич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м всё блистает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А. Жу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обвал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666880" y="6324480"/>
            <a:ext cx="2014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вал в г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754640" y="304920"/>
            <a:ext cx="328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ВЛЕНИЯ  В  Г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пятигорск"/>
          <p:cNvPicPr/>
          <p:nvPr/>
        </p:nvPicPr>
        <p:blipFill>
          <a:blip r:embed="rId1"/>
          <a:srcRect l="0" t="0" r="-40" b="0"/>
          <a:stretch/>
        </p:blipFill>
        <p:spPr>
          <a:xfrm>
            <a:off x="0" y="11430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Кисловодск_"/>
          <p:cNvPicPr/>
          <p:nvPr/>
        </p:nvPicPr>
        <p:blipFill>
          <a:blip r:embed="rId2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256658152"/>
          <p:cNvPicPr/>
          <p:nvPr/>
        </p:nvPicPr>
        <p:blipFill>
          <a:blip r:embed="rId4"/>
          <a:stretch/>
        </p:blipFill>
        <p:spPr>
          <a:xfrm>
            <a:off x="4419720" y="1371600"/>
            <a:ext cx="2666880" cy="25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53330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семирную известность имеют Кавказские минеральные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medium_157682_0"/>
          <p:cNvPicPr/>
          <p:nvPr/>
        </p:nvPicPr>
        <p:blipFill>
          <a:blip r:embed="rId5"/>
          <a:stretch/>
        </p:blipFill>
        <p:spPr>
          <a:xfrm>
            <a:off x="7467480" y="1447920"/>
            <a:ext cx="136548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218680" y="16765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яти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53080" y="632448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исловод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144440" y="380880"/>
            <a:ext cx="4395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0760" y="380880"/>
            <a:ext cx="707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ВКАЗ В ТВОРЧЕСТВЕ  М.Ю. 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лермонтов вид пятигорска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52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лермонтов эльбрус"/>
          <p:cNvPicPr/>
          <p:nvPr/>
        </p:nvPicPr>
        <p:blipFill>
          <a:blip r:embed="rId3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28600" y="4950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оры навсегда покорили сердце поэта своей могучей красотой и величеств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25000" y="61722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  Вид 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60" y="434340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  Вид на гору 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фён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6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ён - теплый и сухой стоковый ветер, часто сильный, порывистый, дующий с гор в подветренные до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бора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2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44792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ра  -  холодный  порывистый  ветер, с  огромной силой  обрушивается  с  гор   на  до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терек на равнине"/>
          <p:cNvPicPr/>
          <p:nvPr/>
        </p:nvPicPr>
        <p:blipFill>
          <a:blip r:embed="rId1"/>
          <a:stretch/>
        </p:blipFill>
        <p:spPr>
          <a:xfrm>
            <a:off x="4114800" y="2629080"/>
            <a:ext cx="5029200" cy="42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терек"/>
          <p:cNvPicPr/>
          <p:nvPr/>
        </p:nvPicPr>
        <p:blipFill>
          <a:blip r:embed="rId2"/>
          <a:stretch/>
        </p:blipFill>
        <p:spPr>
          <a:xfrm>
            <a:off x="0" y="838080"/>
            <a:ext cx="4800600" cy="389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983960" y="30492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КИ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16840" y="167652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рек в верх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792400" y="6248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рек в ниж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5105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ерек воет дик и зло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еж утёсистых равн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уре бег его подоб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609480" y="1295280"/>
            <a:ext cx="7848720" cy="266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8080" y="1752480"/>
            <a:ext cx="7239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здать образ  Кавказских  гор, используя  географические  карты,  учебник, художественные 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64832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28600" y="4419720"/>
            <a:ext cx="40384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собенности ГП, рельефа, историю формирования территории, высотной поясности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724280" y="4267080"/>
            <a:ext cx="4419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нализировать, сравнивать, делать вывод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ботать с географическими и контурной картами, художественными произвед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img011"/>
          <p:cNvPicPr/>
          <p:nvPr/>
        </p:nvPicPr>
        <p:blipFill>
          <a:blip r:embed="rId1">
            <a:lum bright="12000"/>
          </a:blip>
          <a:srcRect l="0" t="0" r="563" b="39528"/>
          <a:stretch/>
        </p:blipFill>
        <p:spPr>
          <a:xfrm>
            <a:off x="838080" y="1143000"/>
            <a:ext cx="501192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40240" y="22860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mg011"/>
          <p:cNvPicPr/>
          <p:nvPr/>
        </p:nvPicPr>
        <p:blipFill>
          <a:blip r:embed="rId3">
            <a:lum bright="12000"/>
          </a:blip>
          <a:srcRect l="7927" t="59651" r="-40" b="0"/>
          <a:stretch/>
        </p:blipFill>
        <p:spPr>
          <a:xfrm>
            <a:off x="5867280" y="435456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5943600" y="1904040"/>
            <a:ext cx="2819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горах Большого Кавказа отчётливо выражена высотная пояс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327858_1e13d338"/>
          <p:cNvPicPr/>
          <p:nvPr/>
        </p:nvPicPr>
        <p:blipFill>
          <a:blip r:embed="rId1"/>
          <a:stretch/>
        </p:blipFill>
        <p:spPr>
          <a:xfrm>
            <a:off x="914400" y="1330200"/>
            <a:ext cx="8001000" cy="5527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602360" y="6248520"/>
            <a:ext cx="161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сной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в предгорье "/>
          <p:cNvPicPr/>
          <p:nvPr/>
        </p:nvPicPr>
        <p:blipFill>
          <a:blip r:embed="rId2"/>
          <a:stretch/>
        </p:blipFill>
        <p:spPr>
          <a:xfrm>
            <a:off x="914400" y="12193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6934320" y="6324480"/>
            <a:ext cx="153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буковая роща_19"/>
          <p:cNvPicPr/>
          <p:nvPr/>
        </p:nvPicPr>
        <p:blipFill>
          <a:blip r:embed="rId3"/>
          <a:stretch/>
        </p:blipFill>
        <p:spPr>
          <a:xfrm>
            <a:off x="838080" y="14479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450080" y="6247800"/>
            <a:ext cx="181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овые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елово-пихтовый лес_"/>
          <p:cNvPicPr/>
          <p:nvPr/>
        </p:nvPicPr>
        <p:blipFill>
          <a:blip r:embed="rId4"/>
          <a:stretch/>
        </p:blipFill>
        <p:spPr>
          <a:xfrm>
            <a:off x="838080" y="1195560"/>
            <a:ext cx="8153640" cy="5662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5640480" y="6248520"/>
            <a:ext cx="262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лово-пихтов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rododendron1"/>
          <p:cNvPicPr/>
          <p:nvPr/>
        </p:nvPicPr>
        <p:blipFill>
          <a:blip r:embed="rId5"/>
          <a:stretch/>
        </p:blipFill>
        <p:spPr>
          <a:xfrm>
            <a:off x="838080" y="0"/>
            <a:ext cx="8153640" cy="684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3"/>
          <p:cNvPicPr/>
          <p:nvPr/>
        </p:nvPicPr>
        <p:blipFill>
          <a:blip r:embed="rId6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1371960" y="6247800"/>
            <a:ext cx="7278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бальпийские луга с зарослями кавказского рододенд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4280" y="30492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2" descr="195284_bfc75b6f"/>
          <p:cNvPicPr/>
          <p:nvPr/>
        </p:nvPicPr>
        <p:blipFill>
          <a:blip r:embed="rId7"/>
          <a:stretch/>
        </p:blipFill>
        <p:spPr>
          <a:xfrm>
            <a:off x="762120" y="1406520"/>
            <a:ext cx="8229600" cy="545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9"/>
          <p:cNvSpPr/>
          <p:nvPr/>
        </p:nvSpPr>
        <p:spPr>
          <a:xfrm>
            <a:off x="1753920" y="6247800"/>
            <a:ext cx="3943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зкотравные альпийские л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4" descr="1256156999_10c83f13cc787ba02af7f7d2f6fd3"/>
          <p:cNvPicPr/>
          <p:nvPr/>
        </p:nvPicPr>
        <p:blipFill>
          <a:blip r:embed="rId8"/>
          <a:stretch/>
        </p:blipFill>
        <p:spPr>
          <a:xfrm>
            <a:off x="762120" y="1414440"/>
            <a:ext cx="8229600" cy="5443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1"/>
          <p:cNvSpPr/>
          <p:nvPr/>
        </p:nvSpPr>
        <p:spPr>
          <a:xfrm>
            <a:off x="912600" y="6247800"/>
            <a:ext cx="529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сокогорный пояс снежников  и лед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3880" y="228600"/>
            <a:ext cx="3871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pushkin1"/>
          <p:cNvPicPr/>
          <p:nvPr/>
        </p:nvPicPr>
        <p:blipFill>
          <a:blip r:embed="rId2"/>
          <a:stretch/>
        </p:blipFill>
        <p:spPr>
          <a:xfrm>
            <a:off x="2971800" y="2768760"/>
            <a:ext cx="6172200" cy="40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рукопись Кавказского пленника jpg"/>
          <p:cNvPicPr/>
          <p:nvPr/>
        </p:nvPicPr>
        <p:blipFill>
          <a:blip r:embed="rId3"/>
          <a:stretch/>
        </p:blipFill>
        <p:spPr>
          <a:xfrm>
            <a:off x="685800" y="1447920"/>
            <a:ext cx="2787480" cy="3468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4098960" y="1636560"/>
            <a:ext cx="4587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вказские  впечатления                   А.С.  Пушкина служили  темами  для  многих  его 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8160" y="6248520"/>
            <a:ext cx="2354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ушкин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52280" y="5029200"/>
            <a:ext cx="2743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укопись  поэмы       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авказский пленник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84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Lermontov дом в Пятигорске"/>
          <p:cNvPicPr/>
          <p:nvPr/>
        </p:nvPicPr>
        <p:blipFill>
          <a:blip r:embed="rId1"/>
          <a:stretch/>
        </p:blipFill>
        <p:spPr>
          <a:xfrm>
            <a:off x="0" y="137160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лермонтов на Кавказе 1837г"/>
          <p:cNvPicPr/>
          <p:nvPr/>
        </p:nvPicPr>
        <p:blipFill>
          <a:blip r:embed="rId2"/>
          <a:srcRect l="0" t="0" r="0" b="-14"/>
          <a:stretch/>
        </p:blipFill>
        <p:spPr>
          <a:xfrm>
            <a:off x="4924440" y="1676520"/>
            <a:ext cx="407196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609480" y="228600"/>
            <a:ext cx="5257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. Ю. ЛЕРМОНТО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6960" y="6324480"/>
            <a:ext cx="281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рмонтов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5105520"/>
            <a:ext cx="47242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рода Кавказа приковала внимание Лермонтова, он готов был «целую жизнь» сидеть и любоваться её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4240" y="4343400"/>
            <a:ext cx="4262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мик  Лермонтова  в Пятигор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991398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290320" y="228600"/>
            <a:ext cx="259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ЛАН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0640" y="1905120"/>
            <a:ext cx="644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ВЕРКА  ДОМАШНЕГО 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ЕОГРАФИЧЕСКОЕ  ПОЛОЖЕНИ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 ИСТОРИЯ  ОБРАЗОВАНИЯ,  РЕЛЬЕ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ЛЕЗНЫЕ ИСКОПАЕМЫ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ЛИМАТ, 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ЫСОТНАЯ ПОЯСНОСТЬ В ГОРАХ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ЭТЫ  О  ПРИРОД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ТОГИ 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76400" y="1752480"/>
            <a:ext cx="670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РОВЕРКА  ДОМАШНЕГО 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58960" y="2666880"/>
            <a:ext cx="5276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ЧТО  ТАКОЕ?    КТО 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5360" y="35053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АЛДАЙ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840" y="4191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ИВАЧ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ИЖ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64640" y="55627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ЛИГЕР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45200" y="35053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ЛГ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344480" y="4191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ЕРСМАН А.Е.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68880" y="49528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АРЦИАЛЬНЫЕ  ВОД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419720" y="56386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АРАНЬИ  ЛБ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normal_kavkaz_rocks_001"/>
          <p:cNvPicPr/>
          <p:nvPr/>
        </p:nvPicPr>
        <p:blipFill>
          <a:blip r:embed="rId1"/>
          <a:stretch/>
        </p:blipFill>
        <p:spPr>
          <a:xfrm>
            <a:off x="6095880" y="1676520"/>
            <a:ext cx="2884680" cy="37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виноград"/>
          <p:cNvPicPr/>
          <p:nvPr/>
        </p:nvPicPr>
        <p:blipFill>
          <a:blip r:embed="rId2"/>
          <a:stretch/>
        </p:blipFill>
        <p:spPr>
          <a:xfrm>
            <a:off x="2819520" y="2590920"/>
            <a:ext cx="396216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505320" y="5867280"/>
            <a:ext cx="563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а  Кавказа  разнообразна          и  необычайно 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5"/>
          <p:cNvPicPr/>
          <p:nvPr/>
        </p:nvPicPr>
        <p:blipFill>
          <a:blip r:embed="rId4"/>
          <a:srcRect l="0" t="0" r="-30" b="48"/>
          <a:stretch/>
        </p:blipFill>
        <p:spPr>
          <a:xfrm>
            <a:off x="1981080" y="0"/>
            <a:ext cx="3422880" cy="28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eshersky_9"/>
          <p:cNvPicPr/>
          <p:nvPr/>
        </p:nvPicPr>
        <p:blipFill>
          <a:blip r:embed="rId5"/>
          <a:stretch/>
        </p:blipFill>
        <p:spPr>
          <a:xfrm>
            <a:off x="0" y="274320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304920" y="-91440"/>
            <a:ext cx="3733560" cy="216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ие горы Кавказа,                                                                                            Приветствую в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11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068480" y="304920"/>
            <a:ext cx="53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ГЕОГРАФИЧЕСКОЕ 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10"/>
          <p:cNvPicPr/>
          <p:nvPr/>
        </p:nvPicPr>
        <p:blipFill>
          <a:blip r:embed="rId1">
            <a:lum bright="12000"/>
          </a:blip>
          <a:srcRect l="0" t="0" r="-6" b="-6"/>
          <a:stretch/>
        </p:blipFill>
        <p:spPr>
          <a:xfrm>
            <a:off x="3276720" y="1295280"/>
            <a:ext cx="563868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52280" y="4952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к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кие природные комплексы выделяют на Кавка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30760" y="457200"/>
            <a:ext cx="599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КОМПЛЕКС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геологическое строение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219151805_kavkaz-2"/>
          <p:cNvPicPr/>
          <p:nvPr/>
        </p:nvPicPr>
        <p:blipFill>
          <a:blip r:embed="rId3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16002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ЕОЛОГИЧЕСКОЕ 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уэста"/>
          <p:cNvPicPr/>
          <p:nvPr/>
        </p:nvPicPr>
        <p:blipFill>
          <a:blip r:embed="rId1"/>
          <a:srcRect l="0" t="0" r="0" b="-30"/>
          <a:stretch/>
        </p:blipFill>
        <p:spPr>
          <a:xfrm>
            <a:off x="0" y="3808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уэ́сты (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сп. cuesta — откос, склон гор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 — форма рельефа в виде вытянутых гряд с ассиметричными склонами: пологим и кру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1280" y="304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3-19T09:39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