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B39-077C-4B88-82D1-C71FFB58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8E0-FA8C-4D9B-9556-FC563C2B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F86-B9A9-4FB9-AC78-DAC13935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E10-27A0-41E7-91E8-6DFD25BB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204-BE9E-4464-A71D-56B22976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22A1-9561-42A5-8160-01F85281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0EE-E42F-4380-9824-E7FC016D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EB6-0715-40DD-884D-0E3884A4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7D7-BF5A-4CAC-B0E4-F05DA54F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E70A-2FAB-4FA1-90CD-14EE6A87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AB61-AF29-4A0E-A24E-D71704CC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489-1EA2-46CF-959C-B7DF9B92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8CE4-86D7-4560-AAE2-76B316956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Клуб «Здоровые люд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Без привычек вредных жить на                   свете здорово!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2905200"/>
            <a:ext cx="46087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684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Выбор за тобой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95560" y="1600200"/>
            <a:ext cx="5140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35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09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705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447840"/>
            <a:ext cx="734544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6191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537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63640" y="620640"/>
            <a:ext cx="7740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03:08:18Z</dcterms:created>
  <dc:creator>aaa</dc:creator>
  <dc:description/>
  <dc:language>en-US</dc:language>
  <cp:lastModifiedBy>aaa</cp:lastModifiedBy>
  <dcterms:modified xsi:type="dcterms:W3CDTF">2012-11-29T08:26:37Z</dcterms:modified>
  <cp:revision>3</cp:revision>
  <dc:subject/>
  <dc:title>Клуб «Здоровые люди»</dc:title>
</cp:coreProperties>
</file>