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739-784D-474E-A6B8-E38D70D9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6CC-45F1-43C6-BA0F-ADD0D3C4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00C-6D82-466F-A241-C0314CCD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311-438A-43BA-834B-878BA46D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B67-2C12-49B3-8DEA-A29821A0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93D-FF05-4A50-AA8B-FF92B24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CEC-70A5-4009-A81B-1F331D7E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892-E85B-49A7-AFC5-B14B9FD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F56-FA31-4026-AA21-3E8698B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0CE-6B68-4D2F-8B65-25EBC0D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E02-A7FD-4E8F-94C1-E115F79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FC4-9AC8-4667-BA12-9C07B4E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E9C-D4AA-42BF-909C-D109902C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Клуб «Здоровые люд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Без привычек вредных жить на                   свете здорово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2905200"/>
            <a:ext cx="4608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Выбор за тобой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95560" y="1600200"/>
            <a:ext cx="514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9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447840"/>
            <a:ext cx="734544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537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3640" y="620640"/>
            <a:ext cx="7740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3:08:18Z</dcterms:created>
  <dc:creator>aaa</dc:creator>
  <dc:description/>
  <dc:language>en-US</dc:language>
  <cp:lastModifiedBy>aaa</cp:lastModifiedBy>
  <dcterms:modified xsi:type="dcterms:W3CDTF">2012-11-29T08:26:37Z</dcterms:modified>
  <cp:revision>3</cp:revision>
  <dc:subject/>
  <dc:title>Клуб «Здоровые люди»</dc:title>
</cp:coreProperties>
</file>