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588-E6D7-4B08-A706-DFFB7203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720-DC16-42AB-82EF-675A8852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D19-435E-4056-88B1-1ECC5EA2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E82-1533-4198-9B51-27A45F50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65D4-56CE-45C3-82B2-174BC7F6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C5FF-D203-4D42-9289-A08A4F43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3AE5-40BF-4740-BC6D-F8C9C3FB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6D92-A84A-47E0-9431-6D7B5BD7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7E09-F4BA-4EDB-9FBC-DD4D7FF1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63CD-EDF9-40B8-BE56-D38C97D2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57E9-0F86-4A29-BFB0-48C9CA24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0DA-20D2-49D4-B92F-B81EB02D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D323-432C-45A6-9391-E3E72B67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F898-B44A-44B9-8FD6-9637CF3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81F3-1CE2-43FE-ACFF-66C0F8A6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F36E-1D18-47A2-BD9A-D46A1FC1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3356-5501-48E0-8850-BA7034B1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78F1-5A4A-4667-A1C7-7ECBAD86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51D5F-5E0B-4C03-B019-8AA6A2F4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EC33-A93A-449A-961C-E134FDA3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B4E6-76BB-4288-ABC2-02717422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AD99-B8F0-403A-89E3-E837B422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A39-E135-4B7A-A013-8F077FC3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9B22-ECC5-4B38-9233-7FEB37FB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6B9C-7C6D-4FFB-B6C1-872203DE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988CF-5D73-4C0A-9B05-00E7457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1678-1C04-41F9-8ECD-DF0B1B8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94EC-31CC-44D5-A356-22236F12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F8EC-EBC9-4886-BEBA-AEDE5D43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4989-5D9F-4866-AD14-7B192E3A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053A7-64A6-4194-B7A6-D88C901D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7AD83-EDB6-4061-8626-7D1224FF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FE6A-00DC-4499-95C1-F2B552C2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00F-A400-49D0-BC62-1ACA47E2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3FD6-A65D-4A9F-B68E-CE3D2B7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665A-C425-439F-930B-BC4FEACD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1F295-D2B8-4519-BD4E-A032C6DA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0685-F373-493E-8941-F6B04F53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103D-8C85-49A8-AB2A-6543DB80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EDB7-D3CA-4539-995A-1E25DA7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4DB6E-F5E4-4F88-8312-0EF2CECF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12AFB-DFEB-4BEA-8EF8-8310252B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C5439-4DE4-4007-A0EF-EFF40FE7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C0C72-DFCB-4FF7-B0D9-DBFEBD50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44D-2BF9-4B1B-B27E-F68E4D03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436F-6613-4CE2-AA1D-12EF5C6D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18BC-7FA6-4231-8CF8-7254954A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23667-B0B6-4FBD-8479-9903F746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03FE7-2C76-456B-920A-39473AD6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DCA66-1ADF-4F43-AE65-C54BC98E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79D1-7C08-4D86-A6EF-333806C6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75DE-2A81-480D-970A-B80BE4F7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DE258-767E-42D4-8CB4-92A42581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A0484-8ED2-4755-B01B-D057AD92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0445E-E8A9-4886-95D2-5E73AA61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9D1-25F6-43D7-8878-30C072A5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431A2-6183-4944-837B-11CC5039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07B94-9004-4BBE-A327-299E3A42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8E2D-60C2-4598-85A9-87BB4D1C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B4F94-153A-4C16-A6CE-81B1A3D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8AECE-271C-4EFC-96BF-D2856432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CB07-4297-4804-A1DA-23243FE7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5EB80-E3F5-444A-BAE1-EE5B5FA2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C7ED0-29CA-459C-A5FB-4289CCEE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DCCF7-9F4D-42E8-B8FF-CA09CE4E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806C5-E3AC-4CD8-A0E0-A5BA5FD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CB0-B706-42C4-A3D4-B669E610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DFB19-DBA1-4E2A-8918-3F88DB67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CEBE3-8AA6-4205-BD5F-683C8F17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0F86-E4EB-4908-B2F0-C710AD85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11108-9DB5-4C78-B041-BFF0A37D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4FC3E-E7E9-4303-A92E-DF9010EF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E2311-1694-48A6-AEBF-D755B15F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8A2E5-5E83-4BB9-A60D-B4E96D7C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39E8A-D3BF-4803-BB04-44424596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F891D-6D93-4D67-8BA1-59BD5B96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C2C6D-F368-4817-BCAF-42C665C1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276-6D82-4279-B891-686C787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E048D-1DCF-4776-A115-D623F90B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82086-AD0B-46A2-A33B-552CF45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2F109-E894-45AD-82BD-3864645A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6F761-0016-4C68-92CC-2B9C1F12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B38C-482D-4624-8563-AA0C1AF3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FBB-DA3B-4B96-84A1-B019D93D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D571-5F54-497F-AA82-E6B12EC8FD4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DBAE-7FE1-4E09-802C-DBE3CCCECFF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EC9F-A902-4835-843E-2C0CE82C314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15AE-911D-4628-9F2B-5BB30B6B720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2BF8-6387-471B-B213-7DF9BA60A68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4ACF-3834-492F-A6DB-02FA75DDA26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BD0F-FD18-4AA4-97FA-29B84E8AC70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мплексно-тематическое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ланирование образовательного процесса в ДО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2571840" y="478620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ристолюбова Светлана Серг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оспитатель МКДОУ детского са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мбинированного вида «Алён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гт Кикну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1785600" y="1428480"/>
            <a:ext cx="591804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СПОСОБСТВОВАТЬ ПРАВИЛЬНОМУ СОСТАВЛЕНИЮ КАЛЕНДАРНО-ТЕМАТИЧЕСКОГО ПЛАНИРОВАНИЯ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90480" y="2571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ИЗУЧЕНИЕ ПАМЯТКИ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РАБОТА С  ПРОГРАММО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СОСТАВЛЕНИЕ ТЕМАТИЧЕСКОГО МОДУЛЯ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ПЛАНИРОВАНИЕ РАБОТЫ НА ПЕРИОД ПРОЖИВАНИЯ ТЕМЫ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Текст 2" descr=""/>
          <p:cNvPicPr/>
          <p:nvPr/>
        </p:nvPicPr>
        <p:blipFill>
          <a:blip r:embed="rId1"/>
          <a:stretch/>
        </p:blipFill>
        <p:spPr>
          <a:xfrm>
            <a:off x="1359000" y="1200240"/>
            <a:ext cx="6432480" cy="11826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86480" y="-282240"/>
            <a:ext cx="96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1357200" y="335772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На основании этой информации воспитателю  становится понятно в какой образовательной области какие виды детской деятельности и формы организации существу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2149560" y="2674800"/>
            <a:ext cx="4852800" cy="3451320"/>
          </a:xfrm>
          <a:prstGeom prst="rect">
            <a:avLst/>
          </a:prstGeom>
          <a:ln w="9360">
            <a:solidFill>
              <a:srgbClr val="31b6f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расчитана на 2-3 недели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но указываются цели и задачи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о продумать итоговое мероприятие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основании модуля составляется календарно-перпективный план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pic>
        <p:nvPicPr>
          <p:cNvPr id="346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928800" y="1571760"/>
          <a:ext cx="7572240" cy="5114880"/>
        </p:xfrm>
        <a:graphic>
          <a:graphicData uri="http://schemas.openxmlformats.org/drawingml/2006/table">
            <a:tbl>
              <a:tblPr/>
              <a:tblGrid>
                <a:gridCol w="714240"/>
                <a:gridCol w="774720"/>
                <a:gridCol w="1868400"/>
                <a:gridCol w="1690920"/>
                <a:gridCol w="1261800"/>
                <a:gridCol w="1262160"/>
              </a:tblGrid>
              <a:tr h="121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местная деятельность воспитателя и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условий для самостояте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действие с родителями и социальными партнёр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жимные мом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ция образовательных обла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условий для С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действие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у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ч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348" name="Заголовок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3520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3" descr=""/>
          <p:cNvPicPr/>
          <p:nvPr/>
        </p:nvPicPr>
        <p:blipFill>
          <a:blip r:embed="rId1"/>
          <a:stretch/>
        </p:blipFill>
        <p:spPr>
          <a:xfrm>
            <a:off x="658800" y="2535120"/>
            <a:ext cx="7765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1:07:42Z</dcterms:created>
  <dc:creator>Николай и Елена</dc:creator>
  <dc:description/>
  <dc:language>en-US</dc:language>
  <cp:lastModifiedBy>Вова</cp:lastModifiedBy>
  <dcterms:modified xsi:type="dcterms:W3CDTF">2013-03-26T09:38:44Z</dcterms:modified>
  <cp:revision>17</cp:revision>
  <dc:subject/>
  <dc:title>Комплексно-тематическое планирование</dc:title>
</cp:coreProperties>
</file>