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016A-8F7D-4CAA-BA41-EDD6603CA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2A70-DD67-46A5-A639-43E84EC3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5C77-2A2E-400A-9C19-86603A81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798A-4DFC-4535-999F-66AD38857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ABA5-816D-4A13-A15F-0B985DB5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CE79-2FD6-4289-9746-FE83892F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9092-1BA3-4E70-8426-2204F849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6597-F6BC-4165-A38D-2BC442E5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1397-61C9-49CB-AAB1-8CD48733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72B1-29D1-4A37-8E4D-4864DA64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FAF0-0E86-476E-A7DD-30DAD24B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9145-2ABC-48FB-B8D6-81657247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891A-977C-4004-9A68-0226CB68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39D1-004D-41D9-94F6-4DD36E66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BF50-29C6-47AC-B10E-02E8E981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046B-36DA-4363-85B8-AE8E623D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18DE-8FA7-4625-A308-78079896B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B8428-8D99-472B-B3E7-35E0EF0C8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9BA04-A943-4D3C-BB9D-ADF0FC97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9507C-CBE4-4EED-A1FD-5638269E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2B52B-6441-4261-913F-25F9A135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F5647-5AD2-4049-A68A-618D5CAB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5C00-00C1-489E-AD42-F86188F8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7C7E1-A1C2-473A-9276-6176BD64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C7EB7-A4CB-44F9-A1F8-8A0034CE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3C4F0-8A8A-4CAD-8DF6-E37404FF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8562F-054A-4809-B24C-B98D6B8F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BBE34-F962-4B51-929F-BABAF95A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0DC1B-4527-4C0C-BAAA-AEF832EA1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D5942-54A8-47C6-9BE6-4487E9129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301E4-5B1F-449A-8C7D-DA3225374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916B1-57EC-4904-A140-A76B8146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CABE4-ABFB-4F7A-99FF-917372D5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223B-3DC7-4D62-9388-94D60CDC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ED4FB-50F3-4951-B4A8-0DC9D929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44234-8B40-4D92-9F46-7DF4C5ED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5965B-1020-4556-9279-765581D4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77B1C-AC1B-4868-8BAE-5DB8F9D6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EB7F1-D36C-4C23-A1DD-64229946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CBBDC-5534-4DA9-AB25-77151B5E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259DF-0110-416B-BAEE-426FCE49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A5578-E5C3-4A16-8B45-BE0AA7CE0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19B2B-BF6C-40AC-A5C9-693FA7256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9E080-170A-4DF6-9976-071D92BA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9BC1-604D-4654-AD81-BDED421A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A85B7-91D4-493B-904D-4B05B9B9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655E3-8A1F-4350-946C-AC2A113E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E4F1A-DEB1-446A-B591-FD2C8312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C69C7-E0C4-4D0E-98CD-DA071F0C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A0425-3875-415D-942D-24A86354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6CF35-1EEC-4B54-875B-29D43E87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A30CA-096C-4DB6-B467-DF2B631A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FADB5-D719-46A4-9BCD-65C66234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6D6B2-6ADB-46C2-A3B1-5B8A870B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36A26-F8EB-4745-9CAA-8B0743A6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F089-10AD-4A8F-861B-5AA1524E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19534-E0A4-4028-8F25-01D00DAA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C1C25-6B76-45B1-90A6-7C020F2C5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5B7C7-2E44-46FB-860C-967C3AC2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5239C-8CFA-4E60-A804-FA51B0E8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64764-7F30-4B43-8A18-3388A739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B5C43-EE73-4919-AA07-EB35C9A3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814D6-FF98-41F5-A666-3EE6C709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4123F-A76C-4B92-B4C3-DC7EB0BC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A9B7A-83B5-415F-B7CD-EE830314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D3673-C376-427F-86BD-B5D8F50A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C9EA-6446-4A8F-B20B-3018A1A2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BE12F-4548-4B1F-B3E3-CF8AE141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000DB-1530-4918-8B59-D3FA2C81B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50F2E-00F6-4918-B3DD-3E4D1434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FFB60-8AC0-48BA-A9F4-CAFA8676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72E8A-05D5-4023-9DE0-DA3D139C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2E181-2809-45CD-B5D8-5DCDEAD4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92887-1212-494F-BCBF-C3342E83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A42BE-A4D4-46B0-AD8C-5DA00FC4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246A1-CF78-4AF4-BEE5-9F30D90E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63A40-4B4C-43C2-B517-CDD4210F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B0A9-EA77-4D55-8C3D-7180593E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44321-DD06-4B80-BFB4-2819A5C5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DE24C-2A4A-4C41-9727-33DB062C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72673-D323-421C-9E96-2552A62B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F1EF6-DAB2-4274-8C2C-625904346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0E41C-A291-4559-B602-4C332C937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707F-5FF3-48F3-A30C-A7689447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E563-F4FA-4E5F-A4C8-36DA6465201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1D2D-1F45-4888-824F-9E9C10DF946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DAC0-9828-4048-924A-8AFAA24A0460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184C-1EFE-46CF-BAFC-03A31643761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2121-7185-477C-AA5E-EEA57D9D262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2027-12CF-408D-A0B6-511252FF048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7D9D-F5E9-412B-8F55-37B041AC577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36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Комплексно-тематическое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ланирование образовательного процесса в ДО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Box 2"/>
          <p:cNvSpPr/>
          <p:nvPr/>
        </p:nvSpPr>
        <p:spPr>
          <a:xfrm>
            <a:off x="2571840" y="4786200"/>
            <a:ext cx="607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Христолюбова Светлана Сергее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оспитатель МКДОУ детского са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комбинированного вида «Алёнк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»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гт Кикну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1785600" y="1428480"/>
            <a:ext cx="5918040" cy="30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СПОСОБСТВОВАТЬ ПРАВИЛЬНОМУ СОСТАВЛЕНИЮ КАЛЕНДАРНО-ТЕМАТИЧЕСКОГО ПЛАНИРОВАНИЯ</a:t>
            </a:r>
            <a:endParaRPr b="0" lang="en-US" sz="3200" spc="-1" strike="noStrike">
              <a:solidFill>
                <a:srgbClr val="073e8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90480" y="257184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ИЗУЧЕНИЕ ПАМЯТКИ   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РАБОТА С  ПРОГРАММОЙ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СОСТАВЛЕНИЕ ТЕМАТИЧЕСКОГО МОДУЛЯ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ПЛАНИРОВАНИЕ РАБОТЫ НА ПЕРИОД ПРОЖИВАНИЯ ТЕМЫ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66920" y="1436760"/>
            <a:ext cx="6418080" cy="93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ЛАН</a:t>
            </a:r>
            <a:endParaRPr b="0" lang="en-US" sz="4000" spc="-1" strike="noStrike">
              <a:solidFill>
                <a:srgbClr val="073e8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Текст 2" descr=""/>
          <p:cNvPicPr/>
          <p:nvPr/>
        </p:nvPicPr>
        <p:blipFill>
          <a:blip r:embed="rId1"/>
          <a:stretch/>
        </p:blipFill>
        <p:spPr>
          <a:xfrm>
            <a:off x="1359000" y="1200240"/>
            <a:ext cx="6432480" cy="118260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86480" y="-282240"/>
            <a:ext cx="96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Box 4"/>
          <p:cNvSpPr/>
          <p:nvPr/>
        </p:nvSpPr>
        <p:spPr>
          <a:xfrm>
            <a:off x="1357200" y="3357720"/>
            <a:ext cx="66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На основании этой информации воспитателю  становится понятно в какой образовательной области какие виды детской деятельности и формы организации существую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Заголовок 2" descr=""/>
          <p:cNvPicPr/>
          <p:nvPr/>
        </p:nvPicPr>
        <p:blipFill>
          <a:blip r:embed="rId1"/>
          <a:stretch/>
        </p:blipFill>
        <p:spPr>
          <a:xfrm>
            <a:off x="450720" y="33480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" descr=""/>
          <p:cNvPicPr/>
          <p:nvPr/>
        </p:nvPicPr>
        <p:blipFill>
          <a:blip r:embed="rId2"/>
          <a:stretch/>
        </p:blipFill>
        <p:spPr>
          <a:xfrm>
            <a:off x="2149560" y="2674800"/>
            <a:ext cx="4852800" cy="3451320"/>
          </a:xfrm>
          <a:prstGeom prst="rect">
            <a:avLst/>
          </a:prstGeom>
          <a:ln w="9360">
            <a:solidFill>
              <a:srgbClr val="31b6f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ма расчитана на 2-3 недели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язательно указываются цели и задачи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о продумать итоговое мероприятие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основании модуля составляется календарно-перпективный план</a:t>
            </a:r>
            <a:endParaRPr b="0" lang="en-US" sz="2400" spc="-1" strike="noStrike">
              <a:solidFill>
                <a:srgbClr val="073e87"/>
              </a:solidFill>
              <a:latin typeface="Times New Roman"/>
            </a:endParaRPr>
          </a:p>
        </p:txBody>
      </p:sp>
      <p:pic>
        <p:nvPicPr>
          <p:cNvPr id="346" name="Заголовок 2" descr=""/>
          <p:cNvPicPr/>
          <p:nvPr/>
        </p:nvPicPr>
        <p:blipFill>
          <a:blip r:embed="rId1"/>
          <a:stretch/>
        </p:blipFill>
        <p:spPr>
          <a:xfrm>
            <a:off x="450720" y="334800"/>
            <a:ext cx="824256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928800" y="1571760"/>
          <a:ext cx="7572240" cy="5114880"/>
        </p:xfrm>
        <a:graphic>
          <a:graphicData uri="http://schemas.openxmlformats.org/drawingml/2006/table">
            <a:tbl>
              <a:tblPr/>
              <a:tblGrid>
                <a:gridCol w="714240"/>
                <a:gridCol w="774720"/>
                <a:gridCol w="1868400"/>
                <a:gridCol w="1690920"/>
                <a:gridCol w="1261800"/>
                <a:gridCol w="1262160"/>
              </a:tblGrid>
              <a:tr h="121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вместная деятельность воспитателя и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здание условий для самостоятельной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заимодействие с родителями и социальными партнёр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жимные мом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грация образовательных обла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здание условий для С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заимодействие с родител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ул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ч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pic>
        <p:nvPicPr>
          <p:cNvPr id="348" name="Заголовок 2" descr=""/>
          <p:cNvPicPr/>
          <p:nvPr/>
        </p:nvPicPr>
        <p:blipFill>
          <a:blip r:embed="rId1"/>
          <a:stretch/>
        </p:blipFill>
        <p:spPr>
          <a:xfrm>
            <a:off x="450720" y="274680"/>
            <a:ext cx="835200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Прямоугольник 3" descr=""/>
          <p:cNvPicPr/>
          <p:nvPr/>
        </p:nvPicPr>
        <p:blipFill>
          <a:blip r:embed="rId1"/>
          <a:stretch/>
        </p:blipFill>
        <p:spPr>
          <a:xfrm>
            <a:off x="658800" y="2535120"/>
            <a:ext cx="776592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11:07:42Z</dcterms:created>
  <dc:creator>Николай и Елена</dc:creator>
  <dc:description/>
  <dc:language>en-US</dc:language>
  <cp:lastModifiedBy>Вова</cp:lastModifiedBy>
  <dcterms:modified xsi:type="dcterms:W3CDTF">2013-03-26T09:38:44Z</dcterms:modified>
  <cp:revision>17</cp:revision>
  <dc:subject/>
  <dc:title>Комплексно-тематическое планирование</dc:title>
</cp:coreProperties>
</file>