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D480-2D58-481F-8F6E-F31F1EA1C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E91C-F78F-4703-8653-3574F41B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70CB-6AB4-4684-9872-518F19F47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9040-818F-4DEB-B4B6-B4B0AE3BF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1E25-4517-4E73-919C-B56C6BFF0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685AD-DBAA-4F88-BFA1-E6468E18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9508-BB5F-45BA-9A5D-DF52E3E7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B27C-A243-405D-B0F3-49FCBCBB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7601-B151-41E6-9548-8E0E1F63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144F-72CB-42D2-B4DA-6381D9BB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0156-E931-4B0B-894F-B016CF9E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0360-3BC8-42F5-B61D-8DB7D84D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4AE2-3917-4E1F-8F1B-37E52362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D824-0D22-489B-B574-14CCFFC1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CB9F-60A7-49BE-AF40-F4E27930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1A439-44A9-4E93-BE50-D752A3009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65F18-93E3-4C34-8638-1334444A7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023D-928D-4C8A-908A-3F4C179A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C376-ACF6-482C-A411-457FC8C6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0E73-C0BA-44DD-AB17-A88D6D55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85CC-4D56-42B0-837A-4093DCF0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4FE3-AB61-4329-B6E0-2070FD8E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A15E-0DB3-4299-9CED-E55460FC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6FD7-B60C-4B2C-B302-46F3C69F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6DF4-A84F-42AD-89CD-16728E59FB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6250-27E4-4CA3-8B0E-A0FEECA624D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34920" y="333000"/>
            <a:ext cx="66214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Тема исследовани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4000" y="1844280"/>
            <a:ext cx="7848360" cy="45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Что такое – нефть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Работа ученик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6-б класс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МАОУ СОШ №107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Г.Пермь, 201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акой бывает нефть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фть – это черная густая жидкость, которую добывают из-под земли, а потом продают баррелям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фть очень дорогая, и является настолько важным полезным ископаемым, что о любом колебании цен на нефть нам сообщают в новостя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Почему в мире нефть называют «черным золотом»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Без нее не получится сделать каучук, моющие средства, пластмассы, красители, удобрения и целый ряд другой продукции, а без бензина и керосина не смогут ездить автомобили и летать самолеты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актическая часть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борудование и реактивы: коническ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олбы, штатив, делительная воронка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теклянная чаша, пробирки, нефть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истая вод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16000" y="260280"/>
            <a:ext cx="7704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76327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ывод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фть – это черная густая жидкос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фть имеем специфический запа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 попадании на руку не смывается ни водой, ни мыло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 поджигании нефть горит медленно, сильно копти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 опыт с нефтью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42920" y="2017440"/>
            <a:ext cx="791208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астворение нефти в вод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лотность нефти = 800кг/м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лотность воды = 1000кг/м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этому при растворении нефти 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оде, сама нефть всплывает тонко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ленкой на поверхности вод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ыводы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770580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75610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75978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едмет исследования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160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916360" y="1773360"/>
            <a:ext cx="5832360" cy="47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763272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75614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ыводы по опыту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6920" y="2017440"/>
            <a:ext cx="812808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ефть в воде не растворяется; но,  даже если нефтяную пленку попробовать снять с поверхности воды с помощью губки, а именно так и делают при нефтяных авариях, вода приобретает стойкий запах нефтепродукт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суда, в которой проводилось смешивание веществ – не отмывается мыльным раствором, только чистящим порошком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 опыт с нефтью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змерение поверхности нефтяной пленки, находящейся на поверхности вод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7632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7596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763272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802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ывод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 мл нефти занял поверхность воды диаметром = 0,20 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ледовательно, 1 литр (1000мл) нефти покрыл бы поверхность воды диаметром = 200 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фтяные танкеры перевозят сейчас более 50 тыс.тонн нефти и собрать ее обратно практически не возможн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 опыт с нефтью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266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зучение влияния нефтяной пленки на водоросл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 наземны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аст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40000" y="1773360"/>
            <a:ext cx="5904000" cy="50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Цель исследов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зучить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физические свойства нефт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знать из источников СМИ о нефтяных катастрофах и их последствиях на нашей планет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 ден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остояние водоросле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 наземного раст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обоих сосудах – хороше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ода – чиста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одоросли покрыты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узырьками воздух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о втором сосуде –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апах нефт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77058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 ден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900000" y="2060640"/>
            <a:ext cx="7777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остояние водорослей и наземного растения в чистом сосуде – хорошее. Вода – прозрачная. Водоросли покрыты пузырьками возду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о втором сосуде – водоросли пожелтели. Вода приобрела мутный оттенок, пахнет нефт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 ден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366920" y="1197000"/>
            <a:ext cx="7777080" cy="566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5 ден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8028000" cy="58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 ден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8028000" cy="573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ывод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фтяная пленка,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ействительно, губительно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лияет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 живые организмы, находящиеся в воде и даже на наземные раст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облемы экологического характера, связанные с нефтью, надо решать всем нам вместе, а не только специалиста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СПИСОК ЛИТЕРАТУР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00000" y="1915920"/>
            <a:ext cx="8244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таценко А. Справочник необходимых познаний, Изд. «Вся Пермь», 2000г.,с 30. 34, 382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абриэлян О.С. Природные источники углеводородов, ООО «Дрофа», 2000г., с. 58-6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тернет-образовательные ресурсы:referat.ru/referats/view/417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www.fos.ru/geology/table6293.ht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Задачи исследов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2017440"/>
            <a:ext cx="84978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Изучить первоисточники, раскрывающие нам объяснение данного веществ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Узнать с помощью интернет –ресурсов, как же добывают эту маслянистую жидкость, столь полезную для нашего мира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Найти данные о нефтяных катастрофах с целью использования их в качестве доказательства о нарушениях экологической  обстановки на нашей планет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провести исследовательскую работу по изучению физических свойств нефти и сделать соответствующие вывод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Гипотеза исследов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фтяная пленка,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ействительно, губительно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лияет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 живые организмы, находящиеся в воде и даже на наземные раст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облемные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ситуации в мир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январе 1997 года участником серьезной экологической катастрофы стало российское судно. Нефтяной танкер "Находка" затонул на пути из Китая на Камчатку. Из танкера вылилось около 19 тыс. тонн нефти, в результате чего образовалось 50-километровое пятно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998г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начале ноября грузовое судно "Паллас" под флагом Либерии село на мель в Северном море на пути в Данию. Разлив нефти составил 20 тонн и пришелся на побережья Голландии, Дании и Германии. Утечка вызвала сильный пожар. Из-за огня погибли боле 1000 морских птиц, среди которых были редкие виды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7 июля 2003 год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анкер "Тасман Спирит" потерпел бедствие у пакистанского города Карачи. Спустя 2 недели судно развалилось на 2 части. В общей сумме, вылилось около 55 тыс. тонн нефти. Площадь пятна составила 40 кв.км. Из-за этого погибло множество птиц, рыб и всевозможных морских звер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Что такое – нефть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фть – это важнейшее полезное ископаемое, состоящее из различных видов углеводородов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того, чтобы можно было использовать различные компоненты смеси, их необходимо отделить друг от друг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цесс разделения называется нефтепереработкой или нефтеперегонкой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2T15:10:01Z</dcterms:created>
  <dc:creator>Коковина</dc:creator>
  <dc:description/>
  <dc:language>en-US</dc:language>
  <cp:lastModifiedBy>Коковина</cp:lastModifiedBy>
  <dcterms:modified xsi:type="dcterms:W3CDTF">2013-03-26T16:23:00Z</dcterms:modified>
  <cp:revision>9</cp:revision>
  <dc:subject/>
  <dc:title>Тема исследования:</dc:title>
</cp:coreProperties>
</file>