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6818-834D-4BA1-AB07-DD110C82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FE14-7A4F-4129-A60E-95C0AB8E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801-1DA8-4AFC-A548-B1AF4AF7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4AD4-6397-4259-98D0-4062B2B8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6AEA-4A45-4045-BDEC-45AE9A36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65C5-E996-4E1E-9EEE-E717B6AF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2674-7EC3-460B-9497-72D64EE1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CE70-142C-4F93-8365-4784DD72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9015-DD6E-40A9-BC50-FE621910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46CC-D9F8-42B8-B25B-AD6A15F1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A7F7-C813-451A-9E59-ACC0A7AD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BA1-6103-4B1B-BB99-2944ABA0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46B8-079B-45CD-8AC7-92D83A99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D7B1-B7DE-44B4-AEB8-C81F9FD5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646A-7ABE-4D12-BEA0-7CCB7B21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CF32-650D-4F55-AF07-511A1CC3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36B5-AEA3-4CF7-9982-9F6C2155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C95D-B33B-44C5-8CED-B916B57D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C4CD-1D81-45BB-94FC-51EF0B99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E236-5991-40D8-8730-2EEA54D6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BEC-7FA2-4D67-A60E-0D4F9D76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4BC-E2D6-460D-8F6F-82EAB26C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C7C-401C-4488-8EC4-835B4508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B312-6F4E-4813-8F93-A8A0A6A5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5EA1-3F45-4651-AC07-5A48D23AC8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F07E-F3D6-4ECC-BE97-A5269CCE18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66214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ема исслед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000" y="1844280"/>
            <a:ext cx="784836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Что такое – нефть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Работа учени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-б класс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МАОУ СОШ №10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Г.Пермь, 201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ой бывает нефть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фть – это черная густая жидкость, которую добывают из-под земли, а потом продают баррелям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фть очень дорогая, и является настолько важным полезным ископаемым, что о любом колебании цен на нефть нам сообщают в новостя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очему в мире нефть называют «черным золотом»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ез нее не получится сделать каучук, моющие средства, пластмассы, красители, удобрения и целый ряд другой продукции, а без бензина и керосина не смогут ездить автомобили и летать самолет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ктическая часть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орудование и реактивы: коническ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лбы, штатив, делительная воронк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еклянная чаша, пробирки, нефть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истая во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704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7632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фть – это черная густая жидк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фть имеем специфический запа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попадании на руку не смывается ни водой, ни мыл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поджигании нефть горит медленно, сильно копти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 опыт с нефтью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920" y="2017440"/>
            <a:ext cx="79120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створение нефти в вод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лотность нефти = 800кг/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лотность воды = 1000кг/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этому при растворении нефти 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де, сама нефть всплывает тонк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ленкой на поверхности в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ы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770580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7561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75978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едмет исследован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160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5832360" cy="47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7632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7561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ы по опыт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81280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фть в воде не растворяется; но,  даже если нефтяную пленку попробовать снять с поверхности воды с помощью губки, а именно так и делают при нефтяных авариях, вода приобретает стойкий запах нефтепродук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уда, в которой проводилось смешивание веществ – не отмывается мыльным раствором, только чистящим порошко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 опыт с нефтью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мерение поверхности нефтяной пленки, находящейся на поверхности в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7632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7596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7632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802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мл нефти занял поверхность воды диаметром = 0,20 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едовательно, 1 литр (1000мл) нефти покрыл бы поверхность воды диаметром = 200 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фтяные танкеры перевозят сейчас более 50 тыс.тонн нефти и собрать ее обратно практически не возмож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 опыт с нефтью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266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учение влияния нефтяной пленки на водорос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 назем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ст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0" y="1773360"/>
            <a:ext cx="590400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Цель исслед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учить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изические свойства нефт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знать из источников СМИ о нефтяных катастрофах и их последствиях на нашей планет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де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стояние водоросл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 наземного раст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обоих сосудах – хороше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да – чиста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доросли покрыт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узырьками воздух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 втором сосуде 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пах неф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7705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де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2060640"/>
            <a:ext cx="7777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стояние водорослей и наземного растения в чистом сосуде – хорошее. Вода – прозрачная. Водоросли покрыты пузырьками возд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 втором сосуде – водоросли пожелтели. Вода приобрела мутный оттенок, пахнет неф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де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66920" y="1197000"/>
            <a:ext cx="777708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 де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802800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 де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8028000" cy="57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фтяная пленка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йствительно, губительно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лияе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 живые организмы, находящиеся в воде и даже на наземные раст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блемы экологического характера, связанные с нефтью, надо решать всем нам вместе, а не только специалиста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82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аценко А. Справочник необходимых познаний, Изд. «Вся Пермь», 2000г.,с 30. 34, 382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абриэлян О.С. Природные источники углеводородов, ООО «Дрофа», 2000г., с. 58-6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рнет-образовательные ресурсы:referat.ru/referats/view/417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www.fos.ru/geology/table6293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Задачи исслед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4978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Изучить первоисточники, раскрывающие нам объяснение данного веществ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Узнать с помощью интернет –ресурсов, как же добывают эту маслянистую жидкость, столь полезную для нашего мира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Найти данные о нефтяных катастрофах с целью использования их в качестве доказательства о нарушениях экологической  обстановки на нашей планет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провести исследовательскую работу по изучению физических свойств нефти и сделать соответствующие вывод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Гипотеза исслед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фтяная пленка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йствительно, губительно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лияе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 живые организмы, находящиеся в воде и даже на наземные раст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облемные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ситуации в мир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январе 1997 года участником серьезной экологической катастрофы стало российское судно. Нефтяной танкер "Находка" затонул на пути из Китая на Камчатку. Из танкера вылилось около 19 тыс. тонн нефти, в результате чего образовалось 50-километровое пятно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98г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начале ноября грузовое судно "Паллас" под флагом Либерии село на мель в Северном море на пути в Данию. Разлив нефти составил 20 тонн и пришелся на побережья Голландии, Дании и Германии. Утечка вызвала сильный пожар. Из-за огня погибли боле 1000 морских птиц, среди которых были редкие вид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7 июля 2003 го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нкер "Тасман Спирит" потерпел бедствие у пакистанского города Карачи. Спустя 2 недели судно развалилось на 2 части. В общей сумме, вылилось около 55 тыс. тонн нефти. Площадь пятна составила 40 кв.км. Из-за этого погибло множество птиц, рыб и всевозможных морских звер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такое – нефть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фть – это важнейшее полезное ископаемое, состоящее из различных видов углеводород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того, чтобы можно было использовать различные компоненты смеси, их необходимо отделить друг от друг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цесс разделения называется нефтепереработкой или нефтеперегонко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5:10:01Z</dcterms:created>
  <dc:creator>Коковина</dc:creator>
  <dc:description/>
  <dc:language>en-US</dc:language>
  <cp:lastModifiedBy>Коковина</cp:lastModifiedBy>
  <dcterms:modified xsi:type="dcterms:W3CDTF">2013-03-26T16:23:00Z</dcterms:modified>
  <cp:revision>9</cp:revision>
  <dc:subject/>
  <dc:title>Тема исследования:</dc:title>
</cp:coreProperties>
</file>