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546-028B-4EFE-B9D1-565237B3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5BA-B53C-49DC-8625-F408B84C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B0D5-5FFD-4EBF-AAC0-808DC46A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E1A-4074-43BF-BAB0-1226E42B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52D7-13A5-44B3-B593-90E198A1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809E-FCB9-44D0-85AD-DF827838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A89A-7212-45DF-AC91-A3229ED1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0C14-B9F7-4C6E-B63C-7AE84B76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1FE6-276C-4297-82F5-7E97490F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5840-827B-4188-9645-CC750389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5698-6639-4A37-A4AF-8D805387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9D8-B437-46E7-97CF-B0FF8F83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2BB5-5EE7-4EA3-8283-AAB9737A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D0C0-185F-4B22-838F-81C06061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3A76-937F-419E-AE80-359F82A8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8539-954F-4C5C-89D5-21FBC79B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5785-514E-4294-A94B-818A96CE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9E5-45F1-437C-9DF6-F6742793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3F6-9789-4DD0-8C54-0F01857E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1C2-DFBE-4A68-83CF-0FE5928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980-31C6-4AAF-853B-58A69780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C1D-BC0D-4C62-A40C-83A09FEF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7DB-FD72-4658-8EA1-D7055AE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365-F107-4881-A8F8-243FD65C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1048-814C-40C2-82BE-262362F0FA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C751-B8AF-421E-B68B-853321B19A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13255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4" descr="C:\Documents and Settings\оля лейцингер\Мои документы\ОЛИН ЛИЦЕЙ\магазин.files\image013.jpg"/>
          <p:cNvPicPr/>
          <p:nvPr/>
        </p:nvPicPr>
        <p:blipFill>
          <a:blip r:embed="rId2"/>
          <a:stretch/>
        </p:blipFill>
        <p:spPr>
          <a:xfrm>
            <a:off x="4140360" y="5229360"/>
            <a:ext cx="1584000" cy="1628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9" descr="C:\Documents and Settings\оля лейцингер\Мои документы\ОЛИН ЛИЦЕЙ\магазин.files\image018.jpg"/>
          <p:cNvPicPr/>
          <p:nvPr/>
        </p:nvPicPr>
        <p:blipFill>
          <a:blip r:embed="rId3"/>
          <a:stretch/>
        </p:blipFill>
        <p:spPr>
          <a:xfrm>
            <a:off x="3564000" y="1125360"/>
            <a:ext cx="1861920" cy="169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2" descr="C:\Documents and Settings\оля лейцингер\Мои документы\ОЛИН ЛИЦЕЙ\магазин.files\image021.jpg"/>
          <p:cNvPicPr/>
          <p:nvPr/>
        </p:nvPicPr>
        <p:blipFill>
          <a:blip r:embed="rId4"/>
          <a:stretch/>
        </p:blipFill>
        <p:spPr>
          <a:xfrm>
            <a:off x="0" y="692280"/>
            <a:ext cx="139392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1" descr="C:\Documents and Settings\оля лейцингер\Мои документы\ОЛИН ЛИЦЕЙ\магазин.files\image020.jpg"/>
          <p:cNvPicPr/>
          <p:nvPr/>
        </p:nvPicPr>
        <p:blipFill>
          <a:blip r:embed="rId5"/>
          <a:stretch/>
        </p:blipFill>
        <p:spPr>
          <a:xfrm>
            <a:off x="1332000" y="260280"/>
            <a:ext cx="115236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0" descr="C:\Documents and Settings\оля лейцингер\Мои документы\ОЛИН ЛИЦЕЙ\магазин.files\image019.jpg"/>
          <p:cNvPicPr/>
          <p:nvPr/>
        </p:nvPicPr>
        <p:blipFill>
          <a:blip r:embed="rId6"/>
          <a:stretch/>
        </p:blipFill>
        <p:spPr>
          <a:xfrm>
            <a:off x="2484360" y="260280"/>
            <a:ext cx="1079640" cy="20797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8" descr="C:\Documents and Settings\оля лейцингер\Мои документы\ОЛИН ЛИЦЕЙ\магазин.files\image017.jpg"/>
          <p:cNvPicPr/>
          <p:nvPr/>
        </p:nvPicPr>
        <p:blipFill>
          <a:blip r:embed="rId7"/>
          <a:stretch/>
        </p:blipFill>
        <p:spPr>
          <a:xfrm>
            <a:off x="5435640" y="1484280"/>
            <a:ext cx="2016000" cy="14828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7" descr="C:\Documents and Settings\оля лейцингер\Мои документы\ОЛИН ЛИЦЕЙ\магазин.files\image016.jpg"/>
          <p:cNvPicPr/>
          <p:nvPr/>
        </p:nvPicPr>
        <p:blipFill>
          <a:blip r:embed="rId8"/>
          <a:stretch/>
        </p:blipFill>
        <p:spPr>
          <a:xfrm>
            <a:off x="0" y="5373720"/>
            <a:ext cx="1611360" cy="14842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6" descr="C:\Documents and Settings\оля лейцингер\Мои документы\ОЛИН ЛИЦЕЙ\магазин.files\image015.jpg"/>
          <p:cNvPicPr/>
          <p:nvPr/>
        </p:nvPicPr>
        <p:blipFill>
          <a:blip r:embed="rId9"/>
          <a:stretch/>
        </p:blipFill>
        <p:spPr>
          <a:xfrm>
            <a:off x="1619280" y="4581360"/>
            <a:ext cx="1297080" cy="2276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C:\Documents and Settings\оля лейцингер\Мои документы\ОЛИН ЛИЦЕЙ\магазин.files\image014.jpg"/>
          <p:cNvPicPr/>
          <p:nvPr/>
        </p:nvPicPr>
        <p:blipFill>
          <a:blip r:embed="rId10"/>
          <a:stretch/>
        </p:blipFill>
        <p:spPr>
          <a:xfrm>
            <a:off x="2916360" y="4581360"/>
            <a:ext cx="1224000" cy="2276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C:\Documents and Settings\оля лейцингер\Мои документы\ОЛИН ЛИЦЕЙ\магазин.files\image012.jpg"/>
          <p:cNvPicPr/>
          <p:nvPr/>
        </p:nvPicPr>
        <p:blipFill>
          <a:blip r:embed="rId11"/>
          <a:stretch/>
        </p:blipFill>
        <p:spPr>
          <a:xfrm>
            <a:off x="5724360" y="5229360"/>
            <a:ext cx="1511640" cy="1628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2" descr="C:\Documents and Settings\оля лейцингер\Мои документы\ОЛИН ЛИЦЕЙ\магазин.files\image011.jpg"/>
          <p:cNvPicPr/>
          <p:nvPr/>
        </p:nvPicPr>
        <p:blipFill>
          <a:blip r:embed="rId12"/>
          <a:stretch/>
        </p:blipFill>
        <p:spPr>
          <a:xfrm>
            <a:off x="723600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3068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Электоральное поведение молодежи: проблемы и пути решен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508720" y="549360"/>
            <a:ext cx="2736720" cy="9144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олодеж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429000"/>
            <a:ext cx="3671640" cy="19432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жнейш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циальный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лекторальный ресур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431928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43640" y="1557360"/>
            <a:ext cx="936720" cy="1800360"/>
          </a:xfrm>
          <a:prstGeom prst="downArrow">
            <a:avLst>
              <a:gd name="adj1" fmla="val 50000"/>
              <a:gd name="adj2" fmla="val 480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1280" y="3860640"/>
            <a:ext cx="3671640" cy="201636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емственност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развит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овой культу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860640"/>
            <a:ext cx="3672000" cy="194472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кт реализ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а выбо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удущего своей стра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2852640"/>
            <a:ext cx="1727280" cy="936720"/>
          </a:xfrm>
          <a:custGeom>
            <a:avLst/>
            <a:gdLst>
              <a:gd name="textAreaLeft" fmla="*/ 231120 w 1727280"/>
              <a:gd name="textAreaRight" fmla="*/ 1496160 w 172728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2924280"/>
            <a:ext cx="1728720" cy="936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бирательное право в Росси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коло 25 млн. молодых людей в возрасте от 18 до 29 л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19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 Е З У Л Ь Т А Т Ы  И С С Л Е Д О В А Н И 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9320" y="1989000"/>
            <a:ext cx="58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МОЛОДЕЖЬ АПОЛИТИЧ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2781360"/>
            <a:ext cx="392400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выборах федерального уров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частвует менее полови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лодых россиян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3860640"/>
            <a:ext cx="388908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3 % молодых гражд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возрасте до 35 л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нтересуются политик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4869000"/>
            <a:ext cx="431964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литическая активность молоде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периоды между выборами сниж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22920" y="5943600"/>
            <a:ext cx="432108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,7 % молодых люд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нимают участие в 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щественных организ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55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0360" y="155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155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1557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03280" y="189000"/>
            <a:ext cx="6553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Политический абсенте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280" y="1576440"/>
            <a:ext cx="8239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чуждение определенных социальных групп и индиви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властных институ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на из форм сознательного бойкотирования избира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боров, отказ от участия в н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ссивный протест населения против существующ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ормы правления, политического 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явление безразличия к осуществлению человеком сво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ав и обяза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43280" y="2565360"/>
            <a:ext cx="3384360" cy="115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Полит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абсенте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76720" y="3573360"/>
            <a:ext cx="273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latin typeface="Times New Roman"/>
              </a:rPr>
              <a:t>факторы 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333360"/>
            <a:ext cx="3384720" cy="2016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щество-причина сни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ктивности молод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коления и 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литического отчуж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молодёжной сре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149720"/>
            <a:ext cx="3600360" cy="2016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Молодежь не вид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обход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что-либо менять в укладе жизн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е рассматривает политическу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ятельность значим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ля себ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4149720"/>
            <a:ext cx="3384360" cy="2016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силение несовмест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нтерес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требностей и ценност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риентаций молодё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 политик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333360"/>
            <a:ext cx="3384720" cy="201600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нтересы молодёж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осредоточены на проблем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держания сво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уществ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выживания в совреме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словия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2565360"/>
            <a:ext cx="1297080" cy="576360"/>
          </a:xfrm>
          <a:custGeom>
            <a:avLst/>
            <a:gdLst>
              <a:gd name="textAreaLeft" fmla="*/ 432360 w 1297080"/>
              <a:gd name="textAreaRight" fmla="*/ 1110960 w 1297080"/>
              <a:gd name="textAreaTop" fmla="*/ 331920 h 576360"/>
              <a:gd name="textAreaBottom" fmla="*/ 49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1618920" y="3284640"/>
            <a:ext cx="1297080" cy="720720"/>
          </a:xfrm>
          <a:custGeom>
            <a:avLst/>
            <a:gdLst>
              <a:gd name="textAreaLeft" fmla="*/ 432360 w 1297080"/>
              <a:gd name="textAreaRight" fmla="*/ 1110960 w 1297080"/>
              <a:gd name="textAreaTop" fmla="*/ 42012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691"/>
                </a:moveTo>
                <a:lnTo>
                  <a:pt x="12591" y="15691"/>
                </a:lnTo>
                <a:lnTo>
                  <a:pt x="12591" y="7200"/>
                </a:lnTo>
                <a:lnTo>
                  <a:pt x="9491" y="7200"/>
                </a:lnTo>
                <a:lnTo>
                  <a:pt x="1554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619280" y="2492280"/>
            <a:ext cx="1224000" cy="720720"/>
          </a:xfrm>
          <a:custGeom>
            <a:avLst/>
            <a:gdLst>
              <a:gd name="textAreaLeft" fmla="*/ 408240 w 1224000"/>
              <a:gd name="textAreaRight" fmla="*/ 1048680 w 1224000"/>
              <a:gd name="textAreaTop" fmla="*/ 41220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53"/>
                </a:moveTo>
                <a:lnTo>
                  <a:pt x="12353" y="15453"/>
                </a:lnTo>
                <a:lnTo>
                  <a:pt x="12353" y="7200"/>
                </a:lnTo>
                <a:lnTo>
                  <a:pt x="9253" y="7200"/>
                </a:lnTo>
                <a:lnTo>
                  <a:pt x="15427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6226560" y="3213000"/>
            <a:ext cx="1297080" cy="720720"/>
          </a:xfrm>
          <a:custGeom>
            <a:avLst/>
            <a:gdLst>
              <a:gd name="textAreaLeft" fmla="*/ 432360 w 1297080"/>
              <a:gd name="textAreaRight" fmla="*/ 1110960 w 1297080"/>
              <a:gd name="textAreaTop" fmla="*/ 41184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445"/>
                </a:moveTo>
                <a:lnTo>
                  <a:pt x="12345" y="15445"/>
                </a:lnTo>
                <a:lnTo>
                  <a:pt x="12345" y="7200"/>
                </a:lnTo>
                <a:lnTo>
                  <a:pt x="9245" y="7200"/>
                </a:lnTo>
                <a:lnTo>
                  <a:pt x="1542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0"/>
          <a:ext cx="9143640" cy="6891480"/>
        </p:xfrm>
        <a:graphic>
          <a:graphicData uri="http://schemas.openxmlformats.org/drawingml/2006/table">
            <a:tbl>
              <a:tblPr/>
              <a:tblGrid>
                <a:gridCol w="3819960"/>
                <a:gridCol w="5323680"/>
              </a:tblGrid>
              <a:tr h="768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ac"/>
                          </a:solidFill>
                          <a:latin typeface="Times New Roman"/>
                        </a:rPr>
                        <a:t>Модели электорального поведения молодежи на выбор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ac"/>
                          </a:solidFill>
                          <a:latin typeface="Times New Roman"/>
                        </a:rPr>
                        <a:t>«На выборы не хожу, потому что мой голос ничего не измени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частие молодежи в выборах объясняется тем, что на политической сцене отсутствуют политические силы, способные артикулировать и агрегировать интересы молодеж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97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ac"/>
                          </a:solidFill>
                          <a:latin typeface="Times New Roman"/>
                        </a:rPr>
                        <a:t>«На выборы не хожу, потому что мне это вообще неинтересно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ь характерна для значительной части молодежи, которая занята своими собственными делами и не интересуется политик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ac"/>
                          </a:solidFill>
                          <a:latin typeface="Times New Roman"/>
                        </a:rPr>
                        <a:t>«На выборы не хожу, потому что никому не верю, политика - это грязное дело»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 модель объясняет неучастие молодежи в выборах, исходя из общего неприятия действующей власти и института выборо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23:48Z</dcterms:created>
  <dc:creator>SamLab.ws</dc:creator>
  <dc:description/>
  <dc:language>en-US</dc:language>
  <cp:lastModifiedBy>SamLab.ws</cp:lastModifiedBy>
  <dcterms:modified xsi:type="dcterms:W3CDTF">2011-11-14T19:28:02Z</dcterms:modified>
  <cp:revision>3</cp:revision>
  <dc:subject/>
  <dc:title>Слайд 1</dc:title>
</cp:coreProperties>
</file>