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99E-7DDF-4701-8103-4A2A1C4B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375-FFC6-4E06-A6A7-0DADECF5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B80-CF00-4AB3-8ECB-3CFB85EF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D12-916C-4979-8EAF-89C2FC6E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5579-C4F1-4EF4-83F1-B1F58662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821-9D89-4279-AE30-3CDCBD2B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4C61-0755-4BDD-A440-687F0F4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20D2-57FC-4F76-AF42-5C00B13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5DF-2302-4948-9A52-6FC4C2B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F85-BF3C-4955-B5D9-9EEE847C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3267-2013-400F-8E24-AEE7D00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5C8-2194-4540-807B-4F0ADA69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73D-0142-42B8-A4B3-66C1F9D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2E80-DFEA-4FB7-BE29-5E48B01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5B14-0EA5-4B68-8AB0-36A1D419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A45A-0F16-4F38-9F04-7A017C7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E57F-9E76-4736-AD3F-A7DE5E84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761-2DF7-4528-A3B9-25FF9780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F8F-BFF4-465B-BD92-7A757D9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13C-9088-40C9-A5DF-15E6040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D2B-AD4C-4D7B-B3F6-129BB96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58E-1D34-431D-B513-CC3315B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A91-7A59-4C09-A74F-F1EB3D0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E09-0660-44CF-BA5D-7EF11B2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58E-2BFF-4FDA-B326-C9C041E05F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3E6-0E8B-42C7-92AD-E86E5BC67F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325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C:\Documents and Settings\оля лейцингер\Мои документы\ОЛИН ЛИЦЕЙ\магазин.files\image013.jpg"/>
          <p:cNvPicPr/>
          <p:nvPr/>
        </p:nvPicPr>
        <p:blipFill>
          <a:blip r:embed="rId2"/>
          <a:stretch/>
        </p:blipFill>
        <p:spPr>
          <a:xfrm>
            <a:off x="4140360" y="5229360"/>
            <a:ext cx="1584000" cy="1628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9" descr="C:\Documents and Settings\оля лейцингер\Мои документы\ОЛИН ЛИЦЕЙ\магазин.files\image018.jpg"/>
          <p:cNvPicPr/>
          <p:nvPr/>
        </p:nvPicPr>
        <p:blipFill>
          <a:blip r:embed="rId3"/>
          <a:stretch/>
        </p:blipFill>
        <p:spPr>
          <a:xfrm>
            <a:off x="3564000" y="1125360"/>
            <a:ext cx="1861920" cy="169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2" descr="C:\Documents and Settings\оля лейцингер\Мои документы\ОЛИН ЛИЦЕЙ\магазин.files\image021.jpg"/>
          <p:cNvPicPr/>
          <p:nvPr/>
        </p:nvPicPr>
        <p:blipFill>
          <a:blip r:embed="rId4"/>
          <a:stretch/>
        </p:blipFill>
        <p:spPr>
          <a:xfrm>
            <a:off x="0" y="692280"/>
            <a:ext cx="139392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1" descr="C:\Documents and Settings\оля лейцингер\Мои документы\ОЛИН ЛИЦЕЙ\магазин.files\image020.jpg"/>
          <p:cNvPicPr/>
          <p:nvPr/>
        </p:nvPicPr>
        <p:blipFill>
          <a:blip r:embed="rId5"/>
          <a:stretch/>
        </p:blipFill>
        <p:spPr>
          <a:xfrm>
            <a:off x="1332000" y="260280"/>
            <a:ext cx="115236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0" descr="C:\Documents and Settings\оля лейцингер\Мои документы\ОЛИН ЛИЦЕЙ\магазин.files\image019.jpg"/>
          <p:cNvPicPr/>
          <p:nvPr/>
        </p:nvPicPr>
        <p:blipFill>
          <a:blip r:embed="rId6"/>
          <a:stretch/>
        </p:blipFill>
        <p:spPr>
          <a:xfrm>
            <a:off x="2484360" y="260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8" descr="C:\Documents and Settings\оля лейцингер\Мои документы\ОЛИН ЛИЦЕЙ\магазин.files\image017.jpg"/>
          <p:cNvPicPr/>
          <p:nvPr/>
        </p:nvPicPr>
        <p:blipFill>
          <a:blip r:embed="rId7"/>
          <a:stretch/>
        </p:blipFill>
        <p:spPr>
          <a:xfrm>
            <a:off x="5435640" y="1484280"/>
            <a:ext cx="2016000" cy="1482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7" descr="C:\Documents and Settings\оля лейцингер\Мои документы\ОЛИН ЛИЦЕЙ\магазин.files\image016.jpg"/>
          <p:cNvPicPr/>
          <p:nvPr/>
        </p:nvPicPr>
        <p:blipFill>
          <a:blip r:embed="rId8"/>
          <a:stretch/>
        </p:blipFill>
        <p:spPr>
          <a:xfrm>
            <a:off x="0" y="5373720"/>
            <a:ext cx="161136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6" descr="C:\Documents and Settings\оля лейцингер\Мои документы\ОЛИН ЛИЦЕЙ\магазин.files\image015.jpg"/>
          <p:cNvPicPr/>
          <p:nvPr/>
        </p:nvPicPr>
        <p:blipFill>
          <a:blip r:embed="rId9"/>
          <a:stretch/>
        </p:blipFill>
        <p:spPr>
          <a:xfrm>
            <a:off x="1619280" y="4581360"/>
            <a:ext cx="1297080" cy="2276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C:\Documents and Settings\оля лейцингер\Мои документы\ОЛИН ЛИЦЕЙ\магазин.files\image014.jpg"/>
          <p:cNvPicPr/>
          <p:nvPr/>
        </p:nvPicPr>
        <p:blipFill>
          <a:blip r:embed="rId10"/>
          <a:stretch/>
        </p:blipFill>
        <p:spPr>
          <a:xfrm>
            <a:off x="2916360" y="4581360"/>
            <a:ext cx="1224000" cy="2276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C:\Documents and Settings\оля лейцингер\Мои документы\ОЛИН ЛИЦЕЙ\магазин.files\image012.jpg"/>
          <p:cNvPicPr/>
          <p:nvPr/>
        </p:nvPicPr>
        <p:blipFill>
          <a:blip r:embed="rId11"/>
          <a:stretch/>
        </p:blipFill>
        <p:spPr>
          <a:xfrm>
            <a:off x="5724360" y="5229360"/>
            <a:ext cx="1511640" cy="1628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C:\Documents and Settings\оля лейцингер\Мои документы\ОЛИН ЛИЦЕЙ\магазин.files\image011.jpg"/>
          <p:cNvPicPr/>
          <p:nvPr/>
        </p:nvPicPr>
        <p:blipFill>
          <a:blip r:embed="rId12"/>
          <a:stretch/>
        </p:blipFill>
        <p:spPr>
          <a:xfrm>
            <a:off x="723600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3068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Электоральное поведение молодежи: проблемы и пути реше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08720" y="549360"/>
            <a:ext cx="2736720" cy="9144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олодеж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429000"/>
            <a:ext cx="3671640" cy="19432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жнейш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циальный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лекторальный ресур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31928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43640" y="1557360"/>
            <a:ext cx="936720" cy="1800360"/>
          </a:xfrm>
          <a:prstGeom prst="downArrow">
            <a:avLst>
              <a:gd name="adj1" fmla="val 50000"/>
              <a:gd name="adj2" fmla="val 480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3860640"/>
            <a:ext cx="3671640" cy="201636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емственност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развит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вой культу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860640"/>
            <a:ext cx="3672000" cy="194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т реализ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а выбо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удущего своей стр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852640"/>
            <a:ext cx="1727280" cy="936720"/>
          </a:xfrm>
          <a:custGeom>
            <a:avLst/>
            <a:gdLst>
              <a:gd name="textAreaLeft" fmla="*/ 231120 w 1727280"/>
              <a:gd name="textAreaRight" fmla="*/ 1496160 w 1727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2924280"/>
            <a:ext cx="1728720" cy="936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ирательное право в Росси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коло 25 млн. молодых людей в возрасте от 18 до 29 л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 Е З У Л Ь Т А Т Ы  И С С Л Е Д О В А Н И 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9320" y="1989000"/>
            <a:ext cx="58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ОЛОДЕЖЬ АПОЛИТИЧ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781360"/>
            <a:ext cx="39240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выборах федерального уров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аствует менее полов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лодых россия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3860640"/>
            <a:ext cx="388908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3 % молодых граж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возрасте до 35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уются полити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869000"/>
            <a:ext cx="431964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итическая активность молод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периоды между выборами сниж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22920" y="5943600"/>
            <a:ext cx="432108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,7 % молодых люд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нимают участие в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щественных организ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8900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Политический абсенте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280" y="1576440"/>
            <a:ext cx="823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чуждение определенных социальных групп и индиви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властных институ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на из форм сознательного бойкотирования избира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боров, отказ от участия в 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ссивный протест населения против существующ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ы правления, политическо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явление безразличия к осуществлению человеком сво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ав и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43280" y="2565360"/>
            <a:ext cx="3384360" cy="11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Полит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абсенте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76720" y="3573360"/>
            <a:ext cx="273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latin typeface="Times New Roman"/>
              </a:rPr>
              <a:t>факторы 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33336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щество-причина сни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ктивности молод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коления и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итического отчуж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молодёжной сре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14972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лодежь не ви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обход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то-либо менять в укладе жизн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 рассматривает политическ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ятельность значи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ля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149720"/>
            <a:ext cx="338436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силение несовмест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требностей и ценнос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риентаций молодё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 полити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33336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ы молодёж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средоточены на проблем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держания сво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уществ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выживания в соврем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словия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565360"/>
            <a:ext cx="1297080" cy="57636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331920 h 576360"/>
              <a:gd name="textAreaBottom" fmla="*/ 49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1618920" y="3284640"/>
            <a:ext cx="1297080" cy="72072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42012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691"/>
                </a:moveTo>
                <a:lnTo>
                  <a:pt x="12591" y="15691"/>
                </a:lnTo>
                <a:lnTo>
                  <a:pt x="12591" y="7200"/>
                </a:lnTo>
                <a:lnTo>
                  <a:pt x="9491" y="7200"/>
                </a:lnTo>
                <a:lnTo>
                  <a:pt x="1554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19280" y="2492280"/>
            <a:ext cx="1224000" cy="720720"/>
          </a:xfrm>
          <a:custGeom>
            <a:avLst/>
            <a:gdLst>
              <a:gd name="textAreaLeft" fmla="*/ 408240 w 1224000"/>
              <a:gd name="textAreaRight" fmla="*/ 1048680 w 1224000"/>
              <a:gd name="textAreaTop" fmla="*/ 4122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53"/>
                </a:moveTo>
                <a:lnTo>
                  <a:pt x="12353" y="15453"/>
                </a:lnTo>
                <a:lnTo>
                  <a:pt x="12353" y="7200"/>
                </a:lnTo>
                <a:lnTo>
                  <a:pt x="9253" y="7200"/>
                </a:lnTo>
                <a:lnTo>
                  <a:pt x="1542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6226560" y="3213000"/>
            <a:ext cx="1297080" cy="72072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41184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45"/>
                </a:moveTo>
                <a:lnTo>
                  <a:pt x="12345" y="15445"/>
                </a:lnTo>
                <a:lnTo>
                  <a:pt x="12345" y="7200"/>
                </a:lnTo>
                <a:lnTo>
                  <a:pt x="9245" y="7200"/>
                </a:lnTo>
                <a:lnTo>
                  <a:pt x="1542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3640" cy="6891480"/>
        </p:xfrm>
        <a:graphic>
          <a:graphicData uri="http://schemas.openxmlformats.org/drawingml/2006/table">
            <a:tbl>
              <a:tblPr/>
              <a:tblGrid>
                <a:gridCol w="3819960"/>
                <a:gridCol w="5323680"/>
              </a:tblGrid>
              <a:tr h="768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Модели электорального поведения молодежи на выбор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мой голос ничего не измени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частие молодежи в выборах объясняется тем, что на политической сцене отсутствуют политические силы, способные артикулировать и агрегировать интересы молодеж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мне это вообще неинтересно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характерна для значительной части молодежи, которая занята своими собственными делами и не интересуется политик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никому не верю, политика - это грязное дело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 модель объясняет неучастие молодежи в выборах, исходя из общего неприятия действующей власти и института выборо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23:48Z</dcterms:created>
  <dc:creator>SamLab.ws</dc:creator>
  <dc:description/>
  <dc:language>en-US</dc:language>
  <cp:lastModifiedBy>SamLab.ws</cp:lastModifiedBy>
  <dcterms:modified xsi:type="dcterms:W3CDTF">2011-11-14T19:28:02Z</dcterms:modified>
  <cp:revision>3</cp:revision>
  <dc:subject/>
  <dc:title>Слайд 1</dc:title>
</cp:coreProperties>
</file>