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8FA5-A518-4583-B035-8E6AFB778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597D-A3AE-4E92-8B34-97720ACE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319E-55AD-450E-972C-A1405A0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2A96-8166-4500-9304-6147302FB0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222C1-AD65-4B4E-BF81-CA16CFBD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A3F62-53EA-4AA6-B1AB-0B9171DF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9C1D1-311C-4EAA-9020-21BBEA0F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E59F4-A55F-4582-AB6A-59D05452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2086B-BED8-4D4F-9EA8-7F4FE946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5C5A5-FC39-4049-94D8-C626E8DC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DD1B4-9530-4E6B-B7D3-408C2AF2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2C2E8-2546-4FDD-A2BD-A7BF481A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A6ADA-5FD1-4109-8070-863C79D3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60EEF-69A7-4B9E-9EDC-12E1BB41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375C0-5777-480F-B095-373FF83B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39097-16D7-4BA3-97C5-B6EC8B92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7E525-D88F-485E-A8E6-A7B1D8FC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7CBE-6D6B-46B9-846D-9B871BCA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5C31-8F97-49C9-9730-91DA9FA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6E8A-3790-4959-8461-1C9253BB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8828A-42F4-4E1B-8186-3DB34B78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9A3E-472F-439C-B39F-EDBE4CC9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AD96-D029-438D-831F-54AD3CF4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C70C-D336-420C-9FD9-C3397701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8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1612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84E9-6E39-40DF-B089-D240316C1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9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114800" cy="6858000"/>
          </a:xfrm>
          <a:custGeom>
            <a:avLst/>
            <a:gdLst/>
            <a:ahLst/>
            <a:rect l="l" t="t" r="r" b="b"/>
            <a:pathLst>
              <a:path w="2592" h="4320">
                <a:moveTo>
                  <a:pt x="624" y="0"/>
                </a:moveTo>
                <a:lnTo>
                  <a:pt x="0" y="0"/>
                </a:lnTo>
                <a:lnTo>
                  <a:pt x="0" y="4320"/>
                </a:lnTo>
                <a:lnTo>
                  <a:pt x="2592" y="4320"/>
                </a:lnTo>
                <a:cubicBezTo>
                  <a:pt x="2592" y="4320"/>
                  <a:pt x="1828" y="4051"/>
                  <a:pt x="1552" y="3891"/>
                </a:cubicBezTo>
                <a:cubicBezTo>
                  <a:pt x="1276" y="3731"/>
                  <a:pt x="1095" y="3545"/>
                  <a:pt x="935" y="3362"/>
                </a:cubicBezTo>
                <a:cubicBezTo>
                  <a:pt x="775" y="3179"/>
                  <a:pt x="675" y="2997"/>
                  <a:pt x="570" y="2809"/>
                </a:cubicBezTo>
                <a:cubicBezTo>
                  <a:pt x="465" y="2621"/>
                  <a:pt x="369" y="2413"/>
                  <a:pt x="306" y="2233"/>
                </a:cubicBezTo>
                <a:cubicBezTo>
                  <a:pt x="239" y="2056"/>
                  <a:pt x="212" y="1928"/>
                  <a:pt x="192" y="1728"/>
                </a:cubicBezTo>
                <a:cubicBezTo>
                  <a:pt x="175" y="1551"/>
                  <a:pt x="162" y="1336"/>
                  <a:pt x="170" y="1176"/>
                </a:cubicBezTo>
                <a:cubicBezTo>
                  <a:pt x="171" y="1018"/>
                  <a:pt x="176" y="899"/>
                  <a:pt x="200" y="782"/>
                </a:cubicBezTo>
                <a:cubicBezTo>
                  <a:pt x="224" y="665"/>
                  <a:pt x="305" y="430"/>
                  <a:pt x="376" y="312"/>
                </a:cubicBezTo>
                <a:cubicBezTo>
                  <a:pt x="447" y="194"/>
                  <a:pt x="563" y="62"/>
                  <a:pt x="624" y="0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001000" y="4191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87A7-4448-4C0D-BFBB-726AC0065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114800"/>
            <a:ext cx="7848720" cy="2286000"/>
          </a:xfrm>
          <a:prstGeom prst="roundRect">
            <a:avLst>
              <a:gd name="adj" fmla="val 16667"/>
            </a:avLst>
          </a:prstGeom>
          <a:solidFill>
            <a:srgbClr val="3366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юди живут в разных стран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класс по системе Л.В.Зан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ие ещё страны вы знае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йчас на Земле больше 200 государст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7150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е большое государство по территории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6386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е большое государство по населен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662940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е маленькое государ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тикан (оно находится в столице Италии – городе Рим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9880" y="2971800"/>
            <a:ext cx="48006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ши сосед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80880" y="1066680"/>
            <a:ext cx="95248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нового мы узнали на уро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государств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ются люди, живущие в одной стр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бщего у гражд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ются граждане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стран на планете  Зем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чём мы не поговорили на уро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обыча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обычаях поговорим на следующем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ик стр.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ю подготовила Журавлёва Анна Михайловна – учитель начальных классов МБОУ «СОШ№31»г.Барна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назывались первые объединения люд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называлось несколько род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4864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далее стали называть сообщества люд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по-другому можно назвать государ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чём будем сегодня говор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том, что люди живут в разны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8672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можно назвать людей одного рода или племе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можно ли назвать родственниками людей, живущих в одной стра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почему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как их называю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что у них общ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ритория (земля государст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ница (линия раздела государ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лица (главный город государст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зык (на котором говорят люди одного государст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ычаи (правила, установившиеся привычки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ы являемся граждан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стра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638680" cy="387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5638680" cy="387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676520" y="2286000"/>
            <a:ext cx="56386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у нас общ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1</cp:lastModifiedBy>
  <dcterms:modified xsi:type="dcterms:W3CDTF">2013-03-03T09:18:01Z</dcterms:modified>
  <cp:revision>10</cp:revision>
  <dc:subject>географ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