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F305D-3B62-4645-99C8-C3EFA5478C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B8F0-051E-45D1-9814-BC64CBA7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539A-5D75-485F-82C1-59CA642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7ECB-D457-48F2-8E3C-0882EF4AF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E4F39-10DE-4DE5-80B4-69F85CF3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F949F-4F79-49F2-A516-C70BE84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D9FD1-20C2-4131-8699-5971663F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F109-367A-4DB2-A18B-20250D4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C257E-9412-4E51-8328-DFC852A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4104E-5315-481E-B643-8797014E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8A4D8-A11D-4B90-991D-F021719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5E02-8C4F-42D1-8D8E-D0B636A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280E-BF74-42CA-8A2F-8594DD52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6A894-5C9D-4B36-A708-F997939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F6FB2-E0E2-48AB-9B5F-0F693EE2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8CC7E-D9EE-4802-B0D8-C3B9D623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1C11A-7693-447B-AFEB-8CE7E17C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B0A1-F346-4919-B753-A766DFD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DA89-0700-41A5-9250-0DDFB7C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FF1B4-26EE-4814-BEC8-C1C8FD55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6F333-29AB-4662-BD1A-E2B50276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0A48-B8D5-483E-A8C0-9E0396AE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4ABF-B307-41D4-8CF9-079D951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5260-B41F-440F-9B97-A5FBF26A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8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B020-557A-4584-B323-42E59005C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114800" cy="6858000"/>
          </a:xfrm>
          <a:custGeom>
            <a:avLst/>
            <a:gdLst/>
            <a:ahLst/>
            <a:rect l="l" t="t" r="r" b="b"/>
            <a:pathLst>
              <a:path w="2592" h="4320">
                <a:moveTo>
                  <a:pt x="624" y="0"/>
                </a:moveTo>
                <a:lnTo>
                  <a:pt x="0" y="0"/>
                </a:lnTo>
                <a:lnTo>
                  <a:pt x="0" y="4320"/>
                </a:lnTo>
                <a:lnTo>
                  <a:pt x="2592" y="4320"/>
                </a:lnTo>
                <a:cubicBezTo>
                  <a:pt x="2592" y="4320"/>
                  <a:pt x="1828" y="4051"/>
                  <a:pt x="1552" y="3891"/>
                </a:cubicBezTo>
                <a:cubicBezTo>
                  <a:pt x="1276" y="3731"/>
                  <a:pt x="1095" y="3545"/>
                  <a:pt x="935" y="3362"/>
                </a:cubicBezTo>
                <a:cubicBezTo>
                  <a:pt x="775" y="3179"/>
                  <a:pt x="675" y="2997"/>
                  <a:pt x="570" y="2809"/>
                </a:cubicBezTo>
                <a:cubicBezTo>
                  <a:pt x="465" y="2621"/>
                  <a:pt x="369" y="2413"/>
                  <a:pt x="306" y="2233"/>
                </a:cubicBezTo>
                <a:cubicBezTo>
                  <a:pt x="239" y="2056"/>
                  <a:pt x="212" y="1928"/>
                  <a:pt x="192" y="1728"/>
                </a:cubicBezTo>
                <a:cubicBezTo>
                  <a:pt x="175" y="1551"/>
                  <a:pt x="162" y="1336"/>
                  <a:pt x="170" y="1176"/>
                </a:cubicBezTo>
                <a:cubicBezTo>
                  <a:pt x="171" y="1018"/>
                  <a:pt x="176" y="899"/>
                  <a:pt x="200" y="782"/>
                </a:cubicBezTo>
                <a:cubicBezTo>
                  <a:pt x="224" y="665"/>
                  <a:pt x="305" y="430"/>
                  <a:pt x="376" y="312"/>
                </a:cubicBezTo>
                <a:cubicBezTo>
                  <a:pt x="447" y="194"/>
                  <a:pt x="563" y="62"/>
                  <a:pt x="624" y="0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FA85-D9F4-4423-B343-11CC1795F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юди живут в разных стран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ласс по системе Л.В.Зан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ие ещё страны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йчас на Земле больше 200 государст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большое государство по территории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большое государство по населени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6294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е маленькое государ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тикан (оно находится в столице Италии – городе Рим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971800"/>
            <a:ext cx="48006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ши сосед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80880" y="1066680"/>
            <a:ext cx="95248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нового мы узнали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государ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ются люди, живущие в одной ст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бщего у гражд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называются граждане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стран на планете  Зем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ём мы не поговорили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быча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обычаях поговорим на следующе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 стр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ю подготовила Журавлёва Анна Михайловна – учитель начальных классов МБОУ «СОШ№31»г.Барна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ись первые объединения люд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называлось несколько род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4864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далее стали называть сообщества люд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по-другому можно назвать государст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чём будем сегодня говор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том, что люди живут в разны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8672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можно назвать людей одного рода или племе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можно ли назвать родственниками людей, живущих в одной стра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почему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как их называ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у них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ритория (земля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ница (линия раздела государ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ица (главный город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(на котором говорят люди одного государст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ычаи (правила, установившиеся привычки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являемся граждан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56386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у нас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1</cp:lastModifiedBy>
  <dcterms:modified xsi:type="dcterms:W3CDTF">2013-03-03T09:18:01Z</dcterms:modified>
  <cp:revision>10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