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E75-95E2-4F90-95F1-8FD945E8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139-CEF1-4E47-8B23-B2D499EC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948-F867-4B11-BE30-D81D524B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93F-3613-4EAF-983D-644CF93F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C03-F841-4B57-9E13-E2A51FF0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279-044A-45C6-A5E9-D274112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1CD-0A1D-4E22-8B87-A561B2D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8CC-B2A2-4E3C-89FD-0828BEFC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042-3677-4A7E-8680-351CD24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FB4-4DED-47BC-AA5D-67B5AB96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65D-9CDC-4C59-AAD2-E76CE3BA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371-0DDC-48E6-A6C4-38F1301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54D1-6237-4517-AA04-ECBFF0F71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10-03/1268420157_lopux-kulinariya.jpe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10-03/1268420157_lopux-kulinariya.jpe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ведь» трав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ученица 2 «Ж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понина Анаста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: Лелюк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puh"/>
          <p:cNvPicPr/>
          <p:nvPr/>
        </p:nvPicPr>
        <p:blipFill>
          <a:blip r:embed="rId1"/>
          <a:stretch/>
        </p:blipFill>
        <p:spPr>
          <a:xfrm>
            <a:off x="539640" y="4365720"/>
            <a:ext cx="1532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69"/>
          <p:cNvPicPr/>
          <p:nvPr/>
        </p:nvPicPr>
        <p:blipFill>
          <a:blip r:embed="rId1"/>
          <a:srcRect l="0" t="0" r="10160" b="0"/>
          <a:stretch/>
        </p:blipFill>
        <p:spPr>
          <a:xfrm>
            <a:off x="395280" y="1341360"/>
            <a:ext cx="3886200" cy="4464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788000" y="1341360"/>
            <a:ext cx="410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приме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 почечнокаменной боле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иаб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евматиз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хите,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олот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кз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укусов ядовиты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ар корня использу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омоте в суста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иртовой экстракт корня лопух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тивоопухолевое средство (эксперименты на живот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Чем полезен лопух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2369880" cy="2298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780000" y="826560"/>
            <a:ext cx="507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медиц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вмат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харный диаб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чнокаменная и мочекаменная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венная болезнь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стр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жные яз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еж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з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пивн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усы пч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ор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живающи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в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ем полезен лопух?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203640" y="1268280"/>
            <a:ext cx="5580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п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ят в сыром, вареном, печеном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аре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т  петрушку и пастер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идл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ме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гот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ют его весной и осен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заготавливают свеж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ят в ящиках, выложенных бума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теринарами отвар корней может быть использован для обмывания коров и лошадей при лишаях, выпадении шерсти, зуде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archiv.kiev1.org/modules/PagEd/medipics/lopuh1.jpg"/>
          <p:cNvPicPr/>
          <p:nvPr/>
        </p:nvPicPr>
        <p:blipFill>
          <a:blip r:embed="rId1"/>
          <a:stretch/>
        </p:blipFill>
        <p:spPr>
          <a:xfrm>
            <a:off x="539640" y="2205000"/>
            <a:ext cx="2880000" cy="2868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-4657680" y="253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635280" y="1338120"/>
            <a:ext cx="53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стой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 заболева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мнях в поч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звенной болезни желу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надцатиперстной ки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ок из молодых листьев  леч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хо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ожном зуде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ып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вмат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ст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хдневный настой на воде служит средством против гусениц капустной беля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Лопух лечение"/>
          <p:cNvPicPr/>
          <p:nvPr/>
        </p:nvPicPr>
        <p:blipFill>
          <a:blip r:embed="rId1"/>
          <a:stretch/>
        </p:blipFill>
        <p:spPr>
          <a:xfrm>
            <a:off x="611280" y="1773360"/>
            <a:ext cx="2754360" cy="3671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3851280" y="386064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й интерес представляет лопух для рыбаков  – чудная наживка для рыболовных сн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51280" y="191520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ветия лопуха часто включались в купальские в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пух также годится на роль краткосрочного метеопрогнози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цепких раст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Из цепких растений"/>
          <p:cNvPicPr/>
          <p:nvPr/>
        </p:nvPicPr>
        <p:blipFill>
          <a:blip r:embed="rId1"/>
          <a:stretch/>
        </p:blipFill>
        <p:spPr>
          <a:xfrm>
            <a:off x="1042920" y="2060640"/>
            <a:ext cx="2935440" cy="3502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859280" y="4437000"/>
            <a:ext cx="268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добываемый скульптур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бка-сюрприз «Прыгающий пау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Из цепких растений"/>
          <p:cNvPicPr/>
          <p:nvPr/>
        </p:nvPicPr>
        <p:blipFill>
          <a:blip r:embed="rId1"/>
          <a:srcRect l="0" t="0" r="-2872" b="60808"/>
          <a:stretch/>
        </p:blipFill>
        <p:spPr>
          <a:xfrm>
            <a:off x="826920" y="1700280"/>
            <a:ext cx="7417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йчик. Корзин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Из цепких растений"/>
          <p:cNvPicPr/>
          <p:nvPr/>
        </p:nvPicPr>
        <p:blipFill>
          <a:blip r:embed="rId1"/>
          <a:stretch/>
        </p:blipFill>
        <p:spPr>
          <a:xfrm>
            <a:off x="755640" y="1413000"/>
            <a:ext cx="7921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Щенок. Сл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Из цепких растений"/>
          <p:cNvPicPr/>
          <p:nvPr/>
        </p:nvPicPr>
        <p:blipFill>
          <a:blip r:embed="rId1"/>
          <a:srcRect l="0" t="0" r="0" b="8640"/>
          <a:stretch/>
        </p:blipFill>
        <p:spPr>
          <a:xfrm>
            <a:off x="1476360" y="1341360"/>
            <a:ext cx="59436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Из цепких растений"/>
          <p:cNvPicPr/>
          <p:nvPr/>
        </p:nvPicPr>
        <p:blipFill>
          <a:blip r:embed="rId1"/>
          <a:srcRect l="-1111" t="43139" r="0" b="5139"/>
          <a:stretch/>
        </p:blipFill>
        <p:spPr>
          <a:xfrm>
            <a:off x="1619280" y="1484280"/>
            <a:ext cx="56005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:\Новая папка\Изображение 069.jpg"/>
          <p:cNvPicPr/>
          <p:nvPr/>
        </p:nvPicPr>
        <p:blipFill>
          <a:blip r:embed="rId1"/>
          <a:srcRect l="4388" t="0" r="7376" b="10003"/>
          <a:stretch/>
        </p:blipFill>
        <p:spPr>
          <a:xfrm>
            <a:off x="4572000" y="1071720"/>
            <a:ext cx="430992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:\Новая папка\DSC00502.JPG"/>
          <p:cNvPicPr/>
          <p:nvPr/>
        </p:nvPicPr>
        <p:blipFill>
          <a:blip r:embed="rId2"/>
          <a:srcRect l="0" t="0" r="4999" b="7503"/>
          <a:stretch/>
        </p:blipFill>
        <p:spPr>
          <a:xfrm>
            <a:off x="214200" y="1071720"/>
            <a:ext cx="429264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F:\Новая папка\Изображение 099.jpg"/>
          <p:cNvPicPr/>
          <p:nvPr/>
        </p:nvPicPr>
        <p:blipFill>
          <a:blip r:embed="rId3"/>
          <a:srcRect l="4760" t="8658" r="10813" b="12147"/>
          <a:stretch/>
        </p:blipFill>
        <p:spPr>
          <a:xfrm>
            <a:off x="4572000" y="4000680"/>
            <a:ext cx="4286160" cy="261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F:\Новая папка\Изображение 115.jpg"/>
          <p:cNvPicPr/>
          <p:nvPr/>
        </p:nvPicPr>
        <p:blipFill>
          <a:blip r:embed="rId4"/>
          <a:srcRect l="0" t="0" r="3508" b="10739"/>
          <a:stretch/>
        </p:blipFill>
        <p:spPr>
          <a:xfrm>
            <a:off x="214200" y="4000680"/>
            <a:ext cx="4276800" cy="25714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13"/>
          <p:cNvGrpSpPr/>
          <p:nvPr/>
        </p:nvGrpSpPr>
        <p:grpSpPr>
          <a:xfrm>
            <a:off x="214200" y="214200"/>
            <a:ext cx="8786880" cy="6442200"/>
            <a:chOff x="214200" y="214200"/>
            <a:chExt cx="8786880" cy="6442200"/>
          </a:xfrm>
        </p:grpSpPr>
        <p:sp>
          <p:nvSpPr>
            <p:cNvPr id="51" name="Прямоугольник 12"/>
            <p:cNvSpPr/>
            <p:nvPr/>
          </p:nvSpPr>
          <p:spPr>
            <a:xfrm>
              <a:off x="214200" y="214200"/>
              <a:ext cx="8786880" cy="6429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7" descr="1268420039_lopux-gl"/>
            <p:cNvPicPr/>
            <p:nvPr/>
          </p:nvPicPr>
          <p:blipFill>
            <a:blip r:embed="rId5"/>
            <a:srcRect l="0" t="0" r="87" b="6584"/>
            <a:stretch/>
          </p:blipFill>
          <p:spPr>
            <a:xfrm>
              <a:off x="1571400" y="214200"/>
              <a:ext cx="6291720" cy="644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о безжалостно уничтожают, а между тем, лопух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оящая аптека, причем от кончиков листьев и до корн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которое находит применение  в косметолог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ъедобное растение, его широко используют  в кулинарии разных стра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настой которого широко используется в сельском хозяйстве в борьбе с вредител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тличная помощь в ветеренар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красная наживка для рыболовных снасте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еопрогнозис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стение, идущее на изготовление олиф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епкое растение, из которого можно создавать интересные скульптуры.</a:t>
            </a:r>
            <a:br>
              <a:rPr sz="23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пух паутинист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 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Arctium tomento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Лопух паутинистый —   Arctium tomentosum Mill. "/>
          <p:cNvPicPr/>
          <p:nvPr/>
        </p:nvPicPr>
        <p:blipFill>
          <a:blip r:embed="rId1"/>
          <a:stretch/>
        </p:blipFill>
        <p:spPr>
          <a:xfrm>
            <a:off x="468360" y="1700280"/>
            <a:ext cx="4645080" cy="4311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435640" y="414972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б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-корз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754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ивязался, как репе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лопух"/>
          <p:cNvPicPr/>
          <p:nvPr/>
        </p:nvPicPr>
        <p:blipFill>
          <a:blip r:embed="rId1"/>
          <a:stretch/>
        </p:blipFill>
        <p:spPr>
          <a:xfrm>
            <a:off x="395280" y="404640"/>
            <a:ext cx="4097520" cy="5803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076720" y="3141720"/>
            <a:ext cx="375444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лепить репья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211640" y="1341360"/>
            <a:ext cx="446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пух – «гоб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лопуха употребля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еным, печеным, жареным, свеж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о кофе и цик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стья лопуха употреб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готовления салатов и су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ые выяснили – лопух задерживает развитие злокачественнных образ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voe"/>
          <p:cNvPicPr/>
          <p:nvPr/>
        </p:nvPicPr>
        <p:blipFill>
          <a:blip r:embed="rId1"/>
          <a:stretch/>
        </p:blipFill>
        <p:spPr>
          <a:xfrm>
            <a:off x="395280" y="476280"/>
            <a:ext cx="351468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repey5"/>
          <p:cNvPicPr/>
          <p:nvPr/>
        </p:nvPicPr>
        <p:blipFill>
          <a:blip r:embed="rId2"/>
          <a:srcRect l="0" t="0" r="0" b="11055"/>
          <a:stretch/>
        </p:blipFill>
        <p:spPr>
          <a:xfrm>
            <a:off x="395280" y="3573360"/>
            <a:ext cx="3529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ьша и 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opuh"/>
          <p:cNvPicPr/>
          <p:nvPr/>
        </p:nvPicPr>
        <p:blipFill>
          <a:blip r:embed="rId1"/>
          <a:stretch/>
        </p:blipFill>
        <p:spPr>
          <a:xfrm>
            <a:off x="468360" y="404640"/>
            <a:ext cx="4384800" cy="597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292720" y="4724280"/>
            <a:ext cx="333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жий корень  находит применение  при заболеваниях кожи и используется для укрепления вол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с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267694137_burdock-seed"/>
          <p:cNvPicPr/>
          <p:nvPr/>
        </p:nvPicPr>
        <p:blipFill>
          <a:blip r:embed="rId1"/>
          <a:stretch/>
        </p:blipFill>
        <p:spPr>
          <a:xfrm>
            <a:off x="539640" y="333360"/>
            <a:ext cx="3621240" cy="5975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5076720" y="4867920"/>
            <a:ext cx="342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хлетний корень лопуха используется как легкое слабительное и желчегонное сред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lopuh"/>
          <p:cNvPicPr/>
          <p:nvPr/>
        </p:nvPicPr>
        <p:blipFill>
          <a:blip r:embed="rId1"/>
          <a:srcRect l="7264" t="0" r="12864" b="0"/>
          <a:stretch/>
        </p:blipFill>
        <p:spPr>
          <a:xfrm>
            <a:off x="468360" y="836640"/>
            <a:ext cx="4243320" cy="5400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435640" y="2436840"/>
            <a:ext cx="340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потребля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мочегонного средства при оте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аются при кровоизлиян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нтоксикации от укуса насекомых и ядовитых зм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1268420039_lopux-gl"/>
          <p:cNvPicPr/>
          <p:nvPr/>
        </p:nvPicPr>
        <p:blipFill>
          <a:blip r:embed="rId1"/>
          <a:stretch/>
        </p:blipFill>
        <p:spPr>
          <a:xfrm>
            <a:off x="324000" y="1341360"/>
            <a:ext cx="3719520" cy="4751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4427640" y="2008080"/>
            <a:ext cx="3889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рень лопуха употреб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амнях в почках и мочевом пузы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гастрите и язве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ма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пейное масло примен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ачестве укрепления волос, устранения перх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3:59:57Z</dcterms:created>
  <dc:creator>Admin</dc:creator>
  <dc:description/>
  <dc:language>en-US</dc:language>
  <cp:lastModifiedBy>Дашуня</cp:lastModifiedBy>
  <dcterms:modified xsi:type="dcterms:W3CDTF">2013-03-26T01:07:44Z</dcterms:modified>
  <cp:revision>17</cp:revision>
  <dc:subject/>
  <dc:title>«Медведь» трав»</dc:title>
</cp:coreProperties>
</file>