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7FF-0A81-4E4B-9F5A-C40EBA36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E31-6F65-42D7-9E4F-2AA2FC3E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C54-830D-43C1-9A5D-49A4245D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695-50B4-4F12-824A-7D6B9411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BA6-E423-4B27-8601-C4605081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439-CBEF-4565-A472-888A5AC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EDE-EF26-4316-AE67-3507586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1DC-F657-4AAA-A83C-238DFE7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274-66F7-44A0-908A-70D0C32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8B4-98A5-4717-850D-38D11783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257-C6D5-4DC9-915B-4858E4C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E65-A9E9-4FAC-ABB0-568C212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966D-DE0C-4C7D-A569-6A9950027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99128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видетельство цивилиз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ученик 2 «Ж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яненко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Лелюк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61440" y="580536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о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148360" y="58053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48d61ce362cb8a666ea3d395614e430c"/>
          <p:cNvPicPr/>
          <p:nvPr/>
        </p:nvPicPr>
        <p:blipFill>
          <a:blip r:embed="rId1"/>
          <a:stretch/>
        </p:blipFill>
        <p:spPr>
          <a:xfrm>
            <a:off x="324000" y="2492280"/>
            <a:ext cx="3951000" cy="258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,,2817189_1,00"/>
          <p:cNvPicPr/>
          <p:nvPr/>
        </p:nvPicPr>
        <p:blipFill>
          <a:blip r:embed="rId2"/>
          <a:stretch/>
        </p:blipFill>
        <p:spPr>
          <a:xfrm>
            <a:off x="4932360" y="2467080"/>
            <a:ext cx="3830760" cy="263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43960" y="589284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е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148360" y="58770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а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acqu"/>
          <p:cNvPicPr/>
          <p:nvPr/>
        </p:nvPicPr>
        <p:blipFill>
          <a:blip r:embed="rId1"/>
          <a:stretch/>
        </p:blipFill>
        <p:spPr>
          <a:xfrm>
            <a:off x="179280" y="2421000"/>
            <a:ext cx="4067280" cy="3038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f5h2ihjie"/>
          <p:cNvPicPr/>
          <p:nvPr/>
        </p:nvPicPr>
        <p:blipFill>
          <a:blip r:embed="rId2"/>
          <a:stretch/>
        </p:blipFill>
        <p:spPr>
          <a:xfrm>
            <a:off x="4500720" y="2468520"/>
            <a:ext cx="4464000" cy="2967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ost1"/>
          <p:cNvPicPr/>
          <p:nvPr/>
        </p:nvPicPr>
        <p:blipFill>
          <a:blip r:embed="rId1"/>
          <a:stretch/>
        </p:blipFill>
        <p:spPr>
          <a:xfrm>
            <a:off x="539640" y="1916280"/>
            <a:ext cx="3311640" cy="2649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70520" y="46530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i-3442"/>
          <p:cNvPicPr/>
          <p:nvPr/>
        </p:nvPicPr>
        <p:blipFill>
          <a:blip r:embed="rId2"/>
          <a:stretch/>
        </p:blipFill>
        <p:spPr>
          <a:xfrm>
            <a:off x="5219640" y="1916280"/>
            <a:ext cx="3597480" cy="2695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6807240" y="465300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img--i-160639-w-640"/>
          <p:cNvPicPr/>
          <p:nvPr/>
        </p:nvPicPr>
        <p:blipFill>
          <a:blip r:embed="rId3"/>
          <a:stretch/>
        </p:blipFill>
        <p:spPr>
          <a:xfrm>
            <a:off x="2700360" y="3933720"/>
            <a:ext cx="3672000" cy="2106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3595320" y="6093000"/>
            <a:ext cx="17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дные мо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14520" y="551664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кно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14520" y="5516640"/>
            <a:ext cx="22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piter_russia_19_0612"/>
          <p:cNvPicPr/>
          <p:nvPr/>
        </p:nvPicPr>
        <p:blipFill>
          <a:blip r:embed="rId1"/>
          <a:stretch/>
        </p:blipFill>
        <p:spPr>
          <a:xfrm>
            <a:off x="468360" y="1916280"/>
            <a:ext cx="3673440" cy="340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most-7(1)"/>
          <p:cNvPicPr/>
          <p:nvPr/>
        </p:nvPicPr>
        <p:blipFill>
          <a:blip r:embed="rId2"/>
          <a:stretch/>
        </p:blipFill>
        <p:spPr>
          <a:xfrm>
            <a:off x="5003640" y="1916280"/>
            <a:ext cx="3581640" cy="336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lo000000376_1_m"/>
          <p:cNvPicPr/>
          <p:nvPr/>
        </p:nvPicPr>
        <p:blipFill>
          <a:blip r:embed="rId1"/>
          <a:stretch/>
        </p:blipFill>
        <p:spPr>
          <a:xfrm>
            <a:off x="1258920" y="1341360"/>
            <a:ext cx="6553080" cy="4178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1913040" y="573408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строфа на Египетском мо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мост Бейли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мир, Инд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adakh_most.jpg"/>
          <p:cNvPicPr/>
          <p:nvPr/>
        </p:nvPicPr>
        <p:blipFill>
          <a:blip r:embed="rId1"/>
          <a:stretch/>
        </p:blipFill>
        <p:spPr>
          <a:xfrm>
            <a:off x="684360" y="1557360"/>
            <a:ext cx="7673760" cy="511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мост над рекой – Королевский мост, Колорадо, С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Kolorado_most.jpg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высокий и длинный мост Виадук Миллау, Фр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Viaduc_de_Millau_most.jpg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526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длинный мост-дамба,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ang_Na_most.jpg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515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й Мост Радуга, штат Юта, СШ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aduga_most.jpg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5313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- брев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07_hr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135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ый мост Магдебург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Водяной мост Магдебурга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505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Сан-Диего – Коронадо,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Мост Сан-Диего - Коронадо с 90-градусным поворотом"/>
          <p:cNvPicPr/>
          <p:nvPr/>
        </p:nvPicPr>
        <p:blipFill>
          <a:blip r:embed="rId1"/>
          <a:stretch/>
        </p:blipFill>
        <p:spPr>
          <a:xfrm>
            <a:off x="1042920" y="1484280"/>
            <a:ext cx="6912000" cy="5227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Тысячелетия, Гэйтсхэд, Великобрит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Гэйтсхэдский мост - единственный мост с архитектурной премией"/>
          <p:cNvPicPr/>
          <p:nvPr/>
        </p:nvPicPr>
        <p:blipFill>
          <a:blip r:embed="rId1"/>
          <a:stretch/>
        </p:blipFill>
        <p:spPr>
          <a:xfrm>
            <a:off x="1187280" y="1413000"/>
            <a:ext cx="6840720" cy="530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Вздохов, Вене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6"/>
          <p:cNvPicPr/>
          <p:nvPr/>
        </p:nvPicPr>
        <p:blipFill>
          <a:blip r:embed="rId1"/>
          <a:stretch/>
        </p:blipFill>
        <p:spPr>
          <a:xfrm>
            <a:off x="539640" y="1341360"/>
            <a:ext cx="4606920" cy="307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_1"/>
          <p:cNvPicPr/>
          <p:nvPr/>
        </p:nvPicPr>
        <p:blipFill>
          <a:blip r:embed="rId2"/>
          <a:stretch/>
        </p:blipFill>
        <p:spPr>
          <a:xfrm>
            <a:off x="4500720" y="3716280"/>
            <a:ext cx="439092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вздохов в Кембридже, Англ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ost_venets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любви, Кие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mainPicture" descr="Мост Любви в Киеве"/>
          <p:cNvPicPr/>
          <p:nvPr/>
        </p:nvPicPr>
        <p:blipFill>
          <a:blip r:embed="rId1"/>
          <a:stretch/>
        </p:blipFill>
        <p:spPr>
          <a:xfrm>
            <a:off x="539640" y="1341360"/>
            <a:ext cx="6624720" cy="4969080"/>
          </a:xfrm>
          <a:prstGeom prst="rect">
            <a:avLst/>
          </a:prstGeom>
          <a:ln w="0">
            <a:noFill/>
          </a:ln>
        </p:spPr>
      </p:pic>
      <p:pic>
        <p:nvPicPr>
          <p:cNvPr id="130" name="imgb" descr="http://t1.gstatic.com/images?q=tbn:pNjJp0uVN3IQmM::krasnoglinskiy.ru/wp-content/gallery/zamki/IMG_2814.jpg&amp;t=1&amp;h=260&amp;w=195&amp;usg=__qnQOK5_ADuMaq5VqcFfqwag3JBg="/>
          <p:cNvPicPr/>
          <p:nvPr/>
        </p:nvPicPr>
        <p:blipFill>
          <a:blip r:embed="rId2"/>
          <a:stretch/>
        </p:blipFill>
        <p:spPr>
          <a:xfrm>
            <a:off x="5997600" y="2637000"/>
            <a:ext cx="30002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памяти и скорби, Дудин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Память об эпохе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5213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в Краснояр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448680" y="5877000"/>
            <a:ext cx="10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Kommunalny_bridge_in_Krasnoyarsk"/>
          <p:cNvPicPr/>
          <p:nvPr/>
        </p:nvPicPr>
        <p:blipFill>
          <a:blip r:embed="rId1"/>
          <a:stretch/>
        </p:blipFill>
        <p:spPr>
          <a:xfrm>
            <a:off x="179280" y="981000"/>
            <a:ext cx="4176720" cy="3135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58160" y="4365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bef37b77f9d80f51e35eb4739c149faa"/>
          <p:cNvPicPr/>
          <p:nvPr/>
        </p:nvPicPr>
        <p:blipFill>
          <a:blip r:embed="rId2"/>
          <a:stretch/>
        </p:blipFill>
        <p:spPr>
          <a:xfrm>
            <a:off x="4500720" y="2852640"/>
            <a:ext cx="4468680" cy="2984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в Краснояр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479600" y="458136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303240" y="612936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т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41_4134"/>
          <p:cNvPicPr/>
          <p:nvPr/>
        </p:nvPicPr>
        <p:blipFill>
          <a:blip r:embed="rId1"/>
          <a:stretch/>
        </p:blipFill>
        <p:spPr>
          <a:xfrm>
            <a:off x="324000" y="981000"/>
            <a:ext cx="4392360" cy="329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i-1066"/>
          <p:cNvPicPr/>
          <p:nvPr/>
        </p:nvPicPr>
        <p:blipFill>
          <a:blip r:embed="rId2"/>
          <a:stretch/>
        </p:blipFill>
        <p:spPr>
          <a:xfrm>
            <a:off x="4932360" y="2131920"/>
            <a:ext cx="393876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ы в Краснояр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989800" y="58053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300px-Zheleznodorozhnyjj_most,_the_railway_bridge_over_the_Yenisei_in_Krasnoyarsk,_Russia,_view_from_the_left_bank"/>
          <p:cNvPicPr/>
          <p:nvPr/>
        </p:nvPicPr>
        <p:blipFill>
          <a:blip r:embed="rId1"/>
          <a:stretch/>
        </p:blipFill>
        <p:spPr>
          <a:xfrm>
            <a:off x="1116000" y="1125360"/>
            <a:ext cx="6767640" cy="451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1227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римский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ttp://upload.wikimedia.org/wikipedia/commons/thumb/f/f9/Rimini_-_Ponte_romano_-_Foto_Giovanni_Dall%27Orto%2C_aprile_2004_01.jpg/200px-Rimini_-_Ponte_romano_-_Foto_Giovanni_Dall%27Orto%2C_aprile_2004_01.jpg"/>
          <p:cNvPicPr/>
          <p:nvPr/>
        </p:nvPicPr>
        <p:blipFill>
          <a:blip r:embed="rId1"/>
          <a:stretch/>
        </p:blipFill>
        <p:spPr>
          <a:xfrm>
            <a:off x="468360" y="220500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upload.wikimedia.org/wikipedia/commons/thumb/d/dd/48_-_Mende_-_Pont_Notre-Dame.jpg/200px-48_-_Mende_-_Pont_Notre-Dame.jpg"/>
          <p:cNvPicPr/>
          <p:nvPr/>
        </p:nvPicPr>
        <p:blipFill>
          <a:blip r:embed="rId2"/>
          <a:stretch/>
        </p:blipFill>
        <p:spPr>
          <a:xfrm>
            <a:off x="4788000" y="2205000"/>
            <a:ext cx="3887640" cy="2604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456080" y="620640"/>
            <a:ext cx="46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веков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наплавной мост в Киеве, 12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em-pontony-b-93.jpg (15399 bytes)"/>
          <p:cNvPicPr/>
          <p:nvPr/>
        </p:nvPicPr>
        <p:blipFill>
          <a:blip r:embed="rId1">
            <a:lum contrast="12000"/>
          </a:blip>
          <a:srcRect l="0" t="16257" r="0" b="0"/>
          <a:stretch/>
        </p:blipFill>
        <p:spPr>
          <a:xfrm>
            <a:off x="900000" y="2133720"/>
            <a:ext cx="7056720" cy="3714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вочный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Kakum_National2"/>
          <p:cNvPicPr/>
          <p:nvPr/>
        </p:nvPicPr>
        <p:blipFill>
          <a:blip r:embed="rId1"/>
          <a:stretch/>
        </p:blipFill>
        <p:spPr>
          <a:xfrm>
            <a:off x="324000" y="1341360"/>
            <a:ext cx="3801960" cy="504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upload.wikimedia.org/wikipedia/commons/thumb/8/89/Kulibin_bridge.jpg/200px-Kulibin_bridge.jpg"/>
          <p:cNvPicPr/>
          <p:nvPr/>
        </p:nvPicPr>
        <p:blipFill>
          <a:blip r:embed="rId2"/>
          <a:stretch/>
        </p:blipFill>
        <p:spPr>
          <a:xfrm>
            <a:off x="4284720" y="4653000"/>
            <a:ext cx="4568760" cy="1393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3276720" y="2421000"/>
            <a:ext cx="71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мос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в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392436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в мире металлический мост (Великобритания), 18 век</a:t>
            </a:r>
            <a:br>
              <a:rPr sz="36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upload.wikimedia.org/wikipedia/commons/thumb/7/70/Iron_Bridge.JPG/200px-Iron_Bridge.JPG"/>
          <p:cNvPicPr/>
          <p:nvPr/>
        </p:nvPicPr>
        <p:blipFill>
          <a:blip r:embed="rId1"/>
          <a:stretch/>
        </p:blipFill>
        <p:spPr>
          <a:xfrm>
            <a:off x="324000" y="3429000"/>
            <a:ext cx="3528720" cy="26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ib15"/>
          <p:cNvPicPr/>
          <p:nvPr/>
        </p:nvPicPr>
        <p:blipFill>
          <a:blip r:embed="rId2"/>
          <a:stretch/>
        </p:blipFill>
        <p:spPr>
          <a:xfrm>
            <a:off x="3995640" y="3068640"/>
            <a:ext cx="4762440" cy="30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250px-Lavr_Proskuryakov"/>
          <p:cNvPicPr/>
          <p:nvPr/>
        </p:nvPicPr>
        <p:blipFill>
          <a:blip r:embed="rId3"/>
          <a:stretch/>
        </p:blipFill>
        <p:spPr>
          <a:xfrm>
            <a:off x="7667640" y="2565360"/>
            <a:ext cx="129528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3993840" y="260280"/>
            <a:ext cx="462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Краснояр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Д. Проскуряко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иж, 190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 «Золотые ворота»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-Франциско, 20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1199535466_zolotye-vorota-6"/>
          <p:cNvPicPr/>
          <p:nvPr/>
        </p:nvPicPr>
        <p:blipFill>
          <a:blip r:embed="rId1"/>
          <a:stretch/>
        </p:blipFill>
        <p:spPr>
          <a:xfrm>
            <a:off x="1835280" y="1484280"/>
            <a:ext cx="568944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3"/>
          <p:cNvSpPr/>
          <p:nvPr/>
        </p:nvSpPr>
        <p:spPr>
          <a:xfrm>
            <a:off x="395280" y="1052640"/>
            <a:ext cx="842472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ция мо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Отличия мостов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1128600"/>
            <a:ext cx="6624720" cy="5729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451640" y="4292640"/>
            <a:ext cx="107964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372360" y="5013360"/>
            <a:ext cx="115236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435640" y="566100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924360" y="6381720"/>
            <a:ext cx="22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еговая оп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340000" y="1628640"/>
            <a:ext cx="309564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ты (подвесные кан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268360" y="2276640"/>
            <a:ext cx="165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84360" y="3068640"/>
            <a:ext cx="24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ётное 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Bridge_Rail1"/>
          <p:cNvPicPr/>
          <p:nvPr/>
        </p:nvPicPr>
        <p:blipFill>
          <a:blip r:embed="rId1"/>
          <a:stretch/>
        </p:blipFill>
        <p:spPr>
          <a:xfrm>
            <a:off x="468360" y="2133720"/>
            <a:ext cx="3400200" cy="3600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при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956_october_bridge_webcam"/>
          <p:cNvPicPr/>
          <p:nvPr/>
        </p:nvPicPr>
        <p:blipFill>
          <a:blip r:embed="rId2"/>
          <a:stretch/>
        </p:blipFill>
        <p:spPr>
          <a:xfrm>
            <a:off x="4716360" y="2133720"/>
            <a:ext cx="3743280" cy="3587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613080" y="587700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нодоро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076720" y="587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8:51:28Z</dcterms:created>
  <dc:creator>Admin</dc:creator>
  <dc:description/>
  <dc:language>en-US</dc:language>
  <cp:lastModifiedBy>Дашуня</cp:lastModifiedBy>
  <dcterms:modified xsi:type="dcterms:W3CDTF">2013-03-26T01:01:33Z</dcterms:modified>
  <cp:revision>17</cp:revision>
  <dc:subject/>
  <dc:title>Мосты  как свидетельство цивилизации</dc:title>
</cp:coreProperties>
</file>