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1BBC-9DA8-4A86-AC83-4E5F765DC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48F0-3B78-4B74-A2F9-F865C5EF9A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54D-1DFD-4F36-A1E9-724D393C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F41-0E0B-4A07-9262-5561D66E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CC2-E2CC-40A3-939E-4FD17310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E84-AD8A-45A3-A19C-FE33DDDF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0A81-A699-4D4D-B044-E4D73618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F268-E1F8-4E68-A28E-77527E2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9340-7882-49E4-925C-E2E33FD9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BAC9-9B18-4657-BD73-0EB0FBB6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4288-8D89-4DD4-A805-038E5CB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091B-6C66-4518-A36F-317224BE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1A90-CD82-469E-B374-B2DD09B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643-7F04-4F38-83AB-23E3738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3FDF-7CED-4C63-9507-F3AA53F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13B-8DA9-4E23-A31E-AC8BBE2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993-C5C4-4E91-8838-F06CE37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F164-D1D5-4633-9D86-F03A1E5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4D36-00B7-4B65-88A9-2C991C44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9D7-A7C0-4073-8E5C-9606B68B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2C6-3030-466A-9994-0ECEB618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D99-685A-400C-A96B-792760D4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EE2-EA49-48ED-B6AB-BE0BD982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B71-90DD-47FF-8647-4856712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A24-5CEC-41A9-B101-C88B9F18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29E-255B-4FBD-8B50-DBEBBACB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3E27-D3F7-440B-AA75-DA857AA6A46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3602-CC18-4A5B-8F65-B2068464629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55600" y="1182600"/>
            <a:ext cx="8961480" cy="234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Victor Semenov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orm 9-b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mprehensive Schoo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Kalashnikov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учный руководитель: Алхимова В.Н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У «Калашниковская СОШ»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hat’s that feeling that I get?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heart is drowning in regret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nds are shaking, eyes are full of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ham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ost myself, but I don’t care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’m going but I don’t know wher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feet are taking me away from you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beautiful dream, I loved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ave me your hea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beautiful dream, I loved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ave me your hea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 have no reason now to stay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t I will think of you and pra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hat you will find someone to lov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gain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’m leaving and I won’t come back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’ll find your way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’ll be alright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t promise me you won’t forget my nam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[timed 4]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y beautiful dream, I loved you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Only you, only you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ave me your hear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так, я очень критически  анализирую тексты песен, всегда соотношу лексико-грамматический материал текста с изученными правилами, и если что-то меня настораживает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начинаю разбираться.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Leave out all the Rest by Linkin Park 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о одна из последних песен, которые мы разбирали на уроке, и это –великолепная иллюстрация грамматического понятия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mplex Objec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что означает сложное дополнение.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ение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 want you to know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повторяемое неоднократно и в куплетах, и припеве переводится дословно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хочу тебя знать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, а по смыслу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хочу,  чтобы ты знала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– это и есть сложное дополнение, переводимое на русский язык через придаточное изъяснительное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”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Я хочу чтобы ты ( он, мы ) и т.д. знали  - уже легче переводить и употреблять подобные структуры в повседневной речи, практикуясь в английском. Благодаря  этой песне я повторил согласование времен, исправив предложенный мне вариант первой строчки: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 dreamed I was missing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не приснилось , что я опаздывал , но по правилу  согласования времен –Мне снилось, что я опаздываю (в английском необходимо подчеркнуть одновременность слов автора, если они даны в прошедшем времени) и придаточного действия, чего мы в русском не соблюдаем. Повторил также правило употребления настоящего времени вместо будущего в придаточных предложениях времени и условия, благо есть такие строчки - повторы в песне.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Управляющая кнопка: звук 3">
            <a:hlinkClick r:id="rId2"/>
          </p:cNvPr>
          <p:cNvSpPr/>
          <p:nvPr/>
        </p:nvSpPr>
        <p:spPr>
          <a:xfrm>
            <a:off x="7772400" y="60199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8406"/>
                </a:moveTo>
                <a:lnTo>
                  <a:pt x="10621" y="8406"/>
                </a:lnTo>
                <a:lnTo>
                  <a:pt x="15042" y="3794"/>
                </a:lnTo>
                <a:lnTo>
                  <a:pt x="15042" y="17806"/>
                </a:lnTo>
                <a:lnTo>
                  <a:pt x="10621" y="13194"/>
                </a:lnTo>
                <a:lnTo>
                  <a:pt x="6190" y="13194"/>
                </a:lnTo>
                <a:close/>
              </a:path>
              <a:path fill="darken" w="26394" h="21600">
                <a:moveTo>
                  <a:pt x="16696" y="10800"/>
                </a:moveTo>
                <a:lnTo>
                  <a:pt x="20203" y="10800"/>
                </a:lnTo>
              </a:path>
              <a:path fill="darken" w="26394" h="21600">
                <a:moveTo>
                  <a:pt x="16696" y="8406"/>
                </a:moveTo>
                <a:lnTo>
                  <a:pt x="20203" y="5639"/>
                </a:lnTo>
              </a:path>
              <a:path fill="darken" w="26394" h="21600">
                <a:moveTo>
                  <a:pt x="16696" y="13194"/>
                </a:moveTo>
                <a:lnTo>
                  <a:pt x="20203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dreamed I was missing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You were so scared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But no one would listen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Cause no one else car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After my dreaming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woke with this fear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hat am I leaving?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When I'm done he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So if you're asking me I want you to know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When my time comes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get the wrong that I've don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Help me leave behind some reasons to be missed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And don't resent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And when you're feeling empt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eep me in your memory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Leave out all the rest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Leave out all the rest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Don't be afraid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ve taken my beating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ve shed but I'm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m strong on the surfac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Not all the way though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've never been perfect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But neither have you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Book Antiqua"/>
              </a:rPr>
              <a:t>So if you're asking me I want you to know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horus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7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getting all the hurt insid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You've learned to hide so well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Pretending someone else can come and save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rom myself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can't be who you a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Chorus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getting all the hurt insid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You've learned to hide so well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Pretending someone else can come and save m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rom myself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can't be who you a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 can't be who you are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42040" indent="-273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тексте данной песни есть и другие ошибки, которые мы исправили, проведя лексико-грамматический анализ в соответствии с изученными правилами. Хочу сказать, что мы сами предлагаем нашему учителю песни, но ее требование при этом- чтобы в тексте были грамматические структуры,  которые на данный момент мы изучали в классе.Отрабатываем мелодию, интонацию, анализируем лексику и грамматику, делаем свои версии перевода, которые не искажают содержания (как это случается при дословном переводе) , а наиболее близко и точно передают смысл.   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ктивное присутствие песни при изучении английского языка не оспаривает никто, я же сам убежден, что это –первичное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know how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Но как и любым инструментом надо уметь пользоваться более того, надо этим делом проникнуться, чтобы  не было как в басне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вы друзья, как ни садитесь, все в музыканты не годитесь.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лодия , интонация из уст носителя английского языка- это ни с чем не сравнимое удовольствие, испытуемое от того, что ты слушаешь и понимаешь о чем идет речь, берешь на вооружение новые обороты речи в свой лексикон и как в конструкторе выстраиваешь, нарабатываешь свои собственные проекты. Кстати сказать, я впервые познакомился со сленгами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“gonna”(to be going to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– собираться что-то делать ),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“wanna”(wan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хотеть),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uz because –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ому что и т.д.из песен изучая их , подбирая перевод .В песне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minem “Mockinbird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тица пересмешник)есть строки которые начинаются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“I’mma give you the world I’mma give you the diamond ring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я,мама ,подарю тебе мир, я ,мама, подарю тебе бриллиантовое кольцо –так выдает перевод словаря интернета, хотя в песне идет речь о дочери, а не о маме. Путём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огического размышления,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ализа сопоставления с русским жаргоном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янусь мамой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я дал свой перевод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ятвенно обещаю и тогда все встало на свои мест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этому, если взялся учить песню на английском языке, то нужно в нее внедриться, так как неглубокое рассмотрение – это плохое качество вообще, а при изучении английского языка –  гиблое место  т.е. приведет в никуда поэтому  мне лично приходиться добиваться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ятерк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 трудом , нужно столько времени и терпения, допустим, на ту же песню, чтобы не просто имитировать ее знание, не вникая в суть, не задумываясь, над особенностями интонации и произношения, не анализируя речевые обороты и грамматические структуры насколько это соответствует изученным правилам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3352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Сейчас в век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Всемирной паутины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песню и ее перевод легко скачать. Бывают даже переводы не одного автора, а нескольких. И это большинство пользователей устраивает-скачали песню на мобильный и давай подпевать что-то на подобие. Меня от такого подхода к нулевому результату убедили отказаться. И первое требование – сверка лексико-грамматического содержания текста песни с правилами т.е. практики с теорией. И это очень важно т.к. носитель языка исполняет песню правильно(это обнаруживается при многократном прослушивании),а если же это сленг, тоже можно разобраться, если вникнуть, а вот в самих текстах, данных в интернете есть ошибки, иногда много, к сожалению, а может это и к лучшему так как есть над чем думать, что анализировать, а интернет при всех своих пользах думать как-то не учит, поэтому мы и называемся пользователями-потребителями этого 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блага цивилизации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”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 для удобства, как источником. Так вот, сравнивая то, как поет исполнитель песни с образцом текста, я каждый раз обнаруживаю  грамматические и речевые ошибки. Надо сказать, меньше всего таких ошибок в песнях,   выдержанных временем у 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“Queen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 “Armstrong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из современных исполнителей у 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“Eminem”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ffffff"/>
                </a:solidFill>
                <a:latin typeface="Book Antiqua"/>
              </a:rPr>
              <a:t> “Linkin Park”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.Но и здесь тоже есть работа для размышления, как я упоминал выше</a:t>
            </a: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учивали песню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ve you like a love song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нитель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lena Gome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Первая строчка текста, данного в интернет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t’s been said and done every beautiful thoughts been already sung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Слушаю исполнителя, совпадает по транскрипционному звучанию полностью, но со стороны лексики проблема: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мысль, но в текст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мысли, не стыкуется со словом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ver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как данный случай требует после себя существительного в единственном числе. Почему же в текст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о звучанию исполнителя то же самое? Размышляю дальше. Только что прошли в школе страдательный залог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assive Voice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Не буду лезть в дебри, как он образуется, скажу только, что в тексте, распечатанном из интернета, отсутствовал апостроф. Следует написать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ought’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что означает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very beautiful thought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как и положено единственное число) далее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‘s=ha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далее по тексту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een sung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все строго по правилам образования страдательного залога в настоящем совершенном времени в данном случае. Итак, эврика –я нашел, в чем дело, и исправил ошибку, допущенную тем, кто выдал текст в сеть. А я, анализируя нестыковки, подкрепил теорию образования страдательного залога практикой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99440" indent="-22140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Управляющая кнопка: звук 3">
            <a:hlinkClick r:id="rId2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t's been said and don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Every beautiful thought's been already sung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 guess right now here's another on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o your melody will play on and on, with the best of 'em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are beautiful, like a dream come alive, incredibl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 sinful miracle, lyrica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've saved my life aga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 want you to know bab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[2x:]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 keep hittin' re-pe-pe-pe-pe-pe pea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onstantly, boy you played through my mind like a symphon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here's no way to describe what you do to m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just do to me, what you do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nd it feels like I've been rescued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've been set fre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I am hyptonized by your destin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are magical, lyrical, beautifu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You are... I want you to know bab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443520" indent="-333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1100"/>
            </a:br>
            <a:br>
              <a:rPr sz="1100"/>
            </a:br>
            <a:endParaRPr b="0" lang="en-US" sz="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Book Antiqua"/>
              </a:rPr>
              <a:t>[2x:]</a:t>
            </a:r>
            <a:endParaRPr b="0" lang="en-US" sz="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d I keep hittin' re-pe-pe-pe-pe-pe pea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one compa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stand alone, to every record I ow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Music to my heart that's what you ar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 song that goes on and o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, I love you like a love song, bab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nd I keep hittin' re-pe-pe-pe-pe-pe peat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история о том, как внимательный анализ текста песни заставил меня поработать со словарем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данном случае это будет ставшая классикой групп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Queen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песн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We will rock you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Мы вас раскачаем )- так дан перевод в интернете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знаю слово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c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скала. Открываю словарь так и есть: скала, горная порода, а также : качать, убаюкивать. Ищу дальше, а затем оказывается-это слово о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rock-roll”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ок-н-рол)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т теперь все понятно, в каком плане раскачаем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 сам я, дал свой перевод: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“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щутите драй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Управляющая кнопка: звук 3">
            <a:hlinkClick r:id="rId2"/>
          </p:cNvPr>
          <p:cNvSpPr/>
          <p:nvPr/>
        </p:nvSpPr>
        <p:spPr>
          <a:xfrm>
            <a:off x="80773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8406"/>
                </a:moveTo>
                <a:lnTo>
                  <a:pt x="9419" y="8406"/>
                </a:lnTo>
                <a:lnTo>
                  <a:pt x="13841" y="3794"/>
                </a:lnTo>
                <a:lnTo>
                  <a:pt x="13841" y="17806"/>
                </a:lnTo>
                <a:lnTo>
                  <a:pt x="9419" y="13194"/>
                </a:lnTo>
                <a:lnTo>
                  <a:pt x="4989" y="13194"/>
                </a:lnTo>
                <a:close/>
              </a:path>
              <a:path fill="darken" w="23991" h="21600">
                <a:moveTo>
                  <a:pt x="15494" y="10800"/>
                </a:moveTo>
                <a:lnTo>
                  <a:pt x="19002" y="10800"/>
                </a:lnTo>
              </a:path>
              <a:path fill="darken" w="23991" h="21600">
                <a:moveTo>
                  <a:pt x="15494" y="8406"/>
                </a:moveTo>
                <a:lnTo>
                  <a:pt x="19002" y="5639"/>
                </a:lnTo>
              </a:path>
              <a:path fill="darken" w="23991" h="21600">
                <a:moveTo>
                  <a:pt x="15494" y="13194"/>
                </a:moveTo>
                <a:lnTo>
                  <a:pt x="19002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ddy you’re a boy make a big nois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layin’ in the street gonna be a big man some da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got mud on yo’ f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 big disgr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Kickin’ your can all over the pl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uddy you’re a young man hard man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Shoutin’ in the street gonna take all the world some day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’ve got blood on yo’ f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Your big disgr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avin’ your banner all over the plac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ddy you’re an old man poor ma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leadin’ with your eyes gonna make you some peace some d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ou’ve got mud on your fac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You big disgrac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mebody better put you back into your plac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e will we will rock you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en-US" sz="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6858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правило новый учебный год мы начинаем с повторения, чаще всего это глагол и действия с ним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дкрепляем это специально подобранной песней. Вот и в этом году мы взяли песню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”Only You”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нитель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icael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andy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Берем 1 куплет песни,4 строчку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ost myself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Я перевел это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“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запутался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”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это прошедшее простое время от глагола 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 lose – lost –lost –losing ( 2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а -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st Simpl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Но по правилу следует поставить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ve lost ( have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+ 3-я форма, которая в этом глаголе совпадает со второй) т.е. нужно поставить настоящее совершенное время – это действие, которое мы употребляем, когда нам не важно, когда это произошло, но важно подчеркнуть, как на это прореагировало наше настоящее, важно подчеркнуть эту связь –как это и соответствует содержанию: я запутался – и в итоге  бреду, не зная, куда. Почему тогда в песне стоит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ost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а не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ave los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?Просто  потому что не рифмуется? Я обратился за разъяснением ,оказывается , в устной речи ( в данном случае в песне) возможно отсутствие  вспомогательного глагола при наличии определенной ситуации, которая объясняет и оправдывает это отсутствие. То-есть, ошибки в тексте не было , но размышление с моей стороны было, и оно благополучно разрешилось. На примере этой песни я повторил будущее простое, настоящее простое и завершенное, прошедшее простое и настоящее продолженное.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Управляющая кнопка: звук 3">
            <a:hlinkClick r:id="rId2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8406"/>
                </a:moveTo>
                <a:lnTo>
                  <a:pt x="9300" y="8406"/>
                </a:lnTo>
                <a:lnTo>
                  <a:pt x="13721" y="3794"/>
                </a:lnTo>
                <a:lnTo>
                  <a:pt x="13721" y="17806"/>
                </a:lnTo>
                <a:lnTo>
                  <a:pt x="9300" y="13194"/>
                </a:lnTo>
                <a:lnTo>
                  <a:pt x="4869" y="13194"/>
                </a:lnTo>
                <a:close/>
              </a:path>
              <a:path fill="darken" w="23752" h="21600">
                <a:moveTo>
                  <a:pt x="15375" y="10800"/>
                </a:moveTo>
                <a:lnTo>
                  <a:pt x="18882" y="10800"/>
                </a:lnTo>
              </a:path>
              <a:path fill="darken" w="23752" h="21600">
                <a:moveTo>
                  <a:pt x="15375" y="8406"/>
                </a:moveTo>
                <a:lnTo>
                  <a:pt x="18882" y="5639"/>
                </a:lnTo>
              </a:path>
              <a:path fill="darken" w="23752" h="21600">
                <a:moveTo>
                  <a:pt x="15375" y="13194"/>
                </a:moveTo>
                <a:lnTo>
                  <a:pt x="18882" y="1596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46:13Z</dcterms:created>
  <dc:creator>Витек</dc:creator>
  <dc:description/>
  <dc:language>en-US</dc:language>
  <cp:lastModifiedBy>user</cp:lastModifiedBy>
  <dcterms:modified xsi:type="dcterms:W3CDTF">2013-03-25T07:26:32Z</dcterms:modified>
  <cp:revision>70</cp:revision>
  <dc:subject/>
  <dc:title>Лексико-грамматический анализ текстов популярных песен найденных мною в интернете.</dc:title>
</cp:coreProperties>
</file>