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338-2CDF-4BD9-80D5-7AC8FEDF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61E0-1FF0-411B-A922-F4FCE9B8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3B94-493D-4E55-AA2A-AC4B0910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BCCA-98B3-4578-9A51-CB8F8AE2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716A-DA14-45B2-906E-767EBA1E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7E5-3780-469B-9561-BE5A04DC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9DA-D523-43F1-B1B7-FE883B2A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1876-550A-44E8-A785-7A5AC1D5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2BD-AFDE-4CCC-9CBB-D54D8F4C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7B96-FA63-4284-BAB8-0C5C1F25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675-ADFD-4778-BE81-0383C0B8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C60-6B2E-464F-99F8-FF6E6AAC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F3FF-F42C-43BB-ADDE-5C58533A6C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ЁТ ПО РАБОТЕ ЦИФРОВОЙ ЛАБОРАТ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928600"/>
            <a:ext cx="64008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Отчет состави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Кухтина А.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Попкова Н.Б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Киркица И.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26.03.2013 г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ню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187280" y="1579680"/>
            <a:ext cx="66708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нопка «Настрой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пришли к выводу, что имеющиеся настройки изменений не требу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214800" y="3033720"/>
            <a:ext cx="28573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нопка «Калибров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71720" y="1571760"/>
            <a:ext cx="6929280" cy="3757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00040" y="5429160"/>
            <a:ext cx="80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воляет откалибровать каждый датчик. Но для этого необходимо зн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трольные значения по которым проводим калибров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цесс сбора данных после нажатия кнопки «Созда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357200" y="1643040"/>
            <a:ext cx="6596280" cy="3257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285840" y="535788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ходе сбора данных часто происходит разъединение контактов и датчики отклю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рафик по результатам эксперимен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285840" y="571500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рограмме предложено 6 видов стилей отображения результатов эксперимента и один пользовательский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928800" y="1571760"/>
            <a:ext cx="71676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Учитель\Мои документы\эксперимент\1.jpg"/>
          <p:cNvPicPr/>
          <p:nvPr/>
        </p:nvPicPr>
        <p:blipFill>
          <a:blip r:embed="rId1"/>
          <a:stretch/>
        </p:blipFill>
        <p:spPr>
          <a:xfrm>
            <a:off x="428760" y="2571840"/>
            <a:ext cx="8697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блон доклада о испытания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00080" y="1571760"/>
            <a:ext cx="7024680" cy="394956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14200" y="571500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ь функций сохранения работает. График можно сохранить в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предлагается шаблон заполнения доклада о испыт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во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кция по работе с лабораторией очень краткая, что затрудняет ее использ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рамма не всегда работает коррект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ную лабораторию рекомендуем использовать для проектной деятельности учащих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23:51:39Z</dcterms:created>
  <dc:creator>Учитель</dc:creator>
  <dc:description/>
  <dc:language>en-US</dc:language>
  <cp:lastModifiedBy>Учитель</cp:lastModifiedBy>
  <dcterms:modified xsi:type="dcterms:W3CDTF">2013-03-26T01:09:51Z</dcterms:modified>
  <cp:revision>11</cp:revision>
  <dc:subject/>
  <dc:title>ОТЧЁТ ПО РАБОТЕ ЦИФРОВОЙ ЛАБОРАТОРИИ</dc:title>
</cp:coreProperties>
</file>