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B55-F453-41A9-9FDA-93DA2C86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2EC-7F94-445B-A594-0888D359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053-C4BA-4E1A-94D8-B014F5F0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5A8-E903-4A4E-866D-BFA2D4FE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EBD-A21E-4A39-8E7D-72B44FDF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2A7-C87B-4D88-A602-66459B31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A2C-1114-483D-8645-D0802CEE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270-248F-4872-87C6-9C933E0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744-B89A-4551-B0AC-94B1F425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A01-F5E1-42BA-8120-554E5BE8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E40-A069-4FF5-8CB9-A0B369F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618-2AF3-4A3A-B8DB-905CC50A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087F-F554-40FA-B925-6BC048D830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ЁТ ПО РАБОТЕ ЦИФРОВОЙ ЛАБОРА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92860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Отчет состави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ухтина А.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опкова Н.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иркица И.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6.03.2013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ю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187280" y="1579680"/>
            <a:ext cx="66708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Настрой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ишли к выводу, что имеющиеся настройки изменений не требу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214800" y="3033720"/>
            <a:ext cx="28573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Калибров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929280" cy="3757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4291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ет откалибровать каждый датчик. Но для этого необходимо зн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трольные значения по которым проводим калибр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сбора данных после нажатия кнопки «Созд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596280" cy="3257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85840" y="53578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де сбора данных часто происходит разъединение контактов и датчики отклю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ик по результатам экспери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5840" y="5715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ограмме предложено 6 видов стилей отображения результатов эксперимента и один пользовательский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71676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Учитель\Мои документы\эксперимент\1.jpg"/>
          <p:cNvPicPr/>
          <p:nvPr/>
        </p:nvPicPr>
        <p:blipFill>
          <a:blip r:embed="rId1"/>
          <a:stretch/>
        </p:blipFill>
        <p:spPr>
          <a:xfrm>
            <a:off x="428760" y="2571840"/>
            <a:ext cx="869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блон доклада о испытан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024680" cy="3949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200" y="57150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ь функций сохранения работает. График можно сохранить в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предлагается шаблон заполнения доклада о испыт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я по работе с лабораторией очень краткая, что затрудняет ее исполь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не всегда работает коррек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ую лабораторию рекомендуем использовать для проектной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3:51:39Z</dcterms:created>
  <dc:creator>Учитель</dc:creator>
  <dc:description/>
  <dc:language>en-US</dc:language>
  <cp:lastModifiedBy>Учитель</cp:lastModifiedBy>
  <dcterms:modified xsi:type="dcterms:W3CDTF">2013-03-26T01:09:51Z</dcterms:modified>
  <cp:revision>11</cp:revision>
  <dc:subject/>
  <dc:title>ОТЧЁТ ПО РАБОТЕ ЦИФРОВОЙ ЛАБОРАТОРИИ</dc:title>
</cp:coreProperties>
</file>