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F7A6-413A-4182-8027-2E3C10682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ECF5-4A4D-4FC5-8C51-1DAF63A73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2B57-EA6C-45CA-B62E-C78689CC7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8346-D361-47DF-BECC-BA61FF2D6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A4D2-B372-4895-AA78-86D8FF5DA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F96F-E3B9-41B2-B2ED-F1D01FEE6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08C4-5A51-41CC-93F7-538C51071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B66C-C9A1-495A-8253-0FBD941C1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5C33-A032-43B2-88AD-60C9A2CC7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8637-382C-4F18-A091-E42DA9AC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41AB-3FBD-4AF0-94C9-768A69B9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933B-70AA-482D-B5DF-E604745E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382AA-33EF-4EA8-93F7-B04ACDA786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ЧЁТ ПО РАБОТЕ ЦИФРОВОЙ ЛАБОРАТОР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2928600"/>
            <a:ext cx="640080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98989"/>
                </a:solidFill>
                <a:latin typeface="Calibri"/>
              </a:rPr>
              <a:t>Отчет составил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98989"/>
                </a:solidFill>
                <a:latin typeface="Calibri"/>
              </a:rPr>
              <a:t>Кухтина А.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98989"/>
                </a:solidFill>
                <a:latin typeface="Calibri"/>
              </a:rPr>
              <a:t>Попкова Н.Б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98989"/>
                </a:solidFill>
                <a:latin typeface="Calibri"/>
              </a:rPr>
              <a:t>Киркица И.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98989"/>
                </a:solidFill>
                <a:latin typeface="Calibri"/>
              </a:rPr>
              <a:t>26.03.2013 год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ню програм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187280" y="1579680"/>
            <a:ext cx="66708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нопка «Настройк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ы пришли к выводу, что имеющиеся настройки изменений не требую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3214800" y="3033720"/>
            <a:ext cx="285732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нопка «Калибров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071720" y="1571760"/>
            <a:ext cx="6929280" cy="3757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00040" y="5429160"/>
            <a:ext cx="807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зволяет откалибровать каждый датчик. Но для этого необходимо зн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нтрольные значения по которым проводим калибров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цесс сбора данных после нажатия кнопки «Создать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357200" y="1643040"/>
            <a:ext cx="6596280" cy="325764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285840" y="535788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ходе сбора данных часто происходит разъединение контактов и датчики отключаю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График по результатам эксперимен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285840" y="571500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программе предложено 6 видов стилей отображения результатов эксперимента и один пользовательский шабл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928800" y="1571760"/>
            <a:ext cx="7167600" cy="40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C:\Documents and Settings\Учитель\Мои документы\эксперимент\1.jpg"/>
          <p:cNvPicPr/>
          <p:nvPr/>
        </p:nvPicPr>
        <p:blipFill>
          <a:blip r:embed="rId1"/>
          <a:stretch/>
        </p:blipFill>
        <p:spPr>
          <a:xfrm>
            <a:off x="428760" y="2571840"/>
            <a:ext cx="8697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Шаблон доклада о испытания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000080" y="1571760"/>
            <a:ext cx="7024680" cy="3949560"/>
          </a:xfrm>
          <a:prstGeom prst="rect">
            <a:avLst/>
          </a:prstGeom>
          <a:ln w="0">
            <a:noFill/>
          </a:ln>
        </p:spPr>
      </p:pic>
      <p:sp>
        <p:nvSpPr>
          <p:cNvPr id="62" name="TextBox 4"/>
          <p:cNvSpPr/>
          <p:nvPr/>
        </p:nvSpPr>
        <p:spPr>
          <a:xfrm>
            <a:off x="214200" y="5715000"/>
            <a:ext cx="86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асть функций сохранения работает. График можно сохранить в форма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, предлагается шаблон заполнения доклада о испытан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ывод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струкция по работе с лабораторией очень краткая, что затрудняет ее использо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грамма не всегда работает коррект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нную лабораторию рекомендуем использовать для проектной деятельности учащих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5T23:51:39Z</dcterms:created>
  <dc:creator>Учитель</dc:creator>
  <dc:description/>
  <dc:language>en-US</dc:language>
  <cp:lastModifiedBy>Учитель</cp:lastModifiedBy>
  <dcterms:modified xsi:type="dcterms:W3CDTF">2013-03-26T01:09:51Z</dcterms:modified>
  <cp:revision>11</cp:revision>
  <dc:subject/>
  <dc:title>ОТЧЁТ ПО РАБОТЕ ЦИФРОВОЙ ЛАБОРАТОРИИ</dc:title>
</cp:coreProperties>
</file>