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BB10-4F68-41E1-9331-A84BBC41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3E7-A221-485E-94ED-58B808D8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D2C-8DD2-487B-9CEB-779F4F1D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B0D-616A-4121-87D1-65317A43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AF1-8F89-4C78-BA5C-31F848A2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66D-E7C5-4DE3-9474-4ECADF53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EE8-8FB8-49F6-A18A-446E445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93B-1F95-438A-B2A3-D75FF374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8CF-9136-4A81-9608-A43CEFA1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CD0-F030-4251-8ECA-2F762859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D86-AF9D-4FEE-AC18-B7A6CDFC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796-1720-4B7E-8420-1C18E9A6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F1AC-7382-42CC-A290-26C9A2F25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ЧЁТ ПО РАБОТЕ ЦИФРОВОЙ ЛАБОРА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928600"/>
            <a:ext cx="6400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Отчет состави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Кухтина А.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Попкова Н.Б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Киркица И.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26.03.2013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ю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187280" y="1579680"/>
            <a:ext cx="66708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опка «Настрой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пришли к выводу, что имеющиеся настройки изменений не требу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214800" y="3033720"/>
            <a:ext cx="28573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нопка «Калибров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6929280" cy="3757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42916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воляет откалибровать каждый датчик. Но для этого необходимо зн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трольные значения по которым проводим калибро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цесс сбора данных после нажатия кнопки «Созд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6596280" cy="3257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85840" y="53578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ходе сбора данных часто происходит разъединение контактов и датчики отклю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афик по результатам эксперим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85840" y="57150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ограмме предложено 6 видов стилей отображения результатов эксперимента и один пользовательский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928800" y="1571760"/>
            <a:ext cx="71676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Учитель\Мои документы\эксперимент\1.jpg"/>
          <p:cNvPicPr/>
          <p:nvPr/>
        </p:nvPicPr>
        <p:blipFill>
          <a:blip r:embed="rId1"/>
          <a:stretch/>
        </p:blipFill>
        <p:spPr>
          <a:xfrm>
            <a:off x="428760" y="2571840"/>
            <a:ext cx="8697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блон доклада о испытан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7024680" cy="3949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4200" y="57150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ь функций сохранения работает. График можно сохранить в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предлагается шаблон заполнения доклада о испыт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кция по работе с лабораторией очень краткая, что затрудняет ее исполь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не всегда работает коррек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ую лабораторию рекомендуем использовать для проектной деятельности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23:51:39Z</dcterms:created>
  <dc:creator>Учитель</dc:creator>
  <dc:description/>
  <dc:language>en-US</dc:language>
  <cp:lastModifiedBy>Учитель</cp:lastModifiedBy>
  <dcterms:modified xsi:type="dcterms:W3CDTF">2013-03-26T01:09:51Z</dcterms:modified>
  <cp:revision>11</cp:revision>
  <dc:subject/>
  <dc:title>ОТЧЁТ ПО РАБОТЕ ЦИФРОВОЙ ЛАБОРАТОРИИ</dc:title>
</cp:coreProperties>
</file>