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6.jpeg" ContentType="image/jpeg"/>
  <Override PartName="/ppt/media/image27.jpeg" ContentType="image/jpeg"/>
  <Override PartName="/ppt/media/image33.gif" ContentType="image/gif"/>
  <Override PartName="/ppt/media/image18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4D6C-04D1-4CCD-92BA-E36FFA8F8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C157-E853-45EE-BCD4-F57C4357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B5D9-1439-4B28-A2D7-3911F444D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4E71-9ACF-4D62-B9C3-DEEE44E1F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849B-09A1-46BA-AA38-7BE98573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E74D-E442-433C-8001-E00AAA9B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2B24-FB2F-4783-8C74-220215E3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1AEC-A86B-4CFE-87EE-EB481C6D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AB0A-3401-497A-9F2B-DED8966D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8721-B123-4091-B5D8-518C29A5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3442-0814-4056-91EA-BA923984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3F0F-F4AE-430A-9564-835F585F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0000"/>
            </a:gs>
            <a:gs pos="100000">
              <a:srgbClr val="00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7459-F899-4282-B5D2-49B5C2BB94C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8000" y="188640"/>
            <a:ext cx="90741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eorgia"/>
              </a:rPr>
              <a:t>МУНИЦИПАЛЬНОЕ </a:t>
            </a: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Georgia"/>
              </a:rPr>
              <a:t>ОБЩЕОБРАЗОВАТЕЛЬНОЕ </a:t>
            </a: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Georgia"/>
              </a:rPr>
              <a:t>УЧРЕЖДЕНИ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eorgia"/>
              </a:rPr>
              <a:t>ХАНДЫГСКАЯ </a:t>
            </a: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1" lang="ru-RU" sz="1200" spc="-1" strike="noStrike">
                <a:solidFill>
                  <a:srgbClr val="ffffff"/>
                </a:solidFill>
                <a:latin typeface="Georgia"/>
              </a:rPr>
              <a:t>СРЕДНЯЯ </a:t>
            </a: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Georgia"/>
              </a:rPr>
              <a:t>ОБЩЕОБРАЗОВАТЕЛЬНАЯ </a:t>
            </a: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1" lang="ru-RU" sz="1200" spc="-1" strike="noStrike">
                <a:solidFill>
                  <a:srgbClr val="ffffff"/>
                </a:solidFill>
                <a:latin typeface="Georgia"/>
              </a:rPr>
              <a:t>ШКОЛ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eorgia"/>
              </a:rPr>
              <a:t>ТОМПОНСКОГО </a:t>
            </a: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Georgia"/>
              </a:rPr>
              <a:t>РАЙО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Урок технолог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«Работа с бумагой. Прямое плетение из полос бумаг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(система Л.В. Занков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2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2556000" y="5516640"/>
            <a:ext cx="6480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таровойтова Светлана Владимировна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стол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кресло"/>
          <p:cNvPicPr/>
          <p:nvPr/>
        </p:nvPicPr>
        <p:blipFill>
          <a:blip r:embed="rId1"/>
          <a:stretch/>
        </p:blipFill>
        <p:spPr>
          <a:xfrm>
            <a:off x="565200" y="189000"/>
            <a:ext cx="3214800" cy="41781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68" name="Picture 5" descr="коляска"/>
          <p:cNvPicPr/>
          <p:nvPr/>
        </p:nvPicPr>
        <p:blipFill>
          <a:blip r:embed="rId2"/>
          <a:stretch/>
        </p:blipFill>
        <p:spPr>
          <a:xfrm>
            <a:off x="857160" y="3789360"/>
            <a:ext cx="2625840" cy="292572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pic>
        <p:nvPicPr>
          <p:cNvPr id="69" name="Picture 6" descr="сундук"/>
          <p:cNvPicPr/>
          <p:nvPr/>
        </p:nvPicPr>
        <p:blipFill>
          <a:blip r:embed="rId3"/>
          <a:stretch/>
        </p:blipFill>
        <p:spPr>
          <a:xfrm>
            <a:off x="5580000" y="452520"/>
            <a:ext cx="2521080" cy="226224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pic>
        <p:nvPicPr>
          <p:cNvPr id="70" name="Picture 7" descr="кукла"/>
          <p:cNvPicPr/>
          <p:nvPr/>
        </p:nvPicPr>
        <p:blipFill>
          <a:blip r:embed="rId4"/>
          <a:stretch/>
        </p:blipFill>
        <p:spPr>
          <a:xfrm>
            <a:off x="5086440" y="2500200"/>
            <a:ext cx="3414600" cy="39704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4" descr="valmiera_07"/>
          <p:cNvPicPr/>
          <p:nvPr/>
        </p:nvPicPr>
        <p:blipFill>
          <a:blip r:embed="rId1"/>
          <a:stretch/>
        </p:blipFill>
        <p:spPr>
          <a:xfrm>
            <a:off x="324000" y="1052640"/>
            <a:ext cx="5040000" cy="41958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73" name="Picture 5" descr="4548_2"/>
          <p:cNvPicPr/>
          <p:nvPr/>
        </p:nvPicPr>
        <p:blipFill>
          <a:blip r:embed="rId2"/>
          <a:stretch/>
        </p:blipFill>
        <p:spPr>
          <a:xfrm>
            <a:off x="5724360" y="189000"/>
            <a:ext cx="3249720" cy="61927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русские лапти"/>
          <p:cNvPicPr/>
          <p:nvPr/>
        </p:nvPicPr>
        <p:blipFill>
          <a:blip r:embed="rId1"/>
          <a:stretch/>
        </p:blipFill>
        <p:spPr>
          <a:xfrm>
            <a:off x="5148360" y="1197000"/>
            <a:ext cx="3652920" cy="4869000"/>
          </a:xfrm>
          <a:prstGeom prst="rect">
            <a:avLst/>
          </a:prstGeom>
          <a:ln w="76320">
            <a:solidFill>
              <a:srgbClr val="33cccc"/>
            </a:solidFill>
            <a:miter/>
          </a:ln>
        </p:spPr>
      </p:pic>
      <p:sp>
        <p:nvSpPr>
          <p:cNvPr id="75" name="WordArt 10"/>
          <p:cNvSpPr txBox="1"/>
          <p:nvPr/>
        </p:nvSpPr>
        <p:spPr>
          <a:xfrm>
            <a:off x="1476360" y="0"/>
            <a:ext cx="57610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ЛАПТ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914400" y="2122560"/>
            <a:ext cx="3009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843120" y="2122560"/>
            <a:ext cx="329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179280" y="1557360"/>
            <a:ext cx="4967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Лапти- низкая обувь, распространенная на Руси в старину, бывшая в широком употреблен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в сельской местности, сплетенная из древесного лыка ил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берес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450px-Museum_of_History_of_Donetsk_metallurgical_plant_(012)[1]"/>
          <p:cNvPicPr/>
          <p:nvPr/>
        </p:nvPicPr>
        <p:blipFill>
          <a:blip r:embed="rId1"/>
          <a:stretch/>
        </p:blipFill>
        <p:spPr>
          <a:xfrm>
            <a:off x="4678200" y="260280"/>
            <a:ext cx="4286520" cy="571500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  <p:pic>
        <p:nvPicPr>
          <p:cNvPr id="80" name="Picture 10" descr="плетение"/>
          <p:cNvPicPr/>
          <p:nvPr/>
        </p:nvPicPr>
        <p:blipFill>
          <a:blip r:embed="rId2"/>
          <a:stretch/>
        </p:blipFill>
        <p:spPr>
          <a:xfrm>
            <a:off x="141120" y="125280"/>
            <a:ext cx="4286520" cy="654372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4581595fc91e (1)_2"/>
          <p:cNvPicPr/>
          <p:nvPr/>
        </p:nvPicPr>
        <p:blipFill>
          <a:blip r:embed="rId1"/>
          <a:stretch/>
        </p:blipFill>
        <p:spPr>
          <a:xfrm>
            <a:off x="176040" y="189000"/>
            <a:ext cx="4681800" cy="62643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82" name="Picture 6" descr="4581595fc91e (6)_2"/>
          <p:cNvPicPr/>
          <p:nvPr/>
        </p:nvPicPr>
        <p:blipFill>
          <a:blip r:embed="rId2"/>
          <a:stretch/>
        </p:blipFill>
        <p:spPr>
          <a:xfrm>
            <a:off x="5292720" y="189000"/>
            <a:ext cx="3714840" cy="5229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83" name="WordArt 11"/>
          <p:cNvSpPr txBox="1"/>
          <p:nvPr/>
        </p:nvSpPr>
        <p:spPr>
          <a:xfrm>
            <a:off x="5040360" y="5011560"/>
            <a:ext cx="396072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плетень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изгородь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108360" y="44280"/>
            <a:ext cx="9155160" cy="160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5ffff"/>
                </a:solidFill>
                <a:latin typeface="Tahoma"/>
              </a:rPr>
              <a:t>Плетень- это изгородь из </a:t>
            </a:r>
            <a:br>
              <a:rPr sz="4000"/>
            </a:br>
            <a:r>
              <a:rPr b="1" i="1" lang="ru-RU" sz="4000" spc="-1" strike="noStrike">
                <a:solidFill>
                  <a:srgbClr val="e5ffff"/>
                </a:solidFill>
                <a:latin typeface="Tahoma"/>
              </a:rPr>
              <a:t>сплетенных прутьев или веток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4" descr="4581595fc91e (5)_2"/>
          <p:cNvPicPr/>
          <p:nvPr/>
        </p:nvPicPr>
        <p:blipFill>
          <a:blip r:embed="rId1"/>
          <a:stretch/>
        </p:blipFill>
        <p:spPr>
          <a:xfrm>
            <a:off x="971640" y="1700280"/>
            <a:ext cx="6696000" cy="49384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4581595fc91e_2"/>
          <p:cNvPicPr/>
          <p:nvPr/>
        </p:nvPicPr>
        <p:blipFill>
          <a:blip r:embed="rId1"/>
          <a:stretch/>
        </p:blipFill>
        <p:spPr>
          <a:xfrm>
            <a:off x="250920" y="206280"/>
            <a:ext cx="8604000" cy="64548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Podsolnechnik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grpSp>
        <p:nvGrpSpPr>
          <p:cNvPr id="89" name="Rectangle 8"/>
          <p:cNvGrpSpPr/>
          <p:nvPr/>
        </p:nvGrpSpPr>
        <p:grpSpPr>
          <a:xfrm>
            <a:off x="152280" y="92160"/>
            <a:ext cx="8766360" cy="2711520"/>
            <a:chOff x="152280" y="92160"/>
            <a:chExt cx="8766360" cy="271152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152280" y="92160"/>
              <a:ext cx="8766360" cy="27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79280" y="115920"/>
              <a:ext cx="8713800" cy="26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280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«Подсолнечник или подсолнух – южное растение, по-другому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солнечник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или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солнух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, или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солноверть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Толковый словарь В.Да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Comic Sans MS"/>
              </a:rPr>
              <a:t>Правила работы с ножницам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ожницы клади кольцами к себ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е оставляй ножницы открыты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е играй с ножниц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одавай ножницы кольцами впере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Работай только на своем рабочем месте, не ходи по класс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Рисунок 6" descr="Sova.png"/>
          <p:cNvPicPr/>
          <p:nvPr/>
        </p:nvPicPr>
        <p:blipFill>
          <a:blip r:embed="rId1"/>
          <a:stretch/>
        </p:blipFill>
        <p:spPr>
          <a:xfrm>
            <a:off x="264960" y="5286240"/>
            <a:ext cx="155268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korzina_big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4"/>
          <p:cNvSpPr txBox="1"/>
          <p:nvPr/>
        </p:nvSpPr>
        <p:spPr>
          <a:xfrm>
            <a:off x="971640" y="1413000"/>
            <a:ext cx="734544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336699"/>
                    </a:gs>
                    <a:gs pos="50000">
                      <a:srgbClr val="ffcc00"/>
                    </a:gs>
                    <a:gs pos="100000">
                      <a:srgbClr val="33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летени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336699"/>
                  </a:gs>
                  <a:gs pos="50000">
                    <a:srgbClr val="ffcc00"/>
                  </a:gs>
                  <a:gs pos="100000">
                    <a:srgbClr val="3366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blesk_rozoptashki"/>
          <p:cNvPicPr/>
          <p:nvPr/>
        </p:nvPicPr>
        <p:blipFill>
          <a:blip r:embed="rId1"/>
          <a:stretch/>
        </p:blipFill>
        <p:spPr>
          <a:xfrm>
            <a:off x="1908000" y="115920"/>
            <a:ext cx="5256360" cy="1347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blesk_rozoptashki"/>
          <p:cNvPicPr/>
          <p:nvPr/>
        </p:nvPicPr>
        <p:blipFill>
          <a:blip r:embed="rId2"/>
          <a:stretch/>
        </p:blipFill>
        <p:spPr>
          <a:xfrm>
            <a:off x="1908000" y="5300640"/>
            <a:ext cx="5256360" cy="134784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468360" y="2781360"/>
            <a:ext cx="8337600" cy="16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>
                    <a:alpha val="54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Спасибо за творчество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>
                  <a:alpha val="54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362800" cy="5689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txBody>
          <a:bodyPr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deff15"/>
                </a:solidFill>
                <a:latin typeface="Comic Sans MS"/>
              </a:rPr>
              <a:t>корзина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deff15"/>
                </a:solidFill>
                <a:latin typeface="Comic Sans MS"/>
              </a:rPr>
              <a:t>соломенная шляпа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deff15"/>
                </a:solidFill>
                <a:latin typeface="Comic Sans MS"/>
              </a:rPr>
              <a:t>лапти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deff15"/>
                </a:solidFill>
                <a:latin typeface="Comic Sans MS"/>
              </a:rPr>
              <a:t>сапоги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deff15"/>
                </a:solidFill>
                <a:latin typeface="Comic Sans MS"/>
              </a:rPr>
              <a:t>лукошко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16" descr="i-119"/>
          <p:cNvPicPr/>
          <p:nvPr/>
        </p:nvPicPr>
        <p:blipFill>
          <a:blip r:embed="rId1"/>
          <a:stretch/>
        </p:blipFill>
        <p:spPr>
          <a:xfrm>
            <a:off x="250920" y="115920"/>
            <a:ext cx="22320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3_386_2"/>
          <p:cNvPicPr/>
          <p:nvPr/>
        </p:nvPicPr>
        <p:blipFill>
          <a:blip r:embed="rId1"/>
          <a:stretch/>
        </p:blipFill>
        <p:spPr>
          <a:xfrm>
            <a:off x="5060880" y="144360"/>
            <a:ext cx="3832200" cy="5300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09104d92cbc1_2"/>
          <p:cNvPicPr/>
          <p:nvPr/>
        </p:nvPicPr>
        <p:blipFill>
          <a:blip r:embed="rId2"/>
          <a:stretch/>
        </p:blipFill>
        <p:spPr>
          <a:xfrm>
            <a:off x="250920" y="71280"/>
            <a:ext cx="4503600" cy="3934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корзина1"/>
          <p:cNvPicPr/>
          <p:nvPr/>
        </p:nvPicPr>
        <p:blipFill>
          <a:blip r:embed="rId3"/>
          <a:stretch/>
        </p:blipFill>
        <p:spPr>
          <a:xfrm>
            <a:off x="5148360" y="2205000"/>
            <a:ext cx="3898800" cy="4508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лукошко"/>
          <p:cNvPicPr/>
          <p:nvPr/>
        </p:nvPicPr>
        <p:blipFill>
          <a:blip r:embed="rId4"/>
          <a:stretch/>
        </p:blipFill>
        <p:spPr>
          <a:xfrm>
            <a:off x="179280" y="2060640"/>
            <a:ext cx="468180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4076280"/>
            <a:ext cx="4762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4" descr="туесок"/>
          <p:cNvPicPr/>
          <p:nvPr/>
        </p:nvPicPr>
        <p:blipFill>
          <a:blip r:embed="rId1"/>
          <a:stretch/>
        </p:blipFill>
        <p:spPr>
          <a:xfrm rot="534600">
            <a:off x="5149440" y="333360"/>
            <a:ext cx="3743280" cy="280656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54" name="Picture 5" descr="korzina3_2"/>
          <p:cNvPicPr/>
          <p:nvPr/>
        </p:nvPicPr>
        <p:blipFill>
          <a:blip r:embed="rId2"/>
          <a:stretch/>
        </p:blipFill>
        <p:spPr>
          <a:xfrm rot="21402600">
            <a:off x="323640" y="404280"/>
            <a:ext cx="4464000" cy="57610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55" name="Picture 6" descr="mat_993101_bb_2"/>
          <p:cNvPicPr/>
          <p:nvPr/>
        </p:nvPicPr>
        <p:blipFill>
          <a:blip r:embed="rId3"/>
          <a:stretch/>
        </p:blipFill>
        <p:spPr>
          <a:xfrm rot="612600">
            <a:off x="5470560" y="3645000"/>
            <a:ext cx="3168720" cy="2770200"/>
          </a:xfrm>
          <a:prstGeom prst="rect">
            <a:avLst/>
          </a:prstGeom>
          <a:ln w="7632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4" descr="2df0161c7864_2"/>
          <p:cNvPicPr/>
          <p:nvPr/>
        </p:nvPicPr>
        <p:blipFill>
          <a:blip r:embed="rId1"/>
          <a:stretch/>
        </p:blipFill>
        <p:spPr>
          <a:xfrm>
            <a:off x="1692360" y="189000"/>
            <a:ext cx="5667120" cy="6408720"/>
          </a:xfrm>
          <a:prstGeom prst="rect">
            <a:avLst/>
          </a:prstGeom>
          <a:ln w="7920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0" name="Picture 4" descr="e647ab5bc1da_2"/>
          <p:cNvPicPr/>
          <p:nvPr/>
        </p:nvPicPr>
        <p:blipFill>
          <a:blip r:embed="rId1"/>
          <a:stretch/>
        </p:blipFill>
        <p:spPr>
          <a:xfrm>
            <a:off x="496800" y="366840"/>
            <a:ext cx="8323200" cy="624204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2" name="Picture 4" descr="005_07_2"/>
          <p:cNvPicPr/>
          <p:nvPr/>
        </p:nvPicPr>
        <p:blipFill>
          <a:blip r:embed="rId1"/>
          <a:stretch/>
        </p:blipFill>
        <p:spPr>
          <a:xfrm>
            <a:off x="1258920" y="333360"/>
            <a:ext cx="6840360" cy="6066000"/>
          </a:xfrm>
          <a:prstGeom prst="rect">
            <a:avLst/>
          </a:prstGeom>
          <a:ln w="7632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shliapa5"/>
          <p:cNvPicPr/>
          <p:nvPr/>
        </p:nvPicPr>
        <p:blipFill>
          <a:blip r:embed="rId1"/>
          <a:stretch/>
        </p:blipFill>
        <p:spPr>
          <a:xfrm rot="1142400">
            <a:off x="4211280" y="0"/>
            <a:ext cx="4356000" cy="31021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64" name="Picture 7" descr="shliapa2"/>
          <p:cNvPicPr/>
          <p:nvPr/>
        </p:nvPicPr>
        <p:blipFill>
          <a:blip r:embed="rId2"/>
          <a:stretch/>
        </p:blipFill>
        <p:spPr>
          <a:xfrm rot="21264000">
            <a:off x="418680" y="431280"/>
            <a:ext cx="3216240" cy="3645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65" name="Picture 9" descr="shliapa"/>
          <p:cNvPicPr/>
          <p:nvPr/>
        </p:nvPicPr>
        <p:blipFill>
          <a:blip r:embed="rId3"/>
          <a:stretch/>
        </p:blipFill>
        <p:spPr>
          <a:xfrm rot="21335400">
            <a:off x="3276720" y="3284280"/>
            <a:ext cx="4608360" cy="34099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12:27:29Z</dcterms:created>
  <dc:creator>Gera</dc:creator>
  <dc:description/>
  <dc:language>en-US</dc:language>
  <cp:lastModifiedBy>Sveta</cp:lastModifiedBy>
  <dcterms:modified xsi:type="dcterms:W3CDTF">2012-11-15T13:50:25Z</dcterms:modified>
  <cp:revision>15</cp:revision>
  <dc:subject/>
  <dc:title>Слайд 1</dc:title>
</cp:coreProperties>
</file>