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EC6-7C09-409F-B208-52155506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6C8-087E-4A19-BDA8-359F904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DBF-7AE7-42FD-B436-9E4613B8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6CE-0732-41B9-8E60-1F4496B1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C86-961D-4556-897F-34639624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1530-953E-4B49-B9F5-8B781045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155-3864-4205-83FC-CA9D9B4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7DC1-1486-4913-847E-DE3F5A4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703F-C30A-489D-BC42-5FAA07A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F24F-8CFF-4D3A-B7D4-1F59BF5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0707-6DC1-4E2E-A8A6-97F327F4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74F-5F48-4E08-AF7B-D7A91CAB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6364-5F8F-470D-BFAA-FEFE8C41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1288-8484-488A-B54B-EAE136B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A5F-D86A-4A1A-87A7-861091E9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F26E-39FB-4564-A2B7-A166109C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ED64-BE2D-43A5-B05D-B26D91A5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931-0110-419C-A03A-0E1836C9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1BD-46D5-4C96-B175-2B56D800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4FB-62F5-42CB-997F-F33990BA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44-4A94-4C61-AC05-903D42A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E82-C97B-4E41-A8D3-BA53F14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CEA-623A-4E17-94BF-ED332BBD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276-2096-48A5-B32F-4C7D3A2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65D-F768-420D-8D49-13A0609F0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73E-379E-464C-A00F-627F1F3F30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Happy Family Illustration Wallpaper 14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e0c00"/>
                </a:solidFill>
                <a:latin typeface="Comic Sans MS"/>
              </a:rPr>
              <a:t>Семья и семейные ценн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России впервые 8 июля 2008 года отмечался новый праздник — День семьи. Он посвящен памяти святых Петра и Февронии Муромских. В православной традиции они считаются покровителями супружеской верности, любви и семейного счасть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7" descr="C:\Users\Школа\Desktop\68907_large.jpg"/>
          <p:cNvPicPr/>
          <p:nvPr/>
        </p:nvPicPr>
        <p:blipFill>
          <a:blip r:embed="rId1"/>
          <a:stretch/>
        </p:blipFill>
        <p:spPr>
          <a:xfrm>
            <a:off x="285840" y="1857240"/>
            <a:ext cx="6491160" cy="4357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нь Петра и Февронии - это русский праздник влюблённых. Петр и Феврония обладали любовью, наполненной необыкновенным духовным содержанием. Именно этим святым молились наши предки, прося благословения на вступление в брак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C:\Users\Школа\Desktop\photo94.jpg"/>
          <p:cNvPicPr/>
          <p:nvPr/>
        </p:nvPicPr>
        <p:blipFill>
          <a:blip r:embed="rId1"/>
          <a:stretch/>
        </p:blipFill>
        <p:spPr>
          <a:xfrm>
            <a:off x="4357800" y="289080"/>
            <a:ext cx="4357440" cy="641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C:\Users\Школа\Desktop\986ab24709e7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емья для ребенка – это место его рождения и становления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7" descr="C:\Users\Школа\Desktop\0_1ea00_241c6d7_XL.jpg"/>
          <p:cNvPicPr/>
          <p:nvPr/>
        </p:nvPicPr>
        <p:blipFill>
          <a:blip r:embed="rId1"/>
          <a:stretch/>
        </p:blipFill>
        <p:spPr>
          <a:xfrm>
            <a:off x="1643040" y="1714680"/>
            <a:ext cx="6006960" cy="4987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В СЕМЬ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клад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едставления ребе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 добре и зл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 порядоч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б уважительн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тнош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 материаль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 духовным ценнос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225578296_xfjt_2010"/>
          <p:cNvPicPr/>
          <p:nvPr/>
        </p:nvPicPr>
        <p:blipFill>
          <a:blip r:embed="rId1"/>
          <a:stretch/>
        </p:blipFill>
        <p:spPr>
          <a:xfrm>
            <a:off x="3844800" y="2000160"/>
            <a:ext cx="4842000" cy="3857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1225578393_xfjt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7 я- это: мама, папа, я, две бабушки, два дедуш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Но количество членов семьи может быть разны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Семья может быть многодетной, где больше трех детей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1225578407_xfjt_2013"/>
          <p:cNvPicPr/>
          <p:nvPr/>
        </p:nvPicPr>
        <p:blipFill>
          <a:blip r:embed="rId1"/>
          <a:stretch/>
        </p:blipFill>
        <p:spPr>
          <a:xfrm>
            <a:off x="755640" y="561960"/>
            <a:ext cx="7561440" cy="5315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71e07"/>
                </a:solidFill>
                <a:latin typeface="Arial"/>
              </a:rPr>
              <a:t>Быть мамой даже одного ребенка – это очень почетно! Мама – самое почетное звание на свете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99ff99"/>
                </a:solidFill>
                <a:latin typeface="Arial"/>
              </a:rPr>
              <a:t>Быть отцом – быть главой семьи.</a:t>
            </a:r>
            <a:br>
              <a:rPr sz="2800"/>
            </a:br>
            <a:r>
              <a:rPr b="1" i="1" lang="ru-RU" sz="2800" spc="-1" strike="noStrike">
                <a:solidFill>
                  <a:srgbClr val="99ff99"/>
                </a:solidFill>
                <a:latin typeface="Arial"/>
              </a:rPr>
              <a:t>Папы – умные, добрые, сильные. Они могут многому научить, что-то подсказать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7" descr="C:\Users\Школа\Desktop\x_8740f32d.jpg"/>
          <p:cNvPicPr/>
          <p:nvPr/>
        </p:nvPicPr>
        <p:blipFill>
          <a:blip r:embed="rId1"/>
          <a:stretch/>
        </p:blipFill>
        <p:spPr>
          <a:xfrm>
            <a:off x="1428840" y="2786040"/>
            <a:ext cx="6715080" cy="390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1225578454_xfjt_2016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75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a71e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a71e07"/>
                </a:solidFill>
                <a:latin typeface="Arial"/>
              </a:rPr>
              <a:t>Семейные традиции - это обычаи, которые существуют в семьях в течение долгих лет.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ин из таких обычаев – давать новорожденному ребенку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мя в честь одного из членов сем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ще одна семейная традиция – члены одной семьи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анимались одним, общим для всех, видом деятельнос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1225578458_xfjt_2019"/>
          <p:cNvPicPr/>
          <p:nvPr/>
        </p:nvPicPr>
        <p:blipFill>
          <a:blip r:embed="rId1"/>
          <a:stretch/>
        </p:blipFill>
        <p:spPr>
          <a:xfrm>
            <a:off x="142920" y="2967120"/>
            <a:ext cx="4929120" cy="3890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920" y="1357200"/>
            <a:ext cx="557208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«многомерность» жизни семьи,</a:t>
            </a:r>
            <a:br>
              <a:rPr sz="2400"/>
            </a:b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 широта и многогранность влияний, </a:t>
            </a:r>
            <a:br>
              <a:rPr sz="2400"/>
            </a:b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 условия, которые создаются членами семьи</a:t>
            </a:r>
            <a:r>
              <a:rPr b="0" lang="ru-RU" sz="14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Заголовок 1" descr=""/>
          <p:cNvPicPr/>
          <p:nvPr/>
        </p:nvPicPr>
        <p:blipFill>
          <a:blip r:embed="rId2"/>
          <a:stretch/>
        </p:blipFill>
        <p:spPr>
          <a:xfrm rot="21123600">
            <a:off x="406080" y="596520"/>
            <a:ext cx="820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225577776_xfjt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71e07"/>
                </a:solidFill>
                <a:latin typeface="Arial"/>
              </a:rPr>
              <a:t>Семья</a:t>
            </a: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 – это святое слово, </a:t>
            </a: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и обижать его нельзя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В нем наши корни, наша сила,</a:t>
            </a: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Наши заветные слов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474984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воспитатель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хозяйственно-бытов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экономическ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социально-статус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психотерапевтическ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репродуктив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духовное общение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досуговая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4" descr="1225578477_xfjt_2017"/>
          <p:cNvPicPr/>
          <p:nvPr/>
        </p:nvPicPr>
        <p:blipFill>
          <a:blip r:embed="rId1"/>
          <a:stretch/>
        </p:blipFill>
        <p:spPr>
          <a:xfrm>
            <a:off x="4786200" y="2143080"/>
            <a:ext cx="4110120" cy="371484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28760" y="825480"/>
            <a:ext cx="8243640" cy="1317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ae0c00"/>
                </a:solidFill>
                <a:latin typeface="Arial"/>
              </a:rPr>
              <a:t>Чтобы  семья была дружной, надо придерживаясь следующих качеств:</a:t>
            </a:r>
            <a:br>
              <a:rPr sz="32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нимание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Любовь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важение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Доверие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оброта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Забота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мощь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 Дружб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1225578495_xfjt_2018"/>
          <p:cNvPicPr/>
          <p:nvPr/>
        </p:nvPicPr>
        <p:blipFill>
          <a:blip r:embed="rId1"/>
          <a:stretch/>
        </p:blipFill>
        <p:spPr>
          <a:xfrm>
            <a:off x="3929040" y="2143080"/>
            <a:ext cx="5014800" cy="4214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1225578513_xfjt_2020"/>
          <p:cNvPicPr/>
          <p:nvPr/>
        </p:nvPicPr>
        <p:blipFill>
          <a:blip r:embed="rId1"/>
          <a:stretch/>
        </p:blipFill>
        <p:spPr>
          <a:xfrm>
            <a:off x="1928880" y="3429000"/>
            <a:ext cx="5786280" cy="3271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e0c00"/>
                </a:solidFill>
                <a:latin typeface="Arial"/>
              </a:rPr>
              <a:t>Не жди, что твой ребенок будет таким, как ты или таким, как ты хочешь. Помоги ему стать не тобой, а собо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225577866_xfjt_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68ae"/>
                </a:solidFill>
                <a:latin typeface="Arial"/>
              </a:rPr>
              <a:t>Слово «семья» понятно всем, как слова «мама», «хлеб», «родина».</a:t>
            </a:r>
            <a:r>
              <a:rPr b="0" i="1" lang="ru-RU" sz="2000" spc="-1" strike="noStrike">
                <a:solidFill>
                  <a:srgbClr val="0068ae"/>
                </a:solidFill>
                <a:latin typeface="Arial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68ae"/>
                </a:solidFill>
                <a:latin typeface="Arial"/>
              </a:rPr>
              <a:t>      </a:t>
            </a:r>
            <a:br>
              <a:rPr sz="2000"/>
            </a:br>
            <a:r>
              <a:rPr b="1" i="1" lang="ru-RU" sz="2000" spc="-1" strike="noStrike">
                <a:solidFill>
                  <a:srgbClr val="79c9ff"/>
                </a:solidFill>
                <a:latin typeface="Arial"/>
              </a:rPr>
              <a:t>Семья… История идет от слова «семя». Маленькое семя,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9c9ff"/>
                </a:solidFill>
                <a:latin typeface="Arial"/>
              </a:rPr>
              <a:t> посаженное с любовью, дает свои всходы. И для того, чтобы семя взошло, нужно жить в любви и согласии</a:t>
            </a:r>
            <a:r>
              <a:rPr b="1" i="1" lang="ru-RU" sz="2000" spc="-1" strike="noStrike">
                <a:solidFill>
                  <a:srgbClr val="ae0c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1225577874_xfjt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43280" y="333360"/>
            <a:ext cx="630072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мья – это то, что мы делим на всех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Всем понемножку: и слёзы, и смех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мья – это то, что с тобою всегда.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Пусть мчатся секунды, недели, года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Но стены родные, отчий твой дом –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рдце навеки останется в нём!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38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ru-RU" sz="9600" spc="-1" strike="noStrike">
                <a:solidFill>
                  <a:srgbClr val="ae0c00"/>
                </a:solidFill>
                <a:latin typeface="Arial"/>
              </a:rPr>
              <a:t>7я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Что это?</a:t>
            </a: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А почему 7я?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7" descr="C:\Users\Школа\Desktop\mater.jpg"/>
          <p:cNvPicPr/>
          <p:nvPr/>
        </p:nvPicPr>
        <p:blipFill>
          <a:blip r:embed="rId1"/>
          <a:stretch/>
        </p:blipFill>
        <p:spPr>
          <a:xfrm>
            <a:off x="4000680" y="285840"/>
            <a:ext cx="4848120" cy="38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fe1ff"/>
                </a:solidFill>
                <a:latin typeface="Arial"/>
              </a:rPr>
              <a:t>«Почитай мать и отца своего и будет тебе счастье, и будешь ты долго жить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7" descr="C:\Users\Школа\Desktop\11010-vozvrashhenije-bludnogo-syna-afacdb.jpg"/>
          <p:cNvPicPr/>
          <p:nvPr/>
        </p:nvPicPr>
        <p:blipFill>
          <a:blip r:embed="rId1"/>
          <a:stretch/>
        </p:blipFill>
        <p:spPr>
          <a:xfrm>
            <a:off x="1857240" y="2571840"/>
            <a:ext cx="5357880" cy="402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1225577946_xfjt_2006"/>
          <p:cNvPicPr/>
          <p:nvPr/>
        </p:nvPicPr>
        <p:blipFill>
          <a:blip r:embed="rId1"/>
          <a:stretch/>
        </p:blipFill>
        <p:spPr>
          <a:xfrm>
            <a:off x="1763640" y="2205000"/>
            <a:ext cx="5616720" cy="444492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92840" cy="1139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225577988_xfjt_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00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 СОВРЕМЕННОЙ ЛИТЕРАТУРЕ СЕМЬЯ ОПРЕДЕЛЯЕТСЯ КАК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Малая социальная группа, основанная на любви, брачном союзе и родственных отношениях; объединенная общностью быта и ведением хозяйства, правовыми и нравственными отношениями, рождением и воспитанием детей»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225578243_xfjt_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МЬЯ-ЭТО…</a:t>
            </a:r>
            <a:br>
              <a:rPr sz="14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трудовой коллектив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оральная опора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высшие человеческие привязанности (любовь, дружба)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пространство для отдыха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ногообразная система отношений с родителями, братьями, сестрами, родными и знакомыми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ораль и вкусы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анеры и привычки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ировоззрение и убеждения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характер и идеалы…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1:17:53Z</dcterms:created>
  <dc:creator>рвп</dc:creator>
  <dc:description/>
  <dc:language>en-US</dc:language>
  <cp:lastModifiedBy>Dell</cp:lastModifiedBy>
  <dcterms:modified xsi:type="dcterms:W3CDTF">2013-02-18T17:46:11Z</dcterms:modified>
  <cp:revision>15</cp:revision>
  <dc:subject/>
  <dc:title>Слайд 1</dc:title>
</cp:coreProperties>
</file>