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2ED-D11A-4CE5-8B8A-029DDAC1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6F6-5DD5-454A-A039-94D792ED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0F2-5350-4A94-A8B4-FCAB72B7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9CC-51BB-4C8E-B863-3B24D4A5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4688-CD3E-48DE-A20F-5693BD2D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E676-70BD-44B1-8025-79F5E15D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611C-E824-48A1-B243-71C6BE8B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67D4-D505-48B0-952F-2F65DE75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2717-3464-4BDB-8176-AC00E794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30B6-5B8A-4E0A-B3B8-58D1E034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FB7F-594D-4DEB-BCA8-F0510910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F16-38D7-46C8-9029-8BDC6B32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69AE-48DB-4B11-B1C8-0FD9D381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B198-4F86-42F9-BD8A-41797BF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58BD-EA72-46A9-B875-9E4F5CA3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2426-C6A3-46FC-B4D9-6CF6F8F1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A361-0C52-434D-98C5-0CB8659C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5F0-B691-4764-B9EB-013048AB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C16-D3AC-48D7-BBD3-79AD5CF5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983-EBD7-42FF-974D-E73FF460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B10-81CB-4764-986F-367B5868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27A-E1E6-4772-BC71-1F7D91AE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5D8-F042-4930-8424-CC9AA700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BEC-AF52-446C-856D-9D5FF460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AB8B-B4AE-4559-9E8E-B36F46030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4AD7-3FC6-4C78-9E6C-2EFEA93AB3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Happy Family Illustration Wallpaper 14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ae0c00"/>
                </a:solidFill>
                <a:latin typeface="Comic Sans MS"/>
              </a:rPr>
              <a:t>Семья и семейные ценност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России впервые 8 июля 2008 года отмечался новый праздник — День семьи. Он посвящен памяти святых Петра и Февронии Муромских. В православной традиции они считаются покровителями супружеской верности, любви и семейного счастья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7" descr="C:\Users\Школа\Desktop\68907_large.jpg"/>
          <p:cNvPicPr/>
          <p:nvPr/>
        </p:nvPicPr>
        <p:blipFill>
          <a:blip r:embed="rId1"/>
          <a:stretch/>
        </p:blipFill>
        <p:spPr>
          <a:xfrm>
            <a:off x="285840" y="1857240"/>
            <a:ext cx="6491160" cy="4357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нь Петра и Февронии - это русский праздник влюблённых. Петр и Феврония обладали любовью, наполненной необыкновенным духовным содержанием. Именно этим святым молились наши предки, прося благословения на вступление в брак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C:\Users\Школа\Desktop\photo94.jpg"/>
          <p:cNvPicPr/>
          <p:nvPr/>
        </p:nvPicPr>
        <p:blipFill>
          <a:blip r:embed="rId1"/>
          <a:stretch/>
        </p:blipFill>
        <p:spPr>
          <a:xfrm>
            <a:off x="4357800" y="289080"/>
            <a:ext cx="4357440" cy="641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C:\Users\Школа\Desktop\986ab24709e7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емья для ребенка – это место его рождения и становления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7" descr="C:\Users\Школа\Desktop\0_1ea00_241c6d7_XL.jpg"/>
          <p:cNvPicPr/>
          <p:nvPr/>
        </p:nvPicPr>
        <p:blipFill>
          <a:blip r:embed="rId1"/>
          <a:stretch/>
        </p:blipFill>
        <p:spPr>
          <a:xfrm>
            <a:off x="1643040" y="1714680"/>
            <a:ext cx="6006960" cy="4987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В СЕМЬ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кладываю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едставления ребе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о добре и зл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о порядоч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об уважительн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отнош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к материаль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и духовным ценност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1225578296_xfjt_2010"/>
          <p:cNvPicPr/>
          <p:nvPr/>
        </p:nvPicPr>
        <p:blipFill>
          <a:blip r:embed="rId1"/>
          <a:stretch/>
        </p:blipFill>
        <p:spPr>
          <a:xfrm>
            <a:off x="3844800" y="2000160"/>
            <a:ext cx="4842000" cy="3857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1225578393_xfjt_2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8ae"/>
                </a:solidFill>
                <a:latin typeface="Arial"/>
              </a:rPr>
              <a:t>7 я- это: мама, папа, я, две бабушки, два дедушк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8ae"/>
                </a:solidFill>
                <a:latin typeface="Arial"/>
              </a:rPr>
              <a:t>Но количество членов семьи может быть разным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8ae"/>
                </a:solidFill>
                <a:latin typeface="Arial"/>
              </a:rPr>
              <a:t>Семья может быть многодетной, где больше трех детей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1225578407_xfjt_2013"/>
          <p:cNvPicPr/>
          <p:nvPr/>
        </p:nvPicPr>
        <p:blipFill>
          <a:blip r:embed="rId1"/>
          <a:stretch/>
        </p:blipFill>
        <p:spPr>
          <a:xfrm>
            <a:off x="755640" y="561960"/>
            <a:ext cx="7561440" cy="5315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a71e07"/>
                </a:solidFill>
                <a:latin typeface="Arial"/>
              </a:rPr>
              <a:t>Быть мамой даже одного ребенка – это очень почетно! Мама – самое почетное звание на свете!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99ff99"/>
                </a:solidFill>
                <a:latin typeface="Arial"/>
              </a:rPr>
              <a:t>Быть отцом – быть главой семьи.</a:t>
            </a:r>
            <a:br>
              <a:rPr sz="2800"/>
            </a:br>
            <a:r>
              <a:rPr b="1" i="1" lang="ru-RU" sz="2800" spc="-1" strike="noStrike">
                <a:solidFill>
                  <a:srgbClr val="99ff99"/>
                </a:solidFill>
                <a:latin typeface="Arial"/>
              </a:rPr>
              <a:t>Папы – умные, добрые, сильные. Они могут многому научить, что-то подсказать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7" descr="C:\Users\Школа\Desktop\x_8740f32d.jpg"/>
          <p:cNvPicPr/>
          <p:nvPr/>
        </p:nvPicPr>
        <p:blipFill>
          <a:blip r:embed="rId1"/>
          <a:stretch/>
        </p:blipFill>
        <p:spPr>
          <a:xfrm>
            <a:off x="1428840" y="2786040"/>
            <a:ext cx="6715080" cy="3908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1225578454_xfjt_2016"/>
          <p:cNvPicPr/>
          <p:nvPr/>
        </p:nvPicPr>
        <p:blipFill>
          <a:blip r:embed="rId1"/>
          <a:stretch/>
        </p:blipFill>
        <p:spPr>
          <a:xfrm>
            <a:off x="539640" y="549360"/>
            <a:ext cx="8209080" cy="5975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a71e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400" spc="-1" strike="noStrike">
                <a:solidFill>
                  <a:srgbClr val="a71e07"/>
                </a:solidFill>
                <a:latin typeface="Arial"/>
              </a:rPr>
              <a:t>Семейные традиции - это обычаи, которые существуют в семьях в течение долгих лет.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ин из таких обычаев – давать новорожденному ребенку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имя в честь одного из членов семь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ще одна семейная традиция – члены одной семьи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занимались одним, общим для всех, видом деятельност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1225578458_xfjt_2019"/>
          <p:cNvPicPr/>
          <p:nvPr/>
        </p:nvPicPr>
        <p:blipFill>
          <a:blip r:embed="rId1"/>
          <a:stretch/>
        </p:blipFill>
        <p:spPr>
          <a:xfrm>
            <a:off x="142920" y="2967120"/>
            <a:ext cx="4929120" cy="38908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71920" y="1357200"/>
            <a:ext cx="5572080" cy="192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99"/>
                </a:solidFill>
                <a:latin typeface="Arial"/>
              </a:rPr>
              <a:t>«многомерность» жизни семьи,</a:t>
            </a:r>
            <a:br>
              <a:rPr sz="2400"/>
            </a:br>
            <a:r>
              <a:rPr b="1" i="1" lang="ru-RU" sz="2400" spc="-1" strike="noStrike">
                <a:solidFill>
                  <a:srgbClr val="99ff99"/>
                </a:solidFill>
                <a:latin typeface="Arial"/>
              </a:rPr>
              <a:t> широта и многогранность влияний, </a:t>
            </a:r>
            <a:br>
              <a:rPr sz="2400"/>
            </a:br>
            <a:r>
              <a:rPr b="1" i="1" lang="ru-RU" sz="2400" spc="-1" strike="noStrike">
                <a:solidFill>
                  <a:srgbClr val="99ff99"/>
                </a:solidFill>
                <a:latin typeface="Arial"/>
              </a:rPr>
              <a:t> условия, которые создаются членами семьи</a:t>
            </a:r>
            <a:r>
              <a:rPr b="0" lang="ru-RU" sz="14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Заголовок 1" descr=""/>
          <p:cNvPicPr/>
          <p:nvPr/>
        </p:nvPicPr>
        <p:blipFill>
          <a:blip r:embed="rId2"/>
          <a:stretch/>
        </p:blipFill>
        <p:spPr>
          <a:xfrm rot="21123600">
            <a:off x="406080" y="596520"/>
            <a:ext cx="8209080" cy="1511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225577776_xfjt_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a71e07"/>
                </a:solidFill>
                <a:latin typeface="Arial"/>
              </a:rPr>
              <a:t>Семья</a:t>
            </a:r>
            <a:r>
              <a:rPr b="1" i="1" lang="ru-RU" sz="4000" spc="-1" strike="noStrike">
                <a:solidFill>
                  <a:srgbClr val="0068ae"/>
                </a:solidFill>
                <a:latin typeface="Arial"/>
              </a:rPr>
              <a:t> – это святое слово, </a:t>
            </a:r>
            <a:br>
              <a:rPr sz="4000"/>
            </a:br>
            <a:r>
              <a:rPr b="1" i="1" lang="ru-RU" sz="4000" spc="-1" strike="noStrike">
                <a:solidFill>
                  <a:srgbClr val="0068ae"/>
                </a:solidFill>
                <a:latin typeface="Arial"/>
              </a:rPr>
              <a:t>и обижать его нельзя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8ae"/>
                </a:solidFill>
                <a:latin typeface="Arial"/>
              </a:rPr>
              <a:t>В нем наши корни, наша сила,</a:t>
            </a:r>
            <a:br>
              <a:rPr sz="4000"/>
            </a:br>
            <a:r>
              <a:rPr b="1" i="1" lang="ru-RU" sz="4000" spc="-1" strike="noStrike">
                <a:solidFill>
                  <a:srgbClr val="0068ae"/>
                </a:solidFill>
                <a:latin typeface="Arial"/>
              </a:rPr>
              <a:t>Наши заветные слова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4749840" cy="576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воспитательн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хозяйственно-бытов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экономическ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социально-статусн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психотерапевтическ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репродуктивная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духовное общение,</a:t>
            </a:r>
            <a:br>
              <a:rPr sz="2800"/>
            </a:b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- досуговая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4" descr="1225578477_xfjt_2017"/>
          <p:cNvPicPr/>
          <p:nvPr/>
        </p:nvPicPr>
        <p:blipFill>
          <a:blip r:embed="rId1"/>
          <a:stretch/>
        </p:blipFill>
        <p:spPr>
          <a:xfrm>
            <a:off x="4786200" y="2143080"/>
            <a:ext cx="4110120" cy="3714840"/>
          </a:xfrm>
          <a:prstGeom prst="rect">
            <a:avLst/>
          </a:prstGeom>
          <a:ln w="0">
            <a:noFill/>
          </a:ln>
        </p:spPr>
      </p:pic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428760" y="825480"/>
            <a:ext cx="8243640" cy="1317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200" spc="-1" strike="noStrike">
                <a:solidFill>
                  <a:srgbClr val="ae0c00"/>
                </a:solidFill>
                <a:latin typeface="Arial"/>
              </a:rPr>
              <a:t>Чтобы  семья была дружной, надо придерживаясь следующих качеств:</a:t>
            </a:r>
            <a:br>
              <a:rPr sz="3200"/>
            </a:b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онимание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                 Любовь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Уважение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                Доверие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Доброта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                 Забота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омощь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                    Дружб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4" descr="1225578495_xfjt_2018"/>
          <p:cNvPicPr/>
          <p:nvPr/>
        </p:nvPicPr>
        <p:blipFill>
          <a:blip r:embed="rId1"/>
          <a:stretch/>
        </p:blipFill>
        <p:spPr>
          <a:xfrm>
            <a:off x="3929040" y="2143080"/>
            <a:ext cx="5014800" cy="4214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1225578513_xfjt_2020"/>
          <p:cNvPicPr/>
          <p:nvPr/>
        </p:nvPicPr>
        <p:blipFill>
          <a:blip r:embed="rId1"/>
          <a:stretch/>
        </p:blipFill>
        <p:spPr>
          <a:xfrm>
            <a:off x="1928880" y="3429000"/>
            <a:ext cx="5786280" cy="32716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ae0c00"/>
                </a:solidFill>
                <a:latin typeface="Arial"/>
              </a:rPr>
              <a:t>Не жди, что твой ребенок будет таким, как ты или таким, как ты хочешь. Помоги ему стать не тобой, а собой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1225577866_xfjt_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8360" cy="33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68ae"/>
                </a:solidFill>
                <a:latin typeface="Arial"/>
              </a:rPr>
              <a:t>Слово «семья» понятно всем, как слова «мама», «хлеб», «родина».</a:t>
            </a:r>
            <a:r>
              <a:rPr b="0" i="1" lang="ru-RU" sz="2000" spc="-1" strike="noStrike">
                <a:solidFill>
                  <a:srgbClr val="0068ae"/>
                </a:solidFill>
                <a:latin typeface="Arial"/>
              </a:rPr>
              <a:t>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68ae"/>
                </a:solidFill>
                <a:latin typeface="Arial"/>
              </a:rPr>
              <a:t>      </a:t>
            </a:r>
            <a:br>
              <a:rPr sz="2000"/>
            </a:br>
            <a:r>
              <a:rPr b="1" i="1" lang="ru-RU" sz="2000" spc="-1" strike="noStrike">
                <a:solidFill>
                  <a:srgbClr val="79c9ff"/>
                </a:solidFill>
                <a:latin typeface="Arial"/>
              </a:rPr>
              <a:t>Семья… История идет от слова «семя». Маленькое семя,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79c9ff"/>
                </a:solidFill>
                <a:latin typeface="Arial"/>
              </a:rPr>
              <a:t> посаженное с любовью, дает свои всходы. И для того, чтобы семя взошло, нужно жить в любви и согласии</a:t>
            </a:r>
            <a:r>
              <a:rPr b="1" i="1" lang="ru-RU" sz="2000" spc="-1" strike="noStrike">
                <a:solidFill>
                  <a:srgbClr val="ae0c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1225577874_xfjt_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43280" y="333360"/>
            <a:ext cx="6300720" cy="26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Семья – это то, что мы делим на всех,</a:t>
            </a:r>
            <a:br>
              <a:rPr sz="2400"/>
            </a:b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Всем понемножку: и слёзы, и смех,</a:t>
            </a:r>
            <a:br>
              <a:rPr sz="2400"/>
            </a:b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Семья – это то, что с тобою всегда.</a:t>
            </a:r>
            <a:br>
              <a:rPr sz="2400"/>
            </a:b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Пусть мчатся секунды, недели, года,</a:t>
            </a:r>
            <a:br>
              <a:rPr sz="2400"/>
            </a:b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Но стены родные, отчий твой дом –</a:t>
            </a:r>
            <a:br>
              <a:rPr sz="2400"/>
            </a:br>
            <a:r>
              <a:rPr b="0" i="1" lang="ru-RU" sz="2400" spc="-1" strike="noStrike">
                <a:solidFill>
                  <a:srgbClr val="0068ae"/>
                </a:solidFill>
                <a:latin typeface="Comic Sans MS"/>
              </a:rPr>
              <a:t>Сердце навеки останется в нём!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970440" cy="38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ru-RU" sz="9600" spc="-1" strike="noStrike">
                <a:solidFill>
                  <a:srgbClr val="ae0c00"/>
                </a:solidFill>
                <a:latin typeface="Arial"/>
              </a:rPr>
              <a:t>7я</a:t>
            </a:r>
            <a:r>
              <a:rPr b="0" lang="ru-RU" sz="9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Что это?</a:t>
            </a:r>
            <a:br>
              <a:rPr sz="6000"/>
            </a:b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А почему 7я?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7" descr="C:\Users\Школа\Desktop\mater.jpg"/>
          <p:cNvPicPr/>
          <p:nvPr/>
        </p:nvPicPr>
        <p:blipFill>
          <a:blip r:embed="rId1"/>
          <a:stretch/>
        </p:blipFill>
        <p:spPr>
          <a:xfrm>
            <a:off x="4000680" y="285840"/>
            <a:ext cx="4848120" cy="385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fe1ff"/>
                </a:solidFill>
                <a:latin typeface="Arial"/>
              </a:rPr>
              <a:t>«Почитай мать и отца своего и будет тебе счастье, и будешь ты долго жить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7" descr="C:\Users\Школа\Desktop\11010-vozvrashhenije-bludnogo-syna-afacdb.jpg"/>
          <p:cNvPicPr/>
          <p:nvPr/>
        </p:nvPicPr>
        <p:blipFill>
          <a:blip r:embed="rId1"/>
          <a:stretch/>
        </p:blipFill>
        <p:spPr>
          <a:xfrm>
            <a:off x="1857240" y="2571840"/>
            <a:ext cx="5357880" cy="4027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1225577946_xfjt_2006"/>
          <p:cNvPicPr/>
          <p:nvPr/>
        </p:nvPicPr>
        <p:blipFill>
          <a:blip r:embed="rId1"/>
          <a:stretch/>
        </p:blipFill>
        <p:spPr>
          <a:xfrm>
            <a:off x="1763640" y="2205000"/>
            <a:ext cx="5616720" cy="444492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1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792840" cy="1139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1225577988_xfjt_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300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 СОВРЕМЕННОЙ ЛИТЕРАТУРЕ СЕМЬЯ ОПРЕДЕЛЯЕТСЯ КАК…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«Малая социальная группа, основанная на любви, брачном союзе и родственных отношениях; объединенная общностью быта и ведением хозяйства, правовыми и нравственными отношениями, рождением и воспитанием детей»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1225578243_xfjt_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ЕМЬЯ-ЭТО…</a:t>
            </a:r>
            <a:br>
              <a:rPr sz="14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трудовой коллектив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моральная опора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высшие человеческие привязанности (любовь, дружба)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пространство для отдыха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многообразная система отношений с родителями, братьями, сестрами, родными и знакомыми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мораль и вкусы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манеры и привычки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мировоззрение и убеждения,</a:t>
            </a:r>
            <a:br>
              <a:rPr sz="1600"/>
            </a:br>
            <a:r>
              <a:rPr b="0" lang="ru-RU" sz="1600" spc="-1" strike="noStrike">
                <a:solidFill>
                  <a:srgbClr val="91581f"/>
                </a:solidFill>
                <a:latin typeface="Franklin Gothic Medium"/>
              </a:rPr>
              <a:t>характер и идеалы…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3T11:17:53Z</dcterms:created>
  <dc:creator>рвп</dc:creator>
  <dc:description/>
  <dc:language>en-US</dc:language>
  <cp:lastModifiedBy>Dell</cp:lastModifiedBy>
  <dcterms:modified xsi:type="dcterms:W3CDTF">2013-02-18T17:46:11Z</dcterms:modified>
  <cp:revision>15</cp:revision>
  <dc:subject/>
  <dc:title>Слайд 1</dc:title>
</cp:coreProperties>
</file>