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11901-70E5-4261-8AF5-3CB626F51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2BE23-621C-4356-9384-16B26DD6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7EE43-07B4-49FE-B55C-C06C4EA74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B4462-C8B3-485E-BE68-273684DE6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ABE7C-DE1F-4CA6-B94C-9D1871921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DA934-B16C-4D1A-8877-981A9CB7A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E3F37-B824-4104-800D-0D0BCBB52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36F92-4473-4839-9C28-36DAFCFDE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98D68-F0A6-4083-895D-EF10FB742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30D04-9F03-4550-810D-07018450D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734B2-7F34-46C7-BACF-D460516C2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204BE-FA26-464E-ACD7-56B78FB92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7FE5D-7639-48D0-8124-801A4456A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E16D9-1886-4F5A-AD77-525FFC256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77DED-F07E-4C0A-8E44-9C7742CFE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C273D-F186-4257-BD2F-781041AEC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8D847-9519-449E-8E8F-721B04739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00307-8B2A-4324-AD31-BF0140F05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79D65-CB89-4B04-ABDC-91C7DA893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AACF3-36BF-4521-8BA0-340F8190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FCF6-2A66-4D13-A971-164279444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6E3F6-8ED3-44D7-8156-4020558BF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C71A3-C421-4F16-84EF-CD48C36A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4145-B44B-431A-A068-13F609248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9877-B3F1-4421-9C56-2C398CD3D71B}"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BA39-1865-47B3-8484-F50F13F0F8E3}"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vom-ohlenberg.de/sibi-zuechter.htm"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44440"/>
            <a:ext cx="8447040" cy="397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b7"/>
                </a:solidFill>
                <a:latin typeface="Arial Black"/>
              </a:rPr>
              <a:t> </a:t>
            </a:r>
            <a:br>
              <a:rPr sz="4000"/>
            </a:br>
            <a:br>
              <a:rPr sz="4000"/>
            </a:br>
            <a:r>
              <a:rPr b="1" lang="en-US" sz="4000" spc="-1" strike="noStrike">
                <a:solidFill>
                  <a:srgbClr val="ffffb7"/>
                </a:solidFill>
                <a:latin typeface="Arial Black"/>
              </a:rPr>
              <a:t>Изучение особенностей   поведения и выработки   </a:t>
            </a:r>
            <a:br>
              <a:rPr sz="4000"/>
            </a:br>
            <a:r>
              <a:rPr b="1" lang="en-US" sz="4000" spc="-1" strike="noStrike">
                <a:solidFill>
                  <a:srgbClr val="ffffb7"/>
                </a:solidFill>
                <a:latin typeface="Arial Black"/>
              </a:rPr>
              <a:t>  условных рефлексов у                               </a:t>
            </a:r>
            <a:br>
              <a:rPr sz="4000"/>
            </a:br>
            <a:r>
              <a:rPr b="1" lang="en-US" sz="4000" spc="-1" strike="noStrike">
                <a:solidFill>
                  <a:srgbClr val="ffffb7"/>
                </a:solidFill>
                <a:latin typeface="Arial Black"/>
              </a:rPr>
              <a:t> кошек.</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9280" y="476280"/>
            <a:ext cx="4032360" cy="5619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ибирская кошк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
          <p:cNvSpPr/>
          <p:nvPr/>
        </p:nvSpPr>
        <p:spPr>
          <a:xfrm>
            <a:off x="179280" y="1127520"/>
            <a:ext cx="518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бирская кошка – первая отечественная порода, над которой с основания первого клуба любителей кошек начали работать российские фелинологи, первая российская порода кошек, признанная заграницей. Благодаря уникальным свойствам кошек этой породы и большой работе российских фелинологов, на сегодняшний день эта порода получила огромное, просто удивительное признание во всем мире, если учесть небольшой срок существования в нашей стране клубов фелинологов. Трудно даже перечислить страны, в которых сейчас ведется разведение сибирских кошек: Австралия, Англия, США, Канада, Германия, Италия, Испания, Финляндия...Не будем продолжать список, просто отошлем вас к </a:t>
            </a:r>
            <a:r>
              <a:rPr b="0" lang="ru-RU" sz="1800" spc="-1" strike="noStrike" u="sng">
                <a:solidFill>
                  <a:srgbClr val="99ff66"/>
                </a:solidFill>
                <a:uFillTx/>
                <a:latin typeface="Arial"/>
                <a:hlinkClick r:id="rId1"/>
              </a:rPr>
              <a:t>списку питомников</a:t>
            </a:r>
            <a:r>
              <a:rPr b="0" lang="ru-RU" sz="1800" spc="-1" strike="noStrike">
                <a:solidFill>
                  <a:srgbClr val="ffffff"/>
                </a:solidFill>
                <a:latin typeface="Arial"/>
              </a:rPr>
              <a:t>, где перечислены около 300 питомников, расположенных по всему миру. </a:t>
            </a:r>
            <a:endParaRPr b="0" lang="en-US" sz="1800" spc="-1" strike="noStrike">
              <a:solidFill>
                <a:srgbClr val="ffffff"/>
              </a:solidFill>
              <a:latin typeface="Arial"/>
            </a:endParaRPr>
          </a:p>
        </p:txBody>
      </p:sp>
      <p:pic>
        <p:nvPicPr>
          <p:cNvPr id="121" name="" descr=""/>
          <p:cNvPicPr/>
          <p:nvPr/>
        </p:nvPicPr>
        <p:blipFill>
          <a:blip r:embed="rId2"/>
          <a:stretch/>
        </p:blipFill>
        <p:spPr>
          <a:xfrm>
            <a:off x="5219640" y="2060640"/>
            <a:ext cx="2879640" cy="230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6066360" y="2151000"/>
            <a:ext cx="203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Персидская</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2538000" y="372960"/>
            <a:ext cx="2518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Бенгальска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72000" y="0"/>
            <a:ext cx="4572000" cy="6858000"/>
          </a:xfrm>
          <a:prstGeom prst="rect">
            <a:avLst/>
          </a:prstGeom>
          <a:ln w="0">
            <a:noFill/>
          </a:ln>
        </p:spPr>
      </p:pic>
      <p:sp>
        <p:nvSpPr>
          <p:cNvPr id="127" name=""/>
          <p:cNvSpPr/>
          <p:nvPr/>
        </p:nvSpPr>
        <p:spPr>
          <a:xfrm>
            <a:off x="1168920" y="4183200"/>
            <a:ext cx="2103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Донской</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сфинкс</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006800" y="0"/>
            <a:ext cx="5137200" cy="6858000"/>
          </a:xfrm>
          <a:prstGeom prst="rect">
            <a:avLst/>
          </a:prstGeom>
          <a:ln w="0">
            <a:noFill/>
          </a:ln>
        </p:spPr>
      </p:pic>
      <p:sp>
        <p:nvSpPr>
          <p:cNvPr id="129" name=""/>
          <p:cNvSpPr/>
          <p:nvPr/>
        </p:nvSpPr>
        <p:spPr>
          <a:xfrm>
            <a:off x="323280" y="2565360"/>
            <a:ext cx="352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Русская голуба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4841280" y="851040"/>
            <a:ext cx="251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Сиамская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998640"/>
            <a:ext cx="9144000" cy="5859360"/>
          </a:xfrm>
          <a:prstGeom prst="rect">
            <a:avLst/>
          </a:prstGeom>
          <a:ln w="0">
            <a:noFill/>
          </a:ln>
        </p:spPr>
      </p:pic>
      <p:sp>
        <p:nvSpPr>
          <p:cNvPr id="133" name=""/>
          <p:cNvSpPr/>
          <p:nvPr/>
        </p:nvSpPr>
        <p:spPr>
          <a:xfrm>
            <a:off x="2986560" y="185760"/>
            <a:ext cx="248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ибирска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995640" y="0"/>
            <a:ext cx="5148360" cy="6858000"/>
          </a:xfrm>
          <a:prstGeom prst="rect">
            <a:avLst/>
          </a:prstGeom>
          <a:ln w="0">
            <a:noFill/>
          </a:ln>
        </p:spPr>
      </p:pic>
      <p:sp>
        <p:nvSpPr>
          <p:cNvPr id="135" name=""/>
          <p:cNvSpPr/>
          <p:nvPr/>
        </p:nvSpPr>
        <p:spPr>
          <a:xfrm>
            <a:off x="395280" y="4581360"/>
            <a:ext cx="335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Турецкая ангорка</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17172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000" spc="-1" strike="noStrike">
                <a:solidFill>
                  <a:srgbClr val="ffffb7"/>
                </a:solidFill>
                <a:latin typeface="Arial Black"/>
              </a:rPr>
              <a:t>Практическая часть</a:t>
            </a:r>
            <a:endParaRPr b="1" lang="en-US" sz="4000" spc="-1" strike="noStrike">
              <a:solidFill>
                <a:srgbClr val="ffffb7"/>
              </a:solidFill>
              <a:latin typeface="Arial Black"/>
            </a:endParaRPr>
          </a:p>
        </p:txBody>
      </p:sp>
      <p:sp>
        <p:nvSpPr>
          <p:cNvPr id="137" name="PlaceHolder 2"/>
          <p:cNvSpPr>
            <a:spLocks noGrp="1"/>
          </p:cNvSpPr>
          <p:nvPr>
            <p:ph/>
          </p:nvPr>
        </p:nvSpPr>
        <p:spPr>
          <a:xfrm>
            <a:off x="178920" y="1125000"/>
            <a:ext cx="8666280" cy="497052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то раз  мне  предоставилась  возможность  побывать  в  цирке  на  выступлении  народного  артиста  Юрия  Куклачёва,  который  приехал  на  гастроли  в  наш  город  со своими  кошками.  Данное  выступление  заинтриговало  меня.  После  посещения  цирка  в  голове моей  возникла  мысль:  «А  что, если  и  я  попробую  научить чему-то  свою  кошку?  Ведь  у  артиста  Куклачёва  кошки  тоже  не  какие-то  особенные,  а  самые  обычные.  Но с чего  начать?»</a:t>
            </a:r>
            <a:endParaRPr b="0" lang="en-US" sz="2000" spc="-1" strike="noStrike">
              <a:solidFill>
                <a:srgbClr val="ffffff"/>
              </a:solidFill>
              <a:latin typeface="Arial"/>
            </a:endParaRPr>
          </a:p>
        </p:txBody>
      </p:sp>
      <p:pic>
        <p:nvPicPr>
          <p:cNvPr id="138" name="" descr=""/>
          <p:cNvPicPr/>
          <p:nvPr/>
        </p:nvPicPr>
        <p:blipFill>
          <a:blip r:embed="rId1"/>
          <a:stretch/>
        </p:blipFill>
        <p:spPr>
          <a:xfrm>
            <a:off x="4356000" y="5157720"/>
            <a:ext cx="2016360" cy="1260720"/>
          </a:xfrm>
          <a:prstGeom prst="rect">
            <a:avLst/>
          </a:prstGeom>
          <a:ln w="0">
            <a:noFill/>
          </a:ln>
        </p:spPr>
      </p:pic>
      <p:pic>
        <p:nvPicPr>
          <p:cNvPr id="139" name="" descr=""/>
          <p:cNvPicPr/>
          <p:nvPr/>
        </p:nvPicPr>
        <p:blipFill>
          <a:blip r:embed="rId2"/>
          <a:stretch/>
        </p:blipFill>
        <p:spPr>
          <a:xfrm>
            <a:off x="4140360" y="3357720"/>
            <a:ext cx="2381040" cy="1590480"/>
          </a:xfrm>
          <a:prstGeom prst="rect">
            <a:avLst/>
          </a:prstGeom>
          <a:ln w="0">
            <a:noFill/>
          </a:ln>
        </p:spPr>
      </p:pic>
      <p:pic>
        <p:nvPicPr>
          <p:cNvPr id="140" name="" descr=""/>
          <p:cNvPicPr/>
          <p:nvPr/>
        </p:nvPicPr>
        <p:blipFill>
          <a:blip r:embed="rId3"/>
          <a:stretch/>
        </p:blipFill>
        <p:spPr>
          <a:xfrm>
            <a:off x="2195640" y="3500280"/>
            <a:ext cx="1909800" cy="2665440"/>
          </a:xfrm>
          <a:prstGeom prst="rect">
            <a:avLst/>
          </a:prstGeom>
          <a:ln w="0">
            <a:noFill/>
          </a:ln>
        </p:spPr>
      </p:pic>
      <p:pic>
        <p:nvPicPr>
          <p:cNvPr id="141" name="" descr=""/>
          <p:cNvPicPr/>
          <p:nvPr/>
        </p:nvPicPr>
        <p:blipFill>
          <a:blip r:embed="rId4"/>
          <a:stretch/>
        </p:blipFill>
        <p:spPr>
          <a:xfrm>
            <a:off x="179280" y="3933720"/>
            <a:ext cx="1973520" cy="2016360"/>
          </a:xfrm>
          <a:prstGeom prst="rect">
            <a:avLst/>
          </a:prstGeom>
          <a:ln w="0">
            <a:noFill/>
          </a:ln>
        </p:spPr>
      </p:pic>
      <p:pic>
        <p:nvPicPr>
          <p:cNvPr id="142" name="" descr=""/>
          <p:cNvPicPr/>
          <p:nvPr/>
        </p:nvPicPr>
        <p:blipFill>
          <a:blip r:embed="rId5"/>
          <a:stretch/>
        </p:blipFill>
        <p:spPr>
          <a:xfrm>
            <a:off x="6588000" y="4005360"/>
            <a:ext cx="2556000" cy="255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50560" y="404640"/>
            <a:ext cx="8583480" cy="57024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степенно  штат  кошачьего  театра  рос,  и  держать  всех  артистов  кошачьей  породы  стало  просто  невозможно.  Сейчас  они  живут  в  театре,  на  ночь  их  выпускают  побегать  по  помещениям.</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ывает,  что  у  артистов  что-то  не  получается,  они  устали,  не  делают  какой-то  трюк,  но  дрессировщик  никогда  их  не  ругает,  не  кричит.  Они же,  как  дети – эти  пушистые  комочки – могут  и  обидеться.  Ну,  не  сделал  что-то,  не получилось – в  другой  раз  сделает, и  всё  получится.</a:t>
            </a:r>
            <a:endParaRPr b="0" lang="en-US" sz="2400" spc="-1" strike="noStrike">
              <a:solidFill>
                <a:srgbClr val="ffffff"/>
              </a:solidFill>
              <a:latin typeface="Arial"/>
            </a:endParaRPr>
          </a:p>
        </p:txBody>
      </p:sp>
      <p:pic>
        <p:nvPicPr>
          <p:cNvPr id="144" name="" descr=""/>
          <p:cNvPicPr/>
          <p:nvPr/>
        </p:nvPicPr>
        <p:blipFill>
          <a:blip r:embed="rId1"/>
          <a:stretch/>
        </p:blipFill>
        <p:spPr>
          <a:xfrm>
            <a:off x="755640" y="4365720"/>
            <a:ext cx="2303640" cy="2303280"/>
          </a:xfrm>
          <a:prstGeom prst="rect">
            <a:avLst/>
          </a:prstGeom>
          <a:ln w="0">
            <a:noFill/>
          </a:ln>
        </p:spPr>
      </p:pic>
      <p:pic>
        <p:nvPicPr>
          <p:cNvPr id="145" name="" descr=""/>
          <p:cNvPicPr/>
          <p:nvPr/>
        </p:nvPicPr>
        <p:blipFill>
          <a:blip r:embed="rId2"/>
          <a:stretch/>
        </p:blipFill>
        <p:spPr>
          <a:xfrm>
            <a:off x="6372360" y="4005360"/>
            <a:ext cx="2235240" cy="2641680"/>
          </a:xfrm>
          <a:prstGeom prst="rect">
            <a:avLst/>
          </a:prstGeom>
          <a:ln w="0">
            <a:noFill/>
          </a:ln>
        </p:spPr>
      </p:pic>
      <p:pic>
        <p:nvPicPr>
          <p:cNvPr id="146" name="" descr=""/>
          <p:cNvPicPr/>
          <p:nvPr/>
        </p:nvPicPr>
        <p:blipFill>
          <a:blip r:embed="rId3"/>
          <a:stretch/>
        </p:blipFill>
        <p:spPr>
          <a:xfrm>
            <a:off x="3564000" y="4437000"/>
            <a:ext cx="2160360" cy="21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br>
              <a:rPr sz="4400"/>
            </a:br>
            <a:r>
              <a:rPr b="1" lang="en-US" sz="4400" spc="-1" strike="noStrike">
                <a:solidFill>
                  <a:srgbClr val="ffffb7"/>
                </a:solidFill>
                <a:latin typeface="Arial Black"/>
              </a:rPr>
              <a:t>               </a:t>
            </a:r>
            <a:r>
              <a:rPr b="1" lang="en-US" sz="4400" spc="-1" strike="noStrike">
                <a:solidFill>
                  <a:srgbClr val="ffffb7"/>
                </a:solidFill>
                <a:latin typeface="Arial Black"/>
              </a:rPr>
              <a:t>Цель:</a:t>
            </a: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Изучить особенности поведения у кошек и выработать простейшие навыки у своей кош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50920" y="333000"/>
            <a:ext cx="8594640" cy="57625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у  а  потом  я  занялась  работой  со  своей  кошкой.</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нимаясь  со  своей  кошкой  и  дрессируя  её,  я  не  смогла  заставить  Ксюшу  делать  что-либо,  чего  она  не  хочет.  У  неё  должен  быть  в  этом  свой  интерес.  Я  использовала  дрессировочные  хитрости,  которыми у меня  были  лакомства.  Иногда  Ксюша  «работала»  ради  игрушки  или  ласки.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Я  научила  кошку  связывать  слово  «сидеть»  и  действие – поглаживание,  угощение  лакомством.</a:t>
            </a:r>
            <a:endParaRPr b="0" lang="en-US" sz="2400" spc="-1" strike="noStrike">
              <a:solidFill>
                <a:srgbClr val="ffffff"/>
              </a:solidFill>
              <a:latin typeface="Arial"/>
            </a:endParaRPr>
          </a:p>
        </p:txBody>
      </p:sp>
      <p:pic>
        <p:nvPicPr>
          <p:cNvPr id="148" name="" descr=""/>
          <p:cNvPicPr/>
          <p:nvPr/>
        </p:nvPicPr>
        <p:blipFill>
          <a:blip r:embed="rId1"/>
          <a:stretch/>
        </p:blipFill>
        <p:spPr>
          <a:xfrm>
            <a:off x="2124000" y="3933720"/>
            <a:ext cx="4203720" cy="315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8920" y="260280"/>
            <a:ext cx="8666280" cy="64087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ё  уважительное  отношение  к  кошке  в  сочетании  с  дрессировкой  даёт  много  поводов  к  восхищению  кошачьей  сообразительностью.  Ксюша  быстро  осваивает  трюки,  выгодные  ей,  например,  нажатие  на  дверную  ручку,  чтобы  открыть  дверь.  В  нашей  квартире  моя  кошка  очень  не  любит  ограничений  в  передвижении.  Она  способна  упрямо  валяться  под  дверью,  засунув  под  неё  лапу,  дёргая  на  себя,  чтобы  добиться  освобождения  прохода,  так  как,  по  разумению Ксюши, дверь должна быть открыта. Так, моя кошка Ксюша,  благодаря угощениям и ежедневным урокам, освоила ещё один навык:  открывание  двери, нажатием на дверную руч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3160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Выводы</a:t>
            </a:r>
            <a:endParaRPr b="1" lang="en-US" sz="4400" spc="-1" strike="noStrike">
              <a:solidFill>
                <a:srgbClr val="ffffb7"/>
              </a:solidFill>
              <a:latin typeface="Arial Black"/>
            </a:endParaRPr>
          </a:p>
        </p:txBody>
      </p:sp>
      <p:sp>
        <p:nvSpPr>
          <p:cNvPr id="151" name="PlaceHolder 2"/>
          <p:cNvSpPr>
            <a:spLocks noGrp="1"/>
          </p:cNvSpPr>
          <p:nvPr>
            <p:ph/>
          </p:nvPr>
        </p:nvSpPr>
        <p:spPr>
          <a:xfrm>
            <a:off x="0" y="836280"/>
            <a:ext cx="8594640" cy="65977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Кошки  поддаются  дрессировке,  вопреки  моему  заблуждению (раньше  я  считала,  что  отдельные  команды  можно  выработать  только  у  собаки)</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Работая  со  своей  кошкой,  я  убедилась,  что  кошки – это одинокие  охотники,  которым  для  выживания  не  нужно  работать  в  команде.</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Я,  как  любитель  кошек,  поняла,  что  у  собак  есть  потребность  жить  с  человеком,  а  кошки  просто  делают  выбор  в  пользу  этого.</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анная  темой  научной  работы  я  хотела  донести  информацию  о  том,  что  кошки – это  удивительные  животные,  что  помимо  той  пользы,  которую  они  приносят,  уничтожая  мышей,  они  ещё  и  формируют  характер  человека,  ведь  держать  у  себя  кошку  могут  только  по-настоящему  добрые,  душевные  люди.  Я  хочу,  чтобы  среди  людей  было  как  можно  больше любителей  кошек,  которые  помогали  бы  бездомным  животным,  и  чтобы  домашние  животные  по  вине  человека  не  оказывались  на  улиц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Моя кошка Ксюша</a:t>
            </a:r>
            <a:endParaRPr b="1" lang="en-US" sz="4400" spc="-1" strike="noStrike">
              <a:solidFill>
                <a:srgbClr val="ffffb7"/>
              </a:solidFill>
              <a:latin typeface="Arial Black"/>
            </a:endParaRPr>
          </a:p>
        </p:txBody>
      </p:sp>
      <p:pic>
        <p:nvPicPr>
          <p:cNvPr id="101" name="" descr=""/>
          <p:cNvPicPr/>
          <p:nvPr/>
        </p:nvPicPr>
        <p:blipFill>
          <a:blip r:embed="rId1"/>
          <a:stretch/>
        </p:blipFill>
        <p:spPr>
          <a:xfrm>
            <a:off x="1619280" y="1628640"/>
            <a:ext cx="5761080" cy="502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Дружба человека с            кошкой</a:t>
            </a:r>
            <a:endParaRPr b="1" lang="en-US" sz="4400" spc="-1" strike="noStrike">
              <a:solidFill>
                <a:srgbClr val="ffffb7"/>
              </a:solidFill>
              <a:latin typeface="Arial Black"/>
            </a:endParaRPr>
          </a:p>
        </p:txBody>
      </p:sp>
      <p:pic>
        <p:nvPicPr>
          <p:cNvPr id="103" name="" descr=""/>
          <p:cNvPicPr/>
          <p:nvPr/>
        </p:nvPicPr>
        <p:blipFill>
          <a:blip r:embed="rId1"/>
          <a:stretch/>
        </p:blipFill>
        <p:spPr>
          <a:xfrm>
            <a:off x="179280" y="1773360"/>
            <a:ext cx="3036960" cy="3946320"/>
          </a:xfrm>
          <a:prstGeom prst="rect">
            <a:avLst/>
          </a:prstGeom>
          <a:ln w="0">
            <a:noFill/>
          </a:ln>
        </p:spPr>
      </p:pic>
      <p:pic>
        <p:nvPicPr>
          <p:cNvPr id="104" name="" descr=""/>
          <p:cNvPicPr/>
          <p:nvPr/>
        </p:nvPicPr>
        <p:blipFill>
          <a:blip r:embed="rId2"/>
          <a:stretch/>
        </p:blipFill>
        <p:spPr>
          <a:xfrm>
            <a:off x="3419640" y="1844640"/>
            <a:ext cx="2523960" cy="1809720"/>
          </a:xfrm>
          <a:prstGeom prst="rect">
            <a:avLst/>
          </a:prstGeom>
          <a:ln w="0">
            <a:noFill/>
          </a:ln>
        </p:spPr>
      </p:pic>
      <p:pic>
        <p:nvPicPr>
          <p:cNvPr id="105" name="" descr=""/>
          <p:cNvPicPr/>
          <p:nvPr/>
        </p:nvPicPr>
        <p:blipFill>
          <a:blip r:embed="rId3"/>
          <a:stretch/>
        </p:blipFill>
        <p:spPr>
          <a:xfrm>
            <a:off x="3492360" y="3789360"/>
            <a:ext cx="2286000" cy="2286000"/>
          </a:xfrm>
          <a:prstGeom prst="rect">
            <a:avLst/>
          </a:prstGeom>
          <a:ln w="0">
            <a:noFill/>
          </a:ln>
        </p:spPr>
      </p:pic>
      <p:pic>
        <p:nvPicPr>
          <p:cNvPr id="106" name="" descr=""/>
          <p:cNvPicPr/>
          <p:nvPr/>
        </p:nvPicPr>
        <p:blipFill>
          <a:blip r:embed="rId4"/>
          <a:stretch/>
        </p:blipFill>
        <p:spPr>
          <a:xfrm>
            <a:off x="6012000" y="1916280"/>
            <a:ext cx="2933640" cy="382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843280" y="4508640"/>
            <a:ext cx="3529080" cy="2125440"/>
          </a:xfrm>
          <a:prstGeom prst="rect">
            <a:avLst/>
          </a:prstGeom>
          <a:ln w="0">
            <a:noFill/>
          </a:ln>
        </p:spPr>
      </p:pic>
      <p:pic>
        <p:nvPicPr>
          <p:cNvPr id="108" name="" descr=""/>
          <p:cNvPicPr/>
          <p:nvPr/>
        </p:nvPicPr>
        <p:blipFill>
          <a:blip r:embed="rId2"/>
          <a:stretch/>
        </p:blipFill>
        <p:spPr>
          <a:xfrm>
            <a:off x="324000" y="189000"/>
            <a:ext cx="2885760" cy="4230720"/>
          </a:xfrm>
          <a:prstGeom prst="rect">
            <a:avLst/>
          </a:prstGeom>
          <a:ln w="0">
            <a:noFill/>
          </a:ln>
        </p:spPr>
      </p:pic>
      <p:pic>
        <p:nvPicPr>
          <p:cNvPr id="109" name="" descr=""/>
          <p:cNvPicPr/>
          <p:nvPr/>
        </p:nvPicPr>
        <p:blipFill>
          <a:blip r:embed="rId3"/>
          <a:stretch/>
        </p:blipFill>
        <p:spPr>
          <a:xfrm>
            <a:off x="4067280" y="115920"/>
            <a:ext cx="4178160" cy="426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Морфофизиологические особенности кошек</a:t>
            </a:r>
            <a:endParaRPr b="1" lang="en-US" sz="4400" spc="-1" strike="noStrike">
              <a:solidFill>
                <a:srgbClr val="ffffb7"/>
              </a:solidFill>
              <a:latin typeface="Arial Black"/>
            </a:endParaRPr>
          </a:p>
        </p:txBody>
      </p:sp>
      <p:sp>
        <p:nvSpPr>
          <p:cNvPr id="111" name="PlaceHolder 2"/>
          <p:cNvSpPr>
            <a:spLocks noGrp="1"/>
          </p:cNvSpPr>
          <p:nvPr>
            <p:ph/>
          </p:nvPr>
        </p:nvSpPr>
        <p:spPr>
          <a:xfrm>
            <a:off x="0" y="148428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дним из недостатков строения кошек является отсутствие нормальных ключиц.</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т у кошек образуется лишь на подушечках лап.</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шка обладает развитым мозгом. Именно благодаря этому обстоятельству её реакция молниеносн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шка может быстро выпустить когти или, наоборот, убрать их, в кожаные мешочки, которые у кошки располагаются между пальца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жа больше всего похожа на свитер, который плотно облегает все тело животного.</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шку отличает густая сеть на коже, состоящая из мышц и различных кровеносных сосудов. Именно поэтому кошка так чувствительна к холоду и теплу, а также остро ощущает любое прикосновение.</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кошки  вообще  хорошо  развито  осязание  всей  поверхностью  тел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360"/>
            <a:ext cx="8845560" cy="6095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оняние  у  кошки  слабее,  чем  у  собаки,  но  гораздо  сильнее,  чем  у  человека.  Она  прекрасно разбирает,  какую  рыбу  мы  ей  даём – сырую   или  варёную,  и  никакими  ухищрениями  и  уговорами  кошку  не  обмануть.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ждая кошка уникальна. Если у человека главной отличительной чертой выступают отпечатки пальцев, то у кошки – отпечаток нос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чень часто можно наблюдать, как кошки трутся о ноги человека. Делают они это для того, чтобы избавиться от других запах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лаз -  это  орган,  через  который  кошка  получает  очень  большую  часть  информации.  Глаза  у  кошки  относительно  большие,  оба  смотрят  в  одном  направлении.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 преобладающего числа пород кошек нет ресниц.</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 вполне верно утверждение, что кошки прекрасно ориентируются в темном помещении: если темнота сплошная, то она не сможет ничего разглядет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лаза кошки устроены довольно необычн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При взгляде кошка направляет их на интересующий ее объект в одном направлении, что делает ее похожей на людей и отличает от соба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9280" y="188640"/>
            <a:ext cx="5329440" cy="666900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юбой шум приводит в движение уши, которые «настраиваются» с помощью 27 мускулов.</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У кошек отличный слух.</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ши кошки воспаляются не очень часто, однако если подобное случилось, то это может привести к покраснению ушного канала, возникновению боли в ухе, где может накапливаться влага.</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Язык кошки имеет сходство с человеческим.</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шки гораздо лучше отличают горькие вещества, чем сладкие. Но так как любое вещество обладает еще и запахом, то разобраться, что и как опознается достаточно сложно.</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шке необходимы независимость и свобода.</a:t>
            </a:r>
            <a:endParaRPr b="0" lang="en-US" sz="2000" spc="-1" strike="noStrike">
              <a:solidFill>
                <a:srgbClr val="ffffff"/>
              </a:solidFill>
              <a:latin typeface="Arial"/>
            </a:endParaRPr>
          </a:p>
        </p:txBody>
      </p:sp>
      <p:pic>
        <p:nvPicPr>
          <p:cNvPr id="114" name="" descr=""/>
          <p:cNvPicPr/>
          <p:nvPr/>
        </p:nvPicPr>
        <p:blipFill>
          <a:blip r:embed="rId1"/>
          <a:stretch/>
        </p:blipFill>
        <p:spPr>
          <a:xfrm>
            <a:off x="5651640" y="1125360"/>
            <a:ext cx="3305160" cy="412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Породы кошек</a:t>
            </a:r>
            <a:endParaRPr b="1" lang="en-US" sz="4400" spc="-1" strike="noStrike">
              <a:solidFill>
                <a:srgbClr val="ffffb7"/>
              </a:solidFill>
              <a:latin typeface="Arial Black"/>
            </a:endParaRPr>
          </a:p>
        </p:txBody>
      </p:sp>
      <p:sp>
        <p:nvSpPr>
          <p:cNvPr id="116" name="PlaceHolder 2"/>
          <p:cNvSpPr>
            <a:spLocks noGrp="1"/>
          </p:cNvSpPr>
          <p:nvPr>
            <p:ph/>
          </p:nvPr>
        </p:nvSpPr>
        <p:spPr>
          <a:xfrm>
            <a:off x="-181080" y="1341360"/>
            <a:ext cx="5400720" cy="51832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Русская голубая кошк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
          <p:cNvSpPr/>
          <p:nvPr/>
        </p:nvSpPr>
        <p:spPr>
          <a:xfrm>
            <a:off x="971640" y="2278080"/>
            <a:ext cx="3959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сские голубые - это элегантные зеленоглазые кошки. Они обладают приятным темпераментом и спокойным характером, дружелюбны и не требовательны. Благодаря своей независимости, они легко приспосабливаются к условиям жизни и ничего не имеют против работающего хозяина, т.к. в состоянии сами занять себя. И в силу своего дружелюбия, русские голубые с удовольствием воспринимают общество другой кошки. </a:t>
            </a:r>
            <a:endParaRPr b="0" lang="en-US" sz="1800" spc="-1" strike="noStrike">
              <a:solidFill>
                <a:srgbClr val="ffffff"/>
              </a:solidFill>
              <a:latin typeface="Arial"/>
            </a:endParaRPr>
          </a:p>
        </p:txBody>
      </p:sp>
      <p:pic>
        <p:nvPicPr>
          <p:cNvPr id="118" name="" descr=""/>
          <p:cNvPicPr/>
          <p:nvPr/>
        </p:nvPicPr>
        <p:blipFill>
          <a:blip r:embed="rId1"/>
          <a:stretch/>
        </p:blipFill>
        <p:spPr>
          <a:xfrm>
            <a:off x="5076720" y="2205000"/>
            <a:ext cx="2881440" cy="23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3:24:15Z</dcterms:created>
  <dc:creator>Танюша</dc:creator>
  <dc:description/>
  <dc:language>en-US</dc:language>
  <cp:lastModifiedBy>ученик</cp:lastModifiedBy>
  <dcterms:modified xsi:type="dcterms:W3CDTF">2011-02-11T08:30:13Z</dcterms:modified>
  <cp:revision>6</cp:revision>
  <dc:subject/>
  <dc:title>      Вступительное слово</dc:title>
</cp:coreProperties>
</file>